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666" name="PlaceHolder 1"/>
          <p:cNvSpPr>
            <a:spLocks noGrp="1"/>
          </p:cNvSpPr>
          <p:nvPr>
            <p:ph type="hdr"/>
          </p:nvPr>
        </p:nvSpPr>
        <p:spPr>
          <a:xfrm>
            <a:off x="5698800" y="-755280"/>
            <a:ext cx="641160" cy="106596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67" name="PlaceHolder 2"/>
          <p:cNvSpPr>
            <a:spLocks noGrp="1"/>
          </p:cNvSpPr>
          <p:nvPr>
            <p:ph type="dt" idx="36"/>
          </p:nvPr>
        </p:nvSpPr>
        <p:spPr>
          <a:xfrm>
            <a:off x="658800" y="-115920"/>
            <a:ext cx="827280" cy="42660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68" name="PlaceHolder 3"/>
          <p:cNvSpPr>
            <a:spLocks noGrp="1"/>
          </p:cNvSpPr>
          <p:nvPr>
            <p:ph type="sldImg"/>
          </p:nvPr>
        </p:nvSpPr>
        <p:spPr>
          <a:xfrm>
            <a:off x="1187280" y="700200"/>
            <a:ext cx="46231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69" name="PlaceHolder 4"/>
          <p:cNvSpPr>
            <a:spLocks noGrp="1"/>
          </p:cNvSpPr>
          <p:nvPr>
            <p:ph type="body"/>
          </p:nvPr>
        </p:nvSpPr>
        <p:spPr>
          <a:xfrm>
            <a:off x="933480" y="4403520"/>
            <a:ext cx="5130720" cy="41734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0" name="PlaceHolder 5"/>
          <p:cNvSpPr>
            <a:spLocks noGrp="1"/>
          </p:cNvSpPr>
          <p:nvPr>
            <p:ph type="ftr" idx="37"/>
          </p:nvPr>
        </p:nvSpPr>
        <p:spPr>
          <a:xfrm>
            <a:off x="5415120" y="8975520"/>
            <a:ext cx="925200" cy="91296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71" name="PlaceHolder 6"/>
          <p:cNvSpPr>
            <a:spLocks noGrp="1"/>
          </p:cNvSpPr>
          <p:nvPr>
            <p:ph type="sldNum" idx="38"/>
          </p:nvPr>
        </p:nvSpPr>
        <p:spPr>
          <a:xfrm>
            <a:off x="3255480" y="8975520"/>
            <a:ext cx="51300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644F1DDC-D5E1-4D65-98AF-2CAF882D4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8"/>
          <p:cNvSpPr/>
          <p:nvPr/>
        </p:nvSpPr>
        <p:spPr>
          <a:xfrm>
            <a:off x="731880" y="89758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73" name="Line 9"/>
          <p:cNvSpPr/>
          <p:nvPr/>
        </p:nvSpPr>
        <p:spPr>
          <a:xfrm>
            <a:off x="730080" y="8974080"/>
            <a:ext cx="553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74" name="Line 10"/>
          <p:cNvSpPr/>
          <p:nvPr/>
        </p:nvSpPr>
        <p:spPr>
          <a:xfrm>
            <a:off x="654120" y="297000"/>
            <a:ext cx="56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52"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53"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54"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33A5E452-E36D-4EDE-9E47-A9DFFD3617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PlaceHolder 1"/>
          <p:cNvSpPr>
            <a:spLocks noGrp="1"/>
          </p:cNvSpPr>
          <p:nvPr>
            <p:ph type="sldImg"/>
          </p:nvPr>
        </p:nvSpPr>
        <p:spPr>
          <a:xfrm>
            <a:off x="1189080" y="700200"/>
            <a:ext cx="4619520" cy="3465360"/>
          </a:xfrm>
          <a:prstGeom prst="rect">
            <a:avLst/>
          </a:prstGeom>
          <a:ln w="0">
            <a:noFill/>
          </a:ln>
        </p:spPr>
      </p:sp>
      <p:sp>
        <p:nvSpPr>
          <p:cNvPr id="75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94"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95"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96"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E3A8DCC-9FBA-413A-8EF7-6C63A4053B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7" name="PlaceHolder 1"/>
          <p:cNvSpPr>
            <a:spLocks noGrp="1"/>
          </p:cNvSpPr>
          <p:nvPr>
            <p:ph type="sldImg"/>
          </p:nvPr>
        </p:nvSpPr>
        <p:spPr>
          <a:xfrm>
            <a:off x="1189080" y="700200"/>
            <a:ext cx="4619520" cy="3465360"/>
          </a:xfrm>
          <a:prstGeom prst="rect">
            <a:avLst/>
          </a:prstGeom>
          <a:ln w="0">
            <a:noFill/>
          </a:ln>
        </p:spPr>
      </p:sp>
      <p:sp>
        <p:nvSpPr>
          <p:cNvPr id="79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0"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1"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2"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644298EB-26A3-438F-9C30-675C81D8FA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89080" y="700200"/>
            <a:ext cx="4619520" cy="3465360"/>
          </a:xfrm>
          <a:prstGeom prst="rect">
            <a:avLst/>
          </a:prstGeom>
          <a:ln w="0">
            <a:noFill/>
          </a:ln>
        </p:spPr>
      </p:sp>
      <p:sp>
        <p:nvSpPr>
          <p:cNvPr id="80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6"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7"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8"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8D92DD4-D2D5-48F5-BC9F-44DEE50375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9" name="PlaceHolder 1"/>
          <p:cNvSpPr>
            <a:spLocks noGrp="1"/>
          </p:cNvSpPr>
          <p:nvPr>
            <p:ph type="sldImg"/>
          </p:nvPr>
        </p:nvSpPr>
        <p:spPr>
          <a:xfrm>
            <a:off x="1189080" y="700200"/>
            <a:ext cx="4619520" cy="3465360"/>
          </a:xfrm>
          <a:prstGeom prst="rect">
            <a:avLst/>
          </a:prstGeom>
          <a:ln w="0">
            <a:noFill/>
          </a:ln>
        </p:spPr>
      </p:sp>
      <p:sp>
        <p:nvSpPr>
          <p:cNvPr id="81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3809CA-057B-4071-B9EF-E99F0E98AF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A5AE15-7932-49D9-9C70-D5E05F6B71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117CBD-CC11-4C6A-84D3-DC13D88C7D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58"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59"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0"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4CBA8E7-1907-46A0-B9D3-4623926814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1" name="PlaceHolder 1"/>
          <p:cNvSpPr>
            <a:spLocks noGrp="1"/>
          </p:cNvSpPr>
          <p:nvPr>
            <p:ph type="sldImg"/>
          </p:nvPr>
        </p:nvSpPr>
        <p:spPr>
          <a:xfrm>
            <a:off x="1189080" y="700200"/>
            <a:ext cx="4619520" cy="3465360"/>
          </a:xfrm>
          <a:prstGeom prst="rect">
            <a:avLst/>
          </a:prstGeom>
          <a:ln w="0">
            <a:noFill/>
          </a:ln>
        </p:spPr>
      </p:sp>
      <p:sp>
        <p:nvSpPr>
          <p:cNvPr id="76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64"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65"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6"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286DFFB-7B26-42FB-BE75-F94C60BACD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89080" y="700200"/>
            <a:ext cx="4619520" cy="3465360"/>
          </a:xfrm>
          <a:prstGeom prst="rect">
            <a:avLst/>
          </a:prstGeom>
          <a:ln w="0">
            <a:noFill/>
          </a:ln>
        </p:spPr>
      </p:sp>
      <p:sp>
        <p:nvSpPr>
          <p:cNvPr id="76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70"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71"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72"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32098CB-82F1-4C7E-AFDA-BAD1DD7EA5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3" name="PlaceHolder 1"/>
          <p:cNvSpPr>
            <a:spLocks noGrp="1"/>
          </p:cNvSpPr>
          <p:nvPr>
            <p:ph type="sldImg"/>
          </p:nvPr>
        </p:nvSpPr>
        <p:spPr>
          <a:xfrm>
            <a:off x="1189080" y="700200"/>
            <a:ext cx="4619520" cy="3465360"/>
          </a:xfrm>
          <a:prstGeom prst="rect">
            <a:avLst/>
          </a:prstGeom>
          <a:ln w="0">
            <a:noFill/>
          </a:ln>
        </p:spPr>
      </p:sp>
      <p:sp>
        <p:nvSpPr>
          <p:cNvPr id="77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76"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77"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78"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C00F5C7-9100-4D58-9ECC-189EE8E603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9" name="PlaceHolder 1"/>
          <p:cNvSpPr>
            <a:spLocks noGrp="1"/>
          </p:cNvSpPr>
          <p:nvPr>
            <p:ph type="sldImg"/>
          </p:nvPr>
        </p:nvSpPr>
        <p:spPr>
          <a:xfrm>
            <a:off x="1189080" y="700200"/>
            <a:ext cx="4619520" cy="3465360"/>
          </a:xfrm>
          <a:prstGeom prst="rect">
            <a:avLst/>
          </a:prstGeom>
          <a:ln w="0">
            <a:noFill/>
          </a:ln>
        </p:spPr>
      </p:sp>
      <p:sp>
        <p:nvSpPr>
          <p:cNvPr id="78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82"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83"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84"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213EF175-231A-41FD-9CBA-EF78BC8072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5" name="PlaceHolder 1"/>
          <p:cNvSpPr>
            <a:spLocks noGrp="1"/>
          </p:cNvSpPr>
          <p:nvPr>
            <p:ph type="sldImg"/>
          </p:nvPr>
        </p:nvSpPr>
        <p:spPr>
          <a:xfrm>
            <a:off x="1189080" y="700200"/>
            <a:ext cx="4619520" cy="3465360"/>
          </a:xfrm>
          <a:prstGeom prst="rect">
            <a:avLst/>
          </a:prstGeom>
          <a:ln w="0">
            <a:noFill/>
          </a:ln>
        </p:spPr>
      </p:sp>
      <p:sp>
        <p:nvSpPr>
          <p:cNvPr id="78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88"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89"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90"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2DECFA71-C2FF-48B0-A280-0FD55649A2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1" name="PlaceHolder 1"/>
          <p:cNvSpPr>
            <a:spLocks noGrp="1"/>
          </p:cNvSpPr>
          <p:nvPr>
            <p:ph type="sldImg"/>
          </p:nvPr>
        </p:nvSpPr>
        <p:spPr>
          <a:xfrm>
            <a:off x="1189080" y="700200"/>
            <a:ext cx="4619520" cy="3465360"/>
          </a:xfrm>
          <a:prstGeom prst="rect">
            <a:avLst/>
          </a:prstGeom>
          <a:ln w="0">
            <a:noFill/>
          </a:ln>
        </p:spPr>
      </p:sp>
      <p:sp>
        <p:nvSpPr>
          <p:cNvPr id="79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0F11E-52A0-4ACA-8043-78E0DB619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1801C3-A0E7-44A2-A30E-86C01D8FF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35D2F86-DABA-4C1D-980C-8D863090BB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4967730-0EED-49F7-9C33-D8B7F7A971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885C60-4B6B-4301-B357-BBCCF3374D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3E4E90-CEE5-4C5D-B54B-B61F3DE557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7BAC56-E0B2-4796-8AAF-42458DCAB3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8DE5F2-6E43-4FB1-8936-6E065E6430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C58A88-AE9F-46E2-AE77-6FCD6A0786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13D1E2-516A-4DC3-ACA3-80F212D67A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A396637-2C63-4036-954B-309E43EEDA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CEA6EF7-8895-4FD4-940E-31CE62A3C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ECE06C-8146-48A7-BE04-E2A1BBB972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42521DA-BB44-4770-BD80-488FE6338D8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8D91E1D-9B27-433A-8B3A-36878C0F9E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B961CFB-EC68-4673-B048-F53E5F91368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47A15B5-CD7F-46F1-9A9D-F9FB27F0E1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045B33-D48E-43E9-9B35-5540D136EE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3621B9-1A29-40EB-8C26-F374CC4521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09E57A8-EC7D-4D92-B0B7-B2A1C38A2C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943396-C162-413A-A2E6-9947A8B717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EF80BDA-BFEC-4EC5-B5BC-45C89BA953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06F6C2A-F145-4F26-926F-D6852A9D1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FF455-65E1-4281-BFF2-EF8127CA3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352F03E-643D-4979-AD7A-BB3FAB42A9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D1A39B-3C00-4211-BC2E-9AB4B8B025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1B652-4439-4535-AA41-2E6A7967A5E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3CD50-724C-4AA7-B391-07380F98B6C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FAFC46-7745-4A91-B3B9-A4D8350A56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C513D9-CE58-4CA1-9935-D394617065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883EBE-9DD4-4C0E-ABCD-EC612574DD8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F2303-C1BC-4B2B-96D9-B2488342DA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6DB6A-E274-4116-A8F3-C3034F4E9D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1D2C3-29FE-4B27-8D48-5B3614C41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E1A929-D87A-463B-87B7-A9BF49302C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2BC4B-34EE-4428-ADE5-FBD42E9D8A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70E75A-A6BC-4C26-9019-A5FA00FC30F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4421F-16B6-4DC1-ACEF-4F0AAA03CE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7C89CE5-1AC8-4796-891B-070171EEDEA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5714A9-C552-4443-B216-131939B2B6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0517AB7-E02B-497F-9F3B-9A3872EF1B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61E7B50-EE1D-4697-B303-845901A4B42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41DEBF0-F3F8-4A40-99EB-651FCE0360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FA3D11-CD27-4771-8963-5343CD9BCFA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DEE83E-673D-45AB-9336-73E23363B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89CDB-7184-403B-9ABF-73F9DEC732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C89763-A26F-4EC6-8C3C-9C12648DC0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47C956-B2DE-4167-BA90-D29F06E754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4CE081-3319-44D6-915C-29E74AB1D14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4FACCBA-9634-4081-8726-013DC0435C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791B45-0866-4B71-A55F-1379C8D54E6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14F0C82-0054-4552-8461-D27DE01CA04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8DC5D52-FC9A-4FB6-BCDE-94403998EB0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3CD038C-402F-42C2-A23C-4E75FA4395C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6D1E423-BCE8-43E6-8631-9F1D74F6710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D7D2A41-0BD3-4CB8-9F09-1743446C3D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7A862-442E-4566-8B64-5D2B7C9DCC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62183F-F719-4B0A-9DFF-5ABCFE1A981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57AA42C-675D-4928-A8B2-3CC16AA0BE6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9900712-AF73-47D7-87BE-B62633F88E6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4282AD2-59A6-4C0A-AF24-AB78A931901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0948B17-F543-454B-924D-13F7E46E2AA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9F13BE7-D409-42EA-A221-A5F10B6EEBF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38FF231-EF97-40AE-8C80-3944FE654B0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D75E79-B5CC-4C11-81A7-4A896AFCA89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085E8A-8EFD-472A-B48F-0C96AEF8959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FCCCEF-FB67-4AB2-8AAF-FA4035E6C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71E82-C336-45FF-A2FF-5F64FD2D9C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151580-D1D1-4765-84F2-DFC60A5FEE5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1EBFAC-2196-44EB-8A96-245C3DD948B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30AD29-1A49-44D7-94B7-7674B607E0D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0AFE2C-C014-429E-8002-DEB41FBE11B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EE38E8-F370-4600-809D-DF833270298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CEA9C5-0919-4EE5-96A1-04C2A6651FA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8787C3-626D-4EE9-A50C-494868B73DE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8A673E-130F-4208-BAE3-05A27EF3A54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05EB85-88E7-458B-847F-EBF153C7572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1AD6541-8859-4248-A902-4FECCF501F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493EB-AB16-4DA1-A543-6FF0E7469E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F70E5D-77B5-475C-9047-B9C4CDB8D20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6A5EB8-4B81-4FE8-8101-D0168DE3219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B8ADFCC-3B38-4078-9D3B-457BA0FD1B7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B8EEF51-4239-480E-88E7-854377360E7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582C47E-FFA4-42D9-9EC9-84837B77976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9DE8BF5-718B-4B27-823F-827C64A03B1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7DD9C50-CEAD-4CD1-8222-BFBE4649689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DE9F7C-A204-4F58-A636-3CD885CFF87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72C85D5-836C-4F85-BCCD-1A17B38C252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B9E6726-D70B-4A17-BDE5-19C008A7D9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01544-D878-49BA-8FC0-B9BB5B8162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1F97923-D1D5-4393-8943-9BF2F269CD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C93F7-4B8C-4C8B-8806-16AC70927B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FAA1F-DDA3-416F-A440-6DD5F57C1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0EE0A-8739-4A7C-A7D7-CAEAD1E544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4FB32-7335-4B1E-81C0-0835B78EF9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86169-F779-4E1B-8063-5BB2928DF0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C528D4-CDBD-4493-8D54-2FEA4BDFF4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53A0FA-8804-4D84-A583-193D3066EC2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A9A4C4-E67A-436F-A712-AE087F3755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A16943-5351-44D9-BEC9-4ED74CDFD4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2F1928-9CED-4855-82EE-4D9C46632E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F27DEB-1C3D-431C-9D88-9BB5D193B2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285A3C-ACC0-4E3E-BAD1-500667F154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AC2C73-2378-4FCB-8968-BB90636D4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76932B-E4F5-4D1A-8754-F53F7A8709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6D32E1-380A-4E9C-B2FF-6A4D787A2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E8CD86-B728-4B81-8EA5-A32E3E1CFD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A7D352-C46F-46AD-AC8E-C3647AF8CB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1B2A73-AD51-4DB6-B3A4-E9F2621CFC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45AD22-E53A-4802-A844-D75DD23BC1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D71D61-0247-49B3-A0E4-A99465A82B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527FD04-5361-427B-8615-69218AA5A18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C1A786-C476-48D7-ABDB-4E134DD22F1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F548F4-1EFD-4E13-BF44-2D4C00402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C05A2D-2207-454E-A0F3-4DD29280D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B23AF8-BB95-4E63-9FAE-42508386B0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C8132B-1981-4922-A214-8AB90A38684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51E096-48A4-481D-BC0D-0647F24DAA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46F653-CEA2-4D8C-9EEB-CDE7F9189F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2E73D7-391F-4CE9-897B-56F83B61EE7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F9F704-6840-4E09-9B12-5BA69EE31D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031190-0D35-40C9-B004-EDBF3EC826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48AB52-9FCD-4EE7-9C0E-61A824D3103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B99229-15BF-4A92-A605-792D05AC6D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C1C67ED-DD73-42EB-B015-042A1A58F9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3CDE5-2AEA-43EB-8D05-4F0AA8898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7108A2-21C8-4546-AA45-44C901DB9D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926C82B-FB4F-4831-AA7B-83305BB7DF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33CB1E3-5497-40C0-97B2-B61C536759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F6C7C81-01E2-46DC-BC92-A20AB7D0F4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19F0972-B941-4192-980D-654BE530B3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BE59481-7483-4B4B-B80F-638F6EC745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948229-B3E4-4069-82B2-F563F99806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82461F-A634-48DE-86D6-3AA8DE4155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B3B4DC-CAAF-402D-B92D-586207A00B2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05F0A6-2372-4332-92FB-6A398CEA7E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9C733F-0E4D-4970-BC82-50435D8E3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AF59F5-5417-408F-9E4B-3D3DC6FE859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803D4F-3C6B-4402-9DF2-870068E4091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73E13-A141-41F1-AEE9-F19900FF7FC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954DEC-9A3D-49C7-B4C3-80616E1BAD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50BD6-50F5-494D-B8FF-7F510EECBF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B0C93-5D69-42D2-BA12-0955A7EE69E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06896-8C44-4D35-8CA5-78DD2C62B6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40309-C1C2-4645-BE94-650766611E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9EE5F-DE9F-4572-8064-657833825B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960C8-0C8F-4A68-AAEA-A74DD38CE3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E13844-2800-4637-8C3A-D3273C323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FBE1E-AA07-481A-B93B-B7757F1E51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C70D6-7E10-49A5-ADB7-34CCE192C2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A3BA47-B43A-4C8A-94E5-A146AF869D3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CE8768-B0EB-4532-9D4C-8E5FC7DC04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E6029-D3F4-4BFF-B07A-462BA747F8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124D8-DC8D-4289-9FF9-1707F7059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29E56-C51D-4EAB-8E29-5FD38379F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997CB-6BF9-4694-9EAE-064614D6E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05AFB1-9FC6-42DA-99C1-45036BE1F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7B5C5-C775-4036-AA83-49C13E363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F4404-1248-4D0C-B465-B041B9AEE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F05BD-2A76-46C0-9AE8-C6BEA47A6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DA617-1E7A-4514-9DAA-87CAFC6E1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F1A69-DD32-4C8C-AE08-B26299D851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A0AFBF-CA11-4CF3-8C7D-050DFD6108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5689E6-D582-4642-9D86-87014435B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7FA961-D1BF-4878-9499-1157F6FA6A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955BA-592B-40DA-B1FE-7D2371CDC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8AE6A-3470-40A1-A424-AFC760649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1F3EFD-22DE-4517-8248-E6240F48E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30C17-13B4-4913-B050-1875CBFB1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2335E-BE12-4A10-979C-DF9BCFB16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98B023-B768-4A4F-B885-B698994F3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7CC3E-1772-4065-93D4-05F15054F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9B6E5-D212-4515-8A8D-9D223056D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E6358-EF77-4629-97AC-4011DCE32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4D6C2-169E-4E48-B009-5BF66F561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3D7A94-ED1B-41A2-9E08-360AA13239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E79301-9959-434F-BB16-14B4080EB6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A00E1E-BCB6-42C3-816A-B3CD28D6C3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69017D-BC54-4B19-8771-E8233B2CBD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A0DC4D-250A-4A83-B966-EC6BB9009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FF2F23-3B98-4807-8CB3-D2FCF62C8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 name="PlaceHolder 5"/>
          <p:cNvSpPr>
            <a:spLocks noGrp="1"/>
          </p:cNvSpPr>
          <p:nvPr>
            <p:ph type="dt" idx="3"/>
          </p:nvPr>
        </p:nvSpPr>
        <p:spPr>
          <a:xfrm>
            <a:off x="696600" y="333000"/>
            <a:ext cx="181764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15</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0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7" name="PlaceHolder 3"/>
          <p:cNvSpPr>
            <a:spLocks noGrp="1"/>
          </p:cNvSpPr>
          <p:nvPr>
            <p:ph type="ftr" idx="2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08" name="PlaceHolder 4"/>
          <p:cNvSpPr>
            <a:spLocks noGrp="1"/>
          </p:cNvSpPr>
          <p:nvPr>
            <p:ph type="sldNum" idx="2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6FF40A-7D6D-48EC-B013-F96D065FB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1" name="PlaceHolder 3"/>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2" name="PlaceHolder 4"/>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9A9FAB-C0AB-429B-87AA-AC4A9DAA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95" name="PlaceHolder 3"/>
          <p:cNvSpPr>
            <a:spLocks noGrp="1"/>
          </p:cNvSpPr>
          <p:nvPr>
            <p:ph type="ftr" idx="2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96" name="PlaceHolder 4"/>
          <p:cNvSpPr>
            <a:spLocks noGrp="1"/>
          </p:cNvSpPr>
          <p:nvPr>
            <p:ph type="sldNum" idx="2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CDB8B0-FFE7-4AF4-8602-1F354B81D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39" name="PlaceHolder 3"/>
          <p:cNvSpPr>
            <a:spLocks noGrp="1"/>
          </p:cNvSpPr>
          <p:nvPr>
            <p:ph type="ftr" idx="3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0" name="PlaceHolder 4"/>
          <p:cNvSpPr>
            <a:spLocks noGrp="1"/>
          </p:cNvSpPr>
          <p:nvPr>
            <p:ph type="sldNum" idx="3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F5FBDD-B280-494C-831F-35DEDB50C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83" name="PlaceHolder 3"/>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84" name="PlaceHolder 4"/>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C72A22-441E-46C6-9ABE-F93A18337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6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27" name="PlaceHolder 3"/>
          <p:cNvSpPr>
            <a:spLocks noGrp="1"/>
          </p:cNvSpPr>
          <p:nvPr>
            <p:ph type="ftr" idx="3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28" name="PlaceHolder 4"/>
          <p:cNvSpPr>
            <a:spLocks noGrp="1"/>
          </p:cNvSpPr>
          <p:nvPr>
            <p:ph type="sldNum" idx="3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459D8E-F03D-49A1-B2FD-DB04C8B77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ftr" idx="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236FA6-49FA-40BC-9D5B-E533681CD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dt" idx="6"/>
          </p:nvPr>
        </p:nvSpPr>
        <p:spPr>
          <a:xfrm>
            <a:off x="609120" y="228240"/>
            <a:ext cx="181764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ftr" idx="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7" name="PlaceHolder 4"/>
          <p:cNvSpPr>
            <a:spLocks noGrp="1"/>
          </p:cNvSpPr>
          <p:nvPr>
            <p:ph type="sldNum" idx="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7CE804-81DA-4F15-B173-4BD3A93C3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5"/>
          <p:cNvSpPr>
            <a:spLocks noGrp="1"/>
          </p:cNvSpPr>
          <p:nvPr>
            <p:ph type="dt" idx="9"/>
          </p:nvPr>
        </p:nvSpPr>
        <p:spPr>
          <a:xfrm>
            <a:off x="609120" y="228240"/>
            <a:ext cx="18939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ftr" idx="1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2"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ECD1FE-4696-4B24-B5F5-B978942B4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18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5" name="PlaceHolder 3"/>
          <p:cNvSpPr>
            <a:spLocks noGrp="1"/>
          </p:cNvSpPr>
          <p:nvPr>
            <p:ph type="ftr" idx="1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6"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C4C7B6-DD83-465F-980D-0A1652904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22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9" name="PlaceHolder 3"/>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0"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5F075B-0B59-431B-927F-E4063DB98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26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6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3" name="PlaceHolder 3"/>
          <p:cNvSpPr>
            <a:spLocks noGrp="1"/>
          </p:cNvSpPr>
          <p:nvPr>
            <p:ph type="dt" idx="16"/>
          </p:nvPr>
        </p:nvSpPr>
        <p:spPr>
          <a:xfrm>
            <a:off x="696960" y="333000"/>
            <a:ext cx="15285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7</a:t>
            </a:r>
            <a:endParaRPr b="0" lang="en-US" sz="1600" spc="-1" strike="noStrike">
              <a:solidFill>
                <a:srgbClr val="000000"/>
              </a:solidFill>
              <a:latin typeface="Times New Roman"/>
            </a:endParaRPr>
          </a:p>
        </p:txBody>
      </p:sp>
      <p:sp>
        <p:nvSpPr>
          <p:cNvPr id="274"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5"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44B2D9-7665-4736-9E33-70F1ED63A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31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8" name="PlaceHolder 3"/>
          <p:cNvSpPr>
            <a:spLocks noGrp="1"/>
          </p:cNvSpPr>
          <p:nvPr>
            <p:ph type="dt" idx="19"/>
          </p:nvPr>
        </p:nvSpPr>
        <p:spPr>
          <a:xfrm>
            <a:off x="696960" y="333000"/>
            <a:ext cx="15285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7</a:t>
            </a:r>
            <a:endParaRPr b="0" lang="en-US" sz="1600" spc="-1" strike="noStrike">
              <a:solidFill>
                <a:srgbClr val="000000"/>
              </a:solidFill>
              <a:latin typeface="Times New Roman"/>
            </a:endParaRPr>
          </a:p>
        </p:txBody>
      </p:sp>
      <p:sp>
        <p:nvSpPr>
          <p:cNvPr id="319"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0"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181CB2-F788-4399-9C72-D9B2BD468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35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5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3" name="PlaceHolder 3"/>
          <p:cNvSpPr>
            <a:spLocks noGrp="1"/>
          </p:cNvSpPr>
          <p:nvPr>
            <p:ph type="ftr" idx="2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4"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3401B3-127D-4EF3-B4A3-E1661807D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4A9DA5-B69E-4907-AD4F-F28E96BC3A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7"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Plenary Opening Report</a:t>
            </a:r>
            <a:endParaRPr b="1" lang="en-US" sz="3200" spc="-1" strike="noStrike">
              <a:solidFill>
                <a:srgbClr val="000000"/>
              </a:solidFill>
              <a:latin typeface="Times New Roman"/>
            </a:endParaRPr>
          </a:p>
        </p:txBody>
      </p:sp>
      <p:sp>
        <p:nvSpPr>
          <p:cNvPr id="678" name="PlaceHolder 2"/>
          <p:cNvSpPr>
            <a:spLocks noGrp="1"/>
          </p:cNvSpPr>
          <p:nvPr>
            <p:ph/>
          </p:nvPr>
        </p:nvSpPr>
        <p:spPr>
          <a:xfrm>
            <a:off x="685800" y="18288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5-07-08</a:t>
            </a:r>
            <a:endParaRPr b="1" lang="en-US" sz="2000" spc="-1" strike="noStrike">
              <a:solidFill>
                <a:srgbClr val="000000"/>
              </a:solidFill>
              <a:latin typeface="Times New Roman"/>
            </a:endParaRPr>
          </a:p>
        </p:txBody>
      </p:sp>
      <p:graphicFrame>
        <p:nvGraphicFramePr>
          <p:cNvPr id="679" name="Object 11"/>
          <p:cNvGraphicFramePr/>
          <p:nvPr/>
        </p:nvGraphicFramePr>
        <p:xfrm>
          <a:off x="222120" y="2608200"/>
          <a:ext cx="8464680" cy="1506600"/>
        </p:xfrm>
        <a:graphic>
          <a:graphicData uri="http://schemas.openxmlformats.org/presentationml/2006/ole">
            <p:oleObj progId="Word.Document.12" r:id="rId1" spid="">
              <p:embed/>
              <p:pic>
                <p:nvPicPr>
                  <p:cNvPr id="680" name="Object 11" descr=""/>
                  <p:cNvPicPr/>
                  <p:nvPr/>
                </p:nvPicPr>
                <p:blipFill>
                  <a:blip r:embed="rId2"/>
                  <a:stretch/>
                </p:blipFill>
                <p:spPr>
                  <a:xfrm>
                    <a:off x="222120" y="2608200"/>
                    <a:ext cx="8464680" cy="1506600"/>
                  </a:xfrm>
                  <a:prstGeom prst="rect">
                    <a:avLst/>
                  </a:prstGeom>
                  <a:ln w="0">
                    <a:noFill/>
                  </a:ln>
                </p:spPr>
              </p:pic>
            </p:oleObj>
          </a:graphicData>
        </a:graphic>
      </p:graphicFrame>
      <p:sp>
        <p:nvSpPr>
          <p:cNvPr id="681" name="Rectangle 12"/>
          <p:cNvSpPr/>
          <p:nvPr/>
        </p:nvSpPr>
        <p:spPr>
          <a:xfrm>
            <a:off x="533520" y="226044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82"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patcom@iee.org.</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23"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24"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3 Spectrum Characterization and Occupancy Sensing</a:t>
            </a:r>
            <a:endParaRPr b="1" lang="en-US" sz="2800" spc="-1" strike="noStrike">
              <a:solidFill>
                <a:srgbClr val="000000"/>
              </a:solidFill>
              <a:latin typeface="Times New Roman"/>
            </a:endParaRPr>
          </a:p>
        </p:txBody>
      </p:sp>
      <p:sp>
        <p:nvSpPr>
          <p:cNvPr id="725" name="Rectangle 3"/>
          <p:cNvSpPr/>
          <p:nvPr/>
        </p:nvSpPr>
        <p:spPr>
          <a:xfrm>
            <a:off x="304920" y="1600200"/>
            <a:ext cx="8458200" cy="4800600"/>
          </a:xfrm>
          <a:prstGeom prst="rect">
            <a:avLst/>
          </a:prstGeom>
          <a:noFill/>
          <a:ln w="0">
            <a:noFill/>
          </a:ln>
        </p:spPr>
        <p:style>
          <a:lnRef idx="0"/>
          <a:fillRef idx="0"/>
          <a:effectRef idx="0"/>
          <a:fontRef idx="minor"/>
        </p:style>
        <p:txBody>
          <a:bodyPr lIns="92160" rIns="92160" tIns="46080" bIns="46080"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he IEEE P802.22.3 Spectrum Characterization and Occupancy Sensing (SCOS) PAR was approved by the EC and the IEEE SA NESCOM in July / August 2014</a:t>
            </a:r>
            <a:endParaRPr b="1" lang="en-US" sz="2400" spc="-1" strike="noStrike">
              <a:solidFill>
                <a:srgbClr val="000000"/>
              </a:solidFill>
              <a:latin typeface="Times New Roman"/>
            </a:endParaRPr>
          </a:p>
          <a:p>
            <a:pPr lvl="1" marL="74124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he IEEE P802.22.3 Requirements Definition was completed during the Berlin Plenary Meeting</a:t>
            </a:r>
            <a:endParaRPr b="1" lang="en-US" sz="20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F0F4B-DBFF-46F4-8EA4-FCC0310DCB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Letter of Assurance</a:t>
            </a:r>
            <a:endParaRPr b="1" lang="en-US" sz="2800" spc="-1" strike="noStrike">
              <a:solidFill>
                <a:srgbClr val="000000"/>
              </a:solidFill>
              <a:latin typeface="Times New Roman"/>
            </a:endParaRPr>
          </a:p>
        </p:txBody>
      </p:sp>
      <p:sp>
        <p:nvSpPr>
          <p:cNvPr id="729" name="PlaceHolder 2"/>
          <p:cNvSpPr>
            <a:spLocks noGrp="1"/>
          </p:cNvSpPr>
          <p:nvPr>
            <p:ph/>
          </p:nvPr>
        </p:nvSpPr>
        <p:spPr>
          <a:xfrm>
            <a:off x="304560" y="1295280"/>
            <a:ext cx="8458200" cy="1371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s can be found on the website at www.ieee802.org/22 as well as on the IEEE SA websit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one LoA from Hitachi Kokusai</a:t>
            </a:r>
            <a:endParaRPr b="1"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46A818-946F-4114-804E-2BB0FE102E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uture Sessions</a:t>
            </a:r>
            <a:endParaRPr b="1" lang="en-US" sz="2800" spc="-1" strike="noStrike">
              <a:solidFill>
                <a:srgbClr val="000000"/>
              </a:solidFill>
              <a:latin typeface="Times New Roman"/>
            </a:endParaRPr>
          </a:p>
        </p:txBody>
      </p:sp>
      <p:sp>
        <p:nvSpPr>
          <p:cNvPr id="733" name="PlaceHolder 2"/>
          <p:cNvSpPr>
            <a:spLocks noGrp="1"/>
          </p:cNvSpPr>
          <p:nvPr>
            <p:ph/>
          </p:nvPr>
        </p:nvSpPr>
        <p:spPr>
          <a:xfrm>
            <a:off x="1066680" y="1219320"/>
            <a:ext cx="685800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22 Future Sessions are planned as follows</a:t>
            </a:r>
            <a:endParaRPr b="1" lang="en-US" sz="2400" spc="-1" strike="noStrike">
              <a:solidFill>
                <a:srgbClr val="000000"/>
              </a:solidFill>
              <a:latin typeface="Times New Roman"/>
            </a:endParaRPr>
          </a:p>
        </p:txBody>
      </p:sp>
      <p:graphicFrame>
        <p:nvGraphicFramePr>
          <p:cNvPr id="734" name=""/>
          <p:cNvGraphicFramePr/>
          <p:nvPr/>
        </p:nvGraphicFramePr>
        <p:xfrm>
          <a:off x="380880" y="1828800"/>
          <a:ext cx="8458200" cy="4322880"/>
        </p:xfrm>
        <a:graphic>
          <a:graphicData uri="http://schemas.openxmlformats.org/drawingml/2006/table">
            <a:tbl>
              <a:tblPr/>
              <a:tblGrid>
                <a:gridCol w="2057400"/>
                <a:gridCol w="2133720"/>
                <a:gridCol w="426708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c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3, 20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el Hotel and Convention Center, Berli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May 10-15,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Hyatt Regency, Vancouve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802.22 WG will not meet during Jan 2015 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July 12-17,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Hilton Waikoloa Village, Kona, H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4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September 13-18,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TBD (Bangkok or Kuala Lumpu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802.22 WG will not meet during Sep 2015 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3, 20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Dallas, Dallas, TX</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7-22, 2016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Atlanta, Atlanta, G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13-18, 20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ds Venetian Hotel Macau, PR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FB6391-2EA5-4EAF-A295-6B833D513C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7"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802.22 Sponsored Tutorial</a:t>
            </a:r>
            <a:endParaRPr b="1" lang="en-US" sz="2800" spc="-1" strike="noStrike">
              <a:solidFill>
                <a:srgbClr val="000000"/>
              </a:solidFill>
              <a:latin typeface="Times New Roman"/>
            </a:endParaRPr>
          </a:p>
        </p:txBody>
      </p:sp>
      <p:sp>
        <p:nvSpPr>
          <p:cNvPr id="738" name="PlaceHolder 2"/>
          <p:cNvSpPr>
            <a:spLocks noGrp="1"/>
          </p:cNvSpPr>
          <p:nvPr>
            <p:ph/>
          </p:nvPr>
        </p:nvSpPr>
        <p:spPr>
          <a:xfrm>
            <a:off x="304920" y="1066320"/>
            <a:ext cx="8610480" cy="5257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utorials Sponsored by the IEEE 802.22 Working Group this time</a:t>
            </a:r>
            <a:endParaRPr b="1"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9C71F9-ABA7-4748-8E42-3120B0C82D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2"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Forward P802.22b Draft v6.0 to IEEE SA RevCom</a:t>
            </a:r>
            <a:endParaRPr b="1"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EF55BB-C965-4D73-BB2E-31CEA2918A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5"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6"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Approve the Press Release on Publication of the P802.22b Amendment</a:t>
            </a:r>
            <a:endParaRPr b="1"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304920" y="1294920"/>
            <a:ext cx="8534160" cy="403884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2 July 2015 Plenary Working Group Agenda</a:t>
            </a:r>
            <a:endParaRPr b="1"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mentor.ieee.org/802.22/dcn/15/22-15-0014-00-0000-july-plenary-working-group-agenda.xls   </a:t>
            </a:r>
            <a:endParaRPr b="1" lang="en-US" sz="2400" spc="-1" strike="noStrike">
              <a:solidFill>
                <a:srgbClr val="000000"/>
              </a:solidFill>
              <a:latin typeface="Times New Roman"/>
            </a:endParaRPr>
          </a:p>
        </p:txBody>
      </p:sp>
      <p:sp>
        <p:nvSpPr>
          <p:cNvPr id="74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00A8DE-CD3D-4B34-9812-50343A6252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0" name="PlaceHolder 2"/>
          <p:cNvSpPr>
            <a:spLocks noGrp="1"/>
          </p:cNvSpPr>
          <p:nvPr>
            <p:ph type="title"/>
          </p:nvPr>
        </p:nvSpPr>
        <p:spPr>
          <a:xfrm>
            <a:off x="304920" y="770040"/>
            <a:ext cx="86104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406DF2-B572-4E13-B88F-4E3C8DEBC1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Outline</a:t>
            </a:r>
            <a:endParaRPr b="1" lang="en-US" sz="2800" spc="-1" strike="noStrike">
              <a:solidFill>
                <a:srgbClr val="000000"/>
              </a:solidFill>
              <a:latin typeface="Times New Roman"/>
            </a:endParaRPr>
          </a:p>
        </p:txBody>
      </p:sp>
      <p:sp>
        <p:nvSpPr>
          <p:cNvPr id="686" name="PlaceHolder 2"/>
          <p:cNvSpPr>
            <a:spLocks noGrp="1"/>
          </p:cNvSpPr>
          <p:nvPr>
            <p:ph/>
          </p:nvPr>
        </p:nvSpPr>
        <p:spPr>
          <a:xfrm>
            <a:off x="304920" y="1294920"/>
            <a:ext cx="861048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 WG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1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2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a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b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3 - Spectrum Characterization and Occupancy Sensing (SCOS) Study Group Progress Repor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s of Assuranc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t and Future Meeting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ly WG Motions at the November EC Meeting</a:t>
            </a: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94899D-493C-4429-8B00-FAEBAF9F23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WG Agenda</a:t>
            </a:r>
            <a:endParaRPr b="1" lang="en-US" sz="2800" spc="-1" strike="noStrike">
              <a:solidFill>
                <a:srgbClr val="000000"/>
              </a:solidFill>
              <a:latin typeface="Times New Roman"/>
            </a:endParaRPr>
          </a:p>
        </p:txBody>
      </p:sp>
      <p:sp>
        <p:nvSpPr>
          <p:cNvPr id="690" name="PlaceHolder 2"/>
          <p:cNvSpPr>
            <a:spLocks noGrp="1"/>
          </p:cNvSpPr>
          <p:nvPr>
            <p:ph/>
          </p:nvPr>
        </p:nvSpPr>
        <p:spPr>
          <a:xfrm>
            <a:off x="304920" y="1294920"/>
            <a:ext cx="861048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ing Plenar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s at the EC</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 P802.22b to RevCo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 Release on Approval of  P802.22b Amendmen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1 – Revision Project Approved. Work not started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b Enhancement to Broadband Services and Monitoring Applications – Sponsor Ballot Complete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3 - Spectrum Characterization and Occupancy Sensing (SCOS) Requirements Discuss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ing Plenar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torial –  No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week plenary – Approval of the Press Releas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ing Plenary (Thursday, PM1)</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 Meeting</a:t>
            </a:r>
            <a:endParaRPr b="1" lang="en-US" sz="2000" spc="-1" strike="noStrike">
              <a:solidFill>
                <a:srgbClr val="000000"/>
              </a:solidFill>
              <a:latin typeface="Times New Roman"/>
            </a:endParaRPr>
          </a:p>
        </p:txBody>
      </p:sp>
      <p:sp>
        <p:nvSpPr>
          <p:cNvPr id="691" name="Rectangle 5"/>
          <p:cNvSpPr/>
          <p:nvPr/>
        </p:nvSpPr>
        <p:spPr>
          <a:xfrm>
            <a:off x="3276720" y="5334120"/>
            <a:ext cx="5410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 Meeting Agenda for the July 2015 Plenary can be found her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C37898-AF8A-4B59-AB26-8F17B07F04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4" name="PlaceHolder 1"/>
          <p:cNvSpPr>
            <a:spLocks noGrp="1"/>
          </p:cNvSpPr>
          <p:nvPr>
            <p:ph type="title"/>
          </p:nvPr>
        </p:nvSpPr>
        <p:spPr>
          <a:xfrm>
            <a:off x="1218960" y="685800"/>
            <a:ext cx="7010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1 Advanced Beaconing Progress Report</a:t>
            </a:r>
            <a:endParaRPr b="1" lang="en-US" sz="2800" spc="-1" strike="noStrike">
              <a:solidFill>
                <a:srgbClr val="000000"/>
              </a:solidFill>
              <a:latin typeface="Times New Roman"/>
            </a:endParaRPr>
          </a:p>
        </p:txBody>
      </p:sp>
      <p:sp>
        <p:nvSpPr>
          <p:cNvPr id="695" name="Rectangle 8"/>
          <p:cNvSpPr/>
          <p:nvPr/>
        </p:nvSpPr>
        <p:spPr>
          <a:xfrm>
            <a:off x="304920" y="1614600"/>
            <a:ext cx="8458200" cy="2652840"/>
          </a:xfrm>
          <a:prstGeom prst="rect">
            <a:avLst/>
          </a:prstGeom>
          <a:noFill/>
          <a:ln w="0">
            <a:noFill/>
          </a:ln>
        </p:spPr>
        <p:style>
          <a:lnRef idx="0"/>
          <a:fillRef idx="0"/>
          <a:effectRef idx="0"/>
          <a:fontRef idx="minor"/>
        </p:style>
        <p:txBody>
          <a:bodyPr lIns="92160" rIns="92160" tIns="46080" bIns="46080" anchor="ctr">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1-2010 Standard was published in 2010</a:t>
            </a: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Revision Project on IEEE 802.22-2010 initiated that incorporates Advanced Beaconing for protection of systems in HF, VHF, UHF, and S-Band (2-4 GHz). Call for contributions made </a:t>
            </a: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C37530-7D09-42CD-8C11-E9BABD5CA0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Progress Report</a:t>
            </a:r>
            <a:endParaRPr b="1" lang="en-US" sz="2800" spc="-1" strike="noStrike">
              <a:solidFill>
                <a:srgbClr val="000000"/>
              </a:solidFill>
              <a:latin typeface="Times New Roman"/>
            </a:endParaRPr>
          </a:p>
        </p:txBody>
      </p:sp>
      <p:sp>
        <p:nvSpPr>
          <p:cNvPr id="699" name="Rectangle 8"/>
          <p:cNvSpPr/>
          <p:nvPr/>
        </p:nvSpPr>
        <p:spPr>
          <a:xfrm>
            <a:off x="304920" y="1431720"/>
            <a:ext cx="8458200" cy="3018600"/>
          </a:xfrm>
          <a:prstGeom prst="rect">
            <a:avLst/>
          </a:prstGeom>
          <a:noFill/>
          <a:ln w="0">
            <a:noFill/>
          </a:ln>
        </p:spPr>
        <p:style>
          <a:lnRef idx="0"/>
          <a:fillRef idx="0"/>
          <a:effectRef idx="0"/>
          <a:fontRef idx="minor"/>
        </p:style>
        <p:txBody>
          <a:bodyPr lIns="92160" rIns="92160" tIns="46080" bIns="46080" anchor="ctr">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2011 Standard was published on July 1</a:t>
            </a:r>
            <a:r>
              <a:rPr b="0" lang="en-US" sz="2400" spc="-1" strike="noStrike" baseline="30000">
                <a:solidFill>
                  <a:srgbClr val="000000"/>
                </a:solidFill>
                <a:latin typeface="Times New Roman"/>
                <a:ea typeface="Calibri"/>
              </a:rPr>
              <a:t>st</a:t>
            </a:r>
            <a:r>
              <a:rPr b="0" lang="en-US" sz="2400" spc="-1" strike="noStrike">
                <a:solidFill>
                  <a:srgbClr val="000000"/>
                </a:solidFill>
                <a:latin typeface="Times New Roman"/>
                <a:ea typeface="Calibri"/>
              </a:rPr>
              <a:t> 2011.</a:t>
            </a: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he revision PAR for IEEE 802.22 Standard has been approved that folds in various on-going amendments (P802.22a, P802.22b) and generalizes it to other bands for spectrum sharing. The PAR form can be found here.</a:t>
            </a: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83318A-F774-4522-9BED-BF985E5354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2 Progress Report</a:t>
            </a:r>
            <a:endParaRPr b="1" lang="en-US" sz="2800" spc="-1" strike="noStrike">
              <a:solidFill>
                <a:srgbClr val="000000"/>
              </a:solidFill>
              <a:latin typeface="Times New Roman"/>
            </a:endParaRPr>
          </a:p>
        </p:txBody>
      </p:sp>
      <p:sp>
        <p:nvSpPr>
          <p:cNvPr id="703" name="PlaceHolder 2"/>
          <p:cNvSpPr>
            <a:spLocks noGrp="1"/>
          </p:cNvSpPr>
          <p:nvPr>
            <p:ph/>
          </p:nvPr>
        </p:nvSpPr>
        <p:spPr>
          <a:xfrm>
            <a:off x="304560" y="1294920"/>
            <a:ext cx="8458200" cy="48006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2-2012 Standard was published on Sept. 28th 2012.</a:t>
            </a: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We would like to thank the 802.22 members and contributors, Members of the IEEE 802 Executive Committee, Members of the IEEE SA RevCom, Members of the IEEE SA Board and the IEEE SA Staff.</a:t>
            </a: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F8E2FD-2EAA-47A8-B7B5-C6F0F5B5EC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a MIBs and Managememt Plane Procedures</a:t>
            </a:r>
            <a:endParaRPr b="1" lang="en-US" sz="2800" spc="-1" strike="noStrike">
              <a:solidFill>
                <a:srgbClr val="000000"/>
              </a:solidFill>
              <a:latin typeface="Times New Roman"/>
            </a:endParaRPr>
          </a:p>
        </p:txBody>
      </p:sp>
      <p:sp>
        <p:nvSpPr>
          <p:cNvPr id="707" name="Rectangle 8"/>
          <p:cNvSpPr/>
          <p:nvPr/>
        </p:nvSpPr>
        <p:spPr>
          <a:xfrm>
            <a:off x="352440" y="1761120"/>
            <a:ext cx="8763120" cy="1798920"/>
          </a:xfrm>
          <a:prstGeom prst="rect">
            <a:avLst/>
          </a:prstGeom>
          <a:noFill/>
          <a:ln w="0">
            <a:noFill/>
          </a:ln>
        </p:spPr>
        <p:style>
          <a:lnRef idx="0"/>
          <a:fillRef idx="0"/>
          <a:effectRef idx="0"/>
          <a:fontRef idx="minor"/>
        </p:style>
        <p:txBody>
          <a:bodyPr lIns="92160" rIns="92160" tIns="46080" bIns="46080" anchor="ctr">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P802.22a Sponsor Ballot Process has been successfully completed</a:t>
            </a:r>
            <a:endParaRPr b="1" lang="en-US" sz="2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Received RevCom Approval</a:t>
            </a:r>
            <a:endParaRPr b="1" lang="en-US" sz="2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Standard was published in June 2014</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8" name=""/>
          <p:cNvGraphicFramePr/>
          <p:nvPr/>
        </p:nvGraphicFramePr>
        <p:xfrm>
          <a:off x="380880" y="1600200"/>
          <a:ext cx="8382240" cy="4468680"/>
        </p:xfrm>
        <a:graphic>
          <a:graphicData uri="http://schemas.openxmlformats.org/drawingml/2006/table">
            <a:tbl>
              <a:tblPr/>
              <a:tblGrid>
                <a:gridCol w="3179880"/>
                <a:gridCol w="217440"/>
                <a:gridCol w="257400"/>
                <a:gridCol w="255240"/>
                <a:gridCol w="257400"/>
                <a:gridCol w="263520"/>
                <a:gridCol w="369720"/>
                <a:gridCol w="347760"/>
                <a:gridCol w="255600"/>
                <a:gridCol w="257040"/>
                <a:gridCol w="258840"/>
                <a:gridCol w="254160"/>
                <a:gridCol w="461880"/>
                <a:gridCol w="257040"/>
                <a:gridCol w="257400"/>
                <a:gridCol w="255600"/>
                <a:gridCol w="257040"/>
                <a:gridCol w="257040"/>
                <a:gridCol w="462240"/>
              </a:tblGrid>
              <a:tr h="213480">
                <a:tc>
                  <a:txBody>
                    <a:bodyPr lIns="47160" rIns="471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1" lang="en-US" sz="8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a:noFill/>
                    </a:lnB>
                    <a:no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2</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4</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47160" rIns="471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a:noFill/>
                    </a:lnT>
                    <a:lnB w="5760">
                      <a:solidFill>
                        <a:srgbClr val="000000"/>
                      </a:solidFill>
                    </a:lnB>
                    <a:no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r>
              <a:tr h="322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sk Group form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r>
              <a:tr h="254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cess documen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unctional Requirement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ll for Proposals issu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ion Criteria</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5884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chnical/Informative Contribution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4444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posal presentation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286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seline proposal selec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27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raft for 1</a:t>
                      </a:r>
                      <a:r>
                        <a:rPr b="0" lang="en-US" sz="1400" spc="-1" strike="noStrike" baseline="30000">
                          <a:solidFill>
                            <a:srgbClr val="000000"/>
                          </a:solidFill>
                          <a:latin typeface="Times New Roman"/>
                          <a:ea typeface="Times New Roman"/>
                        </a:rPr>
                        <a:t>st</a:t>
                      </a:r>
                      <a:r>
                        <a:rPr b="0" lang="en-US" sz="1400" spc="-1" strike="noStrike">
                          <a:solidFill>
                            <a:srgbClr val="000000"/>
                          </a:solidFill>
                          <a:latin typeface="Times New Roman"/>
                          <a:ea typeface="Times New Roman"/>
                        </a:rPr>
                        <a:t> letter ballo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996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en-US" sz="1400" spc="-1" strike="noStrike" baseline="30000">
                          <a:solidFill>
                            <a:srgbClr val="000000"/>
                          </a:solidFill>
                          <a:latin typeface="Times New Roman"/>
                          <a:ea typeface="Times New Roman"/>
                        </a:rPr>
                        <a:t>st</a:t>
                      </a:r>
                      <a:r>
                        <a:rPr b="0" lang="en-US" sz="1400" spc="-1" strike="noStrike">
                          <a:solidFill>
                            <a:srgbClr val="000000"/>
                          </a:solidFill>
                          <a:latin typeface="Times New Roman"/>
                          <a:ea typeface="Times New Roman"/>
                        </a:rPr>
                        <a:t> letter ballot comple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98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en-US" sz="1400" spc="-1" strike="noStrike" baseline="30000">
                          <a:solidFill>
                            <a:srgbClr val="000000"/>
                          </a:solidFill>
                          <a:latin typeface="Times New Roman"/>
                          <a:ea typeface="Times New Roman"/>
                        </a:rPr>
                        <a:t>nd</a:t>
                      </a:r>
                      <a:r>
                        <a:rPr b="0" lang="en-US" sz="1400" spc="-1" strike="noStrike">
                          <a:solidFill>
                            <a:srgbClr val="000000"/>
                          </a:solidFill>
                          <a:latin typeface="Times New Roman"/>
                          <a:ea typeface="Times New Roman"/>
                        </a:rPr>
                        <a:t>  letter ballot comple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 and recircula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onsor ballo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 and recircula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Com/NesCom Approval</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bl>
          </a:graphicData>
        </a:graphic>
      </p:graphicFrame>
      <p:sp>
        <p:nvSpPr>
          <p:cNvPr id="709"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10"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11"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b Enhancement for Broadband Services and Monitoring Applications</a:t>
            </a:r>
            <a:endParaRPr b="1" lang="en-US" sz="2800" spc="-1" strike="noStrike">
              <a:solidFill>
                <a:srgbClr val="000000"/>
              </a:solidFill>
              <a:latin typeface="Times New Roman"/>
            </a:endParaRPr>
          </a:p>
        </p:txBody>
      </p:sp>
      <p:sp>
        <p:nvSpPr>
          <p:cNvPr id="712" name="Rectangle 8"/>
          <p:cNvSpPr/>
          <p:nvPr/>
        </p:nvSpPr>
        <p:spPr>
          <a:xfrm>
            <a:off x="3562200" y="1638360"/>
            <a:ext cx="5200920" cy="4457520"/>
          </a:xfrm>
          <a:prstGeom prst="rect">
            <a:avLst/>
          </a:prstGeom>
          <a:noFill/>
          <a:ln w="54000">
            <a:solidFill>
              <a:srgbClr val="000000"/>
            </a:solidFill>
            <a:round/>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14"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15"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b Enhancement for Broadband Services and Monitoring Applications</a:t>
            </a:r>
            <a:endParaRPr b="1" lang="en-US" sz="2800" spc="-1" strike="noStrike">
              <a:solidFill>
                <a:srgbClr val="000000"/>
              </a:solidFill>
              <a:latin typeface="Times New Roman"/>
            </a:endParaRPr>
          </a:p>
        </p:txBody>
      </p:sp>
      <p:sp>
        <p:nvSpPr>
          <p:cNvPr id="716" name="TextBox 1"/>
          <p:cNvSpPr/>
          <p:nvPr/>
        </p:nvSpPr>
        <p:spPr>
          <a:xfrm>
            <a:off x="380880" y="144792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 Ballot Summary for Draft v6.0, Re-circ #2</a:t>
            </a:r>
            <a:endParaRPr b="1" lang="en-US" sz="2400" spc="-1" strike="noStrike">
              <a:solidFill>
                <a:srgbClr val="000000"/>
              </a:solidFill>
              <a:latin typeface="Times New Roman"/>
            </a:endParaRPr>
          </a:p>
        </p:txBody>
      </p:sp>
      <p:pic>
        <p:nvPicPr>
          <p:cNvPr id="717" name="Picture 6" descr="dot"/>
          <p:cNvPicPr/>
          <p:nvPr/>
        </p:nvPicPr>
        <p:blipFill>
          <a:blip r:embed="rId1"/>
          <a:stretch/>
        </p:blipFill>
        <p:spPr>
          <a:xfrm>
            <a:off x="3508200" y="320760"/>
            <a:ext cx="8280" cy="7920"/>
          </a:xfrm>
          <a:prstGeom prst="rect">
            <a:avLst/>
          </a:prstGeom>
          <a:ln w="0">
            <a:noFill/>
          </a:ln>
        </p:spPr>
      </p:pic>
      <p:pic>
        <p:nvPicPr>
          <p:cNvPr id="718" name="Picture 5" descr="dot"/>
          <p:cNvPicPr/>
          <p:nvPr/>
        </p:nvPicPr>
        <p:blipFill>
          <a:blip r:embed="rId2"/>
          <a:stretch/>
        </p:blipFill>
        <p:spPr>
          <a:xfrm>
            <a:off x="3508200" y="320760"/>
            <a:ext cx="8280" cy="7920"/>
          </a:xfrm>
          <a:prstGeom prst="rect">
            <a:avLst/>
          </a:prstGeom>
          <a:ln w="0">
            <a:noFill/>
          </a:ln>
        </p:spPr>
      </p:pic>
      <p:pic>
        <p:nvPicPr>
          <p:cNvPr id="719" name="Picture 4" descr="dot"/>
          <p:cNvPicPr/>
          <p:nvPr/>
        </p:nvPicPr>
        <p:blipFill>
          <a:blip r:embed="rId3"/>
          <a:stretch/>
        </p:blipFill>
        <p:spPr>
          <a:xfrm>
            <a:off x="3508200" y="320760"/>
            <a:ext cx="8280" cy="7920"/>
          </a:xfrm>
          <a:prstGeom prst="rect">
            <a:avLst/>
          </a:prstGeom>
          <a:ln w="0">
            <a:noFill/>
          </a:ln>
        </p:spPr>
      </p:pic>
      <p:pic>
        <p:nvPicPr>
          <p:cNvPr id="720" name="Picture 20" descr=""/>
          <p:cNvPicPr/>
          <p:nvPr/>
        </p:nvPicPr>
        <p:blipFill>
          <a:blip r:embed="rId4"/>
          <a:stretch/>
        </p:blipFill>
        <p:spPr>
          <a:xfrm>
            <a:off x="609480" y="1909800"/>
            <a:ext cx="3733920" cy="4419720"/>
          </a:xfrm>
          <a:prstGeom prst="rect">
            <a:avLst/>
          </a:prstGeom>
          <a:ln w="9360">
            <a:solidFill>
              <a:srgbClr val="000000"/>
            </a:solidFill>
            <a:miter/>
          </a:ln>
        </p:spPr>
      </p:pic>
      <p:pic>
        <p:nvPicPr>
          <p:cNvPr id="721" name="Picture 21" descr=""/>
          <p:cNvPicPr/>
          <p:nvPr/>
        </p:nvPicPr>
        <p:blipFill>
          <a:blip r:embed="rId5"/>
          <a:stretch/>
        </p:blipFill>
        <p:spPr>
          <a:xfrm>
            <a:off x="4772160" y="1919160"/>
            <a:ext cx="3958920" cy="16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5-07-09T03:03:58Z</dcterms:modified>
  <cp:revision>472</cp:revision>
  <dc:subject/>
  <dc:title>Session 37, March Plenary Closing Minutes</dc:title>
</cp:coreProperties>
</file>