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6" name="PlaceHolder 1"/>
          <p:cNvSpPr>
            <a:spLocks noGrp="1"/>
          </p:cNvSpPr>
          <p:nvPr>
            <p:ph type="hdr"/>
          </p:nvPr>
        </p:nvSpPr>
        <p:spPr>
          <a:xfrm>
            <a:off x="4146120" y="96840"/>
            <a:ext cx="2205000" cy="216000"/>
          </a:xfrm>
          <a:prstGeom prst="rect">
            <a:avLst/>
          </a:prstGeom>
          <a:noFill/>
          <a:ln w="0">
            <a:noFill/>
          </a:ln>
        </p:spPr>
        <p:txBody>
          <a:bodyPr lIns="0" rIns="0" tIns="0" bIns="0" anchor="b">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22-yy/xxxxr0</a:t>
            </a:r>
            <a:endParaRPr b="0" lang="en-US" sz="1400" spc="-1" strike="noStrike">
              <a:solidFill>
                <a:srgbClr val="000000"/>
              </a:solidFill>
              <a:latin typeface="Times New Roman"/>
            </a:endParaRPr>
          </a:p>
        </p:txBody>
      </p:sp>
      <p:sp>
        <p:nvSpPr>
          <p:cNvPr id="677" name="PlaceHolder 2"/>
          <p:cNvSpPr>
            <a:spLocks noGrp="1"/>
          </p:cNvSpPr>
          <p:nvPr>
            <p:ph type="dt" idx="46"/>
          </p:nvPr>
        </p:nvSpPr>
        <p:spPr>
          <a:xfrm>
            <a:off x="659880" y="-113760"/>
            <a:ext cx="916200" cy="426600"/>
          </a:xfrm>
          <a:prstGeom prst="rect">
            <a:avLst/>
          </a:prstGeom>
          <a:noFill/>
          <a:ln w="0">
            <a:noFill/>
          </a:ln>
        </p:spPr>
        <p:txBody>
          <a:bodyPr lIns="0" rIns="0" tIns="0" bIns="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678" name="PlaceHolder 3"/>
          <p:cNvSpPr>
            <a:spLocks noGrp="1"/>
          </p:cNvSpPr>
          <p:nvPr>
            <p:ph type="sldImg"/>
          </p:nvPr>
        </p:nvSpPr>
        <p:spPr>
          <a:xfrm>
            <a:off x="1188720" y="701280"/>
            <a:ext cx="4632120" cy="3475080"/>
          </a:xfrm>
          <a:prstGeom prst="rect">
            <a:avLst/>
          </a:prstGeom>
          <a:noFill/>
          <a:ln w="1260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679" name="PlaceHolder 4"/>
          <p:cNvSpPr>
            <a:spLocks noGrp="1"/>
          </p:cNvSpPr>
          <p:nvPr>
            <p:ph type="body"/>
          </p:nvPr>
        </p:nvSpPr>
        <p:spPr>
          <a:xfrm>
            <a:off x="934560" y="4416480"/>
            <a:ext cx="5140440" cy="4184640"/>
          </a:xfrm>
          <a:prstGeom prst="rect">
            <a:avLst/>
          </a:prstGeom>
          <a:noFill/>
          <a:ln w="0">
            <a:noFill/>
          </a:ln>
        </p:spPr>
        <p:txBody>
          <a:bodyPr lIns="94320" rIns="943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80" name="PlaceHolder 5"/>
          <p:cNvSpPr>
            <a:spLocks noGrp="1"/>
          </p:cNvSpPr>
          <p:nvPr>
            <p:ph type="ftr" idx="47"/>
          </p:nvPr>
        </p:nvSpPr>
        <p:spPr>
          <a:xfrm>
            <a:off x="4236840" y="8999640"/>
            <a:ext cx="2114280" cy="18576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681" name="PlaceHolder 6"/>
          <p:cNvSpPr>
            <a:spLocks noGrp="1"/>
          </p:cNvSpPr>
          <p:nvPr>
            <p:ph type="sldNum" idx="48"/>
          </p:nvPr>
        </p:nvSpPr>
        <p:spPr>
          <a:xfrm>
            <a:off x="3262320" y="8999280"/>
            <a:ext cx="512640" cy="365400"/>
          </a:xfrm>
          <a:prstGeom prst="rect">
            <a:avLst/>
          </a:prstGeom>
          <a:noFill/>
          <a:ln w="0">
            <a:noFill/>
          </a:ln>
        </p:spPr>
        <p:txBody>
          <a:bodyPr lIns="0" rIns="0" tIns="0" bIns="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17E9EF8B-7E6A-4959-BCF6-F43BC4679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8"/>
          <p:cNvSpPr/>
          <p:nvPr/>
        </p:nvSpPr>
        <p:spPr>
          <a:xfrm>
            <a:off x="734400" y="89996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83" name="Line 9"/>
          <p:cNvSpPr/>
          <p:nvPr/>
        </p:nvSpPr>
        <p:spPr>
          <a:xfrm>
            <a:off x="731880" y="8997840"/>
            <a:ext cx="554652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4" name="Line 10"/>
          <p:cNvSpPr/>
          <p:nvPr/>
        </p:nvSpPr>
        <p:spPr>
          <a:xfrm>
            <a:off x="655560" y="298440"/>
            <a:ext cx="569916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2"/>
          <p:cNvSpPr/>
          <p:nvPr/>
        </p:nvSpPr>
        <p:spPr>
          <a:xfrm>
            <a:off x="4149000" y="993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38" name="Rectangle 3"/>
          <p:cNvSpPr/>
          <p:nvPr/>
        </p:nvSpPr>
        <p:spPr>
          <a:xfrm>
            <a:off x="650160" y="993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39" name="Rectangle 6"/>
          <p:cNvSpPr/>
          <p:nvPr/>
        </p:nvSpPr>
        <p:spPr>
          <a:xfrm>
            <a:off x="4247640" y="899964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40" name="Rectangle 7"/>
          <p:cNvSpPr/>
          <p:nvPr/>
        </p:nvSpPr>
        <p:spPr>
          <a:xfrm>
            <a:off x="3083040" y="89996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0EB50341-4F27-43A2-BDD8-62150F376A6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1" name="PlaceHolder 1"/>
          <p:cNvSpPr>
            <a:spLocks noGrp="1"/>
          </p:cNvSpPr>
          <p:nvPr>
            <p:ph type="sldImg"/>
          </p:nvPr>
        </p:nvSpPr>
        <p:spPr>
          <a:xfrm>
            <a:off x="1189080" y="701640"/>
            <a:ext cx="4632120" cy="3475080"/>
          </a:xfrm>
          <a:prstGeom prst="rect">
            <a:avLst/>
          </a:prstGeom>
          <a:ln w="0">
            <a:noFill/>
          </a:ln>
        </p:spPr>
      </p:sp>
      <p:sp>
        <p:nvSpPr>
          <p:cNvPr id="742"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2175165-AFFB-4800-9D80-1F642ABF912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0"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9DE6E0D-D199-40DC-8EA8-38015F995EA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4"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C34C64-9E8C-44E3-86A4-8F036D2D749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6"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E4ABA00-D046-4464-8DAC-5F8C9C9258E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8"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6CEE48D-00FB-45DB-9CD8-CC889AD939A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0"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1BAAB92-FC31-4FE5-A76C-37B1B705537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2"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D8DD4B0-3321-4323-A1A2-D461FFE43E1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4"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AC4D121-D4ED-4849-9BB4-AE09EA9FF34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6"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8DEF526-AA87-4C05-9E43-458D55FA49C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8"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B881E3-A282-4B2B-B4FB-6E860AB3C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5DE16-C496-45E4-A7BF-7A1C06EEF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E7C47C2-C5B2-4409-A9ED-556D15A506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C49938-E0D0-437B-8746-7CECEA3E90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1B2D35-77F5-4966-87C4-D0D0216D4F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24261D-0958-43AF-B818-820003CAAF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8C5C69-0280-4B58-BDC0-5394E7A48F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CD3108-7B84-4386-A570-EB84D0D0CF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C8BEE4-A31C-41B3-A0CD-08A8545395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AB85AD-CC5E-471F-BE8A-4BA2F23A51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60E5CD-79CC-4AA2-8567-3B0412A60B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845E39A-9921-4924-9112-0C48439D5DD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09EB71-408B-4C20-B539-6B8B51971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DFE2C5-7E6E-4F8D-9878-CF6C559597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1C6682D-8557-4CC2-AF18-DF445869598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78E1F2-38CD-4E58-9576-96B0985F27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B4A8FD-81C6-4209-8253-7C7D2BA8EE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86D57B-DB5D-4FE7-AEF1-9565CBDD831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325151-FFFF-4E1A-A163-CA93ECAE92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28B0E2-EF3D-484C-B40F-0141E5A448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39FEF3-65B6-4BB0-8118-DF31C995FD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6CAD28-726F-49EC-97E8-AAC4A2695B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5D4D241-230D-447B-A519-43F4B5E9EBB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19AD3-C628-4FA6-BB1F-3B9D83AAC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CCC963F-67DC-4A63-8378-EDE6E211338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7F47418-DE0F-4C36-9E4D-CE4D57A8330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D7EAB0-2EF1-4C80-A0C6-9D8B540D0A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F88EAE-8EB7-47AB-90FA-2C92B936D5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991B38B-30C8-4933-835A-48ACC14A21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029CA8-2E2C-4E31-9B65-74BC3FB583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FA56B4C-6C75-412D-BEED-587DCD89007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C39696-C785-409F-A151-7205176CADD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065286C-A3FB-4100-ACB3-01DD56D7F2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3A9B7A-2966-443E-AAC7-6A33BE615B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6FB452-ED96-486C-A540-667E44F452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E9AB43-A081-4A37-B87C-0A66F28AE2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7EE2CC8-A231-4DE6-8C73-EC3471F2B8A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1DD49A1-8D33-4B8A-B8B8-DB7E2127423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A9BB046-13A6-4CE5-B733-EF397DCC2BD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22E2D8-E26B-49BB-8A9A-A30E3E4E97E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4A9759-5226-4BF8-BBFC-36DD708F5F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0F4D3D-2B64-421C-B5DF-4BF33DDC73F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3116C7-F1C9-47C2-91AC-6662574AE15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FEB0E7-D711-4FB9-8AB0-781779A522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AA1D40-272A-4938-9798-F2DD12CCF13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426E3A-950E-422B-A99C-F77601638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F1F916-7B35-4630-80C2-FB3545E94F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49A476-E0DF-4A69-82F7-20EFDC5B3C1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380A52C-D631-4A29-9D32-10EE05A77D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9BC29DD-BDED-4FE4-B5A6-A3DA700FA56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97CE7A2-4065-4FB0-A844-EDD2B03E453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BAE6B95-C869-4251-8BBB-6FB0FBEC5F6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6B61E8-8847-434B-AF05-F416E279249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9499F26-348D-449D-B4D6-A8570AD137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4551050-F64A-4621-BCB3-0FEDC532366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B1B5DA4-9FE7-4A2B-9504-AEABF32B581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487E3-A9E9-4348-B09A-5FF6782968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99759C4-108F-4227-8E70-3C5584B4A2D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A048A03-FA7E-4A43-97CE-7EC42AB05E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0203837-E35B-4976-9E1B-D5231B08EA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E9E44B5-F655-4602-BE0C-0AA42C3C4E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2A16D0-CAC9-4CD4-BCBF-C46ED03BF44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56CCCCA-579F-41B2-96C3-FAF1ADEDE10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5398332-BB2C-4A79-8049-70BC7C3BEC0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FF104E4-6899-4250-B65F-2F22C805E89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CEAC376-4C84-4AC3-93A8-6F972E0BC91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1E7BA90-C8F6-420B-9226-FED231C3963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4F411-4091-417A-9F9A-1CB69D4948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2772BAF-F178-4500-B934-82717800AE8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C046C76-57CB-4C80-8530-645382CA9A8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3AB2869-9BF4-463C-B419-69B7CE77D2C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E13AA3-349B-455F-86B9-925A3E07FE4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3ABF445-F94A-4A53-BBCF-2677E19E012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D9B94D6-4BC0-4276-8D56-7FF58FDBD91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582C6FF-FB00-458F-83FC-77C229B19FD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FDE7257-2FD2-46B3-AD98-02450BD23EF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D645F7E-4C3E-403E-A75D-7F448B28D9C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D232D20-F9DD-49FC-9922-A59E82E5064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92FFE-9F1C-4FFF-939F-8E60B1984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214BFF2-852E-48D5-83B5-E3CF1054E8E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15867DD-5B93-4064-97DD-12C72C53FF2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20B1B90-D532-4819-BD3E-04A6E69D702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CD42464-4D68-4B1F-910A-0CE5743E729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7943669-8F80-45DD-B88A-C6D2DC754FF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660351B-815E-4849-B785-4EEDF59152D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643FC1B-7671-47BE-AF65-4FFE17B7539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AD7CDCC-04DC-43FD-A2EF-04A88A7BFD2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5EB91FA-E5D3-49EC-9735-52A8967D654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BA68612-AA2D-4FB6-9FB9-E1225FC56AE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C1BC0-D87F-4EDA-950F-7F0A6B20F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FADAE47-B787-4569-8F31-84D65DEF12B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42734-3A18-46B5-8FAC-7C1D11121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5E342-D853-4752-A7FC-B91DF12C0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9953E-B9AD-4083-BE3F-3A700FE816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BE94C-EB4A-4867-A14D-CF53201ADE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2C71A-9DA9-41ED-B0AF-E09352BB5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053FD-B237-4E9F-9FE4-B18E83CB54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7D0E96-9417-4DED-AFC4-2CE8FC9D06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678AA4-1160-472A-B4BA-31CC5827A3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352254-285F-4710-8A29-A509A9A109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260105-EAA6-4ECB-97FB-C247EB98E4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2A1BC0-A4F5-4B86-ADC2-CB32370453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E76E21-8C2D-4C9B-84FE-519B9D0540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B846C-0F0E-45B1-BC8C-BC96DF7CC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A524BB-2D6A-43D6-AA7D-0E9E62114E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420995-544A-47B6-ABFC-71B00D94F3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B8B00D-1F58-43F9-B248-FBE42D71B9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6C0412-F6FD-43DC-9CBF-2779F0E0D7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417E66-B9F2-44F4-8EEE-B420BAD0A1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C30D9E-8A89-4C0E-8DFC-6395FA12718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3C83E8-4550-4F07-ACBA-414B086192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4C78EC-0B21-44CF-9E6A-762F0BF6FE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E73AAD-703F-4C9E-B64B-EBD85D8F7C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40AA77-7E1F-407F-8E35-EE891095B4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89C78-4FDB-41EF-B356-1A2C84755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282C7E-2B9A-462E-BCA8-4EBB73AD2F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0EC152-6C44-4C15-A87F-481E1F44E5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7A22B9-5989-43E8-98FE-785C3B472B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BE655F-65EE-4F4B-861A-E06A4F463C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E453F8-69B0-47CA-9D48-AEA9AEDDC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8C68B9-CEFA-48F5-9951-29176B3515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C6D2E0-0322-4DBF-89C3-ECB2B1D853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5915C81-98AD-43E0-9611-87B5BF938E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3F3ECA-EFEB-421D-82D9-4BC915A4618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41B10E-1AE0-4040-ABFE-5473EB1A50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E9DE1-90B5-44DA-8F11-13D4248C3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23EAB3-AC3D-483F-BA21-F353E0780B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1F982A-0B0D-40D0-94C6-E4F96CBEB9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8B06D0-F05C-4CEB-87BF-E0064884CD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028A7F-2D99-42AA-B683-A02E6D511F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3A6000-D8C3-4F7F-97C6-4FA01A6C29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67F07A-39B5-4695-BBD1-7BF25CFB0B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55EEB0-54EB-4810-BB3B-11A5589E11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604153-1BBD-40BB-A071-042D03E7A1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8482C1-BA60-41CE-A0A4-AA2F180DE4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5D3910-7B16-47F6-B329-C06633EBF0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8EEE8-B861-45B4-BE9B-14919F08B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4DC2B0-F66D-471E-AA31-4BA2E765D6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EA7018-DDA9-44D0-8DCA-9DFBC07FDE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7BF903-FAFA-48BE-8EF1-F15E7E5445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3616CC-A878-447C-B905-2611DFEF86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0799F2-954E-4061-B848-21A6CDF81C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1682D2-892E-4688-BEC2-223E9FD51D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A19BF8-9B61-4958-B7F6-1CE4DE05B2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15BF26-DDCE-4D56-8C09-7E70807C0B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CD0919-9246-4EC6-B778-0008785877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9046BA-72C7-4A3E-854F-727195645C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441A9-A973-426A-B3A1-74E04498D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592618-DB34-4D52-9B76-BC235F019B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B644F0-9E43-46CB-BB00-DE9B02D336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65A8D6-8A18-4701-87A9-BC38FC3FD3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42831E-A9BD-4D63-A6B3-061BD239A5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959E69-DEC8-4EB2-AFBE-26A540CA66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9682DB-4580-46DF-83E1-83304402AA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F18108-D582-4865-93BB-14DAAF778F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1E072F-1D5F-433F-A30A-D702E5F762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FA51E3-0FE6-472D-954B-A750457E47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FFA685-DD60-452E-A9FF-C32F3135E3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ACC17-23FE-48FE-94DD-93BB103DF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4C7FF8-6F0B-4D0D-81FB-BBE67D9506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B77763-67BF-4FE1-A383-CE837F2B18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4571CD-468C-4EDA-B16C-13298D18A7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6E2AA2-F28F-4530-A2B3-A11539BD03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C46C3E-F3BB-481D-A3F7-A79FB3BD9F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DAA0FB-0930-4316-8EFF-29E34542C8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2298B9-1156-4487-A490-305F5BD368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36EEE1-3F2B-47C4-879A-082BC1E6CF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416A61-5657-47F1-9252-560220BEB4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A2BD76-CF34-4DCD-AF91-DEF8BE2931C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F90C6-DDE4-484A-BDBC-83E6CF86B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97A02B-2F2B-409D-9510-8E5B9E3722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70BCF3-1F0B-4BDD-ABAE-E6671F41F7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2E357C-CDBE-49C8-BDFE-3A1A3A1E83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CF24A8-4009-4844-8AB5-E4BE9D413B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4817F1-C7D4-4B92-B11A-E42B894666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D958AA-38B2-4B2F-B66E-7278A670B7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19D8D6-A2B4-4296-A259-6F28B034C4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8435FF-5D3D-4CC6-822A-1D19F96E128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FF6974-2A5F-4DB2-A6AE-98A5C4B1FA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4FEFF7-DCE9-40BF-A8B1-AE68EE26625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B3B9FB-B32B-41AA-8014-AEE761FCC0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0</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0</a:t>
            </a:r>
            <a:endParaRPr b="1"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5B8A31-98C5-4220-BB7D-81D5EBCF2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0</a:t>
            </a:r>
            <a:endParaRPr b="1"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F3C86A-EB7E-47E7-8CF9-6E2175592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0</a:t>
            </a:r>
            <a:endParaRPr b="1"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387313-0744-4C0B-B16A-34790701A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0</a:t>
            </a:r>
            <a:endParaRPr b="1" lang="en-US" sz="1800" spc="-1" strike="noStrike">
              <a:solidFill>
                <a:srgbClr val="000000"/>
              </a:solidFill>
              <a:latin typeface="Times New Roman"/>
            </a:endParaRPr>
          </a:p>
        </p:txBody>
      </p:sp>
      <p:sp>
        <p:nvSpPr>
          <p:cNvPr id="54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4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4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46" name="PlaceHolder 3"/>
          <p:cNvSpPr>
            <a:spLocks noGrp="1"/>
          </p:cNvSpPr>
          <p:nvPr>
            <p:ph type="dt" idx="37"/>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47" name="PlaceHolder 4"/>
          <p:cNvSpPr>
            <a:spLocks noGrp="1"/>
          </p:cNvSpPr>
          <p:nvPr>
            <p:ph type="ftr" idx="3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48" name="PlaceHolder 5"/>
          <p:cNvSpPr>
            <a:spLocks noGrp="1"/>
          </p:cNvSpPr>
          <p:nvPr>
            <p:ph type="sldNum" idx="39"/>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27F084-CE95-41BA-B42B-77A281E0F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0</a:t>
            </a:r>
            <a:endParaRPr b="1" lang="en-US" sz="1800" spc="-1" strike="noStrike">
              <a:solidFill>
                <a:srgbClr val="000000"/>
              </a:solidFill>
              <a:latin typeface="Times New Roman"/>
            </a:endParaRPr>
          </a:p>
        </p:txBody>
      </p:sp>
      <p:sp>
        <p:nvSpPr>
          <p:cNvPr id="58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8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9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91" name="PlaceHolder 3"/>
          <p:cNvSpPr>
            <a:spLocks noGrp="1"/>
          </p:cNvSpPr>
          <p:nvPr>
            <p:ph type="dt" idx="40"/>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92" name="PlaceHolder 4"/>
          <p:cNvSpPr>
            <a:spLocks noGrp="1"/>
          </p:cNvSpPr>
          <p:nvPr>
            <p:ph type="ftr" idx="4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93" name="PlaceHolder 5"/>
          <p:cNvSpPr>
            <a:spLocks noGrp="1"/>
          </p:cNvSpPr>
          <p:nvPr>
            <p:ph type="sldNum" idx="42"/>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8680D6-A351-4E3B-AE85-FB9322233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0</a:t>
            </a:r>
            <a:endParaRPr b="1" lang="en-US" sz="1800" spc="-1" strike="noStrike">
              <a:solidFill>
                <a:srgbClr val="000000"/>
              </a:solidFill>
              <a:latin typeface="Times New Roman"/>
            </a:endParaRPr>
          </a:p>
        </p:txBody>
      </p:sp>
      <p:sp>
        <p:nvSpPr>
          <p:cNvPr id="63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3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3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636" name="PlaceHolder 3"/>
          <p:cNvSpPr>
            <a:spLocks noGrp="1"/>
          </p:cNvSpPr>
          <p:nvPr>
            <p:ph type="dt" idx="43"/>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637" name="PlaceHolder 4"/>
          <p:cNvSpPr>
            <a:spLocks noGrp="1"/>
          </p:cNvSpPr>
          <p:nvPr>
            <p:ph type="ftr" idx="4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638" name="PlaceHolder 5"/>
          <p:cNvSpPr>
            <a:spLocks noGrp="1"/>
          </p:cNvSpPr>
          <p:nvPr>
            <p:ph type="sldNum" idx="45"/>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7EB1252-694A-43C1-B2C2-72AD70F5E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0</a:t>
            </a:r>
            <a:endParaRPr b="1"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2010</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8DBD3E-E46C-40D9-AC6E-D5C568B48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0</a:t>
            </a:r>
            <a:endParaRPr b="1"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2010</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3D6554-30BA-4017-AA9D-F3352C2669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0</a:t>
            </a:r>
            <a:endParaRPr b="1"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7960B5-EFA9-4DA5-A029-551D8457B5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0</a:t>
            </a:r>
            <a:endParaRPr b="1"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82A944-5EC2-4FBA-B335-570CA6F9D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0</a:t>
            </a:r>
            <a:endParaRPr b="1"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160BA6-8618-44F0-8F30-A9679F440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0</a:t>
            </a:r>
            <a:endParaRPr b="1"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A8BAE7-D74C-4A44-9156-E74CA56EF1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0</a:t>
            </a:r>
            <a:endParaRPr b="1"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A07C35-99F1-44B9-A727-BC5E09B66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0</a:t>
            </a:r>
            <a:endParaRPr b="1"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57AF3C-B9F8-4C12-8CE4-0E875EDA2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mentor.ieee.org/802.22/dcn/14/22-14-0143-00-000b-2014-november-plenary-working-group-meeting-motions-for-ieee-802-22.docx" TargetMode="External"/><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mentor.ieee.org/802.22/dcn/14/22-14-0130-01-000b-p802-22b-draft-3-0-comment-database.xlsx" TargetMode="External"/><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mentor.ieee.org/802.22/dcn/14/22-14-0130-01-000b-p802-22b-draft-3-0-comment-database.xlsx" TargetMode="External"/><Relationship Id="rId2" Type="http://schemas.openxmlformats.org/officeDocument/2006/relationships/hyperlink" Target="https://mentor.ieee.org/802.22/dcn/14/22-14-0130-01-000b-p802-22b-draft-3-0-comment-database.xlsx" TargetMode="External"/><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mentor.ieee.org/802.22/dcn/14/22-14-0143-00-000b-2014-november-plenary-working-group-meeting-motions-for-ieee-802-22.docx" TargetMode="External"/><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Date Placeholder 3"/>
          <p:cNvSpPr/>
          <p:nvPr/>
        </p:nvSpPr>
        <p:spPr>
          <a:xfrm>
            <a:off x="613800" y="30636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1" lang="en-US" sz="1800" spc="-1" strike="noStrike">
              <a:solidFill>
                <a:srgbClr val="000000"/>
              </a:solidFill>
              <a:latin typeface="Times New Roman"/>
            </a:endParaRPr>
          </a:p>
        </p:txBody>
      </p:sp>
      <p:sp>
        <p:nvSpPr>
          <p:cNvPr id="686"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3DA247-05B1-4493-87E9-77F05A26A31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88" name="PlaceHolder 1"/>
          <p:cNvSpPr>
            <a:spLocks noGrp="1"/>
          </p:cNvSpPr>
          <p:nvPr>
            <p:ph type="title"/>
          </p:nvPr>
        </p:nvSpPr>
        <p:spPr>
          <a:xfrm>
            <a:off x="380880" y="685800"/>
            <a:ext cx="83059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22 Motions at the November Plenary EC Meeting</a:t>
            </a:r>
            <a:endParaRPr b="1" lang="en-US" sz="2400" spc="-1" strike="noStrike">
              <a:solidFill>
                <a:srgbClr val="000000"/>
              </a:solidFill>
              <a:latin typeface="Times New Roman"/>
            </a:endParaRPr>
          </a:p>
        </p:txBody>
      </p:sp>
      <p:sp>
        <p:nvSpPr>
          <p:cNvPr id="689" name="PlaceHolder 2"/>
          <p:cNvSpPr>
            <a:spLocks noGrp="1"/>
          </p:cNvSpPr>
          <p:nvPr>
            <p:ph/>
          </p:nvPr>
        </p:nvSpPr>
        <p:spPr>
          <a:xfrm>
            <a:off x="685800" y="16002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P802.22 Wireless RANs          Date:</a:t>
            </a:r>
            <a:r>
              <a:rPr b="0" lang="en-US" sz="2000" spc="-1" strike="noStrike">
                <a:solidFill>
                  <a:srgbClr val="000000"/>
                </a:solidFill>
                <a:latin typeface="Times New Roman"/>
              </a:rPr>
              <a:t> 2014-11-06</a:t>
            </a:r>
            <a:endParaRPr b="1" lang="en-US" sz="2000" spc="-1" strike="noStrike">
              <a:solidFill>
                <a:srgbClr val="000000"/>
              </a:solidFill>
              <a:latin typeface="Times New Roman"/>
            </a:endParaRPr>
          </a:p>
        </p:txBody>
      </p:sp>
      <p:sp>
        <p:nvSpPr>
          <p:cNvPr id="690" name="Rectangle 12"/>
          <p:cNvSpPr/>
          <p:nvPr/>
        </p:nvSpPr>
        <p:spPr>
          <a:xfrm>
            <a:off x="685800" y="2438280"/>
            <a:ext cx="1447920" cy="381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graphicFrame>
        <p:nvGraphicFramePr>
          <p:cNvPr id="691" name="Object 1"/>
          <p:cNvGraphicFramePr/>
          <p:nvPr/>
        </p:nvGraphicFramePr>
        <p:xfrm>
          <a:off x="380880" y="2971800"/>
          <a:ext cx="8610840" cy="1523880"/>
        </p:xfrm>
        <a:graphic>
          <a:graphicData uri="http://schemas.openxmlformats.org/presentationml/2006/ole">
            <p:oleObj progId="Word.Document.12" r:id="rId1" spid="">
              <p:embed/>
              <p:pic>
                <p:nvPicPr>
                  <p:cNvPr id="692" name="Object 1" descr=""/>
                  <p:cNvPicPr/>
                  <p:nvPr/>
                </p:nvPicPr>
                <p:blipFill>
                  <a:blip r:embed="rId2"/>
                  <a:stretch/>
                </p:blipFill>
                <p:spPr>
                  <a:xfrm>
                    <a:off x="380880" y="2971800"/>
                    <a:ext cx="861084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p:nvPr>
        </p:nvSpPr>
        <p:spPr>
          <a:xfrm>
            <a:off x="304920" y="1066680"/>
            <a:ext cx="8534160" cy="4267440"/>
          </a:xfrm>
          <a:prstGeom prst="rect">
            <a:avLst/>
          </a:prstGeom>
          <a:noFill/>
          <a:ln w="0">
            <a:noFill/>
          </a:ln>
        </p:spPr>
        <p:txBody>
          <a:bodyPr lIns="92160" rIns="92160" tIns="46080" bIns="46080" anchor="t">
            <a:normAutofit/>
          </a:bodyPr>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EEE 802.22 WG November Plenary Motions – </a:t>
            </a:r>
            <a:r>
              <a:rPr b="1" lang="en-US" sz="2000" spc="-1" strike="noStrike" u="sng">
                <a:solidFill>
                  <a:srgbClr val="0066ff"/>
                </a:solidFill>
                <a:uFillTx/>
                <a:latin typeface="Times New Roman"/>
                <a:hlinkClick r:id="rId1"/>
              </a:rPr>
              <a:t>22-14-0143 Rev0</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802.22 WG Policies and Procedures – 22-04-0001 Rev0</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b Draft v3.0 Re-circ #1 Comment Database – 22-14-0130 Rev1</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b Draft v2.0 Comment Database – 22-14-0074 Rev5</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b Draft v1.0 Comment Database – 22-13-0158 Rev3 </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b Coexistence Assurance Document – 22-14-0141 Rev1</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b PAR Form – 22-11-0118 Rev4</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b 5C Document -  22-11-0119 Rev4</a:t>
            </a:r>
            <a:endParaRPr b="1" lang="en-US" sz="2000" spc="-1" strike="noStrike">
              <a:solidFill>
                <a:srgbClr val="000000"/>
              </a:solidFill>
              <a:latin typeface="Times New Roman"/>
            </a:endParaRPr>
          </a:p>
        </p:txBody>
      </p:sp>
      <p:sp>
        <p:nvSpPr>
          <p:cNvPr id="73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3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56CC71-A2DD-48AA-AA26-826D82B74E1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2" name="PlaceHolder 2"/>
          <p:cNvSpPr>
            <a:spLocks noGrp="1"/>
          </p:cNvSpPr>
          <p:nvPr>
            <p:ph type="title"/>
          </p:nvPr>
        </p:nvSpPr>
        <p:spPr>
          <a:xfrm>
            <a:off x="228600" y="609120"/>
            <a:ext cx="861048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s</a:t>
            </a:r>
            <a:endParaRPr b="1" lang="en-US" sz="2400" spc="-1" strike="noStrike">
              <a:solidFill>
                <a:srgbClr val="000000"/>
              </a:solidFill>
              <a:latin typeface="Times New Roman"/>
            </a:endParaRPr>
          </a:p>
        </p:txBody>
      </p:sp>
      <p:sp>
        <p:nvSpPr>
          <p:cNvPr id="733" name="Date Placeholder 3"/>
          <p:cNvSpPr/>
          <p:nvPr/>
        </p:nvSpPr>
        <p:spPr>
          <a:xfrm>
            <a:off x="613800" y="30636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1" lang="en-US" sz="1800" spc="-1" strike="noStrike">
              <a:solidFill>
                <a:srgbClr val="000000"/>
              </a:solidFill>
              <a:latin typeface="Times New Roman"/>
            </a:endParaRPr>
          </a:p>
        </p:txBody>
      </p:sp>
      <p:graphicFrame>
        <p:nvGraphicFramePr>
          <p:cNvPr id="734" name="Object 2"/>
          <p:cNvGraphicFramePr/>
          <p:nvPr/>
        </p:nvGraphicFramePr>
        <p:xfrm>
          <a:off x="5680080" y="3276720"/>
          <a:ext cx="2473200" cy="3200400"/>
        </p:xfrm>
        <a:graphic>
          <a:graphicData uri="http://schemas.openxmlformats.org/presentationml/2006/ole">
            <p:oleObj r:id="rId2" spid="">
              <p:embed/>
              <p:pic>
                <p:nvPicPr>
                  <p:cNvPr id="735" name="Object 2" descr=""/>
                  <p:cNvPicPr/>
                  <p:nvPr/>
                </p:nvPicPr>
                <p:blipFill>
                  <a:blip r:embed="rId3"/>
                  <a:stretch/>
                </p:blipFill>
                <p:spPr>
                  <a:xfrm>
                    <a:off x="5680080" y="3276720"/>
                    <a:ext cx="2473200" cy="3200400"/>
                  </a:xfrm>
                  <a:prstGeom prst="rect">
                    <a:avLst/>
                  </a:prstGeom>
                  <a:ln w="0">
                    <a:noFill/>
                  </a:ln>
                </p:spPr>
              </p:pic>
            </p:oleObj>
          </a:graphicData>
        </a:graphic>
      </p:graphicFrame>
      <p:sp>
        <p:nvSpPr>
          <p:cNvPr id="736" name="Right Arrow 5"/>
          <p:cNvSpPr/>
          <p:nvPr/>
        </p:nvSpPr>
        <p:spPr>
          <a:xfrm>
            <a:off x="4495680" y="3809880"/>
            <a:ext cx="1067040" cy="457200"/>
          </a:xfrm>
          <a:prstGeom prst="rightArrow">
            <a:avLst>
              <a:gd name="adj1" fmla="val 50000"/>
              <a:gd name="adj2" fmla="val 50016"/>
            </a:avLst>
          </a:prstGeom>
          <a:solidFill>
            <a:srgbClr val="00b0f0"/>
          </a:solid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94"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9E3486-B415-4E8E-BD34-8DA1523666D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95"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696" name="Rectangle 3"/>
          <p:cNvSpPr/>
          <p:nvPr/>
        </p:nvSpPr>
        <p:spPr>
          <a:xfrm>
            <a:off x="228600" y="2438280"/>
            <a:ext cx="8610480" cy="1905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b (Amendment on Enhancements for Broadband Services and Monitoring Applications) to the Sponsor Ballot</a:t>
            </a:r>
            <a:endParaRPr b="1" lang="en-US" sz="2800" spc="-1" strike="noStrike">
              <a:solidFill>
                <a:srgbClr val="000000"/>
              </a:solidFill>
              <a:latin typeface="Times New Roman"/>
            </a:endParaRPr>
          </a:p>
        </p:txBody>
      </p:sp>
      <p:sp>
        <p:nvSpPr>
          <p:cNvPr id="697" name="Date Placeholder 3"/>
          <p:cNvSpPr/>
          <p:nvPr/>
        </p:nvSpPr>
        <p:spPr>
          <a:xfrm>
            <a:off x="613800" y="30636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1"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228600" y="609120"/>
            <a:ext cx="8610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b to the IEEE Sponsor Ballot</a:t>
            </a:r>
            <a:endParaRPr b="1" lang="en-US" sz="2800" spc="-1" strike="noStrike">
              <a:solidFill>
                <a:srgbClr val="000000"/>
              </a:solidFill>
              <a:latin typeface="Times New Roman"/>
            </a:endParaRPr>
          </a:p>
        </p:txBody>
      </p:sp>
      <p:sp>
        <p:nvSpPr>
          <p:cNvPr id="699" name="Rectangle 9"/>
          <p:cNvSpPr/>
          <p:nvPr/>
        </p:nvSpPr>
        <p:spPr>
          <a:xfrm>
            <a:off x="152280" y="1523880"/>
            <a:ext cx="8763120" cy="4635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ules as Per the LMSC OM</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ditional approval is only appropriate when ballot resolution efforts have been substantially completed and the approval ratio is sufficient. "Substantially complete" is when there is a very low likelihood of receiving valid new Disapprove comment(s)/vote(s) upon the next recirculation ballot. If the requirements for conditional approval have not been met at end of that recirculation ballot, then one subsequent recirculation ballot may be conducted in an attempt to meet the conditional approval conditions. If the conditions are not met by the subsequent recirculation ballot, the conditional approval terminates. Conditional approval expires at the opening of the next plenary.</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genda Items and motions requesting conditional approval to forward when the prior ballot has closed shall be accompanied by:</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Date the ballot closed</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Vote tally including Approve, Disapprove and Abstain votes</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omments that support the remaining disapprove votes and WG responses.</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chedule for recirculation ballot and resolution meeting.</a:t>
            </a:r>
            <a:endParaRPr b="1" lang="en-US" sz="1800" spc="-1" strike="noStrike">
              <a:solidFill>
                <a:srgbClr val="000000"/>
              </a:solidFill>
              <a:latin typeface="Times New Roman"/>
            </a:endParaRPr>
          </a:p>
        </p:txBody>
      </p:sp>
      <p:sp>
        <p:nvSpPr>
          <p:cNvPr id="700" name="Date Placeholder 3"/>
          <p:cNvSpPr/>
          <p:nvPr/>
        </p:nvSpPr>
        <p:spPr>
          <a:xfrm>
            <a:off x="613800" y="30636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1"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228600" y="609120"/>
            <a:ext cx="8610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b to the IEEE Sponsor Ballot</a:t>
            </a:r>
            <a:endParaRPr b="1" lang="en-US" sz="2800" spc="-1" strike="noStrike">
              <a:solidFill>
                <a:srgbClr val="000000"/>
              </a:solidFill>
              <a:latin typeface="Times New Roman"/>
            </a:endParaRPr>
          </a:p>
        </p:txBody>
      </p:sp>
      <p:sp>
        <p:nvSpPr>
          <p:cNvPr id="702" name="Rectangle 9"/>
          <p:cNvSpPr/>
          <p:nvPr/>
        </p:nvSpPr>
        <p:spPr>
          <a:xfrm>
            <a:off x="76320" y="1724040"/>
            <a:ext cx="8991360" cy="4481640"/>
          </a:xfrm>
          <a:prstGeom prst="rect">
            <a:avLst/>
          </a:prstGeom>
          <a:noFill/>
          <a:ln w="0">
            <a:noFill/>
          </a:ln>
        </p:spPr>
        <p:style>
          <a:lnRef idx="0"/>
          <a:fillRef idx="0"/>
          <a:effectRef idx="0"/>
          <a:fontRef idx="minor"/>
        </p:style>
        <p:txBody>
          <a:bodyPr lIns="90000" rIns="90000" tIns="46800" bIns="46800" anchor="t">
            <a:spAutoFit/>
          </a:bodyPr>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200" spc="-1" strike="noStrike">
                <a:solidFill>
                  <a:srgbClr val="000000"/>
                </a:solidFill>
                <a:latin typeface="Times New Roman"/>
              </a:rPr>
              <a:t>Date the last ballot closed – 1</a:t>
            </a:r>
            <a:r>
              <a:rPr b="1" lang="en-US" sz="2200" spc="-1" strike="noStrike" baseline="30000">
                <a:solidFill>
                  <a:srgbClr val="000000"/>
                </a:solidFill>
                <a:latin typeface="Times New Roman"/>
              </a:rPr>
              <a:t>st</a:t>
            </a:r>
            <a:r>
              <a:rPr b="1" lang="en-US" sz="2200" spc="-1" strike="noStrike">
                <a:solidFill>
                  <a:srgbClr val="000000"/>
                </a:solidFill>
                <a:latin typeface="Times New Roman"/>
              </a:rPr>
              <a:t> WG Re-circulation Ballot: </a:t>
            </a:r>
            <a:r>
              <a:rPr b="1" lang="en-US" sz="2200" spc="-1" strike="noStrike">
                <a:solidFill>
                  <a:srgbClr val="2d2db9"/>
                </a:solidFill>
                <a:latin typeface="Times New Roman"/>
              </a:rPr>
              <a:t>Oct. 30</a:t>
            </a:r>
            <a:r>
              <a:rPr b="1" lang="en-US" sz="2200" spc="-1" strike="noStrike" baseline="30000">
                <a:solidFill>
                  <a:srgbClr val="2d2db9"/>
                </a:solidFill>
                <a:latin typeface="Times New Roman"/>
              </a:rPr>
              <a:t>th</a:t>
            </a:r>
            <a:r>
              <a:rPr b="1" lang="en-US" sz="2200" spc="-1" strike="noStrike">
                <a:solidFill>
                  <a:srgbClr val="2d2db9"/>
                </a:solidFill>
                <a:latin typeface="Times New Roman"/>
              </a:rPr>
              <a:t> 2014</a:t>
            </a:r>
            <a:endParaRPr b="1" lang="en-US" sz="2200" spc="-1" strike="noStrike">
              <a:solidFill>
                <a:srgbClr val="000000"/>
              </a:solidFill>
              <a:latin typeface="Times New Roman"/>
            </a:endParaRPr>
          </a:p>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Vote tally including Approve, Disapprove and Abstain votes: </a:t>
            </a:r>
            <a:endParaRPr b="1" lang="en-US" sz="22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Ballot Pool = 32, Response = 27 (</a:t>
            </a:r>
            <a:r>
              <a:rPr b="1" lang="en-US" sz="2200" spc="-1" strike="noStrike">
                <a:solidFill>
                  <a:srgbClr val="3333cc"/>
                </a:solidFill>
                <a:latin typeface="Times New Roman"/>
              </a:rPr>
              <a:t>84%</a:t>
            </a:r>
            <a:r>
              <a:rPr b="1" lang="en-US" sz="2200" spc="-1" strike="noStrike">
                <a:solidFill>
                  <a:srgbClr val="000000"/>
                </a:solidFill>
                <a:latin typeface="Times New Roman"/>
              </a:rPr>
              <a:t>), # of comments = 26</a:t>
            </a:r>
            <a:endParaRPr b="1" lang="en-US" sz="22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umber of Approves = 23</a:t>
            </a:r>
            <a:endParaRPr b="1" lang="en-US" sz="22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umber of Disapproves = 1</a:t>
            </a:r>
            <a:endParaRPr b="1" lang="en-US" sz="22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Number of Abstains = 4</a:t>
            </a:r>
            <a:endParaRPr b="1" lang="en-US" sz="22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pproval Ratio = </a:t>
            </a:r>
            <a:r>
              <a:rPr b="1" lang="en-US" sz="2200" spc="-1" strike="noStrike">
                <a:solidFill>
                  <a:srgbClr val="2d2db9"/>
                </a:solidFill>
                <a:latin typeface="Times New Roman"/>
              </a:rPr>
              <a:t>96%</a:t>
            </a:r>
            <a:endParaRPr b="1" lang="en-US" sz="2200" spc="-1" strike="noStrike">
              <a:solidFill>
                <a:srgbClr val="000000"/>
              </a:solidFill>
              <a:latin typeface="Times New Roman"/>
            </a:endParaRPr>
          </a:p>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Comments that support the remaining disapprove votes and Working Group responses – </a:t>
            </a:r>
            <a:r>
              <a:rPr b="1" lang="en-US" sz="2200" spc="-1" strike="noStrike" u="sng">
                <a:solidFill>
                  <a:srgbClr val="0066ff"/>
                </a:solidFill>
                <a:uFillTx/>
                <a:latin typeface="Times New Roman"/>
                <a:hlinkClick r:id="rId1"/>
              </a:rPr>
              <a:t>22-14-0130-01-000b-p802-22b-draft-3-0-comment-database</a:t>
            </a:r>
            <a:endParaRPr b="1" lang="en-US" sz="2200" spc="-1" strike="noStrike">
              <a:solidFill>
                <a:srgbClr val="000000"/>
              </a:solidFill>
              <a:latin typeface="Times New Roman"/>
            </a:endParaRPr>
          </a:p>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Schedule for confirmation ballot and resolution meeting – We addressed and resolved all the comments during the November Plenary.  </a:t>
            </a:r>
            <a:r>
              <a:rPr b="1" lang="en-US" sz="2200" spc="-1" strike="noStrike">
                <a:solidFill>
                  <a:srgbClr val="2d2db9"/>
                </a:solidFill>
                <a:latin typeface="Times New Roman"/>
              </a:rPr>
              <a:t>Planning to launch the WG Re-circ #2 by Nov. 18</a:t>
            </a:r>
            <a:r>
              <a:rPr b="1" lang="en-US" sz="2200" spc="-1" strike="noStrike" baseline="30000">
                <a:solidFill>
                  <a:srgbClr val="2d2db9"/>
                </a:solidFill>
                <a:latin typeface="Times New Roman"/>
              </a:rPr>
              <a:t>th</a:t>
            </a:r>
            <a:r>
              <a:rPr b="1" lang="en-US" sz="2200" spc="-1" strike="noStrike">
                <a:solidFill>
                  <a:srgbClr val="2d2db9"/>
                </a:solidFill>
                <a:latin typeface="Times New Roman"/>
              </a:rPr>
              <a:t> 2014.</a:t>
            </a:r>
            <a:endParaRPr b="1" lang="en-US" sz="2200" spc="-1" strike="noStrike">
              <a:solidFill>
                <a:srgbClr val="000000"/>
              </a:solidFill>
              <a:latin typeface="Times New Roman"/>
            </a:endParaRPr>
          </a:p>
        </p:txBody>
      </p:sp>
      <p:sp>
        <p:nvSpPr>
          <p:cNvPr id="703" name="Date Placeholder 3"/>
          <p:cNvSpPr/>
          <p:nvPr/>
        </p:nvSpPr>
        <p:spPr>
          <a:xfrm>
            <a:off x="613800" y="30636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1"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228600" y="609120"/>
            <a:ext cx="8610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b to the IEEE Sponsor Ballot</a:t>
            </a:r>
            <a:endParaRPr b="1" lang="en-US" sz="2800" spc="-1" strike="noStrike">
              <a:solidFill>
                <a:srgbClr val="000000"/>
              </a:solidFill>
              <a:latin typeface="Times New Roman"/>
            </a:endParaRPr>
          </a:p>
        </p:txBody>
      </p:sp>
      <p:sp>
        <p:nvSpPr>
          <p:cNvPr id="705" name="Rectangle 9"/>
          <p:cNvSpPr/>
          <p:nvPr/>
        </p:nvSpPr>
        <p:spPr>
          <a:xfrm>
            <a:off x="304920" y="1959120"/>
            <a:ext cx="8534160" cy="2654280"/>
          </a:xfrm>
          <a:prstGeom prst="rect">
            <a:avLst/>
          </a:prstGeom>
          <a:noFill/>
          <a:ln w="0">
            <a:noFill/>
          </a:ln>
        </p:spPr>
        <p:style>
          <a:lnRef idx="0"/>
          <a:fillRef idx="0"/>
          <a:effectRef idx="0"/>
          <a:fontRef idx="minor"/>
        </p:style>
        <p:txBody>
          <a:bodyPr lIns="90000" rIns="90000" tIns="46800" bIns="46800" anchor="t">
            <a:spAutoFit/>
          </a:bodyPr>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gative Comments</a:t>
            </a:r>
            <a:endParaRPr b="1" lang="en-US" sz="2400" spc="-1" strike="noStrike">
              <a:solidFill>
                <a:srgbClr val="000000"/>
              </a:solidFill>
              <a:latin typeface="Times New Roman"/>
            </a:endParaRPr>
          </a:p>
          <a:p>
            <a:pPr marL="341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n Technical Required Comments from One remaining Negative Voter (Mr. Ranga Reddy) were addressed and resolved during this Plenary Meeting. </a:t>
            </a:r>
            <a:endParaRPr b="1" lang="en-US" sz="2400" spc="-1" strike="noStrike">
              <a:solidFill>
                <a:srgbClr val="000000"/>
              </a:solidFill>
              <a:latin typeface="Times New Roman"/>
            </a:endParaRPr>
          </a:p>
          <a:p>
            <a:pPr marL="341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r. Reddy participated in the comment resolution process.</a:t>
            </a:r>
            <a:endParaRPr b="1" lang="en-US" sz="2400" spc="-1" strike="noStrike">
              <a:solidFill>
                <a:srgbClr val="000000"/>
              </a:solidFill>
              <a:latin typeface="Times New Roman"/>
            </a:endParaRPr>
          </a:p>
          <a:p>
            <a:pPr marL="341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 and their resolutions can be found in the Comment Database - </a:t>
            </a:r>
            <a:r>
              <a:rPr b="1" lang="en-US" sz="2400" spc="-1" strike="noStrike" u="sng">
                <a:solidFill>
                  <a:srgbClr val="0066ff"/>
                </a:solidFill>
                <a:uFillTx/>
                <a:latin typeface="Times New Roman"/>
                <a:hlinkClick r:id="rId1"/>
              </a:rPr>
              <a:t>22-14-0130 </a:t>
            </a:r>
            <a:r>
              <a:rPr b="1" lang="en-US" sz="2400" spc="-1" strike="noStrike" u="sng">
                <a:solidFill>
                  <a:srgbClr val="0066ff"/>
                </a:solidFill>
                <a:uFillTx/>
                <a:latin typeface="Times New Roman"/>
                <a:hlinkClick r:id="rId2"/>
              </a:rPr>
              <a:t>Rev1</a:t>
            </a:r>
            <a:endParaRPr b="1" lang="en-US" sz="2400" spc="-1" strike="noStrike">
              <a:solidFill>
                <a:srgbClr val="000000"/>
              </a:solidFill>
              <a:latin typeface="Times New Roman"/>
            </a:endParaRPr>
          </a:p>
        </p:txBody>
      </p:sp>
      <p:sp>
        <p:nvSpPr>
          <p:cNvPr id="706" name="Date Placeholder 3"/>
          <p:cNvSpPr/>
          <p:nvPr/>
        </p:nvSpPr>
        <p:spPr>
          <a:xfrm>
            <a:off x="613800" y="30636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1"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533160" y="609120"/>
            <a:ext cx="80010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P802.22b Draft History and Statistics</a:t>
            </a:r>
            <a:endParaRPr b="1" lang="en-US" sz="3200" spc="-1" strike="noStrike">
              <a:solidFill>
                <a:srgbClr val="000000"/>
              </a:solidFill>
              <a:latin typeface="Times New Roman"/>
            </a:endParaRPr>
          </a:p>
        </p:txBody>
      </p:sp>
      <p:sp>
        <p:nvSpPr>
          <p:cNvPr id="708" name="Slide Number Placeholder 4"/>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709"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10"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874B60-8C04-48DF-BCC0-4E0054F70F7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graphicFrame>
        <p:nvGraphicFramePr>
          <p:cNvPr id="711" name=""/>
          <p:cNvGraphicFramePr/>
          <p:nvPr/>
        </p:nvGraphicFramePr>
        <p:xfrm>
          <a:off x="152280" y="1158840"/>
          <a:ext cx="8915400" cy="4114800"/>
        </p:xfrm>
        <a:graphic>
          <a:graphicData uri="http://schemas.openxmlformats.org/drawingml/2006/table">
            <a:tbl>
              <a:tblPr/>
              <a:tblGrid>
                <a:gridCol w="1486080"/>
                <a:gridCol w="1015920"/>
                <a:gridCol w="1407960"/>
                <a:gridCol w="1084320"/>
                <a:gridCol w="1027080"/>
                <a:gridCol w="1330560"/>
                <a:gridCol w="1563480"/>
              </a:tblGrid>
              <a:tr h="822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EEE WG Letter Ballot</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unch Dat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of Comments Received</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ment Resolution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sponse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pproval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raft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8240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1</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b Draft v1.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v. 2013</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2</a:t>
                      </a:r>
                      <a:r>
                        <a:rPr b="0" lang="en-US" sz="1600" spc="-1" strike="noStrike">
                          <a:solidFill>
                            <a:srgbClr val="000000"/>
                          </a:solidFill>
                          <a:latin typeface="Times New Roman"/>
                        </a:rPr>
                        <a:t> (27 TR / 4ER)</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8%</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P802.22b Draft v2.0 Prepared </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822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2</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b Draft v2.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ly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4</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7</a:t>
                      </a:r>
                      <a:r>
                        <a:rPr b="0" lang="en-US" sz="1600" spc="-1" strike="noStrike">
                          <a:solidFill>
                            <a:srgbClr val="000000"/>
                          </a:solidFill>
                          <a:latin typeface="Times New Roman"/>
                        </a:rPr>
                        <a:t> (10TR / 4ER/ 36 T)</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8%</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91%</a:t>
                      </a: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b Draft v3.0 Prepared </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240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Re-circ #</a:t>
                      </a:r>
                      <a:r>
                        <a:rPr b="1" lang="en-US" sz="1200" spc="-1" strike="noStrike">
                          <a:solidFill>
                            <a:srgbClr val="000000"/>
                          </a:solidFill>
                          <a:latin typeface="Times New Roman"/>
                        </a:rPr>
                        <a:t>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b Draftv 3.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ct. 2014</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a:t>
                      </a:r>
                      <a:r>
                        <a:rPr b="0" lang="en-US" sz="1600" spc="-1" strike="noStrike">
                          <a:solidFill>
                            <a:srgbClr val="000000"/>
                          </a:solidFill>
                          <a:latin typeface="Times New Roman"/>
                        </a:rPr>
                        <a:t> (10TR / 3T)</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4%</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96%</a:t>
                      </a: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b Draft v4.0 Prepar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822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Re-circ #2</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b Draft v4.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v. 2014</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712" name="Rounded Rectangular Callout 7"/>
          <p:cNvSpPr/>
          <p:nvPr/>
        </p:nvSpPr>
        <p:spPr>
          <a:xfrm>
            <a:off x="250920" y="5715000"/>
            <a:ext cx="8534160" cy="457200"/>
          </a:xfrm>
          <a:prstGeom prst="wedgeRoundRectCallout">
            <a:avLst>
              <a:gd name="adj1" fmla="val -5060"/>
              <a:gd name="adj2" fmla="val -97449"/>
              <a:gd name="adj3" fmla="val 16667"/>
            </a:avLst>
          </a:prstGeom>
          <a:solidFill>
            <a:srgbClr val="ccffcc"/>
          </a:solidFill>
          <a:ln w="25560">
            <a:solidFill>
              <a:srgbClr val="2d2db9"/>
            </a:solidFill>
            <a:round/>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PMingLiU"/>
              </a:rPr>
              <a:t>P802.22b is ON TRACK to reach the Sponsor Ballot by December 2014</a:t>
            </a:r>
            <a:endParaRPr b="1"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228600" y="7617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b Draft Standard to the IEEE SA RevCom</a:t>
            </a:r>
            <a:endParaRPr b="1" lang="en-US" sz="2400" spc="-1" strike="noStrike">
              <a:solidFill>
                <a:srgbClr val="000000"/>
              </a:solidFill>
              <a:latin typeface="Times New Roman"/>
            </a:endParaRPr>
          </a:p>
        </p:txBody>
      </p:sp>
      <p:sp>
        <p:nvSpPr>
          <p:cNvPr id="714"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15"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6E5452-8894-454C-BBFC-45C49BB2272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6" name="Rectangle 8"/>
          <p:cNvSpPr/>
          <p:nvPr/>
        </p:nvSpPr>
        <p:spPr>
          <a:xfrm>
            <a:off x="304920" y="1752480"/>
            <a:ext cx="8686800" cy="3385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for the Launch of P802.22b WG Re-circ #3 and Sponsor Ballot #1</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ponsor Ballot Pool Formation is complete – Sponsor Ballot Pool is balanced according to the IEEE SA Staff.</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v. 18</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14 - Issue IEEE P802.22b Draft 4.0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 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2014 – Re-circulation #2 is completed.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 10</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14 – Address and Resolve Comments if any.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 12</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14 – Launch Sponsor Ballot #1 </a:t>
            </a:r>
            <a:endParaRPr b="1" lang="en-US" sz="2400" spc="-1" strike="noStrike">
              <a:solidFill>
                <a:srgbClr val="000000"/>
              </a:solidFill>
              <a:latin typeface="Times New Roman"/>
            </a:endParaRPr>
          </a:p>
        </p:txBody>
      </p:sp>
      <p:sp>
        <p:nvSpPr>
          <p:cNvPr id="717" name="Date Placeholder 3"/>
          <p:cNvSpPr/>
          <p:nvPr/>
        </p:nvSpPr>
        <p:spPr>
          <a:xfrm>
            <a:off x="613800" y="30636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1"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1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C1C24B-7F25-4E56-8D1C-AAB23B2C9AE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20" name="Rectangle 1"/>
          <p:cNvSpPr/>
          <p:nvPr/>
        </p:nvSpPr>
        <p:spPr>
          <a:xfrm>
            <a:off x="457200" y="1038600"/>
            <a:ext cx="8458200" cy="4582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802.22b WG Motion 2 – Document – </a:t>
            </a:r>
            <a:r>
              <a:rPr b="1" lang="en-US" sz="2400" spc="-1" strike="noStrike" u="sng">
                <a:solidFill>
                  <a:srgbClr val="0066ff"/>
                </a:solidFill>
                <a:uFillTx/>
                <a:latin typeface="Times New Roman"/>
                <a:ea typeface="Times New Roman"/>
                <a:hlinkClick r:id="rId1"/>
              </a:rPr>
              <a:t>22-14-0143 Rev0</a:t>
            </a:r>
            <a:endParaRPr b="1" lang="en-US" sz="2400" spc="-1" strike="noStrike">
              <a:solidFill>
                <a:srgbClr val="000000"/>
              </a:solidFill>
              <a:latin typeface="Times New Roman"/>
            </a:endParaRPr>
          </a:p>
        </p:txBody>
      </p:sp>
      <p:sp>
        <p:nvSpPr>
          <p:cNvPr id="721"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G Motion</a:t>
            </a:r>
            <a:endParaRPr b="1" lang="en-US" sz="3200" spc="-1" strike="noStrike">
              <a:solidFill>
                <a:srgbClr val="000000"/>
              </a:solidFill>
              <a:latin typeface="Times New Roman"/>
            </a:endParaRPr>
          </a:p>
        </p:txBody>
      </p:sp>
      <p:sp>
        <p:nvSpPr>
          <p:cNvPr id="722" name="Rectangle 7"/>
          <p:cNvSpPr/>
          <p:nvPr/>
        </p:nvSpPr>
        <p:spPr>
          <a:xfrm>
            <a:off x="304920" y="1985040"/>
            <a:ext cx="8686800" cy="375156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 to authorize the 802.22 WG chair to make a motion to the IEEE 802 executive committee for conditional approval to forward the P802.22b draft amendment standard to the sponsor ballot and to launch a sponsor ballot based on the latest P802.22b draft amendment standard that has met all the conditions as stated in the IEEE 802 Operations Manual.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 Keat-beng Toh</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cond:  Shigenobu Sasaki</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7</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gainst: 0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bstain:  0</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tion Passes.  </a:t>
            </a:r>
            <a:endParaRPr b="1" lang="en-US" sz="2000" spc="-1" strike="noStrike">
              <a:solidFill>
                <a:srgbClr val="000000"/>
              </a:solidFill>
              <a:latin typeface="Times New Roman"/>
            </a:endParaRPr>
          </a:p>
        </p:txBody>
      </p:sp>
      <p:sp>
        <p:nvSpPr>
          <p:cNvPr id="723" name="Date Placeholder 3"/>
          <p:cNvSpPr/>
          <p:nvPr/>
        </p:nvSpPr>
        <p:spPr>
          <a:xfrm>
            <a:off x="613800" y="30636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1"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p:nvPr>
        </p:nvSpPr>
        <p:spPr>
          <a:xfrm>
            <a:off x="304920" y="1828440"/>
            <a:ext cx="8534160" cy="426708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to grant conditional approval as per the IEEE 802 Operations Manual to forward IEEE P802.22 to the Sponsor Ballot.</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purva N. Mody,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Bob Heile</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ains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stain: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Passes / Fails</a:t>
            </a:r>
            <a:endParaRPr b="1" lang="en-US" sz="2400" spc="-1" strike="noStrike">
              <a:solidFill>
                <a:srgbClr val="000000"/>
              </a:solidFill>
              <a:latin typeface="Times New Roman"/>
            </a:endParaRPr>
          </a:p>
        </p:txBody>
      </p:sp>
      <p:sp>
        <p:nvSpPr>
          <p:cNvPr id="72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2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96EEA1C-5C50-4466-A1A3-717559ABD93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27" name="PlaceHolder 2"/>
          <p:cNvSpPr>
            <a:spLocks noGrp="1"/>
          </p:cNvSpPr>
          <p:nvPr>
            <p:ph type="title"/>
          </p:nvPr>
        </p:nvSpPr>
        <p:spPr>
          <a:xfrm>
            <a:off x="228600" y="60912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b Draft Standard to the Sponsor Ballot</a:t>
            </a:r>
            <a:endParaRPr b="1" lang="en-US" sz="2400" spc="-1" strike="noStrike">
              <a:solidFill>
                <a:srgbClr val="000000"/>
              </a:solidFill>
              <a:latin typeface="Times New Roman"/>
            </a:endParaRPr>
          </a:p>
        </p:txBody>
      </p:sp>
      <p:sp>
        <p:nvSpPr>
          <p:cNvPr id="728" name="Date Placeholder 3"/>
          <p:cNvSpPr/>
          <p:nvPr/>
        </p:nvSpPr>
        <p:spPr>
          <a:xfrm>
            <a:off x="613800" y="30636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1"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9T20:30:52Z</dcterms:created>
  <dc:creator>Apurva N. Mody</dc:creator>
  <dc:description/>
  <dc:language>en-US</dc:language>
  <cp:lastModifiedBy>Mody, Apurva (US SSA)</cp:lastModifiedBy>
  <cp:lastPrinted>1998-02-10T13:28:06Z</cp:lastPrinted>
  <dcterms:modified xsi:type="dcterms:W3CDTF">2014-11-07T07:34:20Z</dcterms:modified>
  <cp:revision>454</cp:revision>
  <dc:subject/>
  <dc:title>Overview of IEEE 802.22 Standard</dc:title>
</cp:coreProperties>
</file>