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875C2B0-A82D-43A9-9014-2D51840E4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49"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50"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51"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27253CE-82C6-44BC-916F-3843D3E2943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2" name="PlaceHolder 1"/>
          <p:cNvSpPr>
            <a:spLocks noGrp="1"/>
          </p:cNvSpPr>
          <p:nvPr>
            <p:ph type="sldImg"/>
          </p:nvPr>
        </p:nvSpPr>
        <p:spPr>
          <a:xfrm>
            <a:off x="1189080" y="701640"/>
            <a:ext cx="4632120" cy="3475080"/>
          </a:xfrm>
          <a:prstGeom prst="rect">
            <a:avLst/>
          </a:prstGeom>
          <a:ln w="0">
            <a:noFill/>
          </a:ln>
        </p:spPr>
      </p:sp>
      <p:sp>
        <p:nvSpPr>
          <p:cNvPr id="753"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882D9A-8833-42AD-B830-9BAAAF4841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56C8ED-D01E-496A-B312-3E58A43964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F73F67B-AA2A-4E7C-91F9-1ACB4EF67F6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A0D783F-2E9C-4ECD-B21A-4F94005239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C37AE7B-64C0-439F-831B-9A94D176A3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7423713-4C7B-49FA-BF97-6A29C96687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363153-60BA-4CBA-BEBA-464B6AA48C8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92A886-A805-42BB-AA89-EF77ED00A3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DFBB360-7E9D-4621-B8E4-A18B17DE3E3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3360C4B-02A0-4FEE-AE29-3546115208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008127A-E50A-45FC-9DFA-D90DA48662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B1678-5E7D-4487-B77C-26AF235ACC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6306A-9064-4784-A71F-3671748CE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FD97DC-A119-4ADC-956D-A051A831F1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51681F-EDD2-4807-8BE1-D11997779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19DF9B-0200-421D-BD0C-DC788DF955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7F932D-7F9E-458A-9FF7-C7747B0DF5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12E07A-8ED2-43C4-854E-DC75F659B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46C80-876D-4823-B0FA-EAF58B57C0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A3F521-1F77-41A4-800B-2243F1B288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61837C-D332-4958-A973-0F9E6020ED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3DF273-CCD8-4C0F-B98E-2EBA588C494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43FCA6D-D475-4B6F-89B2-90808833274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B6648-7C0B-4178-B2D3-A41DA4335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1DA8CF-B803-4E5A-B834-8C3C85BCD34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84A032-F66B-4BE2-B9EE-A4A0531CAB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03E790-7D07-4D61-A01B-03603E9D8F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12197A-28C1-44C2-A425-DE3543D470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DE6A5F-7D80-4A78-A37E-AC73ECEFF0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D69419-B2E1-47A5-A99C-6198A4A0813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81382A2-5EA5-4EF4-8791-44B8CE8653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C2FC59-62AC-48B1-9D49-BA2719B66A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C15418-21EA-453B-A666-C061798E169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0974F9C-509F-446C-978F-3095D55EAB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4D38E-B384-42EE-BC29-B77A8F309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2016B7-3E6F-4333-8436-19DF28313E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37F5FB-DE9F-4F19-9527-FDCB559A7C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5AA655-64CC-4368-9799-B88E51B8EA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F152CF-36EF-4FF6-BBB5-CD178A4A88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6653A0-22C0-4B24-A1BE-8F62E51017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B48DC6-C4F7-418E-8A9E-5FE7984A06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0BDD72-2094-4184-A6EB-8ABB7CA927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ECC222-77A9-46F1-A560-FDD314E509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91E4D3-0608-41A5-BAC8-7D665F2F3E1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B9E5A2-60AF-49FB-9B4B-271A01BFFD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855284-B479-4336-AB09-44F2EBBFA2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936814-8362-4DC3-B703-395B485BBDB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199248-84A5-4604-A3B5-5012F3B55D5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B46188F-9796-4F72-93E1-C02AB59EDB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3E479D4-381F-4ECE-BC25-3A1B43E341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A9F5AEC-21D9-4180-8E0F-D6106576B7D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69D7A8-0AD8-49F3-B020-08100B6955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B29DA28-6117-45CC-A1B6-2114402566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9509B2-D072-4A31-8BF9-FF92110D7A5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3EFB57-69D8-4220-9170-4988991668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063FED-1E0C-4BE8-8ED4-ECCDD7DD75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95200-BA39-434B-AB79-C1903821A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6B2599-5CBB-4CDE-9D7D-2D47510C32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CC5A20-61AE-4CE6-AC7E-8C91115E1D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425676A-2FF0-4BF8-B83D-483AD76294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56E738A-3862-43F4-8518-28294B05DF9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BFE511-FF2E-4D7A-B223-70CD0FCE9B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BD468A5-81BD-42BD-8E3B-CE0F3F59B3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973016F-59CD-4861-AF25-F56B7E12DCD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F9E71B-7BA9-4B15-9C4D-76FC6218B2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EFCB569-C70E-42FA-B2CA-BE427C4962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97408A-1EE3-40DE-8BFB-0194F4F94F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C1E42-D5D4-4EB2-921E-381CA77D6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02C1157-D312-417D-BC89-3E49F93774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E33B281-6516-46E4-93DA-122C6B4F39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7EB428-875D-470C-92B2-24A3CF2DCE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8839651-114D-4996-9ABC-10E442A8E6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2F054C0-C495-4220-A305-B534510DF6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3750AE0-7ABA-4DDA-BE5E-8C14350BD9C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92BBA1-8BF2-49E1-8082-B4EA631C20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79047ED-2D75-4385-A4C3-EAB21F7D384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6E6406-C0B9-4916-9E02-22EAC187DE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5F47E8-9967-4440-A090-94915A5D42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2CDA4-F31D-4ACB-8E8F-32D41E9DE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FE5A86C-4E71-4E8F-AE2E-283AFC8EED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D0B3636-9609-40D7-B99F-3BC7D590DC6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AC92AD4-B65D-4F4B-9A19-92A736A1407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0B8AF83-694B-4952-9A5F-8945B0AA83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32D8D37-C752-418C-B3F6-96E5C485ED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262E21C-E66D-41E2-A77B-4A3060D2F8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982861-02FD-4A26-A188-D88A3567A1E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A5DB977-C5A0-4E0B-A156-5097991CA58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EDAB7C3-A4A5-40AF-A235-6F0BF6B00E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DC4A004-9893-4483-BDE9-08E14676C86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6D4FD-B243-4A75-9BDD-D50D131D6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933F0AB-C603-4A67-B6E3-F6F5D43D31F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BE60126-438F-464F-8B83-B0439A22AD7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7318869-4515-43AF-95B0-E3490CBEAC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65E52C2-40C3-4199-BD0F-04925B51DB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BB01F1-8F7B-4B5A-B1ED-BEBCD6193B9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3FC9FE-F849-4CF0-96FB-5C84CA4FEC3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D35453B-E634-491F-A207-5215EEAC28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7CC7D1-992E-4F40-8D7F-3BCCB22F61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7BCBF03-8C41-442A-9922-36320080E9B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9FCF4BD-AA9B-4404-BD9E-1688C9D94B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61C7E3-69A4-4060-B6E8-0392E9BD8C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4334E1E-C3E7-4096-8C3C-34F1FC1CF75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D8817-CD19-45F3-9934-485D3B4DE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E8BE-FBD1-4678-A4FF-2027D57C2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FCD16-154A-4C54-B6C3-368DB0DE1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EAECA-F46E-4BD3-9C1E-92DB8252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421DE-C20B-40EB-922C-2F229F561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B3C60-3CFA-4E65-B3D9-06C3C80F49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CF1829-CF6D-4338-BB65-15DE1E018E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76AD9C-B534-4F13-AA60-1A988A62A8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AD6F62-16E8-4FD6-A8C7-BAA45C5895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E72B24C-2D76-43F8-BBBF-1B6594130B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BB658E-CA91-412B-A8ED-B03BE268B1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AECEEF-009B-4C15-A61A-8803EE0A6C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3903E-A620-4FCB-99EF-A89D33EF3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AFFF34-DE16-474E-B1A5-41D5DEB2DF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58F648-C24C-42E6-A1B5-52F487CE8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753E89-0616-4C67-8229-B4A6719ED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D7974-F0E9-4D48-9AA9-364757DCB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FA746-AA34-4638-A7F8-3C0F2F4AC9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21196E-1F62-46CD-9D6E-1165407C9A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730A7F-4F8B-4A60-8339-6694ED0F59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79EC61-A59D-4807-8770-791D4B7B54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C600A-D27F-40A4-8EC4-FE0C9402F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676E30-FE0F-4AE4-9F01-4DF9BEADC5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9CFF3-006A-4DD9-B6F1-4345FB853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763A9-6B39-4F17-AB43-F39762792F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1F20FD-D73C-464D-907F-40F076BEE9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96C916-D6A5-4C0B-B879-2C28E4A82B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7B1064-D398-4EFF-80E5-1D469C59E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4BDE6-03D2-499F-B0B0-94D2A4046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08086C-13A0-4F64-B148-BA9EB1BD2B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B3931-3CB3-46D5-96C2-24F56BA7C7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886679-62D1-4292-8D86-6ED61DDF34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DFF227D-A1A2-48C6-A72D-ED50BC5335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8569B-99CD-41CD-ADAF-F61B75EF4D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ED8B5-AF96-4942-B50C-B7341159F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602723-937A-4E95-8398-63F446FD36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296023-43F4-400D-864B-D922F15C94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8104E-6993-49EB-9B39-48DEA81C0A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43A1F-2E6F-44D8-88E2-812C41F3A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4F20D8-AF26-46B7-8281-5ADF7888F5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6AA8CC-DD8B-4E78-A0CE-4D6AB53EA1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F928CE-B693-404D-B9FB-8671196056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CA5AED-7549-482B-847C-E186EF93A6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31C6E-5AB9-4C7A-BC6A-E710ABD6FC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37A239-1476-4EDB-BB75-5E71142737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F258A-5003-4498-B34B-71582F39D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40811A-91F2-4E4C-8A25-2D993AFEFC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E93F64-84D1-49C9-A32F-DD9A0FAA5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2010D1-9ED9-416D-A74F-2B83D058C7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05E312-639F-4ABC-916B-6D2DE77A8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AF60FC-F477-479D-80DD-E579F7FA3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F1F68-BD03-48A8-B36B-31B9CDCCF8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3F5807-5D18-40A0-ADC7-F98ABC9485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137EA-E968-476C-8077-6FC77D9AD9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97B62-FDEE-4292-B9D6-CAB7B14F2A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BB2F0B-5472-47F3-8BE2-02AA2D7187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3C9D-6126-4FEE-8C6B-D8B7684AB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5279A-511B-4FDC-A4B1-86607A960B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EAC7CC-CA8F-4A14-8D19-622243BDC2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24270B-634A-433D-8822-C91C94AF6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A275CA-5AD9-4218-B4BE-82A584708E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1A55A2-AC5B-4486-9FED-036D80B148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EEA17B-4214-4FD1-9575-0D06124E41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35CB69-7F7E-43CC-B44D-32E8091435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826CD2-8B48-4C85-910B-3273666534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7A22B5-8007-4277-8EFD-17475883A6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D93E1-B95A-48B2-867C-07FDC155A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06ECC-5C82-4B69-82DA-7A9C40DF1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8106FB-E62D-4AFA-A4D6-8BEDD596C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FAA951-E45C-40EC-86D7-60D63B538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061340-220D-4E90-8FEA-04E0397F71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0785E2-A0E3-4611-8216-CF4EA403E5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0937FB-1F65-42FD-8AEE-47753DA14E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FFEC54-BA46-4E00-A391-3ACA4F2B578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3F31D8-F86A-4E23-8445-4B9B929106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4EA772-901C-4C0D-9A3A-A5416E22E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EB2782-4BFC-4638-9B30-A93066317E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731540-FD5E-46ED-84A8-7D37675690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E8F7-A05E-4608-87C3-83949FFC4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F3258B-816C-4BF5-A215-34E98ACAB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0A9D6-9C0A-47A4-B9BC-523CB4CCB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3AA96-808A-4FA8-8AB4-1E332E66F5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4600E-5B5A-4BE3-A8FB-ED229A53B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FF5569-0662-466F-A4B9-330AD19C22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D88BC9-B250-439D-B39C-0BC7D5B65FD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EE3760-F5D6-435C-88AB-C7092FAD8A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97BF8B-A219-4325-8E3B-365B3010A5C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6786A2-2925-43B0-9CF3-358B966928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2C5F1-CEF1-42A5-8393-26FD089F3AB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3</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B20A30-E889-4621-9C4E-F37AD820D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264EA9-5325-4CAE-8602-E97EB3E31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C03487-7726-48CC-BD7A-16C7286BC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A14038-7853-4F1E-B4D2-9F270AC4FB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4FC94E-594F-468B-879E-1D737669E7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C80CF7-AD87-4CBF-B6CD-9FDCB02A6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56DF94-95DD-4A1E-8A5A-37BF46E56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01DAE6-8185-47D2-8493-AEC0C0F5DA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1BC6A6-DAE8-46C0-AC19-DA3E51032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8ACC4C-8548-4011-9B29-D5A0C469C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FF98DD-2C73-442F-803F-E47ED6B42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7E6FAD1-8E07-4E0E-A496-ABCBB5A99F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F7D413-B467-46F5-8BE8-24B1FABA7B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85796A-B781-4B0A-9643-86AEA9913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3/0054r00</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8E1797-1CA6-46AC-B64C-BE92431443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3</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C673AB-F3B5-4AD9-AB5D-6BC5096EC1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380880" y="685800"/>
            <a:ext cx="83059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March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3-03-21</a:t>
            </a:r>
            <a:endParaRPr b="1" lang="en-US" sz="2000" spc="-1" strike="noStrike">
              <a:solidFill>
                <a:srgbClr val="000000"/>
              </a:solidFill>
              <a:latin typeface="Times New Roman"/>
            </a:endParaRPr>
          </a:p>
        </p:txBody>
      </p:sp>
      <p:graphicFrame>
        <p:nvGraphicFramePr>
          <p:cNvPr id="690" name="Object 11"/>
          <p:cNvGraphicFramePr/>
          <p:nvPr/>
        </p:nvGraphicFramePr>
        <p:xfrm>
          <a:off x="539640" y="2368440"/>
          <a:ext cx="8050320" cy="2233800"/>
        </p:xfrm>
        <a:graphic>
          <a:graphicData uri="http://schemas.openxmlformats.org/presentationml/2006/ole">
            <p:oleObj progId="Word.Document.12" r:id="rId1" spid="">
              <p:embed/>
              <p:pic>
                <p:nvPicPr>
                  <p:cNvPr id="691" name="Object 11" descr=""/>
                  <p:cNvPicPr/>
                  <p:nvPr/>
                </p:nvPicPr>
                <p:blipFill>
                  <a:blip r:embed="rId2"/>
                  <a:stretch/>
                </p:blipFill>
                <p:spPr>
                  <a:xfrm>
                    <a:off x="539640" y="2368440"/>
                    <a:ext cx="8050320" cy="2233800"/>
                  </a:xfrm>
                  <a:prstGeom prst="rect">
                    <a:avLst/>
                  </a:prstGeom>
                  <a:ln w="0">
                    <a:noFill/>
                  </a:ln>
                </p:spPr>
              </p:pic>
            </p:oleObj>
          </a:graphicData>
        </a:graphic>
      </p:graphicFrame>
      <p:sp>
        <p:nvSpPr>
          <p:cNvPr id="692"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1" lang="en-US" sz="800" spc="-1" strike="noStrike">
                <a:solidFill>
                  <a:srgbClr val="000000"/>
                </a:solidFill>
                <a:latin typeface="Times New Roman"/>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purva.mody@ieee.org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patcom@iee.org.</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C41594-CC5F-4495-A955-0BC2B06463C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4" name="Rectangle 1"/>
          <p:cNvSpPr/>
          <p:nvPr/>
        </p:nvSpPr>
        <p:spPr>
          <a:xfrm>
            <a:off x="457200" y="1071000"/>
            <a:ext cx="8458200" cy="10072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a WG Motion 2 – Document – </a:t>
            </a:r>
            <a:r>
              <a:rPr b="1" lang="en-US" sz="2000" spc="-1" strike="noStrike">
                <a:solidFill>
                  <a:srgbClr val="000000"/>
                </a:solidFill>
                <a:latin typeface="Times New Roman"/>
              </a:rPr>
              <a:t>https://mentor.ieee.org/802.22/dcn/13/22-13-0043-00-0000-march-plenary-working-group-motions.doc </a:t>
            </a: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735" name="PlaceHolder 1"/>
          <p:cNvSpPr>
            <a:spLocks noGrp="1"/>
          </p:cNvSpPr>
          <p:nvPr>
            <p:ph type="title"/>
          </p:nvPr>
        </p:nvSpPr>
        <p:spPr>
          <a:xfrm>
            <a:off x="685800" y="4568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
        <p:nvSpPr>
          <p:cNvPr id="736" name="Rectangle 7"/>
          <p:cNvSpPr/>
          <p:nvPr/>
        </p:nvSpPr>
        <p:spPr>
          <a:xfrm>
            <a:off x="304920" y="2153880"/>
            <a:ext cx="8686800" cy="436140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uthorize the 802.22 WG Chair to make a motion to the IEEE 802 Executive Committee Meeting for a (conditional) approval to forward the P802.22a Draft Amendment Standard on MIBs and Management Plane Procedures to the Sponsor Ballot and to launch the Sponsor Ballot based on the latest P802.22a Draft that has met all the conditions as stated in the IEEE 802 Operations Manual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Apurva Mody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Jerry Kalke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cussion: None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1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r>
              <a:rPr b="1" lang="en-GB" sz="2000" spc="-1" strike="noStrike">
                <a:solidFill>
                  <a:srgbClr val="000000"/>
                </a:solidFill>
                <a:latin typeface="Times New Roman"/>
              </a:rPr>
              <a:t>	</a:t>
            </a: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tion Passes Unanimously</a:t>
            </a:r>
            <a:endParaRPr b="1" lang="en-US" sz="2000" spc="-1" strike="noStrike">
              <a:solidFill>
                <a:srgbClr val="000000"/>
              </a:solidFill>
              <a:latin typeface="Times New Roman"/>
            </a:endParaRPr>
          </a:p>
        </p:txBody>
      </p:sp>
      <p:sp>
        <p:nvSpPr>
          <p:cNvPr id="737"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a to the Sponsor Ballot.</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3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81F181-0D40-4882-9002-F4625BC51A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1"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 Motion for a Conditional Approval to forward the IEEE P802.22a Draft Standard to the Sponsor Ballot</a:t>
            </a:r>
            <a:endParaRPr b="1" lang="en-US" sz="2400" spc="-1" strike="noStrike">
              <a:solidFill>
                <a:srgbClr val="000000"/>
              </a:solidFill>
              <a:latin typeface="Times New Roman"/>
            </a:endParaRPr>
          </a:p>
        </p:txBody>
      </p:sp>
      <p:sp>
        <p:nvSpPr>
          <p:cNvPr id="742"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p:nvPr>
        </p:nvSpPr>
        <p:spPr>
          <a:xfrm>
            <a:off x="304920" y="1295280"/>
            <a:ext cx="8534160" cy="4267440"/>
          </a:xfrm>
          <a:prstGeom prst="rect">
            <a:avLst/>
          </a:prstGeom>
          <a:noFill/>
          <a:ln w="0">
            <a:noFill/>
          </a:ln>
        </p:spPr>
        <p:txBody>
          <a:bodyPr lIns="92160" rIns="92160" tIns="46080" bIns="4608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EEE P802.22 WG March Plenary Motions – https://mentor.ieee.org/802.22/dcn/13/22-13-0043-00-0000-march-plenary-working-group-motions.doc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a Comment Database – 22-13-0055 Rev0: https://mentor.ieee.org/802.22/dcn/13/22-13-0055-00-0mib-tga-sb1-comment-database.xls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802.22 WG Policies and Procedures – 22-04-0001 Rev0 </a:t>
            </a:r>
            <a:endParaRPr b="1" lang="en-US" sz="2000" spc="-1" strike="noStrike">
              <a:solidFill>
                <a:srgbClr val="000000"/>
              </a:solidFill>
              <a:latin typeface="Times New Roman"/>
            </a:endParaRPr>
          </a:p>
        </p:txBody>
      </p:sp>
      <p:sp>
        <p:nvSpPr>
          <p:cNvPr id="7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2EB4E1-AED1-4CC5-937C-F0DC33F21F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47"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3EF1C8-CB3F-4FBC-AA91-C77DA8EEC0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7"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to Confirm Dr. Chang-woo Pyo as the 802.22 Working Group Vice Chair</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NSENT AGENDA</a:t>
            </a:r>
            <a:endParaRPr b="1" lang="en-US" sz="2800" spc="-1" strike="noStrike">
              <a:solidFill>
                <a:srgbClr val="000000"/>
              </a:solidFill>
              <a:latin typeface="Times New Roman"/>
            </a:endParaRPr>
          </a:p>
        </p:txBody>
      </p:sp>
      <p:sp>
        <p:nvSpPr>
          <p:cNvPr id="698"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6DF311-BD35-4CB6-8748-1E4FDBADB9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1" name="PlaceHolder 1"/>
          <p:cNvSpPr>
            <a:spLocks noGrp="1"/>
          </p:cNvSpPr>
          <p:nvPr>
            <p:ph type="title"/>
          </p:nvPr>
        </p:nvSpPr>
        <p:spPr>
          <a:xfrm>
            <a:off x="228600" y="60948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tion </a:t>
            </a:r>
            <a:endParaRPr b="1" lang="en-US" sz="4000" spc="-1" strike="noStrike">
              <a:solidFill>
                <a:srgbClr val="000000"/>
              </a:solidFill>
              <a:latin typeface="Times New Roman"/>
            </a:endParaRPr>
          </a:p>
        </p:txBody>
      </p:sp>
      <p:sp>
        <p:nvSpPr>
          <p:cNvPr id="702" name="Rectangle 1"/>
          <p:cNvSpPr/>
          <p:nvPr/>
        </p:nvSpPr>
        <p:spPr>
          <a:xfrm>
            <a:off x="228600" y="1387800"/>
            <a:ext cx="8686800" cy="464904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12 People in the room not including Dr. Pyo</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Move to unanimously elect Dr. Chang-woo Pyo as the IEEE 802.22 WG Vice Chair with Acclamatio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Discussions: None</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Move: Apurva Mod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Second: Peter Flynn</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For: 9</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Against: 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Abstain: 0</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Motion is Approved. Dr. Chang-woo Pyo has been elected as the Vice Chair of the 802.22 Working Group pending confirmation from the IEEE 802 EC. </a:t>
            </a:r>
            <a:endParaRPr b="1" lang="en-US" sz="2400" spc="-1" strike="noStrike">
              <a:solidFill>
                <a:srgbClr val="000000"/>
              </a:solidFill>
              <a:latin typeface="Times New Roman"/>
            </a:endParaRPr>
          </a:p>
        </p:txBody>
      </p:sp>
      <p:sp>
        <p:nvSpPr>
          <p:cNvPr id="703"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57A14C-FA69-4CBE-AC95-D67A87AC7A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6" name="PlaceHolder 1"/>
          <p:cNvSpPr>
            <a:spLocks noGrp="1"/>
          </p:cNvSpPr>
          <p:nvPr>
            <p:ph type="title"/>
          </p:nvPr>
        </p:nvSpPr>
        <p:spPr>
          <a:xfrm>
            <a:off x="228600" y="609480"/>
            <a:ext cx="8610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 Motion to Confirm Dr. Chang-woo Pyo as 802.22 WG Vice Chair – </a:t>
            </a:r>
            <a:r>
              <a:rPr b="1" lang="en-US" sz="2800" spc="-1" strike="noStrike">
                <a:solidFill>
                  <a:srgbClr val="3333cc"/>
                </a:solidFill>
                <a:latin typeface="Times New Roman"/>
              </a:rPr>
              <a:t>CONSENT AGENDA</a:t>
            </a:r>
            <a:endParaRPr b="1" lang="en-US" sz="2800" spc="-1" strike="noStrike">
              <a:solidFill>
                <a:srgbClr val="000000"/>
              </a:solidFill>
              <a:latin typeface="Times New Roman"/>
            </a:endParaRPr>
          </a:p>
        </p:txBody>
      </p:sp>
      <p:sp>
        <p:nvSpPr>
          <p:cNvPr id="707" name="Rectangle 1"/>
          <p:cNvSpPr/>
          <p:nvPr/>
        </p:nvSpPr>
        <p:spPr>
          <a:xfrm>
            <a:off x="228600" y="2095560"/>
            <a:ext cx="8686800" cy="323172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PMingLiU"/>
              </a:rPr>
              <a:t>Move to confirm Dr. Chang-woo Pyo as the 802.22 Working Group Vice Chair</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Move: Apurva Mod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Second: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For: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Agains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Abstain: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PMingLiU"/>
              </a:rPr>
              <a:t>Motion Passes / Fails</a:t>
            </a:r>
            <a:endParaRPr b="1" lang="en-US" sz="2400" spc="-1" strike="noStrike">
              <a:solidFill>
                <a:srgbClr val="000000"/>
              </a:solidFill>
              <a:latin typeface="Times New Roman"/>
            </a:endParaRPr>
          </a:p>
        </p:txBody>
      </p:sp>
      <p:sp>
        <p:nvSpPr>
          <p:cNvPr id="708"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0AA0C9-4BCB-4C9F-9BB6-10D07FD970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1"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12"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a to the Sponsor Ballot</a:t>
            </a:r>
            <a:endParaRPr b="1" lang="en-US" sz="2800" spc="-1" strike="noStrike">
              <a:solidFill>
                <a:srgbClr val="000000"/>
              </a:solidFill>
              <a:latin typeface="Times New Roman"/>
            </a:endParaRPr>
          </a:p>
        </p:txBody>
      </p:sp>
      <p:sp>
        <p:nvSpPr>
          <p:cNvPr id="713"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a to the IEEE Sponsor Ballot</a:t>
            </a:r>
            <a:endParaRPr b="1" lang="en-US" sz="2800" spc="-1" strike="noStrike">
              <a:solidFill>
                <a:srgbClr val="000000"/>
              </a:solidFill>
              <a:latin typeface="Times New Roman"/>
            </a:endParaRPr>
          </a:p>
        </p:txBody>
      </p:sp>
      <p:sp>
        <p:nvSpPr>
          <p:cNvPr id="715"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
        <p:nvSpPr>
          <p:cNvPr id="716"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a to the IEEE Sponsor Ballot</a:t>
            </a:r>
            <a:endParaRPr b="1" lang="en-US" sz="2800" spc="-1" strike="noStrike">
              <a:solidFill>
                <a:srgbClr val="000000"/>
              </a:solidFill>
              <a:latin typeface="Times New Roman"/>
            </a:endParaRPr>
          </a:p>
        </p:txBody>
      </p:sp>
      <p:sp>
        <p:nvSpPr>
          <p:cNvPr id="718" name="Rectangle 9"/>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last ballot closed: </a:t>
            </a:r>
            <a:r>
              <a:rPr b="1" lang="en-US" sz="2400" spc="-1" strike="noStrike">
                <a:solidFill>
                  <a:srgbClr val="2d2db9"/>
                </a:solidFill>
                <a:latin typeface="Times New Roman"/>
              </a:rPr>
              <a:t>March 18</a:t>
            </a:r>
            <a:r>
              <a:rPr b="1" lang="en-US" sz="2400" spc="-1" strike="noStrike" baseline="30000">
                <a:solidFill>
                  <a:srgbClr val="2d2db9"/>
                </a:solidFill>
                <a:latin typeface="Times New Roman"/>
              </a:rPr>
              <a:t>th</a:t>
            </a:r>
            <a:r>
              <a:rPr b="1" lang="en-US" sz="2400" spc="-1" strike="noStrike">
                <a:solidFill>
                  <a:srgbClr val="2d2db9"/>
                </a:solidFill>
                <a:latin typeface="Times New Roman"/>
              </a:rPr>
              <a:t> 2013, WG Re-circulation Ballot #1</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 </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ot Pool = 29, Response = 27 (</a:t>
            </a:r>
            <a:r>
              <a:rPr b="1" lang="en-US" sz="2400" spc="-1" strike="noStrike">
                <a:solidFill>
                  <a:srgbClr val="3333cc"/>
                </a:solidFill>
                <a:latin typeface="Times New Roman"/>
              </a:rPr>
              <a:t>93%</a:t>
            </a:r>
            <a:r>
              <a:rPr b="1" lang="en-US" sz="2400" spc="-1" strike="noStrike">
                <a:solidFill>
                  <a:srgbClr val="000000"/>
                </a:solidFill>
                <a:latin typeface="Times New Roman"/>
              </a:rPr>
              <a:t>), # of comments = 7</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pproves = 24</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Disapproves = 0</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Abstains = 3</a:t>
            </a:r>
            <a:endParaRPr b="1" lang="en-US" sz="2400" spc="-1" strike="noStrike">
              <a:solidFill>
                <a:srgbClr val="000000"/>
              </a:solidFill>
              <a:latin typeface="Times New Roman"/>
            </a:endParaRPr>
          </a:p>
          <a:p>
            <a:pPr lvl="1" marL="798480" indent="-287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roval Ratio = </a:t>
            </a:r>
            <a:r>
              <a:rPr b="1" lang="en-US" sz="2400" spc="-1" strike="noStrike">
                <a:solidFill>
                  <a:srgbClr val="2d2db9"/>
                </a:solidFill>
                <a:latin typeface="Times New Roman"/>
              </a:rPr>
              <a:t>100%</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 – </a:t>
            </a:r>
            <a:r>
              <a:rPr b="1" lang="en-US" sz="2400" spc="-1" strike="noStrike">
                <a:solidFill>
                  <a:srgbClr val="2d2db9"/>
                </a:solidFill>
                <a:latin typeface="Times New Roman"/>
              </a:rPr>
              <a:t>N/ A</a:t>
            </a:r>
            <a:endParaRPr b="1" lang="en-US" sz="2400" spc="-1" strike="noStrike">
              <a:solidFill>
                <a:srgbClr val="000000"/>
              </a:solidFill>
              <a:latin typeface="Times New Roman"/>
            </a:endParaRPr>
          </a:p>
          <a:p>
            <a:pPr marL="341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 – We  resolved the remaining comments this week and </a:t>
            </a:r>
            <a:r>
              <a:rPr b="1" lang="en-US" sz="2400" spc="-1" strike="noStrike">
                <a:solidFill>
                  <a:srgbClr val="3333cc"/>
                </a:solidFill>
                <a:latin typeface="Times New Roman"/>
              </a:rPr>
              <a:t>we are </a:t>
            </a:r>
            <a:r>
              <a:rPr b="1" lang="en-US" sz="2400" spc="-1" strike="noStrike">
                <a:solidFill>
                  <a:srgbClr val="2d2db9"/>
                </a:solidFill>
                <a:latin typeface="Times New Roman"/>
              </a:rPr>
              <a:t>planning to launch the WG Re-circ #2 before April 15</a:t>
            </a:r>
            <a:r>
              <a:rPr b="1" lang="en-US" sz="2400" spc="-1" strike="noStrike" baseline="30000">
                <a:solidFill>
                  <a:srgbClr val="2d2db9"/>
                </a:solidFill>
                <a:latin typeface="Times New Roman"/>
              </a:rPr>
              <a:t>th</a:t>
            </a:r>
            <a:r>
              <a:rPr b="1" lang="en-US" sz="2400" spc="-1" strike="noStrike">
                <a:solidFill>
                  <a:srgbClr val="2d2db9"/>
                </a:solidFill>
                <a:latin typeface="Times New Roman"/>
              </a:rPr>
              <a:t> 2013.</a:t>
            </a:r>
            <a:endParaRPr b="1" lang="en-US" sz="2400" spc="-1" strike="noStrike">
              <a:solidFill>
                <a:srgbClr val="000000"/>
              </a:solidFill>
              <a:latin typeface="Times New Roman"/>
            </a:endParaRPr>
          </a:p>
        </p:txBody>
      </p:sp>
      <p:sp>
        <p:nvSpPr>
          <p:cNvPr id="719"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533160" y="609120"/>
            <a:ext cx="80010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a Draft History and Statistics</a:t>
            </a:r>
            <a:endParaRPr b="1" lang="en-US" sz="3200" spc="-1" strike="noStrike">
              <a:solidFill>
                <a:srgbClr val="000000"/>
              </a:solidFill>
              <a:latin typeface="Times New Roman"/>
            </a:endParaRPr>
          </a:p>
        </p:txBody>
      </p:sp>
      <p:sp>
        <p:nvSpPr>
          <p:cNvPr id="721"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D04DBC-B327-4C68-AE2F-3766A8EBB7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24" name=""/>
          <p:cNvGraphicFramePr/>
          <p:nvPr/>
        </p:nvGraphicFramePr>
        <p:xfrm>
          <a:off x="152280" y="1158840"/>
          <a:ext cx="8915400" cy="3292560"/>
        </p:xfrm>
        <a:graphic>
          <a:graphicData uri="http://schemas.openxmlformats.org/drawingml/2006/table">
            <a:tbl>
              <a:tblPr/>
              <a:tblGrid>
                <a:gridCol w="1486080"/>
                <a:gridCol w="1104840"/>
                <a:gridCol w="1319040"/>
                <a:gridCol w="1084320"/>
                <a:gridCol w="1027080"/>
                <a:gridCol w="1330560"/>
                <a:gridCol w="156348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12</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 (17 Must be Satisfi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80%</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ptember 2012</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 (11 Must be Satisfied) </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95%</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Re-circ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2013</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100%</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4.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25" name="Rounded Rectangular Callout 7"/>
          <p:cNvSpPr/>
          <p:nvPr/>
        </p:nvSpPr>
        <p:spPr>
          <a:xfrm>
            <a:off x="304920" y="4648320"/>
            <a:ext cx="8534160" cy="457200"/>
          </a:xfrm>
          <a:prstGeom prst="wedgeRoundRectCallout">
            <a:avLst>
              <a:gd name="adj1" fmla="val -5060"/>
              <a:gd name="adj2" fmla="val -97449"/>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802.22 is ON TRACK to reach the Sponsor Ballot by December 2010</a:t>
            </a:r>
            <a:endParaRPr b="1" lang="en-US" sz="1800" spc="-1" strike="noStrike">
              <a:solidFill>
                <a:srgbClr val="000000"/>
              </a:solidFill>
              <a:latin typeface="Times New Roman"/>
            </a:endParaRPr>
          </a:p>
        </p:txBody>
      </p:sp>
      <p:sp>
        <p:nvSpPr>
          <p:cNvPr id="726" name="Rectangle 8"/>
          <p:cNvSpPr/>
          <p:nvPr/>
        </p:nvSpPr>
        <p:spPr>
          <a:xfrm>
            <a:off x="533520" y="5257800"/>
            <a:ext cx="7848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22a Comment Database – 22-13-0055 Rev0: https://mentor.ieee.org/802.22/dcn/13/22-13-0055-00-0mib-tga-sb1-comment-database.xls </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a Draft Standard to the IEEE SA RevCom</a:t>
            </a:r>
            <a:endParaRPr b="1" lang="en-US" sz="2400" spc="-1" strike="noStrike">
              <a:solidFill>
                <a:srgbClr val="000000"/>
              </a:solidFill>
              <a:latin typeface="Times New Roman"/>
            </a:endParaRPr>
          </a:p>
        </p:txBody>
      </p:sp>
      <p:sp>
        <p:nvSpPr>
          <p:cNvPr id="72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F5D39E4-503F-495E-A8D9-4034FD61E0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0" name="Rectangle 8"/>
          <p:cNvSpPr/>
          <p:nvPr/>
        </p:nvSpPr>
        <p:spPr>
          <a:xfrm>
            <a:off x="304920" y="1752480"/>
            <a:ext cx="8686800" cy="301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P802.22a WG Re-circ #2 and Sponsor Ballot #1</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ponsor Ballot Pool formation will be started soon.</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15th 2013 - Issue IEEE P802.22a Draft 4.0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ril 3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3 – Re-circulation #2 is completed.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1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3 – Address and Resolve Comments if any. </a:t>
            </a:r>
            <a:endParaRPr b="1"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30</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13 – Launch Sponsor Ballot #1 </a:t>
            </a:r>
            <a:endParaRPr b="1" lang="en-US" sz="2400" spc="-1" strike="noStrike">
              <a:solidFill>
                <a:srgbClr val="000000"/>
              </a:solidFill>
              <a:latin typeface="Times New Roman"/>
            </a:endParaRPr>
          </a:p>
        </p:txBody>
      </p:sp>
      <p:sp>
        <p:nvSpPr>
          <p:cNvPr id="731"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3</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3-03-22T02:17:05Z</dcterms:modified>
  <cp:revision>427</cp:revision>
  <dc:subject/>
  <dc:title>Overview of IEEE 802.22 Standard</dc:title>
</cp:coreProperties>
</file>