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6" name="PlaceHolder 1"/>
          <p:cNvSpPr>
            <a:spLocks noGrp="1"/>
          </p:cNvSpPr>
          <p:nvPr>
            <p:ph type="hdr"/>
          </p:nvPr>
        </p:nvSpPr>
        <p:spPr>
          <a:xfrm>
            <a:off x="4146120" y="96840"/>
            <a:ext cx="2205000" cy="216000"/>
          </a:xfrm>
          <a:prstGeom prst="rect">
            <a:avLst/>
          </a:prstGeom>
          <a:noFill/>
          <a:ln w="0">
            <a:noFill/>
          </a:ln>
        </p:spPr>
        <p:txBody>
          <a:bodyPr lIns="0" rIns="0" tIns="0" bIns="0" anchor="b">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doc.: IEEE 802.22-yy/xxxxr0</a:t>
            </a:r>
            <a:endParaRPr b="0" lang="en-US" sz="1400" spc="-1" strike="noStrike">
              <a:solidFill>
                <a:srgbClr val="000000"/>
              </a:solidFill>
              <a:latin typeface="Times New Roman"/>
            </a:endParaRPr>
          </a:p>
        </p:txBody>
      </p:sp>
      <p:sp>
        <p:nvSpPr>
          <p:cNvPr id="677" name="PlaceHolder 2"/>
          <p:cNvSpPr>
            <a:spLocks noGrp="1"/>
          </p:cNvSpPr>
          <p:nvPr>
            <p:ph type="dt" idx="46"/>
          </p:nvPr>
        </p:nvSpPr>
        <p:spPr>
          <a:xfrm>
            <a:off x="659880" y="-113760"/>
            <a:ext cx="916200" cy="426600"/>
          </a:xfrm>
          <a:prstGeom prst="rect">
            <a:avLst/>
          </a:prstGeom>
          <a:noFill/>
          <a:ln w="0">
            <a:noFill/>
          </a:ln>
        </p:spPr>
        <p:txBody>
          <a:bodyPr lIns="0" rIns="0" tIns="0" bIns="0" anchor="b">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400" spc="-1" strike="noStrike">
                <a:solidFill>
                  <a:srgbClr val="000000"/>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678" name="PlaceHolder 3"/>
          <p:cNvSpPr>
            <a:spLocks noGrp="1"/>
          </p:cNvSpPr>
          <p:nvPr>
            <p:ph type="sldImg"/>
          </p:nvPr>
        </p:nvSpPr>
        <p:spPr>
          <a:xfrm>
            <a:off x="1188720" y="701280"/>
            <a:ext cx="4632120" cy="3475080"/>
          </a:xfrm>
          <a:prstGeom prst="rect">
            <a:avLst/>
          </a:prstGeom>
          <a:noFill/>
          <a:ln w="12600">
            <a:solidFill>
              <a:srgbClr val="000000"/>
            </a:solidFill>
            <a:miter/>
          </a:ln>
        </p:spPr>
        <p:txBody>
          <a:bodyPr lIns="91800" rIns="91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679" name="PlaceHolder 4"/>
          <p:cNvSpPr>
            <a:spLocks noGrp="1"/>
          </p:cNvSpPr>
          <p:nvPr>
            <p:ph type="body"/>
          </p:nvPr>
        </p:nvSpPr>
        <p:spPr>
          <a:xfrm>
            <a:off x="934560" y="4416480"/>
            <a:ext cx="5140440" cy="4184640"/>
          </a:xfrm>
          <a:prstGeom prst="rect">
            <a:avLst/>
          </a:prstGeom>
          <a:noFill/>
          <a:ln w="0">
            <a:noFill/>
          </a:ln>
        </p:spPr>
        <p:txBody>
          <a:bodyPr lIns="94320" rIns="943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80" name="PlaceHolder 5"/>
          <p:cNvSpPr>
            <a:spLocks noGrp="1"/>
          </p:cNvSpPr>
          <p:nvPr>
            <p:ph type="ftr" idx="47"/>
          </p:nvPr>
        </p:nvSpPr>
        <p:spPr>
          <a:xfrm>
            <a:off x="4236840" y="8999640"/>
            <a:ext cx="2114280" cy="185760"/>
          </a:xfrm>
          <a:prstGeom prst="rect">
            <a:avLst/>
          </a:prstGeom>
          <a:noFill/>
          <a:ln w="0">
            <a:noFill/>
          </a:ln>
        </p:spPr>
        <p:txBody>
          <a:bodyPr lIns="0" rIns="0" tIns="0" bIns="0" anchor="t">
            <a:noAutofit/>
          </a:bodyPr>
          <a:lstStyle>
            <a:lvl1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John Doe, Some Company</a:t>
            </a:r>
            <a:endParaRPr b="0" lang="en-US" sz="1200" spc="-1" strike="noStrike">
              <a:solidFill>
                <a:srgbClr val="000000"/>
              </a:solidFill>
              <a:latin typeface="Times New Roman"/>
            </a:endParaRPr>
          </a:p>
        </p:txBody>
      </p:sp>
      <p:sp>
        <p:nvSpPr>
          <p:cNvPr id="681" name="PlaceHolder 6"/>
          <p:cNvSpPr>
            <a:spLocks noGrp="1"/>
          </p:cNvSpPr>
          <p:nvPr>
            <p:ph type="sldNum" idx="48"/>
          </p:nvPr>
        </p:nvSpPr>
        <p:spPr>
          <a:xfrm>
            <a:off x="3262320" y="8999280"/>
            <a:ext cx="512640" cy="365400"/>
          </a:xfrm>
          <a:prstGeom prst="rect">
            <a:avLst/>
          </a:prstGeom>
          <a:noFill/>
          <a:ln w="0">
            <a:noFill/>
          </a:ln>
        </p:spPr>
        <p:txBody>
          <a:bodyPr lIns="0" rIns="0" tIns="0" bIns="0" anchor="t">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5CF6BEC2-51CF-4146-A623-BBBBA72CD4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2" name="Rectangle 8"/>
          <p:cNvSpPr/>
          <p:nvPr/>
        </p:nvSpPr>
        <p:spPr>
          <a:xfrm>
            <a:off x="734400" y="89996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683" name="Line 9"/>
          <p:cNvSpPr/>
          <p:nvPr/>
        </p:nvSpPr>
        <p:spPr>
          <a:xfrm>
            <a:off x="731880" y="8997840"/>
            <a:ext cx="5546520" cy="0"/>
          </a:xfrm>
          <a:prstGeom prst="line">
            <a:avLst/>
          </a:prstGeom>
          <a:ln w="12600">
            <a:solidFill>
              <a:srgbClr val="000000"/>
            </a:solidFill>
            <a:miter/>
          </a:ln>
        </p:spPr>
        <p:style>
          <a:lnRef idx="0"/>
          <a:fillRef idx="0"/>
          <a:effectRef idx="0"/>
          <a:fontRef idx="minor"/>
        </p:style>
        <p:txBody>
          <a:bodyPr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4" name="Line 10"/>
          <p:cNvSpPr/>
          <p:nvPr/>
        </p:nvSpPr>
        <p:spPr>
          <a:xfrm>
            <a:off x="655560" y="298440"/>
            <a:ext cx="5699160" cy="0"/>
          </a:xfrm>
          <a:prstGeom prst="line">
            <a:avLst/>
          </a:prstGeom>
          <a:ln w="12600">
            <a:solidFill>
              <a:srgbClr val="000000"/>
            </a:solidFill>
            <a:miter/>
          </a:ln>
        </p:spPr>
        <p:style>
          <a:lnRef idx="0"/>
          <a:fillRef idx="0"/>
          <a:effectRef idx="0"/>
          <a:fontRef idx="minor"/>
        </p:style>
        <p:txBody>
          <a:bodyPr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2"/>
          <p:cNvSpPr/>
          <p:nvPr/>
        </p:nvSpPr>
        <p:spPr>
          <a:xfrm>
            <a:off x="4149000" y="993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725" name="Rectangle 3"/>
          <p:cNvSpPr/>
          <p:nvPr/>
        </p:nvSpPr>
        <p:spPr>
          <a:xfrm>
            <a:off x="650160" y="993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726" name="Rectangle 6"/>
          <p:cNvSpPr/>
          <p:nvPr/>
        </p:nvSpPr>
        <p:spPr>
          <a:xfrm>
            <a:off x="4247640" y="8999640"/>
            <a:ext cx="20930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727" name="Rectangle 7"/>
          <p:cNvSpPr/>
          <p:nvPr/>
        </p:nvSpPr>
        <p:spPr>
          <a:xfrm>
            <a:off x="3083040" y="89996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230253E5-9509-4075-987D-B7756408423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28" name="PlaceHolder 1"/>
          <p:cNvSpPr>
            <a:spLocks noGrp="1"/>
          </p:cNvSpPr>
          <p:nvPr>
            <p:ph type="sldImg"/>
          </p:nvPr>
        </p:nvSpPr>
        <p:spPr>
          <a:xfrm>
            <a:off x="1189080" y="701640"/>
            <a:ext cx="4632120" cy="3475080"/>
          </a:xfrm>
          <a:prstGeom prst="rect">
            <a:avLst/>
          </a:prstGeom>
          <a:ln w="0">
            <a:noFill/>
          </a:ln>
        </p:spPr>
      </p:sp>
      <p:sp>
        <p:nvSpPr>
          <p:cNvPr id="729" name="PlaceHolder 2"/>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AAC8662-C66E-4400-95DB-1A883AC6250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31"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C498B86-4A61-490F-9590-F83A4115BDC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33"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A7C5BE7-13BC-4A8B-827A-A92EA3FEA75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35"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9C59A0B-1C6A-4B6E-9934-C240AEA71FF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37"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26A3CAD-5A51-47E7-8BAA-4667F9CD6E6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39"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132C752-5280-4646-922A-0D5F9C25ACB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41"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D5529A-EC3C-4E30-BB6D-BFB488BD39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304DA-EB1D-4973-AE5C-3D3AE20E5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E36C2D-DFD2-48CC-A564-40D290052C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75E793-9F1D-469E-8FF9-36867044E3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893EC4-7BB5-4949-AFEC-532C7ED7D0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8BF59B-364A-441A-B938-0EDE9C2E7C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9E314F-91B3-44E3-8C46-20E2EFDCEF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3AC46E-53C3-4482-B96C-F3AA4BA54B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63811D-E3E0-4E89-9985-C299F2E0F7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D937D3-1AD1-45C6-A82A-8E0CE601E3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D9B276F-C0E3-4F50-9DF1-6D9505EEEEC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03A278B-5F38-4680-AFF9-8AA4B7B6177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376E06-3697-4C98-A5B0-80CEBC6BC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6F49A0D-62C3-4215-B06D-823189CDD2B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DD166FB-BA20-4400-84BA-3866188F806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88118C5-B87A-4B1D-BBCC-45439C45A27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D4BC978-391A-44F6-9083-6FFD3AA8025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024E0DD-EAC8-4C4C-8671-B8CF3809B17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6F795A8-A74A-4023-A25D-752C670F917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BFE5B0-1546-431C-8C42-904846766B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B1A9B7-2BED-4B8C-BE74-295C3C90DF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89AF723-4939-4A11-BE98-56A0DF767F1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1788718-A201-4FA1-94CF-3D3A1819CCB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730171-FF81-4466-A6C3-1CB25A3447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228BB79-9E67-4263-B2A3-31B73E5C5A7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CCE2B59-3C85-42CB-AEBF-E293ED7A0CE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BC39E4C-34D5-49F9-8EBE-A02C40DA6AE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21B43AE-4892-42B9-B793-51AD92D73BF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BE173D7-3D8F-4DEF-816C-92A5127027F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6503CC4-20BF-4A7A-A08C-96505C44386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9AED89A-8A9F-41EB-B9D1-F94B2BC0BCE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F64AAA5-EEE1-46D3-9B2E-72EB91768C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6B9A8D-E3CD-45CE-807B-7624DB2066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409357-4983-4118-A7A9-754DA1126B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C1EF74-1759-4692-A315-59B20C8AE5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3EDCC7F-0F22-452B-9AB5-61950143185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120C809-0919-43A5-BE91-5BD175A909D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8D2CA85-87E2-4319-9641-B7A5E22B989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17FD5D6-14A5-493E-ACDF-D9430247591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B771D60-DB82-4244-8262-C09A33EEB99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9449B56-BDC0-44F9-A312-DC094CB8889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02C222D-2BAE-4582-8394-6DC1FD5F452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BE97D52-B3C1-4004-8C36-70F90058514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12C5030-034F-4E3C-A9E1-44DAC2D7322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0B0728D-C564-4F28-9A63-4C1E8A7D92A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C3EA1B-FA2E-4712-8C59-8858212C9E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E0495E0-A04F-415F-9383-F068E3AD774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F0768F5-A458-4D24-8686-C0D71A416B7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0974815-B6F2-45C8-BE77-C4EFCB06B75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A9C6DF8-24B6-49C8-A9E0-40293D23957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292E653-6AFF-43B4-899E-5B533B65D5A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BAFEDD8-6DD7-440D-B813-BE785D33987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D10EB1F-2FFD-4C1C-A9E9-90814D75B17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F87494E-E8FE-4715-8671-33FB432BD9D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54A45C1-6A85-488B-9F48-959DF968C64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B02EA62-9565-4ABC-86BE-2653022D9C9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0A9C5C-C0DE-473A-BA3A-4B37803E2C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810F200-3CB6-4B65-B9C9-3D15E74824E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1790F28-7A45-4C13-A175-E23368B3305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D80AA9E-1643-4117-BA61-51F117E8B97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0C8D0E5-8D32-4376-93C0-3066B3F6AB0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9A5A5AD-6843-40C5-A572-CBA64FEEBB9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CE8E323-6885-47DC-9B0E-56EE28FDBF0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D4FB2CF-6718-4584-A747-3E9B99935E4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7790FE1-7F17-438B-8C62-554746CA9E1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1577AA6-3C5D-4986-9A1D-688C407B61E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1AF923D-AA1D-4437-8251-951F0220643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DF454E-3CB1-4E6A-A3A6-9B14CADB0B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F943F3E-CAC3-4C01-B0A1-6AFB9EE42CC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FA93378-FF05-4F34-83BF-0877756C744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8E26612-6927-475D-8B61-BFDEBE4D6EE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020BDD6-1D1B-4BBB-91E4-D94B5A4F5DC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DF417D1-3627-4756-8A88-093F96C77C0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15B307C-11F3-4065-B752-D651FF4B8B9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99E08D4-744F-41EE-ACD3-7729C78B4F7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C2FDF74-7453-403E-9431-EFCA4B884A0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CCD6526-D082-4532-9436-937121FC4CA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13E8316-10DD-4DFD-BB8A-E60CF78450A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F38D0-08C2-43CE-A5B5-8CBC8C893E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8303243-3C75-4E44-8D72-2CC865ED27D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4A23DFE-A4C2-4E7A-A812-0D35C73F082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6022226-30F6-498E-AC30-31239994791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FE4D5C7-9BD8-4B1B-BA19-D50EBF38F4D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9FC7A2F-79D1-4E35-9E31-29A6F77BC5B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7848C5A-B536-4E07-93F0-47EF1B022FB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AD268F1-239D-4D8B-8C73-51598116FAF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9278946-12BA-4AC8-AD24-E546C5B5D8C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735EC68-D10B-4582-9EDA-C55C64D3B5C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C9E191C0-E213-4C96-92F5-A55C76D3B51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C145B1-71F1-4F71-9F52-C32708858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7611179-30D7-44AC-A674-0271E369E21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1C7BEF-31E9-44F0-9AEE-172FBC9C4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2B597-28B5-496E-87E3-E836053BA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E3E26-17F7-452E-B7EA-57958C535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2D62A5-BB97-468C-A531-CDA559115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4CEA68-3EC8-4577-A348-3B8F13CF38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EEB334-63EC-4158-9B4C-0CF920C676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CC82A0-89C4-416D-8F7D-12683FC949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B6293B-AE79-4967-A3A4-3ED3C9549A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48A3B7-8964-4240-84A6-4C9DBB7DF7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79C26A-ADAC-427B-9956-D0206E3E4C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26A13F-4F78-4042-83B0-4830C5F83C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946E69-C082-4059-B877-C1DB0E76C7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03A7B5-3B9B-4094-841C-6140BF121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E5D06F-C4E5-49EA-95F8-785020E17F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825D6A-CEB7-4B35-9F35-B6091D5F2C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E500B6-5B8E-4E7E-ABF9-8036061663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56F940-37FC-4A9C-A115-6B12469C31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7254FC-DCF8-4E11-9CA1-88CD54F05B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A1CEF9-2E74-461A-957A-E67CD29A6D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942BEB-8A67-4C42-AD2C-BEF1D3507B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09347B-9EC9-4D24-8CE8-2E905C9E35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AC7FDF-CCA7-4E1C-9E1B-D0B0B83793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CDF59B-3E9F-4991-AFCF-60A896A36B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B78E3-71E4-4EDC-9C27-FF1F312D6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C1A75A-F851-4904-9A66-6E17AE5012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A1679D-C96D-45EC-A398-EEEE327A75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667953-25EE-41FC-97C5-355E4125EA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D4626B-0AFF-482F-8791-F2F2063AE1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0A874C-ED8C-4F23-BBDB-97FDA6B0DE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733987-0667-4587-864D-EE7084A1F3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BC1201-A315-4432-B276-6603CF857C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9A69CA-249D-43E3-8D81-76241B6F74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741D5A-0083-439D-8D7F-E3A8DC536E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A850C2-F26C-4393-9C6C-054C2FB98F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C5125-F1F3-4DD3-BF7F-61276ACBF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7652C7-0D03-4F0A-A74D-56CADFD7F7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2898A9-A101-4196-AA65-83653D04A0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3F8A2B-649E-4C51-8063-C5DAD543D3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E6C153-6B24-4C10-B245-54F2C38CAE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5B830B-954E-448A-9FB3-2754D4BCE1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11E47F-9766-4C2F-8E37-AB8F7D820B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08D58F-34D0-4411-BA70-9F9AF4372F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A6FF1D-714C-4E77-88C8-1AC5B1CAC5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901DBA-1CF3-4FCE-BE6E-A11E1E0342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13B64E-5EEF-4BB7-A924-6FF3A2F5CE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B4F35-6DF2-4123-835E-F7EC067BD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C9459E-CF35-4A66-BB8A-C03BC41231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20CBC8-2375-4403-A1AD-8C124538A4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DACA98-5347-4A14-8B94-CA53720CB1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2F463E-85B7-43BB-9926-03B369A893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C88E1E-30FA-4526-8142-35750DD3C8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31D916-3A5E-47B8-8933-8C25928A10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DA2890-522B-4F1B-A941-FF1BD93657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9D20BB-2232-48B0-A1B5-8E0664D5FF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0F2E92-57F4-42DB-8603-72016BA0F0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34BA6E-E0A6-4CFB-883F-B5FC0C94D7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50C15-4D1F-468F-A475-92007BAA9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2DA718-DA06-43C0-835A-0C9C05BB44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A78C0E-39BF-4D70-9BC8-DFE2E77788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1DE068-CBDB-46A7-930E-8D366C6BD1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E0E6A6-D79A-4419-B089-92E5602EB8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C420C4-C678-4BDE-98E0-1AF12C411D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609C7B-B3C7-437E-BC24-2871EE6869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FD1871-C0EE-4FE9-8C15-4A69642B50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21398E-48AD-4671-90BA-1973EC0920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67C4FC-80F6-4329-9D73-BF4B98BAC6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8EA3F3-A311-4DD6-91B8-B3DA9A23D3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C5199-27F0-41BE-B639-2BED5D9A8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9D5AE3-EC46-49FA-A321-8D75C67740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7C16AB-9561-4FE2-89A4-EA934FC357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3C929B-4E31-4ECD-930C-B47794642C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2BD8A71-D182-4F3F-B222-967042AFA9C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963917-6024-42FA-BA00-135ADF980B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05AB37A-0991-4C77-8459-FC6CF18179F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578B02-8E22-4AF4-A774-F189AB4901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E73E80-B70E-41E8-9EF3-A70BA0C5DD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934DE7-6362-47DC-ABCC-DBFC547D95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B1E81F-9DE8-4339-8FBD-0A7A8A52A2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89F24-BC81-49C5-A274-270DDA1B5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351C20-DFEA-4E6F-849D-678FCF32E5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3ECE75-ED79-408F-BEC1-C42C0C3F0E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1707DA-03A0-4B34-9C3B-43E96B09B8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6C9442-B34E-4E47-963A-BB8D7123D0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64AD21-A0C3-4785-BC34-5B199BF0FD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21C21E-B504-4E02-A2BD-822A942B5CC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BC4B89-E6D3-4770-A2BC-CAE51B9DB2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520CF58-BB8A-4FB9-9DC3-7EC4C3F119C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D109A9-DBCB-4957-8153-A4548996D2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9309EA-1B29-44E2-B177-3367423F5C7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94284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2010</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0637D44-DBD8-4EB6-9981-DB0F5363A0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060r00</a:t>
            </a:r>
            <a:endParaRPr b="1"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060r00</a:t>
            </a:r>
            <a:endParaRPr b="1"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207E9CE-F649-49DE-B935-499C6E4476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060r00</a:t>
            </a:r>
            <a:endParaRPr b="1"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6A0708B-A027-415B-94A6-5F6ACC2784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060r00</a:t>
            </a:r>
            <a:endParaRPr b="1"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8D5C94-E534-4C6E-8555-41B0172C26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060r00</a:t>
            </a:r>
            <a:endParaRPr b="1" lang="en-US" sz="1800" spc="-1" strike="noStrike">
              <a:solidFill>
                <a:srgbClr val="000000"/>
              </a:solidFill>
              <a:latin typeface="Times New Roman"/>
            </a:endParaRPr>
          </a:p>
        </p:txBody>
      </p:sp>
      <p:sp>
        <p:nvSpPr>
          <p:cNvPr id="54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54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4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46" name="PlaceHolder 3"/>
          <p:cNvSpPr>
            <a:spLocks noGrp="1"/>
          </p:cNvSpPr>
          <p:nvPr>
            <p:ph type="dt" idx="37"/>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547" name="PlaceHolder 4"/>
          <p:cNvSpPr>
            <a:spLocks noGrp="1"/>
          </p:cNvSpPr>
          <p:nvPr>
            <p:ph type="ftr" idx="38"/>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48" name="PlaceHolder 5"/>
          <p:cNvSpPr>
            <a:spLocks noGrp="1"/>
          </p:cNvSpPr>
          <p:nvPr>
            <p:ph type="sldNum" idx="39"/>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EBA82DF-6990-457E-8767-BB11E9B4BF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060r00</a:t>
            </a:r>
            <a:endParaRPr b="1" lang="en-US" sz="1800" spc="-1" strike="noStrike">
              <a:solidFill>
                <a:srgbClr val="000000"/>
              </a:solidFill>
              <a:latin typeface="Times New Roman"/>
            </a:endParaRPr>
          </a:p>
        </p:txBody>
      </p:sp>
      <p:sp>
        <p:nvSpPr>
          <p:cNvPr id="58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58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9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91" name="PlaceHolder 3"/>
          <p:cNvSpPr>
            <a:spLocks noGrp="1"/>
          </p:cNvSpPr>
          <p:nvPr>
            <p:ph type="dt" idx="40"/>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592" name="PlaceHolder 4"/>
          <p:cNvSpPr>
            <a:spLocks noGrp="1"/>
          </p:cNvSpPr>
          <p:nvPr>
            <p:ph type="ftr" idx="41"/>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93" name="PlaceHolder 5"/>
          <p:cNvSpPr>
            <a:spLocks noGrp="1"/>
          </p:cNvSpPr>
          <p:nvPr>
            <p:ph type="sldNum" idx="42"/>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F563F30-9639-434D-B9F4-702F1497CA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060r00</a:t>
            </a:r>
            <a:endParaRPr b="1" lang="en-US" sz="1800" spc="-1" strike="noStrike">
              <a:solidFill>
                <a:srgbClr val="000000"/>
              </a:solidFill>
              <a:latin typeface="Times New Roman"/>
            </a:endParaRPr>
          </a:p>
        </p:txBody>
      </p:sp>
      <p:sp>
        <p:nvSpPr>
          <p:cNvPr id="63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63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63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636" name="PlaceHolder 3"/>
          <p:cNvSpPr>
            <a:spLocks noGrp="1"/>
          </p:cNvSpPr>
          <p:nvPr>
            <p:ph type="dt" idx="43"/>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637" name="PlaceHolder 4"/>
          <p:cNvSpPr>
            <a:spLocks noGrp="1"/>
          </p:cNvSpPr>
          <p:nvPr>
            <p:ph type="ftr" idx="44"/>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638" name="PlaceHolder 5"/>
          <p:cNvSpPr>
            <a:spLocks noGrp="1"/>
          </p:cNvSpPr>
          <p:nvPr>
            <p:ph type="sldNum" idx="45"/>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C19B945-D9DA-4971-B243-E24C9B7D7B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060r00</a:t>
            </a:r>
            <a:endParaRPr b="1"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2010</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AB862E6-A2B2-487C-804A-6A517DCE2E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060r00</a:t>
            </a:r>
            <a:endParaRPr b="1"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2010</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AF90050-5348-465E-90AE-055A61C11E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060r00</a:t>
            </a:r>
            <a:endParaRPr b="1"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A08E927-86E5-4D29-8FC0-ECE5301399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060r00</a:t>
            </a:r>
            <a:endParaRPr b="1"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8B77EC7-20C6-4FD4-979B-3E85236F92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060r00</a:t>
            </a:r>
            <a:endParaRPr b="1"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D6F2E34-3E42-4EFB-98FA-2282F9E485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060r00</a:t>
            </a:r>
            <a:endParaRPr b="1"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593F978-E1CF-4330-88D0-D202FA4919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060r00</a:t>
            </a:r>
            <a:endParaRPr b="1"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7155497-4DD2-4BC6-84EC-15A8A95B5F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060r00</a:t>
            </a:r>
            <a:endParaRPr b="1"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F1C310-7110-4ECD-90CA-DFFBD44CC7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Date Placeholder 3"/>
          <p:cNvSpPr/>
          <p:nvPr/>
        </p:nvSpPr>
        <p:spPr>
          <a:xfrm>
            <a:off x="700920" y="334800"/>
            <a:ext cx="985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ne 2012</a:t>
            </a:r>
            <a:endParaRPr b="1" lang="en-US" sz="1800" spc="-1" strike="noStrike">
              <a:solidFill>
                <a:srgbClr val="000000"/>
              </a:solidFill>
              <a:latin typeface="Times New Roman"/>
            </a:endParaRPr>
          </a:p>
        </p:txBody>
      </p:sp>
      <p:sp>
        <p:nvSpPr>
          <p:cNvPr id="686" name="Footer Placeholder 4"/>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93AEF77-15EC-417C-A514-97EF9CBC2C1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88" name="PlaceHolder 1"/>
          <p:cNvSpPr>
            <a:spLocks noGrp="1"/>
          </p:cNvSpPr>
          <p:nvPr>
            <p:ph type="title"/>
          </p:nvPr>
        </p:nvSpPr>
        <p:spPr>
          <a:xfrm>
            <a:off x="609120" y="685800"/>
            <a:ext cx="8077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P802.22 Motions at the June EC Telecon Meeting</a:t>
            </a:r>
            <a:endParaRPr b="1" lang="en-US" sz="2400" spc="-1" strike="noStrike">
              <a:solidFill>
                <a:srgbClr val="000000"/>
              </a:solidFill>
              <a:latin typeface="Times New Roman"/>
            </a:endParaRPr>
          </a:p>
        </p:txBody>
      </p:sp>
      <p:sp>
        <p:nvSpPr>
          <p:cNvPr id="689" name="PlaceHolder 2"/>
          <p:cNvSpPr>
            <a:spLocks noGrp="1"/>
          </p:cNvSpPr>
          <p:nvPr>
            <p:ph/>
          </p:nvPr>
        </p:nvSpPr>
        <p:spPr>
          <a:xfrm>
            <a:off x="685800" y="12193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P802.22 Wireless RANs          Date:</a:t>
            </a:r>
            <a:r>
              <a:rPr b="0" lang="en-US" sz="2000" spc="-1" strike="noStrike">
                <a:solidFill>
                  <a:srgbClr val="000000"/>
                </a:solidFill>
                <a:latin typeface="Times New Roman"/>
              </a:rPr>
              <a:t> 2012-06-03</a:t>
            </a:r>
            <a:endParaRPr b="1" lang="en-US" sz="2000" spc="-1" strike="noStrike">
              <a:solidFill>
                <a:srgbClr val="000000"/>
              </a:solidFill>
              <a:latin typeface="Times New Roman"/>
            </a:endParaRPr>
          </a:p>
        </p:txBody>
      </p:sp>
      <p:graphicFrame>
        <p:nvGraphicFramePr>
          <p:cNvPr id="690" name="Object 11"/>
          <p:cNvGraphicFramePr/>
          <p:nvPr/>
        </p:nvGraphicFramePr>
        <p:xfrm>
          <a:off x="533520" y="2133720"/>
          <a:ext cx="8184960" cy="2263680"/>
        </p:xfrm>
        <a:graphic>
          <a:graphicData uri="http://schemas.openxmlformats.org/presentationml/2006/ole">
            <p:oleObj progId="Word.Document.12" r:id="rId1" spid="">
              <p:embed/>
              <p:pic>
                <p:nvPicPr>
                  <p:cNvPr id="691" name="Object 11" descr=""/>
                  <p:cNvPicPr/>
                  <p:nvPr/>
                </p:nvPicPr>
                <p:blipFill>
                  <a:blip r:embed="rId2"/>
                  <a:stretch/>
                </p:blipFill>
                <p:spPr>
                  <a:xfrm>
                    <a:off x="533520" y="2133720"/>
                    <a:ext cx="8184960" cy="2263680"/>
                  </a:xfrm>
                  <a:prstGeom prst="rect">
                    <a:avLst/>
                  </a:prstGeom>
                  <a:ln w="0">
                    <a:noFill/>
                  </a:ln>
                </p:spPr>
              </p:pic>
            </p:oleObj>
          </a:graphicData>
        </a:graphic>
      </p:graphicFrame>
      <p:sp>
        <p:nvSpPr>
          <p:cNvPr id="692" name="Rectangle 12"/>
          <p:cNvSpPr/>
          <p:nvPr/>
        </p:nvSpPr>
        <p:spPr>
          <a:xfrm>
            <a:off x="533520" y="1676520"/>
            <a:ext cx="144756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1" lang="en-US" sz="2000" spc="-1" strike="noStrike">
              <a:solidFill>
                <a:srgbClr val="000000"/>
              </a:solidFill>
              <a:latin typeface="Times New Roman"/>
            </a:endParaRPr>
          </a:p>
        </p:txBody>
      </p:sp>
      <p:sp>
        <p:nvSpPr>
          <p:cNvPr id="693" name="Text Box 13"/>
          <p:cNvSpPr/>
          <p:nvPr/>
        </p:nvSpPr>
        <p:spPr>
          <a:xfrm>
            <a:off x="609480" y="3809880"/>
            <a:ext cx="8001000" cy="28454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ice:</a:t>
            </a:r>
            <a:r>
              <a:rPr b="0" lang="en-US" sz="1000" spc="-1" strike="noStrike">
                <a:solidFill>
                  <a:srgbClr val="000000"/>
                </a:solidFill>
                <a:latin typeface="Times New Roman"/>
              </a:rPr>
              <a:t> </a:t>
            </a:r>
            <a:r>
              <a:rPr b="0" lang="en-US" sz="900" spc="-1" strike="noStrike">
                <a:solidFill>
                  <a:srgbClr val="000000"/>
                </a:solidFill>
                <a:latin typeface="Times New Roman"/>
              </a:rPr>
              <a:t>This document has been prepared to assist IEEE 802.22.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1"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lease:</a:t>
            </a:r>
            <a:r>
              <a:rPr b="0" lang="en-US" sz="1000" spc="-1" strike="noStrike">
                <a:solidFill>
                  <a:srgbClr val="000000"/>
                </a:solidFill>
                <a:latin typeface="Times New Roman"/>
              </a:rPr>
              <a:t> </a:t>
            </a:r>
            <a:r>
              <a:rPr b="0" lang="en-US" sz="9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2.</a:t>
            </a:r>
            <a:endParaRPr b="1"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atent Policy and Procedures:</a:t>
            </a:r>
            <a:r>
              <a:rPr b="0" lang="en-US" sz="1000" spc="-1" strike="noStrike">
                <a:solidFill>
                  <a:srgbClr val="000000"/>
                </a:solidFill>
                <a:latin typeface="Times New Roman"/>
              </a:rPr>
              <a:t> </a:t>
            </a:r>
            <a:r>
              <a:rPr b="0" lang="en-US" sz="900" spc="-1" strike="noStrike">
                <a:solidFill>
                  <a:srgbClr val="000000"/>
                </a:solidFill>
                <a:latin typeface="Times New Roman"/>
              </a:rPr>
              <a:t>The contributor is familiar with the IEEE 802 Patent Policy and Procedures </a:t>
            </a:r>
            <a:r>
              <a:rPr b="1" lang="en-US" sz="900" spc="-1" strike="noStrike">
                <a:solidFill>
                  <a:srgbClr val="000000"/>
                </a:solidFill>
                <a:latin typeface="Times New Roman"/>
              </a:rPr>
              <a:t>http://standards.ieee.org/guides/bylaws/sb-bylaws.pdf</a:t>
            </a:r>
            <a:r>
              <a:rPr b="0" lang="en-US" sz="900" spc="-1" strike="noStrike">
                <a:solidFill>
                  <a:srgbClr val="000000"/>
                </a:solidFill>
                <a:latin typeface="Times New Roman"/>
              </a:rPr>
              <a:t> including the statement "IEEE standards may include the known use of patent(s), including patent applications, provided the IEEE receives assurance from the patent holder or applicant with respect to patents essential for compliance with both mandatory and optional portions of the standard." Early disclosure to the Working Group of patent information that might be relevant to the standard is essential to reduce the possibility for delays in the development process and increase the likelihood that the draft publication will be approved for publication. Please notify the Chair </a:t>
            </a:r>
            <a:endParaRPr b="1"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purva N. Mody &lt; apurva.mody@ieee.org &gt; </a:t>
            </a:r>
            <a:r>
              <a:rPr b="0" lang="en-US" sz="900" spc="-1" strike="noStrike">
                <a:solidFill>
                  <a:srgbClr val="000000"/>
                </a:solidFill>
                <a:latin typeface="Times New Roman"/>
              </a:rPr>
              <a:t>as early as possible, in written or electronic form, if patented technology (or technology under patent application) might be incorporated into a draft standard being developed within the IEEE 802.22 Working Group. </a:t>
            </a:r>
            <a:r>
              <a:rPr b="1" lang="en-US" sz="900" spc="-1" strike="noStrike">
                <a:solidFill>
                  <a:srgbClr val="003399"/>
                </a:solidFill>
                <a:latin typeface="Times New Roman"/>
              </a:rPr>
              <a:t>If you have questions, contact the IEEE Patent Committee Administrator at patcom@iee.org.</a:t>
            </a:r>
            <a:endParaRPr b="1"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imes New Roman"/>
              </a:rPr>
              <a:t>&gt;</a:t>
            </a:r>
            <a:endParaRPr b="1"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95"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09DD159-91DF-4B5B-B0CA-584E97B3B3B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96" name="PlaceHolder 1"/>
          <p:cNvSpPr>
            <a:spLocks noGrp="1"/>
          </p:cNvSpPr>
          <p:nvPr>
            <p:ph type="title"/>
          </p:nvPr>
        </p:nvSpPr>
        <p:spPr>
          <a:xfrm>
            <a:off x="228600" y="762120"/>
            <a:ext cx="861048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Motion</a:t>
            </a:r>
            <a:endParaRPr b="1" lang="en-US" sz="6600" spc="-1" strike="noStrike">
              <a:solidFill>
                <a:srgbClr val="000000"/>
              </a:solidFill>
              <a:latin typeface="Times New Roman"/>
            </a:endParaRPr>
          </a:p>
        </p:txBody>
      </p:sp>
      <p:sp>
        <p:nvSpPr>
          <p:cNvPr id="697" name="Rectangle 3"/>
          <p:cNvSpPr/>
          <p:nvPr/>
        </p:nvSpPr>
        <p:spPr>
          <a:xfrm>
            <a:off x="228600" y="2438280"/>
            <a:ext cx="8610480" cy="15242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for a Approval to forward the IEEE P802.22.2 to the IEEE SA RevCom</a:t>
            </a:r>
            <a:endParaRPr b="1" lang="en-US" sz="2800" spc="-1" strike="noStrike">
              <a:solidFill>
                <a:srgbClr val="000000"/>
              </a:solidFill>
              <a:latin typeface="Times New Roman"/>
            </a:endParaRPr>
          </a:p>
        </p:txBody>
      </p:sp>
      <p:sp>
        <p:nvSpPr>
          <p:cNvPr id="698"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228600" y="609120"/>
            <a:ext cx="861048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for a Approval to forward the IEEE P802.22 to the IEEE SA RevCom</a:t>
            </a:r>
            <a:endParaRPr b="1" lang="en-US" sz="2800" spc="-1" strike="noStrike">
              <a:solidFill>
                <a:srgbClr val="000000"/>
              </a:solidFill>
              <a:latin typeface="Times New Roman"/>
            </a:endParaRPr>
          </a:p>
        </p:txBody>
      </p:sp>
      <p:sp>
        <p:nvSpPr>
          <p:cNvPr id="700" name="Rectangle 9"/>
          <p:cNvSpPr/>
          <p:nvPr/>
        </p:nvSpPr>
        <p:spPr>
          <a:xfrm>
            <a:off x="762120" y="1523880"/>
            <a:ext cx="731520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ules</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 requesting conditional approval to forward</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n the prior ballot has closed shall be accompanied by:</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ate the ballot closed</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Vote tally including Approve, Disapprove and Abstain votes</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mments that support the remaining disapprove votes and Working Group responses.</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chedule for confirmation ballot and resolution meeting.</a:t>
            </a:r>
            <a:endParaRPr b="1" lang="en-US" sz="2400" spc="-1" strike="noStrike">
              <a:solidFill>
                <a:srgbClr val="000000"/>
              </a:solidFill>
              <a:latin typeface="Times New Roman"/>
            </a:endParaRPr>
          </a:p>
        </p:txBody>
      </p:sp>
      <p:sp>
        <p:nvSpPr>
          <p:cNvPr id="701"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228600" y="60912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a Conditional Approval to forward the IEEE P802.22.2 to the IEEE SA RevCom</a:t>
            </a:r>
            <a:endParaRPr b="1" lang="en-US" sz="2400" spc="-1" strike="noStrike">
              <a:solidFill>
                <a:srgbClr val="000000"/>
              </a:solidFill>
              <a:latin typeface="Times New Roman"/>
            </a:endParaRPr>
          </a:p>
        </p:txBody>
      </p:sp>
      <p:sp>
        <p:nvSpPr>
          <p:cNvPr id="703"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04"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F7B7214-0DFE-494F-BE30-737C8C48BE0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graphicFrame>
        <p:nvGraphicFramePr>
          <p:cNvPr id="705" name=""/>
          <p:cNvGraphicFramePr/>
          <p:nvPr/>
        </p:nvGraphicFramePr>
        <p:xfrm>
          <a:off x="304920" y="1722600"/>
          <a:ext cx="8610480" cy="4327200"/>
        </p:xfrm>
        <a:graphic>
          <a:graphicData uri="http://schemas.openxmlformats.org/drawingml/2006/table">
            <a:tbl>
              <a:tblPr/>
              <a:tblGrid>
                <a:gridCol w="1371600"/>
                <a:gridCol w="838080"/>
                <a:gridCol w="1201680"/>
                <a:gridCol w="1541520"/>
                <a:gridCol w="1447920"/>
                <a:gridCol w="1218960"/>
                <a:gridCol w="990720"/>
              </a:tblGrid>
              <a:tr h="1191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EEE Sponsor / Re-circ Ballot</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sponse Ratio</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roval Ratio</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egative Vote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umber of Negative Comments Received</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mment Resolution Statu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raft Statu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946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onsor Ballot #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en – Feb 20 2012, Closed – Mar 20, 2012</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81% </a:t>
                      </a:r>
                      <a:r>
                        <a:rPr b="1" lang="en-US" sz="1100" spc="-1" strike="noStrike">
                          <a:solidFill>
                            <a:srgbClr val="3333cc"/>
                          </a:solidFill>
                          <a:latin typeface="Times New Roman"/>
                        </a:rPr>
                        <a:t>(4% abstain)</a:t>
                      </a:r>
                      <a:endParaRPr b="1" lang="en-US" sz="11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97%</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Negative Votes with Comments</a:t>
                      </a:r>
                      <a:endParaRPr b="1"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endParaRPr b="1"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s addressed &amp; resolved - 22-12-0029 Rev3 </a:t>
                      </a:r>
                      <a:endParaRPr b="1"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802.22.2/D 2.0 prepared</a:t>
                      </a:r>
                      <a:endParaRPr b="1"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1189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onsor Ballot Re-circ #1 </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en – Apr. 22nd, 2012, Closed – May 7th, 2012 </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85% </a:t>
                      </a:r>
                      <a:r>
                        <a:rPr b="1" lang="en-US" sz="1100" spc="-1" strike="noStrike">
                          <a:solidFill>
                            <a:srgbClr val="3333cc"/>
                          </a:solidFill>
                          <a:latin typeface="Times New Roman"/>
                        </a:rPr>
                        <a:t>(8% abstain)</a:t>
                      </a:r>
                      <a:endParaRPr b="1" lang="en-US" sz="11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10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 Negative Votes Received</a:t>
                      </a:r>
                      <a:endParaRPr b="1"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1"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s addressed &amp; resolved – 22-12-0029 Rev3</a:t>
                      </a:r>
                      <a:endParaRPr b="1"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802.22/D3.0 prepared</a:t>
                      </a:r>
                      <a:endParaRPr b="1"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189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onsor Ballot Re-circ #1 </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en – May. 23rd, 2012, Closed – June 2nd, 2012 </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87% </a:t>
                      </a:r>
                      <a:r>
                        <a:rPr b="1" lang="en-US" sz="1100" spc="-1" strike="noStrike">
                          <a:solidFill>
                            <a:srgbClr val="3333cc"/>
                          </a:solidFill>
                          <a:latin typeface="Times New Roman"/>
                        </a:rPr>
                        <a:t>(6% abstain)</a:t>
                      </a:r>
                      <a:endParaRPr b="1" lang="en-US" sz="11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100%</a:t>
                      </a: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 Negative Votes Received</a:t>
                      </a:r>
                      <a:endParaRPr b="1"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1"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 more comments to resolve</a:t>
                      </a:r>
                      <a:endParaRPr b="1"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802.22/D3.0 to be sent to RevCom</a:t>
                      </a:r>
                      <a:endParaRPr b="1"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
        <p:nvSpPr>
          <p:cNvPr id="706" name="Rectangle 8"/>
          <p:cNvSpPr/>
          <p:nvPr/>
        </p:nvSpPr>
        <p:spPr>
          <a:xfrm>
            <a:off x="990720" y="1295280"/>
            <a:ext cx="7010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umber of People in the Sponsor Ballot Pool = 102</a:t>
            </a:r>
            <a:endParaRPr b="1" lang="en-US" sz="2400" spc="-1" strike="noStrike">
              <a:solidFill>
                <a:srgbClr val="000000"/>
              </a:solidFill>
              <a:latin typeface="Times New Roman"/>
            </a:endParaRPr>
          </a:p>
        </p:txBody>
      </p:sp>
      <p:sp>
        <p:nvSpPr>
          <p:cNvPr id="707"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09"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6C67BD-4C2A-4ADB-8FF0-8F410AA1F9E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10" name="Rectangle 1"/>
          <p:cNvSpPr/>
          <p:nvPr/>
        </p:nvSpPr>
        <p:spPr>
          <a:xfrm>
            <a:off x="228600" y="1096560"/>
            <a:ext cx="4343400" cy="5265000"/>
          </a:xfrm>
          <a:prstGeom prst="rect">
            <a:avLst/>
          </a:prstGeom>
          <a:noFill/>
          <a:ln w="12600">
            <a:solidFill>
              <a:srgbClr val="000000"/>
            </a:solidFill>
            <a:miter/>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WG Motion #7 Document – 22-11-0048 Rev0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Move to authorize the P802.22 WG Chair and the Ballot Resolution Committee (Gerald Chouinard, Apurva Mody, Tom Gurley) to continue the comment resolution of the P802.22.2 comments for Draft v1.0. The Chair to issue Draft v2.0 of the P802.22.2 Recommended Practice and launch a 30 day Sponsor Ballot or 15 day Sponsor re-circulation ballot as he sees fit no later than April 20th. Subsequently to resolving the comments for P802.22.2 authorize the P802.22 WG Chair to issue further drafts and launch other rounds of re-circulation ballot, if required to meet the conditions to send the draft to RevCom.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Move: Apurva Mody</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Second: Jerry Kalke</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For:   8</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gainst: 0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Abstain:  0</a:t>
            </a:r>
            <a:endParaRPr b="1" lang="en-US" sz="1600" spc="-1" strike="noStrike">
              <a:solidFill>
                <a:srgbClr val="000000"/>
              </a:solidFill>
              <a:latin typeface="Times New Roman"/>
            </a:endParaRPr>
          </a:p>
        </p:txBody>
      </p:sp>
      <p:sp>
        <p:nvSpPr>
          <p:cNvPr id="711" name="PlaceHolder 1"/>
          <p:cNvSpPr>
            <a:spLocks noGrp="1"/>
          </p:cNvSpPr>
          <p:nvPr>
            <p:ph type="title"/>
          </p:nvPr>
        </p:nvSpPr>
        <p:spPr>
          <a:xfrm>
            <a:off x="685800" y="4568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802.22 WG Motions</a:t>
            </a:r>
            <a:endParaRPr b="1" lang="en-US" sz="3200" spc="-1" strike="noStrike">
              <a:solidFill>
                <a:srgbClr val="000000"/>
              </a:solidFill>
              <a:latin typeface="Times New Roman"/>
            </a:endParaRPr>
          </a:p>
        </p:txBody>
      </p:sp>
      <p:sp>
        <p:nvSpPr>
          <p:cNvPr id="712" name="Rectangle 6"/>
          <p:cNvSpPr/>
          <p:nvPr/>
        </p:nvSpPr>
        <p:spPr>
          <a:xfrm>
            <a:off x="4648320" y="1066680"/>
            <a:ext cx="4267080" cy="4667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WG Motion #2 </a:t>
            </a:r>
            <a:r>
              <a:rPr b="1" lang="en-US" sz="2000" spc="-1" strike="noStrike">
                <a:solidFill>
                  <a:srgbClr val="000000"/>
                </a:solidFill>
                <a:latin typeface="Times New Roman"/>
                <a:ea typeface="Times New Roman"/>
              </a:rPr>
              <a:t>Document – 22-11-0059 Rev0</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he IEEE 802.22 Working Group authorizes the WG Chair to seek (Conditional) Approval from the IEEE 802 Executive Committee to forward P802.22.2/D3.0 to the IEEE SA RevCom.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ve: Ivan Reede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econd: Dr.  Chang-woo Pyo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or: 8</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gainst: 0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bstain: 0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tion passes unanimously </a:t>
            </a:r>
            <a:endParaRPr b="1" lang="en-US" sz="2000" spc="-1" strike="noStrike">
              <a:solidFill>
                <a:srgbClr val="000000"/>
              </a:solidFill>
              <a:latin typeface="Times New Roman"/>
            </a:endParaRPr>
          </a:p>
        </p:txBody>
      </p:sp>
      <p:sp>
        <p:nvSpPr>
          <p:cNvPr id="713"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p:nvPr>
        </p:nvSpPr>
        <p:spPr>
          <a:xfrm>
            <a:off x="304920" y="1828440"/>
            <a:ext cx="8534160" cy="426708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hat EC grants un-conditional approval as per the IEEE 802 Operations Manual to forward IEEE P802.22.2 D3 to the IEEE Standards Association Review Committee.</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purva N. Mody,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ainst: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stain: </a:t>
            </a:r>
            <a:endParaRPr b="1" lang="en-US" sz="2400" spc="-1" strike="noStrike">
              <a:solidFill>
                <a:srgbClr val="000000"/>
              </a:solidFill>
              <a:latin typeface="Times New Roman"/>
            </a:endParaRPr>
          </a:p>
        </p:txBody>
      </p:sp>
      <p:sp>
        <p:nvSpPr>
          <p:cNvPr id="715"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16"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A7E262F-89F8-43C3-A40A-E08778DC264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17" name="PlaceHolder 2"/>
          <p:cNvSpPr>
            <a:spLocks noGrp="1"/>
          </p:cNvSpPr>
          <p:nvPr>
            <p:ph type="title"/>
          </p:nvPr>
        </p:nvSpPr>
        <p:spPr>
          <a:xfrm>
            <a:off x="228600" y="609120"/>
            <a:ext cx="86104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Un-conditional Approval to forward the IEEE P802.22.2 Draft Standard to the IEEE SA RevCom</a:t>
            </a:r>
            <a:endParaRPr b="1" lang="en-US" sz="2400" spc="-1" strike="noStrike">
              <a:solidFill>
                <a:srgbClr val="000000"/>
              </a:solidFill>
              <a:latin typeface="Times New Roman"/>
            </a:endParaRPr>
          </a:p>
        </p:txBody>
      </p:sp>
      <p:sp>
        <p:nvSpPr>
          <p:cNvPr id="718"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304920" y="609480"/>
            <a:ext cx="86104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720"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21"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EB11FA6-DC02-4C54-8B36-BD3BE8376B6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22"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
        <p:nvSpPr>
          <p:cNvPr id="723" name="TextBox 5"/>
          <p:cNvSpPr/>
          <p:nvPr/>
        </p:nvSpPr>
        <p:spPr>
          <a:xfrm>
            <a:off x="533520" y="1295280"/>
            <a:ext cx="8381880" cy="366012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2-12-0029 Rev3: IEEE 802.22.2 Comment Database - https://mentor.ieee.org/802.22/dcn/12/22-12-0029-04-0002-ieee-p802-22-2-draft-1-0-comments-database.xls</a:t>
            </a:r>
            <a:endParaRPr b="1" lang="en-US" sz="1800" spc="-1" strike="noStrike">
              <a:solidFill>
                <a:srgbClr val="000000"/>
              </a:solidFill>
              <a:latin typeface="Times New Roman"/>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gal Comments from IEEE-SA Staff and 802.22 Responses: https://mentor.ieee.org/802.22/dcn/12/22-12-0030-02-0002-legal-comments-from-the-ieee-sa-staff.doc</a:t>
            </a:r>
            <a:endParaRPr b="1" lang="en-US" sz="1800" spc="-1" strike="noStrike">
              <a:solidFill>
                <a:srgbClr val="000000"/>
              </a:solidFill>
              <a:latin typeface="Times New Roman"/>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2-12-0059 Rev0:  May Interim WG Motions - https://mentor.ieee.org/802.22/dcn/12/22-12-0059-00-0000-may-interim-wg-meeting-minutes.doc</a:t>
            </a:r>
            <a:endParaRPr b="1" lang="en-US" sz="1800" spc="-1" strike="noStrike">
              <a:solidFill>
                <a:srgbClr val="000000"/>
              </a:solidFill>
              <a:latin typeface="Times New Roman"/>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2-12-0048 Rev0: March Plenary Meeting Minutes - https://mentor.ieee.org/802.22/dcn/12/22-12-0048-00-0000-ieee-802-22-march-plenary-wg-meeting-minutes.doc</a:t>
            </a:r>
            <a:endParaRPr b="1" lang="en-US" sz="1800" spc="-1" strike="noStrike">
              <a:solidFill>
                <a:srgbClr val="000000"/>
              </a:solidFill>
              <a:latin typeface="Times New Roman"/>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9T20:30:52Z</dcterms:created>
  <dc:creator>Apurva N. Mody</dc:creator>
  <dc:description/>
  <dc:language>en-US</dc:language>
  <cp:lastModifiedBy>apurva.mody</cp:lastModifiedBy>
  <cp:lastPrinted>1998-02-10T13:28:06Z</cp:lastPrinted>
  <dcterms:modified xsi:type="dcterms:W3CDTF">2012-06-04T03:26:12Z</dcterms:modified>
  <cp:revision>483</cp:revision>
  <dc:subject/>
  <dc:title>Overview of IEEE 802.22 Standard</dc:title>
</cp:coreProperties>
</file>