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6" name="PlaceHolder 1"/>
          <p:cNvSpPr>
            <a:spLocks noGrp="1"/>
          </p:cNvSpPr>
          <p:nvPr>
            <p:ph type="hdr"/>
          </p:nvPr>
        </p:nvSpPr>
        <p:spPr>
          <a:xfrm>
            <a:off x="4146120" y="96840"/>
            <a:ext cx="2205000" cy="21600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677" name="PlaceHolder 2"/>
          <p:cNvSpPr>
            <a:spLocks noGrp="1"/>
          </p:cNvSpPr>
          <p:nvPr>
            <p:ph type="dt" idx="46"/>
          </p:nvPr>
        </p:nvSpPr>
        <p:spPr>
          <a:xfrm>
            <a:off x="659880" y="-113760"/>
            <a:ext cx="91620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678" name="PlaceHolder 3"/>
          <p:cNvSpPr>
            <a:spLocks noGrp="1"/>
          </p:cNvSpPr>
          <p:nvPr>
            <p:ph type="sldImg"/>
          </p:nvPr>
        </p:nvSpPr>
        <p:spPr>
          <a:xfrm>
            <a:off x="1188720" y="701280"/>
            <a:ext cx="4632120" cy="347508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679" name="PlaceHolder 4"/>
          <p:cNvSpPr>
            <a:spLocks noGrp="1"/>
          </p:cNvSpPr>
          <p:nvPr>
            <p:ph type="body"/>
          </p:nvPr>
        </p:nvSpPr>
        <p:spPr>
          <a:xfrm>
            <a:off x="934560" y="4416480"/>
            <a:ext cx="5140440" cy="4184640"/>
          </a:xfrm>
          <a:prstGeom prst="rect">
            <a:avLst/>
          </a:prstGeom>
          <a:noFill/>
          <a:ln w="0">
            <a:noFill/>
          </a:ln>
        </p:spPr>
        <p:txBody>
          <a:bodyPr lIns="94320" rIns="943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0" name="PlaceHolder 5"/>
          <p:cNvSpPr>
            <a:spLocks noGrp="1"/>
          </p:cNvSpPr>
          <p:nvPr>
            <p:ph type="ftr" idx="47"/>
          </p:nvPr>
        </p:nvSpPr>
        <p:spPr>
          <a:xfrm>
            <a:off x="4236840" y="8999640"/>
            <a:ext cx="2114280" cy="18576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681" name="PlaceHolder 6"/>
          <p:cNvSpPr>
            <a:spLocks noGrp="1"/>
          </p:cNvSpPr>
          <p:nvPr>
            <p:ph type="sldNum" idx="48"/>
          </p:nvPr>
        </p:nvSpPr>
        <p:spPr>
          <a:xfrm>
            <a:off x="3262320" y="899928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E0FE7B6F-A7E0-4D75-8BA1-D3948F998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8"/>
          <p:cNvSpPr/>
          <p:nvPr/>
        </p:nvSpPr>
        <p:spPr>
          <a:xfrm>
            <a:off x="734400" y="89996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83" name="Line 9"/>
          <p:cNvSpPr/>
          <p:nvPr/>
        </p:nvSpPr>
        <p:spPr>
          <a:xfrm>
            <a:off x="731880" y="8997840"/>
            <a:ext cx="554652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4" name="Line 10"/>
          <p:cNvSpPr/>
          <p:nvPr/>
        </p:nvSpPr>
        <p:spPr>
          <a:xfrm>
            <a:off x="655560" y="298440"/>
            <a:ext cx="569916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2"/>
          <p:cNvSpPr/>
          <p:nvPr/>
        </p:nvSpPr>
        <p:spPr>
          <a:xfrm>
            <a:off x="4149000" y="993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737" name="Rectangle 3"/>
          <p:cNvSpPr/>
          <p:nvPr/>
        </p:nvSpPr>
        <p:spPr>
          <a:xfrm>
            <a:off x="650160" y="993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738" name="Rectangle 6"/>
          <p:cNvSpPr/>
          <p:nvPr/>
        </p:nvSpPr>
        <p:spPr>
          <a:xfrm>
            <a:off x="4247640" y="899964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739" name="Rectangle 7"/>
          <p:cNvSpPr/>
          <p:nvPr/>
        </p:nvSpPr>
        <p:spPr>
          <a:xfrm>
            <a:off x="3083040" y="89996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D8B1C50-B770-46EB-BC42-CCAEEAEF82B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0" name="PlaceHolder 1"/>
          <p:cNvSpPr>
            <a:spLocks noGrp="1"/>
          </p:cNvSpPr>
          <p:nvPr>
            <p:ph type="sldImg"/>
          </p:nvPr>
        </p:nvSpPr>
        <p:spPr>
          <a:xfrm>
            <a:off x="1189080" y="701640"/>
            <a:ext cx="4632120" cy="3475080"/>
          </a:xfrm>
          <a:prstGeom prst="rect">
            <a:avLst/>
          </a:prstGeom>
          <a:ln w="0">
            <a:noFill/>
          </a:ln>
        </p:spPr>
      </p:sp>
      <p:sp>
        <p:nvSpPr>
          <p:cNvPr id="741"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40099E1-6FAC-46A4-B3AA-3A9E2D33935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8E762F0-249D-42B3-9BDF-A72217C078A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B75FAA4-1B35-4487-A551-1FD855C2E76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EE9C81F-F28B-487A-8D8E-E6CFE00BA37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C8BA59D-E109-46CC-A44B-992D10BCFBC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2E2A19D-312E-4BD7-BE9D-62E9FBF2851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0E01767-E861-4464-9308-889F7652276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F28875D-8B53-4374-9FF8-7CD15498329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D9D11-BC7D-4067-8E7B-AB6FAB790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EC6E2-13F2-4901-856B-9F8180DE2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65C679-F4BE-496F-A837-0497CE5B7C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4CE2DC-DA4C-40F1-8DF4-DCC0254BCC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FA1F24-5B4D-435C-84A1-015A39F223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FA5DD7-F78B-4325-B9E1-328509EBC3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D4C9C7-77DE-4E28-A291-F60730A853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D5532F-C8B9-4FF3-9669-95BCD7636D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F0B95B-B43A-47AA-AFD2-35F8FE447E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ACDFD3-6911-49B4-A680-672F66ECEA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A8430C4-FDB8-4025-9829-45215569CA4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A865CC7-6BE3-49FC-AD79-5392A899B5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F0F63-6A6D-46D1-9848-5B774BB0B3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6C49EB-8A37-40F0-929D-4E10D0E714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DE6406-C05B-4D85-B1AD-40DBBCCDC4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F02EDB-C823-48AC-8AFB-D3BF67E1FB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7BA1E6-9DB4-458C-BF7E-9332081F52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D24A1A-389B-46FB-91DA-AE3270E1B4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BD197B-5DE3-4D88-AFF0-648CE503D5C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B5B254-832F-42CF-844D-429E235B8A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D0A1F7-E9D9-4682-BCD7-5F2F292679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F5A83A-A621-4635-85B7-9899F9558AB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8999B3B-0B94-4395-AEFD-94FA98F49BA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7FBDE-6719-4387-8AE5-635401498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A012B48-254D-4B80-8C45-317BABA68D8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8523A0D-D0C5-432D-81CF-CA3B47C0949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89A39C-B8B2-4691-A39B-8A645D64BBD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4B9794-4635-4DBF-BDEC-94F5FC2B65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E6FCED0-4F0F-42CD-AA93-78B19244C9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E9B524-125C-4D81-8DB8-D29995C32F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C4C858-6A08-4CA1-9CEA-094C826ACF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154FCA-148E-4BA2-9DB5-F1BF9B4D64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E88B2F-83CC-43A2-8E31-8F82C56928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27933C4-DCB6-490B-BDF7-4DDBEEB179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26549-8AB7-470A-B9AC-834F89EED2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A6C80A4-8F66-4ABC-A162-C4E5118B13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BCC5E58-CF0D-436B-9F52-CDA127B355E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073899E-299A-42CE-AF96-B76066F4C74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9FF158C-ED31-4721-8C14-B1886B533E4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063933-2014-4315-812E-C779DA50EB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460C31F-2641-4725-B591-0D4D5D82331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8B4B5C-B75C-4151-AD48-B77EF80B846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2BDED1-6C48-4056-BA55-95056C0374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6F2630-41D2-4E35-AA19-0775A3DF7C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FA7E0E7-4BFF-4E76-9F3B-DA2FE52885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DF8270-2B4A-4418-950D-B43C3C148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AE7DC8-B937-4C11-8991-1DEAC8187A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0EB08CF-990B-4650-92E2-100C5A4F3A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42D0CA1-DD14-430F-A1FE-6796F658FE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8BDBB47-8029-4E1E-A1AC-EB290E40194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D620CDD-9855-453D-A5F2-A929FDF512A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A7BF546-3AEC-456B-8EFD-4D953B4A717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EEFF104-A0AF-4675-AEC5-BA95F053529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BA10505-EB93-4DF1-BBA2-9F3284746C2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6089A98-DAD9-46CD-8688-AC72DE56AF4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AE2321-5F9A-4BD5-85F5-53BD7F724DF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45244-0FEE-4135-B2CE-AEF086D8C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ACA8CD3-570B-4672-BDAE-AAEA637B7F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A3E8F7-8A4F-43CD-B672-566BEE6042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FAAE06-8DF2-4EAF-8A01-17C4F0E831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748D1CE-A603-45CA-BF72-4A33F164A1D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D7C56A1-FCAC-4E03-843E-B350A8391A1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B6BE33B-061E-4629-B4AA-FAE9DD1AB53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E9AF866-AA47-4C64-99E5-017004E93F5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3D0985F-FC80-405C-9654-A4472899DE5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60BE30A-5D09-4996-8802-64B2D76A1C0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F0F63C4-4212-47BF-9A3B-B0EF5BCFE2E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71D43-DD6A-4699-A11F-46A173AB6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64EE282-9916-411B-BFD6-7902719A0F2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E3C034A-D311-4799-8F61-9AC9F780EAF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A735F5-BFCB-419A-9D4A-42362BFECC3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4F25F1C-95B0-4F01-906B-1CF2BF9C4F6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CD4FDB-85FB-4C2F-954D-47B9674C0EB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B01D6E0-45EE-434F-B351-DA2F6038C51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D61E631-BD9F-4073-9665-03E93545A0A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8D9C081-1A9F-4A65-9BAB-86B7B7A60EF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B3C1346-251A-4484-B4CE-CE7D288716E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65B0BDB-7BE1-4A20-8DFA-999775AFC7E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680DE2-C3A0-4BF7-8E5A-981762B31C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0532F6E-5094-48DE-B1BE-DD0F231A908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9DC4F56-5B3C-4301-BBF7-88902C6062A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6F01025-7355-4189-A6FA-7C6E71CD47B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92DFC39-90BA-4FE4-9A48-6A719E03B1D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523C0BF-E8BF-4930-987C-C140B8D3576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D05FF7F-1B38-48DD-8161-032A31FDA24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0C6855C-ACA4-4478-BADB-4D11CA5BEC9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3DE49CE-C870-4AB5-B7C1-C27A7D5A720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CB7161D-AA55-4E6E-8D76-05CF4232E67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D865EE0-8686-43DB-A733-7A54041F1BD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DD5FF3-D27E-40B8-871C-75942AF15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8F7C355-0D29-4B61-9675-4DE36F7C662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0C6A3-FC99-4A1E-8F84-7FD476E1E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1F1A3-CB9B-4FE6-8CDF-ED2C77BB1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B1345-E1D2-486F-A021-3F0C84EF2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556F3-22FB-43E8-BA87-D11DC4BE2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747C5-707F-4988-9423-33B271159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7779FF-BFE1-47BC-8F72-38020E9186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ABFB7E-96DC-488A-AF4A-3E6224E56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590F8F-B3B1-41C5-BA0B-36E5AB22C9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56D357-2DDF-474B-B063-F06B971CD1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B4AA61-B7AB-4109-905B-0AF90D569E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6618CC-1E48-4023-82C5-DB24131989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B89C32-0A1E-4FF9-A7C2-A4A7883CBB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1C9B1-687E-4791-A502-C27870EF0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4159AE-82D8-4726-91DE-D110BE0C2D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FF27C-CFC4-4D8E-B788-E55AF28D82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B63E49-590F-447C-BDB4-D1110D2A52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18173-2434-4837-A8AD-62AB6157A4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5DF874-C1A9-46C1-BEBD-B57D927938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11191F-7014-4E23-B2F9-836D0A41B9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BC38B0-687D-411A-AB9F-779F7BD9C4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65D0C83-8AFB-44AE-BF32-243AA4CF42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EEE7A3-68A4-46CE-A3CE-D4191E1C48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445D07-3898-4AE1-8805-3A3DD8D594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234A0-9145-4870-A829-3F09FCEF5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EEEEA8-7914-44F0-A590-3331F499D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E44441-0A2F-403B-8E2B-78052AD614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AB50F5-30A8-4625-9089-08025CFB7C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A3A991-4483-4853-BB30-AD76B38B00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166C76-F572-4EC7-A9A9-2193CAE6B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878024-5AD1-476A-8B70-7443F8AB93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6FF189-EE9F-4274-8DE9-5BAC32F08D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06DE62-5968-49BB-A74E-63D88BDCFE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DC82D9-BEAE-498D-A8BF-D62B9E8CCC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8931A8-74E3-48FC-B6E8-4FF60D9E5A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F025D-23C4-467F-867D-8EFC7F6E8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CA0C6D-255E-436E-9CE6-F45FC4710D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5816A7-B67E-4032-9949-140CB6072B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7A4DDC-F955-49E9-A60C-8353013514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897739-1C0C-4879-8469-AD67E2921A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938ACF-4F72-4539-963C-1052FFC003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53FFB-1724-4FC6-A8C7-7B06B48F5C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916822-E533-43A0-B5B0-A250B1299C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655AC1-FF4D-49E4-AF74-557100B631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A8DCE1-FB0E-4978-9848-29AFC58A5A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940DCE-BFCC-422D-BE8E-7BD67C5720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F32E8-DFDA-4824-92CF-128F078D7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230A1D-053F-47D3-B315-1EA14F2A6E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6FD55F-AC1A-4119-95C2-6FD044E1BEF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7225BF-7DA1-47CD-8343-B5B61F41D2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91F890-19F3-4729-8E34-8BF0CEC083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266742-95DC-40ED-BB22-E3AA147549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E45FE1-7ED6-4B26-93B5-821AF1A111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E7F106-7AC2-46E7-91ED-9CDD3FBC61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50A8B2-B159-4ED8-BC0D-DB7AA10F78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A066C7-2209-44D6-93DC-2CCBCF2F3F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9F6F76-D99A-4C83-8C81-49D3FB07D6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013AA-863E-4453-94BB-6DB97654B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7287E2-867B-48D3-9D6E-8E16C535E2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6B7F7B-5831-49BE-ADC5-31B1138CD8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DA350E-E2D6-489E-AAF3-99619AC1DE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CC6A03-3B70-4F4B-BAA8-A13ADE3908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B7218E-5A33-4007-8F78-A7C872D255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48C4E1-EE6C-48CA-8039-84C6BB87F8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109FEF-E90B-4F67-9115-E1C14DE438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580454-F51A-4A92-A560-29AC4BB8FA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36D7D1-0668-41EA-9A3A-85343BF4C4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6B51DE-5696-4B9E-AE7B-F04EAC225A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E62B0-105A-4E1F-8130-0760E578C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2BFA45-D822-4C02-A2D4-E8B476C8C8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463670-F311-4918-B185-CEA95CF4E0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6A0A1B-C330-4279-A6C2-87D7BBA7CC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57CACE-4079-42E5-B0DC-F6208F91FF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2D272A-40BB-4065-B148-38C2F99ADF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A68F71-96B6-4D9A-B3C0-7A7A609B20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AB7207-6627-4871-9569-AF3C6B7116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A39A58-8086-4C2B-B697-0ABA1E6AC2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5B318C-49A9-480B-881E-E26974BA3E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1C7C92-E864-4DB2-8BEA-6B61B11F8C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729B8-D9B4-4527-89CE-B373CE664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66FD76-A221-45F8-BA3F-C8B32AFE50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9166FD-91BA-4B29-A735-C0FCCA4E1A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39A8A4-5F3C-46F3-A662-A12FBD452F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483328-336F-427C-A3AA-BF37A2D197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DC4BD2-6AD4-4F8C-A53E-14F1221480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659AAE-D2F9-4D47-BA21-74F5F07E4F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0D1F20-EDE7-4397-9B45-F42B3AB796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E3DCCF-8847-439B-B8B4-8974BBF55D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FD9591-405D-4218-9868-38051BFDA1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B5A777-332C-4FD4-A1FE-12E77676A8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BE2345-AE47-4C5A-878F-ADDAC935CF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2</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2</a:t>
            </a:r>
            <a:endParaRPr b="1"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B6292A-AED7-4F9F-990C-559BFD3CAC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2</a:t>
            </a:r>
            <a:endParaRPr b="1"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2CADD0-4F6A-4E46-8360-E8BA3967EC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2</a:t>
            </a:r>
            <a:endParaRPr b="1"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B372CF-89EE-4895-8AAE-744FD0B0E4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2</a:t>
            </a:r>
            <a:endParaRPr b="1" lang="en-US" sz="1800" spc="-1" strike="noStrike">
              <a:solidFill>
                <a:srgbClr val="000000"/>
              </a:solidFill>
              <a:latin typeface="Times New Roman"/>
            </a:endParaRPr>
          </a:p>
        </p:txBody>
      </p:sp>
      <p:sp>
        <p:nvSpPr>
          <p:cNvPr id="54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4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46" name="PlaceHolder 3"/>
          <p:cNvSpPr>
            <a:spLocks noGrp="1"/>
          </p:cNvSpPr>
          <p:nvPr>
            <p:ph type="dt" idx="37"/>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47" name="PlaceHolder 4"/>
          <p:cNvSpPr>
            <a:spLocks noGrp="1"/>
          </p:cNvSpPr>
          <p:nvPr>
            <p:ph type="ftr" idx="3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48" name="PlaceHolder 5"/>
          <p:cNvSpPr>
            <a:spLocks noGrp="1"/>
          </p:cNvSpPr>
          <p:nvPr>
            <p:ph type="sldNum" idx="3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66E79E-5ECD-41E0-98EA-817BCFADD7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2</a:t>
            </a:r>
            <a:endParaRPr b="1" lang="en-US" sz="1800" spc="-1" strike="noStrike">
              <a:solidFill>
                <a:srgbClr val="000000"/>
              </a:solidFill>
              <a:latin typeface="Times New Roman"/>
            </a:endParaRPr>
          </a:p>
        </p:txBody>
      </p:sp>
      <p:sp>
        <p:nvSpPr>
          <p:cNvPr id="58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8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9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91" name="PlaceHolder 3"/>
          <p:cNvSpPr>
            <a:spLocks noGrp="1"/>
          </p:cNvSpPr>
          <p:nvPr>
            <p:ph type="dt" idx="40"/>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92" name="PlaceHolder 4"/>
          <p:cNvSpPr>
            <a:spLocks noGrp="1"/>
          </p:cNvSpPr>
          <p:nvPr>
            <p:ph type="ftr" idx="4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93" name="PlaceHolder 5"/>
          <p:cNvSpPr>
            <a:spLocks noGrp="1"/>
          </p:cNvSpPr>
          <p:nvPr>
            <p:ph type="sldNum" idx="4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270B1B-0F31-40A1-BD4E-B45693C55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2</a:t>
            </a:r>
            <a:endParaRPr b="1" lang="en-US" sz="1800" spc="-1" strike="noStrike">
              <a:solidFill>
                <a:srgbClr val="000000"/>
              </a:solidFill>
              <a:latin typeface="Times New Roman"/>
            </a:endParaRPr>
          </a:p>
        </p:txBody>
      </p:sp>
      <p:sp>
        <p:nvSpPr>
          <p:cNvPr id="63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3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3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36" name="PlaceHolder 3"/>
          <p:cNvSpPr>
            <a:spLocks noGrp="1"/>
          </p:cNvSpPr>
          <p:nvPr>
            <p:ph type="dt" idx="43"/>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637" name="PlaceHolder 4"/>
          <p:cNvSpPr>
            <a:spLocks noGrp="1"/>
          </p:cNvSpPr>
          <p:nvPr>
            <p:ph type="ftr" idx="4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638" name="PlaceHolder 5"/>
          <p:cNvSpPr>
            <a:spLocks noGrp="1"/>
          </p:cNvSpPr>
          <p:nvPr>
            <p:ph type="sldNum" idx="4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6F064E-EC96-407A-9A28-9596D8386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2</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60120"/>
            <a:ext cx="9302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1</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4CD465-82C2-40AA-8E69-BE043EBDBC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2</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18260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7D13F4-EE1E-44FA-A530-3F0C11FCC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2</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32DB96-857D-4AE4-AE68-292E208A6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2</a:t>
            </a:r>
            <a:endParaRPr b="1"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A0154B-D5A5-4E48-8E0E-54B3776F8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2</a:t>
            </a:r>
            <a:endParaRPr b="1"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C91F29-D40A-4767-A7FA-5E652E3527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2</a:t>
            </a:r>
            <a:endParaRPr b="1"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31E54BB-1B6B-40A5-B110-08A3A77AA5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2</a:t>
            </a:r>
            <a:endParaRPr b="1"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3A3724-D887-4144-8915-C2D690580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4828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2/0032r02</a:t>
            </a:r>
            <a:endParaRPr b="1"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333000"/>
            <a:ext cx="118260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D5C73C-78FF-4D42-8855-E2C95D0E40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hyperlink" Target="http://standards.ieee.org/guides/bylaws/sb-bylaws.pdf" TargetMode="External"/><Relationship Id="rId4" Type="http://schemas.openxmlformats.org/officeDocument/2006/relationships/hyperlink" Target="mailto:apurva.mody@ieee.org" TargetMode="External"/><Relationship Id="rId5" Type="http://schemas.openxmlformats.org/officeDocument/2006/relationships/hyperlink" Target="mailto:patcom@iee.org" TargetMode="External"/><Relationship Id="rId6" Type="http://schemas.openxmlformats.org/officeDocument/2006/relationships/slideLayout" Target="../slideLayouts/slideLayout25.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entor.ieee.org/802.22/dcn/12/22-12-0010-01-0000-p802-22b-par-approval-press-release.doc" TargetMode="External"/><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mentor.ieee.org/802.22/dcn/12/22-12-0010-01-0000-p802-22b-par-approval-press-release.doc" TargetMode="Externa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ieee802.org/minutes/Conference-calls/2012-02-07-call-minutes-v1.pdf" TargetMode="External"/><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mentor.ieee.org/802.22/dcn/12/22-12-0028-03-0000-802-22-inputs-to-802-18-position-supporting-license-exempt-usage-of-tv-band-white-spaces.doc" TargetMode="External"/><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mentor.ieee.org/802.18/dcn/12/18-12-0030-02-0000-802-22-inputs-to-802-18-position-supporting-license-exempt-usage-of-tv-band-white-spaces.doc" TargetMode="External"/><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mentor.ieee.org/802.22/dcn/12/22-12-0010-01-0000-p802-22b-par-approval-press-release.doc" TargetMode="External"/><Relationship Id="rId2" Type="http://schemas.openxmlformats.org/officeDocument/2006/relationships/hyperlink" Target="https://mentor.ieee.org/802.22/dcn/12/22-12-0033-00-0000-march-plenary-wg-motions.doc" TargetMode="External"/><Relationship Id="rId3" Type="http://schemas.openxmlformats.org/officeDocument/2006/relationships/hyperlink" Target="https://mentor.ieee.org/802.22/dcn/11/22-11-0118-04-rasg-par-for-enhanced-broadband-and-monitoring-amendment.doc" TargetMode="External"/><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6292BD-0492-4141-B7E7-7886C4412D7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7" name="PlaceHolder 1"/>
          <p:cNvSpPr>
            <a:spLocks noGrp="1"/>
          </p:cNvSpPr>
          <p:nvPr>
            <p:ph type="title"/>
          </p:nvPr>
        </p:nvSpPr>
        <p:spPr>
          <a:xfrm>
            <a:off x="380880" y="685800"/>
            <a:ext cx="83059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Motions at the March 2012 Plenary EC Closing Meeting</a:t>
            </a:r>
            <a:endParaRPr b="1" lang="en-US" sz="2400" spc="-1" strike="noStrike">
              <a:solidFill>
                <a:srgbClr val="000000"/>
              </a:solidFill>
              <a:latin typeface="Times New Roman"/>
            </a:endParaRPr>
          </a:p>
        </p:txBody>
      </p:sp>
      <p:sp>
        <p:nvSpPr>
          <p:cNvPr id="688" name="PlaceHolder 2"/>
          <p:cNvSpPr>
            <a:spLocks noGrp="1"/>
          </p:cNvSpPr>
          <p:nvPr>
            <p:ph/>
          </p:nvPr>
        </p:nvSpPr>
        <p:spPr>
          <a:xfrm>
            <a:off x="685800" y="16002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12-03-15</a:t>
            </a:r>
            <a:endParaRPr b="1" lang="en-US" sz="2000" spc="-1" strike="noStrike">
              <a:solidFill>
                <a:srgbClr val="000000"/>
              </a:solidFill>
              <a:latin typeface="Times New Roman"/>
            </a:endParaRPr>
          </a:p>
        </p:txBody>
      </p:sp>
      <p:graphicFrame>
        <p:nvGraphicFramePr>
          <p:cNvPr id="689" name="Object 11"/>
          <p:cNvGraphicFramePr/>
          <p:nvPr/>
        </p:nvGraphicFramePr>
        <p:xfrm>
          <a:off x="689040" y="2438280"/>
          <a:ext cx="8050320" cy="1424160"/>
        </p:xfrm>
        <a:graphic>
          <a:graphicData uri="http://schemas.openxmlformats.org/presentationml/2006/ole">
            <p:oleObj progId="Word.Document.12" r:id="rId1" spid="">
              <p:embed/>
              <p:pic>
                <p:nvPicPr>
                  <p:cNvPr id="690" name="Object 11" descr=""/>
                  <p:cNvPicPr/>
                  <p:nvPr/>
                </p:nvPicPr>
                <p:blipFill>
                  <a:blip r:embed="rId2"/>
                  <a:stretch/>
                </p:blipFill>
                <p:spPr>
                  <a:xfrm>
                    <a:off x="689040" y="2438280"/>
                    <a:ext cx="8050320" cy="1424160"/>
                  </a:xfrm>
                  <a:prstGeom prst="rect">
                    <a:avLst/>
                  </a:prstGeom>
                  <a:ln w="0">
                    <a:noFill/>
                  </a:ln>
                </p:spPr>
              </p:pic>
            </p:oleObj>
          </a:graphicData>
        </a:graphic>
      </p:graphicFrame>
      <p:sp>
        <p:nvSpPr>
          <p:cNvPr id="691" name="Rectangle 12"/>
          <p:cNvSpPr/>
          <p:nvPr/>
        </p:nvSpPr>
        <p:spPr>
          <a:xfrm>
            <a:off x="533520" y="198108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692" name="Text Box 13"/>
          <p:cNvSpPr/>
          <p:nvPr/>
        </p:nvSpPr>
        <p:spPr>
          <a:xfrm>
            <a:off x="609480" y="4495680"/>
            <a:ext cx="8001000" cy="2180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22.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2.</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a:t>
            </a:r>
            <a:r>
              <a:rPr b="0" lang="en-US" sz="800" spc="-1" strike="noStrike" u="sng">
                <a:solidFill>
                  <a:srgbClr val="0066ff"/>
                </a:solidFill>
                <a:uFillTx/>
                <a:latin typeface="Times New Roman"/>
                <a:hlinkClick r:id="rId3"/>
              </a:rPr>
              <a:t>http://standards.ieee.org/guides/bylaws/sb-bylaws.pdf</a:t>
            </a:r>
            <a:r>
              <a:rPr b="0" lang="en-US" sz="800" spc="-1" strike="noStrike">
                <a:solidFill>
                  <a:srgbClr val="000000"/>
                </a:solidFill>
                <a:latin typeface="Times New Roman"/>
              </a:rPr>
              <a: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Working Group of patent information that might be relevant to the standard is essential to reduce the possibility for delays in the development process and increase the likelihood that the draft publication will be approved for publication. Please notify the Chair </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purva N. Mody &lt; </a:t>
            </a:r>
            <a:r>
              <a:rPr b="1" lang="en-US" sz="800" spc="-1" strike="noStrike" u="sng">
                <a:solidFill>
                  <a:srgbClr val="0066ff"/>
                </a:solidFill>
                <a:uFillTx/>
                <a:latin typeface="Times New Roman"/>
                <a:hlinkClick r:id="rId4"/>
              </a:rPr>
              <a:t>apurva.mody@ieee.org</a:t>
            </a:r>
            <a:r>
              <a:rPr b="1" lang="en-US" sz="800" spc="-1" strike="noStrike">
                <a:solidFill>
                  <a:srgbClr val="000000"/>
                </a:solidFill>
                <a:latin typeface="Times New Roman"/>
              </a:rPr>
              <a:t> &gt; </a:t>
            </a:r>
            <a:r>
              <a:rPr b="0" lang="en-US" sz="800" spc="-1" strike="noStrike">
                <a:solidFill>
                  <a:srgbClr val="000000"/>
                </a:solidFill>
                <a:latin typeface="Times New Roman"/>
              </a:rPr>
              <a:t>as early as possible, in written or electronic form, if patented technology (or technology under patent application) might be incorporated into a draft standard being developed within the IEEE 802.22 Working Group. </a:t>
            </a:r>
            <a:r>
              <a:rPr b="1" lang="en-US" sz="800" spc="-1" strike="noStrike">
                <a:solidFill>
                  <a:srgbClr val="003399"/>
                </a:solidFill>
                <a:latin typeface="Times New Roman"/>
              </a:rPr>
              <a:t>If you have questions, contact the IEEE Patent Committee Administrator at </a:t>
            </a:r>
            <a:r>
              <a:rPr b="1" lang="en-US" sz="800" spc="-1" strike="noStrike" u="sng">
                <a:solidFill>
                  <a:srgbClr val="0066ff"/>
                </a:solidFill>
                <a:uFillTx/>
                <a:latin typeface="Times New Roman"/>
                <a:hlinkClick r:id="rId5"/>
              </a:rPr>
              <a:t>patcom@iee.org</a:t>
            </a:r>
            <a:r>
              <a:rPr b="1" lang="en-US" sz="800" spc="-1" strike="noStrike">
                <a:solidFill>
                  <a:srgbClr val="003399"/>
                </a:solidFill>
                <a:latin typeface="Times New Roman"/>
              </a:rPr>
              <a:t>.</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99"/>
                </a:solidFill>
                <a:latin typeface="Times New Roman"/>
              </a:rPr>
              <a:t>&gt;</a:t>
            </a:r>
            <a:endParaRPr b="1"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
        <p:nvSpPr>
          <p:cNvPr id="693"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2</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1DB92F-34A6-4818-AC66-8DEC859EDA3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6"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697" name="Rectangle 3"/>
          <p:cNvSpPr/>
          <p:nvPr/>
        </p:nvSpPr>
        <p:spPr>
          <a:xfrm>
            <a:off x="228600" y="2438280"/>
            <a:ext cx="8610480" cy="2057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for Approval of the Press Release as a Result of the P802.22b PAR Approval for Enhancements to Broadband Services and Monitoring Applications</a:t>
            </a:r>
            <a:endParaRPr b="1" lang="en-US" sz="3200" spc="-1" strike="noStrike">
              <a:solidFill>
                <a:srgbClr val="000000"/>
              </a:solidFill>
              <a:latin typeface="Times New Roman"/>
            </a:endParaRPr>
          </a:p>
        </p:txBody>
      </p:sp>
      <p:sp>
        <p:nvSpPr>
          <p:cNvPr id="698"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2</a:t>
            </a:r>
            <a:endParaRPr b="1" lang="en-US" sz="1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p:nvPr>
        </p:nvSpPr>
        <p:spPr>
          <a:xfrm>
            <a:off x="456840" y="1752480"/>
            <a:ext cx="8534520" cy="4191120"/>
          </a:xfrm>
          <a:prstGeom prst="rect">
            <a:avLst/>
          </a:prstGeom>
          <a:noFill/>
          <a:ln w="0">
            <a:noFill/>
          </a:ln>
        </p:spPr>
        <p:txBody>
          <a:bodyPr lIns="92160" rIns="92160" tIns="46080" bIns="4608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tion 4 </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 to allow the WG Chair to submit the IEEE P802.22b PAR Approval Press Release as contained in Document 22-12-0010 Rev 1 (</a:t>
            </a:r>
            <a:r>
              <a:rPr b="1" lang="en-GB" sz="1800" spc="-1" strike="noStrike" u="sng">
                <a:solidFill>
                  <a:srgbClr val="0066ff"/>
                </a:solidFill>
                <a:uFillTx/>
                <a:latin typeface="Times New Roman"/>
                <a:hlinkClick r:id="rId1"/>
              </a:rPr>
              <a:t> https://mentor.ieee.org/802.22/dcn/12/22-12-0010-01-0000-p802-22b-par-approval-press-release.doc</a:t>
            </a:r>
            <a:r>
              <a:rPr b="1" lang="en-GB" sz="1800" spc="-1" strike="noStrike">
                <a:solidFill>
                  <a:srgbClr val="000000"/>
                </a:solidFill>
                <a:latin typeface="Times New Roman"/>
              </a:rPr>
              <a:t> ) to the 802 EC. Move to allow the Chair to make changes to the document at his discretion based on the comments from IEEE SA or the IEEE 802 EC and submit the revised press release to the IEEE-SA for distribution.  </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ve:  Chang Woo Pyo</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cond:  Jerry Kalke</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For:  9</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gainst:  0</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bstain:  0</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otion Passes </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70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FFAA47-D781-4F36-8828-B0E24350E0E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02" name="PlaceHolder 2"/>
          <p:cNvSpPr>
            <a:spLocks noGrp="1"/>
          </p:cNvSpPr>
          <p:nvPr>
            <p:ph type="title"/>
          </p:nvPr>
        </p:nvSpPr>
        <p:spPr>
          <a:xfrm>
            <a:off x="228600" y="685800"/>
            <a:ext cx="8610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Press Release</a:t>
            </a:r>
            <a:endParaRPr b="1" lang="en-US" sz="2400" spc="-1" strike="noStrike">
              <a:solidFill>
                <a:srgbClr val="000000"/>
              </a:solidFill>
              <a:latin typeface="Times New Roman"/>
            </a:endParaRPr>
          </a:p>
        </p:txBody>
      </p:sp>
      <p:sp>
        <p:nvSpPr>
          <p:cNvPr id="703" name="Rectangle 1"/>
          <p:cNvSpPr/>
          <p:nvPr/>
        </p:nvSpPr>
        <p:spPr>
          <a:xfrm>
            <a:off x="457200" y="1201320"/>
            <a:ext cx="8458200" cy="3974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802.22 WG Motion – Document – 22-12-0033 Rev 0</a:t>
            </a:r>
            <a:endParaRPr b="1" lang="en-US" sz="2000" spc="-1" strike="noStrike">
              <a:solidFill>
                <a:srgbClr val="000000"/>
              </a:solidFill>
              <a:latin typeface="Times New Roman"/>
            </a:endParaRPr>
          </a:p>
        </p:txBody>
      </p:sp>
      <p:sp>
        <p:nvSpPr>
          <p:cNvPr id="704"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2</a:t>
            </a:r>
            <a:endParaRPr b="1"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p:nvPr>
        </p:nvSpPr>
        <p:spPr>
          <a:xfrm>
            <a:off x="304920" y="1142640"/>
            <a:ext cx="8534160" cy="525780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ecutive Committee Motion</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hat the EC approves the P802.22b PAR Approval Press Release as circulated to the IEEE SA and to the 802 EC. The contents of the Press Release can be found in Document </a:t>
            </a:r>
            <a:r>
              <a:rPr b="1" lang="en-GB" sz="2400" spc="-1" strike="noStrike">
                <a:solidFill>
                  <a:srgbClr val="000000"/>
                </a:solidFill>
                <a:latin typeface="Times New Roman"/>
              </a:rPr>
              <a:t>Document 22-12-0010 Rev 1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ff"/>
                </a:solidFill>
                <a:uFillTx/>
                <a:latin typeface="Times New Roman"/>
                <a:hlinkClick r:id="rId1"/>
              </a:rPr>
              <a:t>https://mentor.ieee.org/802.22/dcn/12/22-12-0010-01-0000-p802-22b-par-approval-press-release.doc</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purva N. Mody</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ins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6"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7"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2DE562-FC3C-4DF9-B57D-D12B730817B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08" name="PlaceHolder 2"/>
          <p:cNvSpPr>
            <a:spLocks noGrp="1"/>
          </p:cNvSpPr>
          <p:nvPr>
            <p:ph type="title"/>
          </p:nvPr>
        </p:nvSpPr>
        <p:spPr>
          <a:xfrm>
            <a:off x="228600" y="685800"/>
            <a:ext cx="861048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Press Release</a:t>
            </a:r>
            <a:endParaRPr b="1" lang="en-US" sz="2400" spc="-1" strike="noStrike">
              <a:solidFill>
                <a:srgbClr val="000000"/>
              </a:solidFill>
              <a:latin typeface="Times New Roman"/>
            </a:endParaRPr>
          </a:p>
        </p:txBody>
      </p:sp>
      <p:sp>
        <p:nvSpPr>
          <p:cNvPr id="709"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2</a:t>
            </a:r>
            <a:endParaRPr b="1"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94CF450-6162-4EC3-ADC5-861B4E6A794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2"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a:t>
            </a:r>
            <a:endParaRPr b="1" lang="en-US" sz="6600" spc="-1" strike="noStrike">
              <a:solidFill>
                <a:srgbClr val="000000"/>
              </a:solidFill>
              <a:latin typeface="Times New Roman"/>
            </a:endParaRPr>
          </a:p>
        </p:txBody>
      </p:sp>
      <p:sp>
        <p:nvSpPr>
          <p:cNvPr id="713" name="Rectangle 3"/>
          <p:cNvSpPr/>
          <p:nvPr/>
        </p:nvSpPr>
        <p:spPr>
          <a:xfrm>
            <a:off x="228600" y="2438280"/>
            <a:ext cx="8610480" cy="20574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for the IEEE 802 LMSC Position Endorsing World-wide License-exempt Usage of the Television-band White Spaces</a:t>
            </a:r>
            <a:endParaRPr b="1" lang="en-US" sz="3200" spc="-1" strike="noStrike">
              <a:solidFill>
                <a:srgbClr val="000000"/>
              </a:solidFill>
              <a:latin typeface="Times New Roman"/>
            </a:endParaRPr>
          </a:p>
        </p:txBody>
      </p:sp>
      <p:sp>
        <p:nvSpPr>
          <p:cNvPr id="714"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2</a:t>
            </a:r>
            <a:endParaRPr b="1" lang="en-US" sz="1800" spc="-1" strike="noStrike">
              <a:solidFill>
                <a:srgbClr val="000000"/>
              </a:solidFill>
              <a:latin typeface="Times New Roman"/>
            </a:endParaRPr>
          </a:p>
        </p:txBody>
      </p:sp>
      <p:sp>
        <p:nvSpPr>
          <p:cNvPr id="715" name="Rectangle 3"/>
          <p:cNvSpPr/>
          <p:nvPr/>
        </p:nvSpPr>
        <p:spPr>
          <a:xfrm>
            <a:off x="228600" y="4952880"/>
            <a:ext cx="8610480" cy="1447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lace holder in case the IEEE 802 Chair Requests a Motion</a:t>
            </a:r>
            <a:endParaRPr b="1"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p:nvPr>
        </p:nvSpPr>
        <p:spPr>
          <a:xfrm>
            <a:off x="304920" y="1447560"/>
            <a:ext cx="8534160" cy="4724280"/>
          </a:xfrm>
          <a:prstGeom prst="rect">
            <a:avLst/>
          </a:prstGeom>
          <a:noFill/>
          <a:ln w="0">
            <a:noFill/>
          </a:ln>
        </p:spPr>
        <p:txBody>
          <a:bodyPr lIns="92160" rIns="92160" tIns="46080" bIns="46080" anchor="t">
            <a:normAutofit fontScale="97000"/>
          </a:bodyPr>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eting Minutes of the EC Telecon on Feb. 7</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  </a:t>
            </a:r>
            <a:br>
              <a:rPr sz="1600"/>
            </a:br>
            <a:r>
              <a:rPr b="1" lang="en-US" sz="1600" spc="-1" strike="noStrike" u="sng">
                <a:solidFill>
                  <a:srgbClr val="0066ff"/>
                </a:solidFill>
                <a:uFillTx/>
                <a:latin typeface="Times New Roman"/>
                <a:hlinkClick r:id="rId1"/>
              </a:rPr>
              <a:t>http://www.ieee802.org/minutes/Conference-calls/2012-02-07-call-minutes-v1.pdf</a:t>
            </a:r>
            <a:endParaRPr b="1" lang="en-US" sz="1600" spc="-1" strike="noStrike">
              <a:solidFill>
                <a:srgbClr val="000000"/>
              </a:solidFill>
              <a:latin typeface="Times New Roman"/>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51 am – Mody said that in the last few days, there have been some changes in FCC TVWS rules. In Washington, DC, there have been some discussion of auctioning off part of TVWS spectrum. There are two proposals, one in the Senate and one the House. In the House would auction off all the spectrum. In the Senate bill, only some would be auctioned. They are supposed to have a proposal by Feb. 29. It may not go anywhere if there is not consensus. IEEE 802 would like the TVWS to be license exempt.</a:t>
            </a:r>
            <a:endParaRPr b="1" lang="en-US" sz="1600" spc="-1" strike="noStrike">
              <a:solidFill>
                <a:srgbClr val="000000"/>
              </a:solidFill>
              <a:latin typeface="Times New Roman"/>
            </a:endParaRPr>
          </a:p>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ikolich asked it a position statement should be issued by IEEE 802.</a:t>
            </a:r>
            <a:endParaRPr b="1" lang="en-US" sz="1600" spc="-1" strike="noStrike">
              <a:solidFill>
                <a:srgbClr val="000000"/>
              </a:solidFill>
              <a:latin typeface="Times New Roman"/>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y said that it is our responsibility to come up with a statement on why the spectrum should be license exempt. We should plan it to be on the agenda in March based on what happens by Feb. 29. We should work with other industry alliances, e.g., WiFi, Zigbee and the new TVWS alliance. Lynch said that we could put together our prior comments in the past and address it to both chambers of the Congress. Lynch will convene a meeting at the March meeting to discuss this issue, PM2 on Monday. Mody will keep the EC up to date on the status of this issue.</a:t>
            </a:r>
            <a:endParaRPr b="1" lang="en-US" sz="1600" spc="-1" strike="noStrike">
              <a:solidFill>
                <a:srgbClr val="000000"/>
              </a:solidFill>
              <a:latin typeface="Times New Roman"/>
            </a:endParaRPr>
          </a:p>
        </p:txBody>
      </p:sp>
      <p:sp>
        <p:nvSpPr>
          <p:cNvPr id="717"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8"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6415E35-AC1E-48B1-8841-986F1B963E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9" name="PlaceHolder 2"/>
          <p:cNvSpPr>
            <a:spLocks noGrp="1"/>
          </p:cNvSpPr>
          <p:nvPr>
            <p:ph type="title"/>
          </p:nvPr>
        </p:nvSpPr>
        <p:spPr>
          <a:xfrm>
            <a:off x="228600" y="68544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the IEEE 802 LMSC Position Endorsing World-wide License-exempt Usage of the Television-band White Spaces</a:t>
            </a:r>
            <a:endParaRPr b="1" lang="en-US" sz="2400" spc="-1" strike="noStrike">
              <a:solidFill>
                <a:srgbClr val="000000"/>
              </a:solidFill>
              <a:latin typeface="Times New Roman"/>
            </a:endParaRPr>
          </a:p>
        </p:txBody>
      </p:sp>
      <p:sp>
        <p:nvSpPr>
          <p:cNvPr id="720"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2</a:t>
            </a:r>
            <a:endParaRPr b="1"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p:nvPr>
        </p:nvSpPr>
        <p:spPr>
          <a:xfrm>
            <a:off x="304920" y="1371240"/>
            <a:ext cx="8534160" cy="4724280"/>
          </a:xfrm>
          <a:prstGeom prst="rect">
            <a:avLst/>
          </a:prstGeom>
          <a:noFill/>
          <a:ln w="0">
            <a:noFill/>
          </a:ln>
        </p:spPr>
        <p:txBody>
          <a:bodyPr lIns="92160" rIns="92160" tIns="46080" bIns="46080" anchor="t">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22 WG Motion </a:t>
            </a:r>
            <a:r>
              <a:rPr b="1" lang="en-GB" sz="2000" spc="-1" strike="noStrike">
                <a:solidFill>
                  <a:srgbClr val="000000"/>
                </a:solidFill>
                <a:latin typeface="Times New Roman"/>
              </a:rPr>
              <a:t>Motion 5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to allow the WG Chair and the 802.22 Representatives to submit the 802.22 Inputs to the 802.18 RR-TAG to create and IEEE 802 Position Endorsing World-wide License Exempt usage of the TV Band White Spaces as contained in Document 22-12-0028 Rev3 (</a:t>
            </a:r>
            <a:r>
              <a:rPr b="1" lang="en-GB" sz="2000" spc="-1" strike="noStrike" u="sng">
                <a:solidFill>
                  <a:srgbClr val="0066ff"/>
                </a:solidFill>
                <a:uFillTx/>
                <a:latin typeface="Times New Roman"/>
                <a:hlinkClick r:id="rId1"/>
              </a:rPr>
              <a:t>https://mentor.ieee.org/802.22/dcn/12/22-12-0028-03-0000-802-22-inputs-to-802-18-position-supporting-license-exempt-usage-of-tv-band-white-spaces.doc</a:t>
            </a:r>
            <a:r>
              <a:rPr b="1" lang="en-GB" sz="2000" spc="-1" strike="noStrike">
                <a:solidFill>
                  <a:srgbClr val="000000"/>
                </a:solidFill>
                <a:latin typeface="Times New Roman"/>
              </a:rPr>
              <a:t>). Move to allow the Chair to make changes to the document at his discretion based on the comments from the 802.18, the IEEE 802 EC and / or other organizations or representatives.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ove: Apurva Mody</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econd:  Jerry Kalke</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9</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ainst:  0</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bstain:  0</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2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18F68E-AB68-4CB3-B9F3-37A92EB164B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4" name="PlaceHolder 2"/>
          <p:cNvSpPr>
            <a:spLocks noGrp="1"/>
          </p:cNvSpPr>
          <p:nvPr>
            <p:ph type="title"/>
          </p:nvPr>
        </p:nvSpPr>
        <p:spPr>
          <a:xfrm>
            <a:off x="228600" y="68544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the IEEE 802 LMSC Position Endorsing World-wide License-exempt Usage of the Television-band White Spaces</a:t>
            </a:r>
            <a:endParaRPr b="1" lang="en-US" sz="2400" spc="-1" strike="noStrike">
              <a:solidFill>
                <a:srgbClr val="000000"/>
              </a:solidFill>
              <a:latin typeface="Times New Roman"/>
            </a:endParaRPr>
          </a:p>
        </p:txBody>
      </p:sp>
      <p:sp>
        <p:nvSpPr>
          <p:cNvPr id="725"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2</a:t>
            </a:r>
            <a:endParaRPr b="1"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04920" y="1523880"/>
            <a:ext cx="8534160" cy="4724640"/>
          </a:xfrm>
          <a:prstGeom prst="rect">
            <a:avLst/>
          </a:prstGeom>
          <a:noFill/>
          <a:ln w="0">
            <a:noFill/>
          </a:ln>
        </p:spPr>
        <p:txBody>
          <a:bodyPr lIns="92160" rIns="92160" tIns="46080" bIns="4608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ecutive Committee Motion</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to approve the contents of the Document 18-12-0030 Rev 2 (</a:t>
            </a:r>
            <a:r>
              <a:rPr b="1" lang="en-US" sz="2000" spc="-1" strike="noStrike" u="sng">
                <a:solidFill>
                  <a:srgbClr val="0066ff"/>
                </a:solidFill>
                <a:uFillTx/>
                <a:latin typeface="Times New Roman"/>
                <a:hlinkClick r:id="rId1"/>
              </a:rPr>
              <a:t>https://mentor.ieee.org/802.18/dcn/12/18-12-0030-02-0000-802-22-inputs-to-802-18-position-supporting-license-exempt-usage-of-tv-band-white-spaces.doc</a:t>
            </a:r>
            <a:r>
              <a:rPr b="1" lang="en-US" sz="2000" spc="-1" strike="noStrike">
                <a:solidFill>
                  <a:srgbClr val="000000"/>
                </a:solidFill>
                <a:latin typeface="Times New Roman"/>
              </a:rPr>
              <a:t>) as an IEEE 802 LMSC Position Endorsing World-wide License-exempt Usage of Television band White Spaces. The contents of the document to be placed on the IEEE 802 LMSC Website such that they can be easily found, and be used in any future correspondence with the regulators as well as the ITU as the official IEEE 802 position.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Apurva N. Mody</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ainst: </a:t>
            </a:r>
            <a:endParaRPr b="1"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stain: </a:t>
            </a:r>
            <a:endParaRPr b="1" lang="en-US" sz="2000" spc="-1" strike="noStrike">
              <a:solidFill>
                <a:srgbClr val="000000"/>
              </a:solidFill>
              <a:latin typeface="Times New Roman"/>
            </a:endParaRPr>
          </a:p>
        </p:txBody>
      </p:sp>
      <p:sp>
        <p:nvSpPr>
          <p:cNvPr id="727"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8"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CFCE74-A4AB-4433-9355-23F900FD8C2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9" name="PlaceHolder 2"/>
          <p:cNvSpPr>
            <a:spLocks noGrp="1"/>
          </p:cNvSpPr>
          <p:nvPr>
            <p:ph type="title"/>
          </p:nvPr>
        </p:nvSpPr>
        <p:spPr>
          <a:xfrm>
            <a:off x="228600" y="68544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the IEEE 802 LMSC Position Endorsing World-wide License-exempt Usage of the Television-band White Spaces</a:t>
            </a:r>
            <a:endParaRPr b="1" lang="en-US" sz="2400" spc="-1" strike="noStrike">
              <a:solidFill>
                <a:srgbClr val="000000"/>
              </a:solidFill>
              <a:latin typeface="Times New Roman"/>
            </a:endParaRPr>
          </a:p>
        </p:txBody>
      </p:sp>
      <p:sp>
        <p:nvSpPr>
          <p:cNvPr id="730"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2</a:t>
            </a:r>
            <a:endParaRPr b="1"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76320" y="837720"/>
            <a:ext cx="8991360" cy="5410440"/>
          </a:xfrm>
          <a:prstGeom prst="rect">
            <a:avLst/>
          </a:prstGeom>
          <a:noFill/>
          <a:ln w="0">
            <a:noFill/>
          </a:ln>
        </p:spPr>
        <p:txBody>
          <a:bodyPr lIns="92160" rIns="92160" tIns="46080" bIns="46080" anchor="t">
            <a:normAutofit fontScale="95000"/>
          </a:bodyPr>
          <a:p>
            <a:pPr marL="219960" indent="-219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WG Policies and Procedures – 22-04-0001 Rev0</a:t>
            </a:r>
            <a:endParaRPr b="1" lang="en-US" sz="1600" spc="-1" strike="noStrike">
              <a:solidFill>
                <a:srgbClr val="000000"/>
              </a:solidFill>
              <a:latin typeface="Times New Roman"/>
            </a:endParaRPr>
          </a:p>
          <a:p>
            <a:pPr marL="219960" indent="-219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b PAR Approval Press Release - </a:t>
            </a:r>
            <a:r>
              <a:rPr b="1" lang="en-US" sz="1600" spc="-1" strike="noStrike" u="sng">
                <a:solidFill>
                  <a:srgbClr val="0066ff"/>
                </a:solidFill>
                <a:uFillTx/>
                <a:latin typeface="Times New Roman"/>
                <a:hlinkClick r:id="rId1"/>
              </a:rPr>
              <a:t>https://mentor.ieee.org/802.22/dcn/12/22-12-0010-01-0000-p802-22b-par-approval-press-release.doc</a:t>
            </a:r>
            <a:endParaRPr b="1" lang="en-US" sz="1600" spc="-1" strike="noStrike">
              <a:solidFill>
                <a:srgbClr val="000000"/>
              </a:solidFill>
              <a:latin typeface="Times New Roman"/>
            </a:endParaRPr>
          </a:p>
          <a:p>
            <a:pPr marL="219960" indent="-219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802.22 March Plenary WG Motions -  </a:t>
            </a:r>
            <a:r>
              <a:rPr b="1" lang="en-US" sz="1600" spc="-1" strike="noStrike" u="sng">
                <a:solidFill>
                  <a:srgbClr val="0066ff"/>
                </a:solidFill>
                <a:uFillTx/>
                <a:latin typeface="Times New Roman"/>
                <a:hlinkClick r:id="rId2"/>
              </a:rPr>
              <a:t>https://mentor.ieee.org/802.22/dcn/12/22-12-0033-00-0000-march-plenary-wg-motions.doc</a:t>
            </a:r>
            <a:endParaRPr b="1" lang="en-US" sz="1600" spc="-1" strike="noStrike">
              <a:solidFill>
                <a:srgbClr val="000000"/>
              </a:solidFill>
              <a:latin typeface="Times New Roman"/>
            </a:endParaRPr>
          </a:p>
          <a:p>
            <a:pPr marL="219960" indent="-219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802.22b PAR - document:22-11-0118Rev4 (RASG) </a:t>
            </a:r>
            <a:r>
              <a:rPr b="1" lang="en-GB" sz="1600" spc="-1" strike="noStrike" u="sng">
                <a:solidFill>
                  <a:srgbClr val="0066ff"/>
                </a:solidFill>
                <a:uFillTx/>
                <a:latin typeface="Times New Roman"/>
                <a:hlinkClick r:id="rId3"/>
              </a:rPr>
              <a:t>https://mentor.ieee.org/802.22/dcn/11/22-11-0118-04-rasg-par-for-enhanced-broadband-and-monitoring-amendment.doc</a:t>
            </a:r>
            <a:r>
              <a:rPr b="1" lang="en-GB" sz="1600" spc="-1" strike="noStrike">
                <a:solidFill>
                  <a:srgbClr val="000000"/>
                </a:solidFill>
                <a:latin typeface="Times New Roman"/>
              </a:rPr>
              <a:t>   </a:t>
            </a:r>
            <a:endParaRPr b="1" lang="en-US" sz="1600" spc="-1" strike="noStrike">
              <a:solidFill>
                <a:srgbClr val="000000"/>
              </a:solidFill>
              <a:latin typeface="Times New Roman"/>
            </a:endParaRPr>
          </a:p>
          <a:p>
            <a:pPr marL="219960" indent="-219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802.22b 5C - document: 22-11-0119Rev4 (RASG) </a:t>
            </a:r>
            <a:r>
              <a:rPr b="1" lang="en-GB" sz="1600" spc="-1" strike="noStrike" u="sng">
                <a:solidFill>
                  <a:srgbClr val="000000"/>
                </a:solidFill>
                <a:uFillTx/>
                <a:latin typeface="Times New Roman"/>
              </a:rPr>
              <a:t>https://mentor.ieee.org/802.22/dcn/11/22-11-0119-04-rasg-5c-for-enhanced-broadband-and-monitoring-amendment.docx</a:t>
            </a:r>
            <a:endParaRPr b="1" lang="en-US" sz="1600" spc="-1" strike="noStrike">
              <a:solidFill>
                <a:srgbClr val="000000"/>
              </a:solidFill>
              <a:latin typeface="Times New Roman"/>
            </a:endParaRPr>
          </a:p>
          <a:p>
            <a:pPr marL="219960" indent="-219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802.18 Document – 802.22 Inputs to the 802.18 to create IEEE 802 Position Endorsing World wide License exempt Usage of the TV Band White Spaces- </a:t>
            </a:r>
            <a:r>
              <a:rPr b="1" lang="en-US" sz="1600" spc="-1" strike="noStrike">
                <a:solidFill>
                  <a:srgbClr val="000000"/>
                </a:solidFill>
                <a:latin typeface="Times New Roman"/>
              </a:rPr>
              <a:t>https://mentor.ieee.org/802.18/dcn/12/18-12-0030-02-0000-802-22-inputs-to-802-18-position-supporting-license-exempt-usage-of-tv-band-white-spaces.doc</a:t>
            </a:r>
            <a:endParaRPr b="1" lang="en-US" sz="1600" spc="-1" strike="noStrike">
              <a:solidFill>
                <a:srgbClr val="000000"/>
              </a:solidFill>
              <a:latin typeface="Times New Roman"/>
            </a:endParaRPr>
          </a:p>
          <a:p>
            <a:pPr marL="219960" indent="-219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2.22 Document to 802.18 - </a:t>
            </a:r>
            <a:r>
              <a:rPr b="1" lang="en-GB" sz="1600" spc="-1" strike="noStrike">
                <a:solidFill>
                  <a:srgbClr val="000000"/>
                </a:solidFill>
                <a:latin typeface="Times New Roman"/>
              </a:rPr>
              <a:t>to create IEEE 802 Position Endorsing World wide License exempt Usage of the TV Band White Spaces</a:t>
            </a:r>
            <a:endParaRPr b="1" lang="en-US" sz="1600" spc="-1" strike="noStrike">
              <a:solidFill>
                <a:srgbClr val="000000"/>
              </a:solidFill>
              <a:latin typeface="Times New Roman"/>
            </a:endParaRPr>
          </a:p>
          <a:p>
            <a:pPr marL="219960" indent="-219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ttps://mentor.ieee.org/802.22/dcn/12/22-12-0028-03-0000-802-22-inputs-to-802-18-position-supporting-license-exempt-usage-of-tv-band-white-spaces.doc</a:t>
            </a:r>
            <a:endParaRPr b="1" lang="en-US" sz="1600" spc="-1" strike="noStrike">
              <a:solidFill>
                <a:srgbClr val="000000"/>
              </a:solidFill>
              <a:latin typeface="Times New Roman"/>
            </a:endParaRPr>
          </a:p>
          <a:p>
            <a:pPr marL="219960" indent="-219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eting minutes of the Feb. 7</a:t>
            </a:r>
            <a:r>
              <a:rPr b="1" lang="en-US" sz="1600" spc="-1" strike="noStrike" baseline="30000">
                <a:solidFill>
                  <a:srgbClr val="000000"/>
                </a:solidFill>
                <a:latin typeface="Times New Roman"/>
              </a:rPr>
              <a:t>th</a:t>
            </a:r>
            <a:r>
              <a:rPr b="1" lang="en-US" sz="1600" spc="-1" strike="noStrike">
                <a:solidFill>
                  <a:srgbClr val="000000"/>
                </a:solidFill>
                <a:latin typeface="Times New Roman"/>
              </a:rPr>
              <a:t> EC Telecon - http://www.ieee802.org/minutes/Conference-calls/2012-02-07-call-minutes-v1.pdf</a:t>
            </a:r>
            <a:endParaRPr b="1" lang="en-US" sz="1600" spc="-1" strike="noStrike">
              <a:solidFill>
                <a:srgbClr val="000000"/>
              </a:solidFill>
              <a:latin typeface="Times New Roman"/>
            </a:endParaRPr>
          </a:p>
          <a:p>
            <a:pPr marL="219960" indent="-219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 Kennedy – US Spectrum Bill Text - https://mentor.ieee.org/802.11/dcn/12/11-12-0312-00-0reg-us-spectrum-bill-text.docx</a:t>
            </a:r>
            <a:endParaRPr b="1" lang="en-US" sz="1600" spc="-1" strike="noStrike">
              <a:solidFill>
                <a:srgbClr val="000000"/>
              </a:solidFill>
              <a:latin typeface="Times New Roman"/>
            </a:endParaRPr>
          </a:p>
          <a:p>
            <a:pPr marL="219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19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199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3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AA1EF1-0A75-4B5D-B7CE-13D7040E83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4" name="PlaceHolder 2"/>
          <p:cNvSpPr>
            <a:spLocks noGrp="1"/>
          </p:cNvSpPr>
          <p:nvPr>
            <p:ph type="title"/>
          </p:nvPr>
        </p:nvSpPr>
        <p:spPr>
          <a:xfrm>
            <a:off x="228600" y="533520"/>
            <a:ext cx="861048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a:t>
            </a:r>
            <a:endParaRPr b="1" lang="en-US" sz="2400" spc="-1" strike="noStrike">
              <a:solidFill>
                <a:srgbClr val="000000"/>
              </a:solidFill>
              <a:latin typeface="Times New Roman"/>
            </a:endParaRPr>
          </a:p>
        </p:txBody>
      </p:sp>
      <p:sp>
        <p:nvSpPr>
          <p:cNvPr id="735" name="Slide Number Placeholder 4"/>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rch 2012</a:t>
            </a:r>
            <a:endParaRPr b="1"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20:30:52Z</dcterms:created>
  <dc:creator>Apurva N. Mody</dc:creator>
  <dc:description/>
  <dc:language>en-US</dc:language>
  <cp:lastModifiedBy>apurva.mody</cp:lastModifiedBy>
  <cp:lastPrinted>1998-02-10T13:28:06Z</cp:lastPrinted>
  <dcterms:modified xsi:type="dcterms:W3CDTF">2012-03-16T17:30:14Z</dcterms:modified>
  <cp:revision>472</cp:revision>
  <dc:subject/>
  <dc:title>Overview of IEEE 802.22 Standard</dc:title>
</cp:coreProperties>
</file>