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E390D1E-F215-471F-893A-FB2216213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32"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33"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34"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AE6ABAE-B7F3-4914-831E-000CA75760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5" name="PlaceHolder 1"/>
          <p:cNvSpPr>
            <a:spLocks noGrp="1"/>
          </p:cNvSpPr>
          <p:nvPr>
            <p:ph type="sldImg"/>
          </p:nvPr>
        </p:nvSpPr>
        <p:spPr>
          <a:xfrm>
            <a:off x="1189080" y="701640"/>
            <a:ext cx="4632120" cy="3475080"/>
          </a:xfrm>
          <a:prstGeom prst="rect">
            <a:avLst/>
          </a:prstGeom>
          <a:ln w="0">
            <a:noFill/>
          </a:ln>
        </p:spPr>
      </p:sp>
      <p:sp>
        <p:nvSpPr>
          <p:cNvPr id="736"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46B7017-FF23-4DE7-8702-7939653C81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9EF1A12-5E84-4812-8D58-D73E2DC789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ACCBE8-1CB8-478F-938E-3454983DA4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2"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362258-5B4E-4F64-B2A9-8868AB4C2F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4"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1115D7C-0AC8-46E0-A328-81660EACE7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B2DDE72-3E28-4213-B792-B682FE3563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8"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A755193-A16C-4BC3-8283-C173B6CE72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0"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80DD81-E007-4108-A1CC-535C3B267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5FDB9-D641-49F2-A04D-2EEDA08F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8F634C-4193-4E06-BF03-E38DFD7FB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F54FD5-4028-4E90-B22E-FD29990FFE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7E14D-3FD2-46CD-B727-7579B1EFC5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093CB-6F8B-40B0-9FEB-954736FC9D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E9F89B-B7F0-43EA-A424-E9F4EDF08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A4B28B-75A0-4ADD-B584-642089B878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51A938-8000-4594-A813-F3ECFFDEBA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29AACF-D128-43C6-B2D6-F3E28E6919A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0A719E-4A66-4FD9-8A3F-A016F4DEAB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48D9F33-1BB8-47F8-9B76-BE532A40E30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32567-AAB8-482A-83F5-931CDCF81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3C96B5-6A00-45CA-BAFE-9FFA6D8D51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C69763-5365-462C-B86F-A3FC2B0D31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1CD604-3092-4270-A90D-7C36461844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B263EE-62D7-4EEF-988A-87D45B363EC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BD0206-4578-4468-90DE-CD2B13D662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84F1AA-E84E-47A0-830B-D89F1B2D63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B4867B-3EDF-4F89-AE57-21ED34125B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5A0E7E-6DA6-4FA8-8F76-828B4F6F02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1FE0D0D-F8DE-40C8-94EB-27AE73D0E9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0A0B2F6-8EF0-49C2-98F8-A89B9F662CA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B0878-FB11-4366-AD92-6B1C77AC5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2590E97-C799-4677-A021-7B6CC963A0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C1C03C9-82CB-4E14-B6EA-401EB61532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9DC27C2-E118-4EA1-92F2-B7DC7B153D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E48875F-2952-40DD-A902-C054827A7C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BAD796-46A5-4CE8-B345-B669A5F291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7F920CB-FE37-4931-9C0A-61F2B74764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A73F7A-83B7-47D7-96A1-A0777686853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65BEA1-0A9D-4BA5-AE94-910DDAE51B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534B4C-53A5-46B6-99A8-33705BC3E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9ACE1C-883F-462C-A82E-B657C0D309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28C3F-36D7-4913-A32C-7F0E6FDAA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587192D-BE4F-4255-9AD5-133E32FF3D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30B740F-7DF9-4D7A-BCA9-EBAFFA8159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DE9A8CB-1274-4092-A9CC-DB4EAF8DE73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996E3E-8DE9-4A50-9DE9-C44DCDAACC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072A4A-C3F5-40C6-AE94-53873767C0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7999E3-2854-403B-BC64-8ACD28C5648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1AF880-ABC4-49F6-9C2C-666FADF36D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C9C28B1-42FD-47E4-BBE5-0AC400579CA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F96580-9686-4DF8-BD0B-C36BAD08F9A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9E0EC4-2642-4FAE-A617-14E8A24179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382C2-7D7D-44FE-994A-5B6378CC1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9392E0B-7AFA-490B-8D5A-C531918B4E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321E39B-2A46-4AB7-9425-8086CE256E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0A7257-7AA1-46DF-8C06-4225CD5B24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DB51513-8C01-43DE-955D-EF465E52F6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990F0B9-AE92-4E6D-A30E-2565393AC9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FB0E883-78B0-405B-AAC0-87CD0C3C61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6714C3-F514-4AB7-BAAD-F8A15E21BA2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09D3705-5F16-482D-AA86-A07DC5F869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CD82E0A-630F-4A2F-8E08-048492FBC1E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B66D56-5F8B-40A2-AC97-8DB47D539A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283A3-FB73-436B-92D9-99734B4F5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FC47E78-BF82-42B4-91A5-728E21A99AE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CB0652-3EAF-47CA-A1C3-5282CB3651A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C8D178-0ABA-4BF1-9C22-03ACD1C1F93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98FBA4E-25C0-42DC-AD9A-D79AB227F53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ED7C55-2B57-4D1F-AC03-068F62E975E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960C57F-903E-492C-A8AB-2362B1D81E4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6724566-6902-4D6C-A9FF-ABA3FAB271A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16FEDDA-0705-499D-A3F2-5722EEA65AB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5D6762F-0EE4-4023-A447-A3D6947F062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AF59EC9-0375-4763-8DD3-5CAB7BCE26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B377E-5914-42EE-AC90-74DABE6310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C436F1-5D40-4F95-9CE1-0E47075C6BD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703FC3-ADA4-4171-9C0D-5E938EA55B1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28CC56E-A372-4350-AA60-3330F90A9D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7B40D2E-643D-49A5-9A5E-76E451F8DAA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E4D1BD3-591F-4436-83D7-4B7D4B5F265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C65026-028F-4114-81CE-BEBE61EB36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5626DA6-DD09-4127-9F59-1C427D10760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6264254-A614-4C7A-86C2-2C5CC4EC1C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5FC11DF-AB36-42B7-A173-221475F6D02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45B14C7-EEC3-4F1E-9A7D-66A45AD9FF6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84D4A-AC70-4C77-81BC-AF4EFFB5E2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09805A-4E49-449C-B12A-F32A4BA1FA4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EAAA313-C66C-42D0-A2E2-E485D8EACC4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FA8BE28-8975-4DD1-9FFB-F556D76190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046B3B-7A5E-47BA-8A65-CD171758363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6B64029-82F0-4807-9FC7-F2BC5E47050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818AE9-9A59-4F13-BCF0-8A135C5E83E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3F433D-711A-4A7C-89F2-6E5106A842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C18C8B-310A-41E4-9BC0-69DA86E1836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05ABF8-6741-4FEF-9D55-CE459888DB9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EE85334-DBC0-4698-A83D-47FDCBB13C5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D1BA9-2DA2-46DF-A07E-1AF49B4AB3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AC958EE-93B7-4F6B-A163-371AEA38F03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C4933-1880-406E-BBC0-C2DAF796F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EDC67-11CE-4E4B-9DE5-576CDAB0E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A0743-D01D-426C-ADFB-2AA6F52D2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D06E2-7DD5-44EB-BD47-DA2D34B3D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BEA62-A4CE-4486-A829-C39FEFE06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82C8F-0E76-44A8-8450-E3192B78E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CD454D-1F9E-47A9-B32A-9DBF3C21FA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204DCB-1E45-4727-9B85-B25CEDD1FF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752A60-AF48-4AB2-91BE-0F5DFA201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9F5749-9964-4AA4-82BD-22361494E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860254-3F84-4229-AC31-96A066D38D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495CE4-30E6-4EB8-9C3F-E22ABF64E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72651-2B55-4C64-BA10-E65815353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E4637-5CD8-43EC-BB21-CFE6A715C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D3E64-045A-4D7A-B340-79A78A9D9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90C360-11B3-4C0D-87C6-BA2F45F2A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0090B-EA09-40FF-9CD9-EDE9E94E45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04629-A642-4E9E-880E-AF91D04F81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2B2C20-1B2C-4F6B-B2EE-5879397435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0C660-2E51-49DF-812E-310539E863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21A73-56BD-42C0-B2C7-2FB693638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7D259-761F-4CA4-9D33-B0895B58A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7CD9D-CE34-4200-9297-CC2F0A948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50403-C49F-4623-81E4-AAC3DB82A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4DE23F-64CA-4CF8-8F51-D69B2423C6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4B0F44-247C-41F5-818C-234AFBDEF8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8B4FF-DA77-4C88-8534-DB9EAE6120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1C23A-56EC-4BED-B52F-22DD91898A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A46F14-7F86-43DF-B601-82BEDD33C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D6040-67A4-4D7E-A88D-D02CCFAD9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D4D767-7D50-41EF-A5AD-E18C78BB3B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00358C-316F-4549-9A1E-52993EA15E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CFFB56-D53F-447D-88F3-3EF2A5FEF6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538AD6-A6A9-4B08-98A3-DC131D0A7A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0E53-6570-4F74-A03E-3DBC0C002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BCB25E-E110-492F-86F7-FCC4473BF1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1816A-1E38-4899-97AA-51E9AC264D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158F1F-F9FF-44DB-9313-69E7F8A8C0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D0FC2C-3DAB-4EA3-833D-D026812D9D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FE85AD-0610-4CD5-BD66-3628B604AF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117C5C-8263-4553-B140-BA33F5DFA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8B7632-3BF1-43A3-BD99-E8B4DF3C5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236BB7-DDBA-4381-A28D-BD9B6D02D8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406C8-7D23-403A-B151-6ADF5F6912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647876-78A1-44CD-977E-4C0D47E393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3EAC-440C-4D1B-A527-C12C75380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B711EB-F8D3-4C4F-AEB2-8C16524A5E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4B0095-A535-40A4-BA19-00AD237A64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92DE5A-3908-4DDD-A0C9-82134F047F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5408D6-CB13-461F-B067-520CFC14F3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FEB016-09AC-4E75-A857-56CB6E95BF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28F2B1-F4BD-4D14-B5A7-FEE2D2D38C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9A72C5-225C-4B6F-AE76-BE8CD31D2C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DFFF5-91C1-4D83-A4D0-CAF6330D19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EFE300-4867-466A-8A25-FE46D67689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0E3143-8F07-40E3-9950-E0CEB70AB7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66FC-D130-47F7-81B7-B2BA4DC75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D9D76D-5041-447E-A659-3EA844000B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1AECA9-F1F2-489D-BCF4-BFB5219C87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D4DA72-7F21-4305-8E43-F3885CE20F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593FECA-C3D4-4F90-AA66-409A2FCC7B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CD30B7-6263-47A4-B2F4-6526805BF5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749297-11AD-4383-B340-8F24428A64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5C0620-54D9-4D70-BC01-8F8442480C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7D491-8F8F-401F-86FB-E223E28AD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772274-97AD-4669-B9CA-A7945CD3A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FCD435-EB83-41F3-9BC5-5D1247C9CE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AF89-51EE-4C53-B042-A73168262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A431C-DAB0-4978-8E77-B4CB42998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BC28F-B180-4472-BE3D-0B0A3FA46F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04D6B-9AA0-4BD7-9AF2-B1BC75C64A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D5FBED-DFD9-4878-A025-B1171BFFD0B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FD8A35-FA46-4EA3-A494-38751243C0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57843F7-4262-4DDC-B05D-B4D9A94792D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C32E58-C8AA-4F5F-98BC-E39590A009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706CF9-FF86-49F2-BEA7-F54C6E747A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624D37-683D-4B80-8C54-BED0C46CA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B2546C-2035-4CD1-B858-FC72548833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BC8AA-170C-4EDB-A6EE-89F452713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C8BCD-21BE-493A-B316-800221BC07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48198A-80E4-44D7-9BBB-A4435FD86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A18D28-6B38-4321-9EE5-26351580B2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6FCDB0-467C-4516-A917-041368B27D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D64FF-08EB-4A48-BCC0-CEF4C8A384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0BA6B5-737F-421C-B9B9-0DB48D2A2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81ED7-114D-4003-8CF9-573B3B631F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BE975F-2576-4E5E-9D91-FFFEC90B52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403887-7BDA-43BE-9032-FBE22737DB1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794A7-8AC1-4F16-8BBB-8FF16FD0BF8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73728B-7C87-48E5-B43C-28AD7F61E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92224A-9D6F-4ED1-B39D-1FAC20DE7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833368-903B-4C68-B145-AAA5359E7E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AF47CC-5C83-4030-8F17-182B67F22F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209937-EE09-40F0-8223-BCA9A6E685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F2B01C-D6CF-482E-8A17-9BD93EE65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6E8AFA-A405-484A-984A-89E53A303D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302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59001F-5210-4224-8CBB-E71EBDCFB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BEE87C-2CEB-4096-8E18-6A61D78A9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23806D-FDB3-4DA8-A0E4-23D19EE86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AB033D-352A-4FA3-B9A2-51D30E2D4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74879C-A26B-4F23-84CE-8308FF1940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9573FE-9956-45C9-8BB1-3B71F72EBD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A41C1A5-14BC-474E-B0D4-1A25BF0F3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1</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3959F2-A3F7-46ED-A862-FDD9E218B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mentor.ieee.org/802.22/dcn/12/22-12-0028-03-0000-802-22-inputs-to-802-18-position-supporting-license-exempt-usage-of-tv-band-white-spaces.doc"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8/dcn/12/18-12-0030-02-0000-802-22-inputs-to-802-18-position-supporting-license-exempt-usage-of-tv-band-white-spaces.doc"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FE39C1-791A-4F05-A421-22311A75A7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7" name="PlaceHolder 1"/>
          <p:cNvSpPr>
            <a:spLocks noGrp="1"/>
          </p:cNvSpPr>
          <p:nvPr>
            <p:ph type="title"/>
          </p:nvPr>
        </p:nvSpPr>
        <p:spPr>
          <a:xfrm>
            <a:off x="380880" y="68580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March 2012 Plenary EC Closing Meeting</a:t>
            </a:r>
            <a:endParaRPr b="1" lang="en-US" sz="2400" spc="-1" strike="noStrike">
              <a:solidFill>
                <a:srgbClr val="000000"/>
              </a:solidFill>
              <a:latin typeface="Times New Roman"/>
            </a:endParaRPr>
          </a:p>
        </p:txBody>
      </p:sp>
      <p:sp>
        <p:nvSpPr>
          <p:cNvPr id="688"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2-03-15</a:t>
            </a:r>
            <a:endParaRPr b="1" lang="en-US" sz="2000" spc="-1" strike="noStrike">
              <a:solidFill>
                <a:srgbClr val="000000"/>
              </a:solidFill>
              <a:latin typeface="Times New Roman"/>
            </a:endParaRPr>
          </a:p>
        </p:txBody>
      </p:sp>
      <p:graphicFrame>
        <p:nvGraphicFramePr>
          <p:cNvPr id="689" name="Object 11"/>
          <p:cNvGraphicFramePr/>
          <p:nvPr/>
        </p:nvGraphicFramePr>
        <p:xfrm>
          <a:off x="689040" y="2438280"/>
          <a:ext cx="8050320" cy="1424160"/>
        </p:xfrm>
        <a:graphic>
          <a:graphicData uri="http://schemas.openxmlformats.org/presentationml/2006/ole">
            <p:oleObj progId="Word.Document.12" r:id="rId1" spid="">
              <p:embed/>
              <p:pic>
                <p:nvPicPr>
                  <p:cNvPr id="690" name="Object 11" descr=""/>
                  <p:cNvPicPr/>
                  <p:nvPr/>
                </p:nvPicPr>
                <p:blipFill>
                  <a:blip r:embed="rId2"/>
                  <a:stretch/>
                </p:blipFill>
                <p:spPr>
                  <a:xfrm>
                    <a:off x="689040" y="2438280"/>
                    <a:ext cx="8050320" cy="1424160"/>
                  </a:xfrm>
                  <a:prstGeom prst="rect">
                    <a:avLst/>
                  </a:prstGeom>
                  <a:ln w="0">
                    <a:noFill/>
                  </a:ln>
                </p:spPr>
              </p:pic>
            </p:oleObj>
          </a:graphicData>
        </a:graphic>
      </p:graphicFrame>
      <p:sp>
        <p:nvSpPr>
          <p:cNvPr id="691"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2"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693"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97D369E-9F78-497F-A2F3-D3387D146EF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7"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Approval of the Press Release as a Result of the P802.22b PAR Approval for Enhancements to Broadband Services and Monitoring Applications</a:t>
            </a:r>
            <a:endParaRPr b="1" lang="en-US" sz="3200" spc="-1" strike="noStrike">
              <a:solidFill>
                <a:srgbClr val="000000"/>
              </a:solidFill>
              <a:latin typeface="Times New Roman"/>
            </a:endParaRPr>
          </a:p>
        </p:txBody>
      </p:sp>
      <p:sp>
        <p:nvSpPr>
          <p:cNvPr id="698"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456840" y="1752480"/>
            <a:ext cx="8534520" cy="41911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4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llow the WG Chair to submit the IEEE P802.22b PAR Approval Press Release as contained in Document 22-12-0010 Rev 1 (</a:t>
            </a:r>
            <a:r>
              <a:rPr b="1" lang="en-GB" sz="1800" spc="-1" strike="noStrike" u="sng">
                <a:solidFill>
                  <a:srgbClr val="0066ff"/>
                </a:solidFill>
                <a:uFillTx/>
                <a:latin typeface="Times New Roman"/>
                <a:hlinkClick r:id="rId1"/>
              </a:rPr>
              <a:t> https://mentor.ieee.org/802.22/dcn/12/22-12-0010-01-0000-p802-22b-par-approval-press-release.doc</a:t>
            </a:r>
            <a:r>
              <a:rPr b="1" lang="en-GB" sz="1800" spc="-1" strike="noStrike">
                <a:solidFill>
                  <a:srgbClr val="000000"/>
                </a:solidFill>
                <a:latin typeface="Times New Roman"/>
              </a:rPr>
              <a:t> ) to the 802 EC. Move to allow the Chair to make changes to the document at his discretion based on the comments from IEEE SA or the IEEE 802 EC and submit the revised press release to the IEEE-SA for distribution.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Chang Woo Pyo</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Jerry Kalke</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gainst:  0</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7551A3-EA9C-4475-A363-85BE0A71930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2"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3" name="Rectangle 1"/>
          <p:cNvSpPr/>
          <p:nvPr/>
        </p:nvSpPr>
        <p:spPr>
          <a:xfrm>
            <a:off x="457200" y="1201320"/>
            <a:ext cx="8458200" cy="397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 WG Motion – Document – 22-12-0033 Rev 0</a:t>
            </a:r>
            <a:endParaRPr b="1" lang="en-US" sz="2000" spc="-1" strike="noStrike">
              <a:solidFill>
                <a:srgbClr val="000000"/>
              </a:solidFill>
              <a:latin typeface="Times New Roman"/>
            </a:endParaRPr>
          </a:p>
        </p:txBody>
      </p:sp>
      <p:sp>
        <p:nvSpPr>
          <p:cNvPr id="704"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304920" y="1142640"/>
            <a:ext cx="8534160" cy="5257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cutive Committee Motio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b PAR Approval Press Release as circulated to the IEEE SA and to the 802 EC. The contents of the Press Release can be found in Document </a:t>
            </a:r>
            <a:r>
              <a:rPr b="1" lang="en-GB" sz="2400" spc="-1" strike="noStrike">
                <a:solidFill>
                  <a:srgbClr val="000000"/>
                </a:solidFill>
                <a:latin typeface="Times New Roman"/>
              </a:rPr>
              <a:t>Document 22-12-0010 Rev 1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1"/>
              </a:rPr>
              <a:t>https://mentor.ieee.org/802.22/dcn/12/22-12-0010-01-0000-p802-22b-par-approval-press-release.doc</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70E38E-66FC-4BCC-BA23-B9B4FEB216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8"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9"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695076-663F-426B-A3F8-DB11B743BE7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2"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13"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the IEEE 802 LMSC Position Endorsing World-wide License-exempt Usage of the Television-band White Spaces</a:t>
            </a:r>
            <a:endParaRPr b="1" lang="en-US" sz="3200" spc="-1" strike="noStrike">
              <a:solidFill>
                <a:srgbClr val="000000"/>
              </a:solidFill>
              <a:latin typeface="Times New Roman"/>
            </a:endParaRPr>
          </a:p>
        </p:txBody>
      </p:sp>
      <p:sp>
        <p:nvSpPr>
          <p:cNvPr id="714"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
        <p:nvSpPr>
          <p:cNvPr id="715" name="Rectangle 3"/>
          <p:cNvSpPr/>
          <p:nvPr/>
        </p:nvSpPr>
        <p:spPr>
          <a:xfrm>
            <a:off x="228600" y="4952880"/>
            <a:ext cx="8610480" cy="144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ce holder in case the IEEE 802 Chair Requests a Motion</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WG Motion </a:t>
            </a:r>
            <a:r>
              <a:rPr b="1" lang="en-GB" sz="2000" spc="-1" strike="noStrike">
                <a:solidFill>
                  <a:srgbClr val="000000"/>
                </a:solidFill>
                <a:latin typeface="Times New Roman"/>
              </a:rPr>
              <a:t>Motion 5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llow the WG Chair and the 802.22 Representatives to submit the 802.22 Inputs to the 802.18 RR-TAG to create and IEEE 802 Position Endorsing World-wide License Exempt usage of the TV Band White Spaces as contained in Document 22-12-0028 Rev3 (</a:t>
            </a:r>
            <a:r>
              <a:rPr b="1" lang="en-GB" sz="2000" spc="-1" strike="noStrike" u="sng">
                <a:solidFill>
                  <a:srgbClr val="0066ff"/>
                </a:solidFill>
                <a:uFillTx/>
                <a:latin typeface="Times New Roman"/>
                <a:hlinkClick r:id="rId1"/>
              </a:rPr>
              <a:t>https://mentor.ieee.org/802.22/dcn/12/22-12-0028-03-0000-802-22-inputs-to-802-18-position-supporting-license-exempt-usage-of-tv-band-white-spaces.doc</a:t>
            </a:r>
            <a:r>
              <a:rPr b="1" lang="en-GB" sz="2000" spc="-1" strike="noStrike">
                <a:solidFill>
                  <a:srgbClr val="000000"/>
                </a:solidFill>
                <a:latin typeface="Times New Roman"/>
              </a:rPr>
              <a:t>). Move to allow the Chair to make changes to the document at his discretion based on the comments from the 802.18, the IEEE 802 EC and / or other organizations or representatives.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Apurva Mody</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Jerry Kalke</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1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AB47B6-979A-4B34-8F3A-1E02BB768BD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9" name="PlaceHolder 2"/>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the IEEE 802 LMSC Position Endorsing World-wide License-exempt Usage of the Television-band White Spaces</a:t>
            </a:r>
            <a:endParaRPr b="1" lang="en-US" sz="2400" spc="-1" strike="noStrike">
              <a:solidFill>
                <a:srgbClr val="000000"/>
              </a:solidFill>
              <a:latin typeface="Times New Roman"/>
            </a:endParaRPr>
          </a:p>
        </p:txBody>
      </p:sp>
      <p:sp>
        <p:nvSpPr>
          <p:cNvPr id="720"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304920" y="1523880"/>
            <a:ext cx="8534160" cy="47246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 Committee Motion</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contents of the Document 18-12-0030 Rev 2 (</a:t>
            </a:r>
            <a:r>
              <a:rPr b="1" lang="en-US" sz="2000" spc="-1" strike="noStrike" u="sng">
                <a:solidFill>
                  <a:srgbClr val="0066ff"/>
                </a:solidFill>
                <a:uFillTx/>
                <a:latin typeface="Times New Roman"/>
                <a:hlinkClick r:id="rId1"/>
              </a:rPr>
              <a:t>https://mentor.ieee.org/802.18/dcn/12/18-12-0030-02-0000-802-22-inputs-to-802-18-position-supporting-license-exempt-usage-of-tv-band-white-spaces.doc</a:t>
            </a:r>
            <a:r>
              <a:rPr b="1" lang="en-US" sz="2000" spc="-1" strike="noStrike">
                <a:solidFill>
                  <a:srgbClr val="000000"/>
                </a:solidFill>
                <a:latin typeface="Times New Roman"/>
              </a:rPr>
              <a:t>) as an IEEE 802 LMSC Position Endorsing World-wide License-exempt Usage of Television band White Spaces. The contents of the document to be placed on the IEEE 802 LMSC Website such that they can be easily found, and be used in any future correspondence with the regulators as well as the ITU as the official IEEE 802 position.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purva N. Mody</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ainst: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ain: </a:t>
            </a:r>
            <a:endParaRPr b="1" lang="en-US" sz="20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5850BA-7677-4624-B6F9-9C007BB1DD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4" name="PlaceHolder 2"/>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the IEEE 802 LMSC Position Endorsing World-wide License-exempt Usage of the Television-band White Spaces</a:t>
            </a:r>
            <a:endParaRPr b="1" lang="en-US" sz="2400" spc="-1" strike="noStrike">
              <a:solidFill>
                <a:srgbClr val="000000"/>
              </a:solidFill>
              <a:latin typeface="Times New Roman"/>
            </a:endParaRPr>
          </a:p>
        </p:txBody>
      </p:sp>
      <p:sp>
        <p:nvSpPr>
          <p:cNvPr id="725"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04920" y="1295280"/>
            <a:ext cx="8534160" cy="4724640"/>
          </a:xfrm>
          <a:prstGeom prst="rect">
            <a:avLst/>
          </a:prstGeom>
          <a:noFill/>
          <a:ln w="0">
            <a:noFill/>
          </a:ln>
        </p:spPr>
        <p:txBody>
          <a:bodyPr lIns="92160" rIns="92160" tIns="46080" bIns="46080" anchor="t">
            <a:normAutofit/>
          </a:bodyPr>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WG Policies and Procedures – 22-04-0001 Rev0</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PAR Approval Press Release - </a:t>
            </a:r>
            <a:r>
              <a:rPr b="1" lang="en-US" sz="1600" spc="-1" strike="noStrike" u="sng">
                <a:solidFill>
                  <a:srgbClr val="0066ff"/>
                </a:solidFill>
                <a:uFillTx/>
                <a:latin typeface="Times New Roman"/>
                <a:hlinkClick r:id="rId1"/>
              </a:rPr>
              <a:t>https://mentor.ieee.org/802.22/dcn/12/22-12-0010-01-0000-p802-22b-par-approval-press-release.doc</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March Plenary WG Motions -  https://mentor.ieee.org/802.22/dcn/12/22-12-0033-00-0000-march-plenary-wg-motions.doc</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802.22b PAR - document:22-11-0118Rev4 (RASG) </a:t>
            </a:r>
            <a:r>
              <a:rPr b="1" lang="en-GB" sz="1600" spc="-1" strike="noStrike" u="sng">
                <a:solidFill>
                  <a:srgbClr val="000000"/>
                </a:solidFill>
                <a:uFillTx/>
                <a:latin typeface="Times New Roman"/>
              </a:rPr>
              <a:t>https://mentor.ieee.org/802.22/dcn/11/22-11-0118-04-rasg-par-for-enhanced-broadband-and-monitoring-amendment.doc</a:t>
            </a:r>
            <a:r>
              <a:rPr b="1" lang="en-GB" sz="1600" spc="-1" strike="noStrike">
                <a:solidFill>
                  <a:srgbClr val="000000"/>
                </a:solidFill>
                <a:latin typeface="Times New Roman"/>
              </a:rPr>
              <a:t>   </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802.22b 5C - document: 22-11-0119Rev4 (RASG) </a:t>
            </a:r>
            <a:r>
              <a:rPr b="1" lang="en-GB" sz="1600" spc="-1" strike="noStrike" u="sng">
                <a:solidFill>
                  <a:srgbClr val="000000"/>
                </a:solidFill>
                <a:uFillTx/>
                <a:latin typeface="Times New Roman"/>
              </a:rPr>
              <a:t>https://mentor.ieee.org/802.22/dcn/11/22-11-0119-04-rasg-5c-for-enhanced-broadband-and-monitoring-amendment.docx</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802.18 Document – 802.22 Inputs to the 802.18 to create IEEE 802 Position Endorsing World wide License exempt Usage of the TV Band White Spaces- </a:t>
            </a:r>
            <a:r>
              <a:rPr b="1" lang="en-US" sz="1600" spc="-1" strike="noStrike">
                <a:solidFill>
                  <a:srgbClr val="000000"/>
                </a:solidFill>
                <a:latin typeface="Times New Roman"/>
              </a:rPr>
              <a:t>https://mentor.ieee.org/802.18/dcn/12/18-12-0030-02-0000-802-22-inputs-to-802-18-position-supporting-license-exempt-usage-of-tv-band-white-spaces.doc</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 Document to 802.18 - </a:t>
            </a:r>
            <a:r>
              <a:rPr b="1" lang="en-GB" sz="1600" spc="-1" strike="noStrike">
                <a:solidFill>
                  <a:srgbClr val="000000"/>
                </a:solidFill>
                <a:latin typeface="Times New Roman"/>
              </a:rPr>
              <a:t>to create IEEE 802 Position Endorsing World wide License exempt Usage of the TV Band White Spaces</a:t>
            </a:r>
            <a:endParaRPr b="1" lang="en-US" sz="1600" spc="-1" strike="noStrike">
              <a:solidFill>
                <a:srgbClr val="000000"/>
              </a:solidFill>
              <a:latin typeface="Times New Roman"/>
            </a:endParaRPr>
          </a:p>
          <a:p>
            <a:pPr marL="231840" indent="-231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2/22-12-0028-03-0000-802-22-inputs-to-802-18-position-supporting-license-exempt-usage-of-tv-band-white-spaces.doc</a:t>
            </a:r>
            <a:endParaRPr b="1" lang="en-US" sz="1600" spc="-1" strike="noStrike">
              <a:solidFill>
                <a:srgbClr val="000000"/>
              </a:solidFill>
              <a:latin typeface="Times New Roman"/>
            </a:endParaRPr>
          </a:p>
          <a:p>
            <a:pPr marL="231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2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03953AF-1D25-4BC7-B9EC-967DCD1E10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9"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30"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2-03-16T11:07:01Z</dcterms:modified>
  <cp:revision>468</cp:revision>
  <dc:subject/>
  <dc:title>Overview of IEEE 802.22 Standard</dc:title>
</cp:coreProperties>
</file>