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6" name="PlaceHolder 1"/>
          <p:cNvSpPr>
            <a:spLocks noGrp="1"/>
          </p:cNvSpPr>
          <p:nvPr>
            <p:ph type="hdr"/>
          </p:nvPr>
        </p:nvSpPr>
        <p:spPr>
          <a:xfrm>
            <a:off x="4146120" y="96840"/>
            <a:ext cx="2205000" cy="21600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677" name="PlaceHolder 2"/>
          <p:cNvSpPr>
            <a:spLocks noGrp="1"/>
          </p:cNvSpPr>
          <p:nvPr>
            <p:ph type="dt" idx="46"/>
          </p:nvPr>
        </p:nvSpPr>
        <p:spPr>
          <a:xfrm>
            <a:off x="659880" y="-113760"/>
            <a:ext cx="91620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678" name="PlaceHolder 3"/>
          <p:cNvSpPr>
            <a:spLocks noGrp="1"/>
          </p:cNvSpPr>
          <p:nvPr>
            <p:ph type="sldImg"/>
          </p:nvPr>
        </p:nvSpPr>
        <p:spPr>
          <a:xfrm>
            <a:off x="1188720" y="701280"/>
            <a:ext cx="4632120" cy="347508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679" name="PlaceHolder 4"/>
          <p:cNvSpPr>
            <a:spLocks noGrp="1"/>
          </p:cNvSpPr>
          <p:nvPr>
            <p:ph type="body"/>
          </p:nvPr>
        </p:nvSpPr>
        <p:spPr>
          <a:xfrm>
            <a:off x="934560" y="4416480"/>
            <a:ext cx="5140440" cy="4184640"/>
          </a:xfrm>
          <a:prstGeom prst="rect">
            <a:avLst/>
          </a:prstGeom>
          <a:noFill/>
          <a:ln w="0">
            <a:noFill/>
          </a:ln>
        </p:spPr>
        <p:txBody>
          <a:bodyPr lIns="94320" rIns="943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0" name="PlaceHolder 5"/>
          <p:cNvSpPr>
            <a:spLocks noGrp="1"/>
          </p:cNvSpPr>
          <p:nvPr>
            <p:ph type="ftr" idx="47"/>
          </p:nvPr>
        </p:nvSpPr>
        <p:spPr>
          <a:xfrm>
            <a:off x="4236840" y="8999640"/>
            <a:ext cx="2114280" cy="18576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681" name="PlaceHolder 6"/>
          <p:cNvSpPr>
            <a:spLocks noGrp="1"/>
          </p:cNvSpPr>
          <p:nvPr>
            <p:ph type="sldNum" idx="48"/>
          </p:nvPr>
        </p:nvSpPr>
        <p:spPr>
          <a:xfrm>
            <a:off x="3262320" y="899928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6BFA390-4BD7-43DA-B51B-740851E72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8"/>
          <p:cNvSpPr/>
          <p:nvPr/>
        </p:nvSpPr>
        <p:spPr>
          <a:xfrm>
            <a:off x="734400" y="89996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83" name="Line 9"/>
          <p:cNvSpPr/>
          <p:nvPr/>
        </p:nvSpPr>
        <p:spPr>
          <a:xfrm>
            <a:off x="731880" y="8997840"/>
            <a:ext cx="554652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4" name="Line 10"/>
          <p:cNvSpPr/>
          <p:nvPr/>
        </p:nvSpPr>
        <p:spPr>
          <a:xfrm>
            <a:off x="655560" y="298440"/>
            <a:ext cx="569916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2"/>
          <p:cNvSpPr/>
          <p:nvPr/>
        </p:nvSpPr>
        <p:spPr>
          <a:xfrm>
            <a:off x="4149000" y="993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947" name="Rectangle 3"/>
          <p:cNvSpPr/>
          <p:nvPr/>
        </p:nvSpPr>
        <p:spPr>
          <a:xfrm>
            <a:off x="650160" y="993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948" name="Rectangle 6"/>
          <p:cNvSpPr/>
          <p:nvPr/>
        </p:nvSpPr>
        <p:spPr>
          <a:xfrm>
            <a:off x="4247640" y="899964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949" name="Rectangle 7"/>
          <p:cNvSpPr/>
          <p:nvPr/>
        </p:nvSpPr>
        <p:spPr>
          <a:xfrm>
            <a:off x="3083040" y="89996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94A62F5-27F2-4D1B-9068-F9489AC1603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50" name="PlaceHolder 1"/>
          <p:cNvSpPr>
            <a:spLocks noGrp="1"/>
          </p:cNvSpPr>
          <p:nvPr>
            <p:ph type="sldImg"/>
          </p:nvPr>
        </p:nvSpPr>
        <p:spPr>
          <a:xfrm>
            <a:off x="1189080" y="701640"/>
            <a:ext cx="4632120" cy="3475080"/>
          </a:xfrm>
          <a:prstGeom prst="rect">
            <a:avLst/>
          </a:prstGeom>
          <a:ln w="0">
            <a:noFill/>
          </a:ln>
        </p:spPr>
      </p:sp>
      <p:sp>
        <p:nvSpPr>
          <p:cNvPr id="951"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A27BE3-F76F-4F80-9A51-357948B83C5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6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DA751E-E3DD-43EA-8C91-8F6403F8CB6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7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12E7CC8-494C-46AC-BA20-AA84CC0301A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7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240293-1EA2-4AAF-85CC-E6D97E961C9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7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D512C2C-B31B-471F-BC3E-4B44F31793C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7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F091D72-5145-4507-96CF-A7085966163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7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6CD7406-B238-48EC-AD49-F2D8DDFEE48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8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3069559-EF6B-4A41-B688-4222CAE56ED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8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F64129-0CE2-46F5-8D18-5BF88BAC8AE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8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FB4EF02-B87A-42A6-B995-AD4E34DDC03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8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E69A0B0-A0E7-4899-8AB6-47A9559BAB8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5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194D0F8-5AD9-4D7A-A4DC-1CA8BF05C3F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8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3881524-80B1-40A6-ADE3-6C00F2F5CCB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9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609C71-A5AB-4B6F-A269-3D66C149CF8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9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33F121E-5770-4754-A691-F713CF25417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9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0C2D120-492F-43FD-B08A-E2BD891E969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9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F5D413-8CC8-4C53-9A03-89668B64B3B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9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7E596A-668E-42ED-899E-65F8208D4D6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0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BAEC560-D6EE-46A2-AA32-EB11A91345F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0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314E542-C55C-4AD6-AE76-D956024799C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0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DBE17A9-61AD-45E3-9A76-9759201EFF0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0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0E08048-C81C-4DDA-9121-095193D0353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5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4707DC-5393-45D5-877A-381AA5FB359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0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42A8421-7DEA-416B-9D72-8D434AE72DF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B179F44-BA2C-4E44-8602-53B0FAB157E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5851B20-185F-41F6-841E-1217D646C19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97F9D95-50BB-4793-833C-EF6E3F1C89E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1F2510-384B-4184-8C1F-F35F9F0DD71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24D3F5-F942-4E7D-BE9D-1724C695984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2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F5AA7BD-B658-4FE4-9BDC-D937A5BF1D1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2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B3712B7-7358-4042-80F8-5402DE6D429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2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FB22DD3-E5F1-42C2-AC3C-5BCC4569B82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2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EC18127-1C4E-48AE-8694-125737E11AF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5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36506D2-CF0A-42EE-89C8-DA39E48A8A2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2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90E0711-0B0D-48A6-AAA9-9063ABE48E5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3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6727303-564D-4517-A58C-6AF784D4134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5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ADD2FA7-6668-4584-9A53-8E633A0866A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6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06C118B-FF75-45A0-B39E-399B5B66240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6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801F696-399B-4E7B-B6B0-0592D4E4486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6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4A73F2-3BB0-4502-9B48-C3C5E8B7A04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6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8BA0F-640A-47E3-956F-4A5279FA9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6481B-8D8D-4FAC-A93E-47847835E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CAE214-5646-499C-B7D5-EE831D3F64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21DDD8-CD86-4346-8926-B3DD34DDB2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A4339C-BBE0-4B5C-9F19-6790A10D0F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1E526E-7267-4860-BD4F-FDE37A32CD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475A6E-04B1-4B93-8A07-2558CFB334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7BAF99-2421-4822-B6B2-738366B91D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4E4242-2CD3-424B-B71F-766D00E337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96742FA-294E-45F1-BDFC-F4E7D48EF02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5BE041D-4F8C-4309-81D0-A626D35C214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D7A2D93-0B27-4808-BAB2-D379A870BE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03341-96B9-45DB-B630-0F00C5466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61726B-3AEE-435C-8F12-00B0B878E2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C5FBED-90C8-4AC7-937E-5D304CE6BE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5E0EE82-CA70-4D81-A3E3-C99DA462111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B9FD67-0FE0-46D4-87C0-47C4EC7CE5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D8B5720-94CD-4C31-A511-38CD0B7863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3DAF83-C9C3-4E23-BDAC-DDD7E3D37C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2A9363B-E808-4A31-958F-EE67C15D6E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90EF3C-EE14-4CDA-AD91-EFD0B7A22C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07012A2-496C-4331-A314-F6333D88EE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F6A6E02-7F40-44F0-B351-573ECE7FD26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B173D-5255-4456-9FF5-D8B84B3FA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002224-F82A-436C-857B-9A55B549DA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858F0A2-2669-403C-8A62-9D5761BF69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9E5C6D-A9F6-4EC2-A522-98D64EE646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F052CE1-9EF5-4FAC-AB55-3D62B3411B3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BE48FEC-1D9D-49BD-BC85-A116FBEB009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ECF7A3-5BF1-4045-86D5-E06E2BF4BA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C802369-B786-45DD-836B-F2DB15BDE3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49FA2E-1CFB-467E-9E6B-0666980227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E4F07F-4D9E-4DA4-8936-4FB69614FF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CF84845-A775-451E-8363-1287D3486F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A7598A-54A3-4BC5-BA59-502C027FD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B232D2A-BB77-4137-BA69-8863351F53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2A1A8D-7D8B-402B-9A86-55EC6A13B43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E4D2621-3CE3-46B4-9680-41453B6813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5D9CC11-A548-4EF3-9A62-2C6B7C8DE2E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3D784F-459E-490E-97B4-8D534D0829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27D4BF2-0375-45AE-86A0-0FAE5A582E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774BCD-A14D-4C43-8F64-7D149A1BBEE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2CD3F0-0DEA-418F-B80A-C5325A9D07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94B3A32-D2DD-4A55-B23A-CFE0141AD5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11EF81-DACA-414D-9290-33C6EDDAEBB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1C5F9-7B65-4994-A5E8-DAC20AA394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5476C10-6ED7-40F6-B3BD-0A133A332D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F2C902B-A2F3-4137-B1FE-3074C5DA9D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B533908-FB7E-433A-9F34-E0588805F1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977B425-EEC7-4841-A57A-D637359A81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56A3609-03D4-46D2-AEAA-DFACA718FBE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331F272-234D-4636-A04E-5A9FC4ABFB3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A71BC8E-6BC7-4925-961E-3531F4BCFC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77149FE-BC85-4654-B416-45EAEC5DEAE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09374D-7C51-43F9-B7D9-1C947535740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C1508D7-1DC0-44BC-924D-C63A0241B36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E1454-BEF1-4C56-ABA3-F8B87FD1B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5EF5196-0280-4631-B559-A64364DC6C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3B1C14-E22E-4210-B837-0EB0739662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E5DBC0-CAD9-4BFD-8C82-94AC70A1906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F7E248-CBA7-4A93-800A-5248E20538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4106F9-F126-4A59-A85C-4C324CAAAA3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72BB662-2166-4040-ADBE-5A6F0F62772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9B08524-2D56-4506-81C7-2CDD049BE5A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5D379FB-41EA-4F13-BB23-2479303865D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4B17802-4074-4775-8EA6-C292449B897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6F78B74-86CA-4212-8098-BF6C3577937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087456-C9E6-4ECD-9037-2163A885F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F45BE99-78F9-43D7-9DBA-AB6916A9518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28FAB6A-B9EF-4D10-B464-3E82830CA8C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768EE28-2B37-423B-BF34-B658DFF468F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584A79-3C76-4C2E-BF0E-D99B3C2338F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D2BEA92-D04A-4C11-A34E-0D848905BA9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5A18AB-77B0-439B-8B95-9F8E1C3601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C4C27D7-FFAB-41AB-84AB-A050C0A7001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937F5F1-F20A-4E0C-8EA0-DCBDEF0A05E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C15EE5A-A25A-47F0-9913-0A95C6FF682F}"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916A933-D9A0-45A5-AAB6-94AA8CE5709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BF88E-1253-46CD-BCC3-7F7010FE9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A6DEF85-A9BE-422C-AB35-92843C963F1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F384F44-BA73-4088-991D-0B05AFB7C77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2C5DB46-B91B-4167-9722-2FDFF44B182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42301B0-0F98-4878-820B-F8CE1BAAB11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1CDCF82-262F-4FAA-8E2C-8E2DFDF7023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AAD98A9-DA41-4729-AF57-314D86B9698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2E4301A-8EAB-4E53-8A8D-0280BDDAE2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61F60A9-7B05-41B8-A265-29837DDB4C6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B3E2099-39E7-49D8-82CD-03FF2BBFE6D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9B3DD78-99CE-4A2B-BD3C-6FD1C7A05D1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35750E-86D6-4AF6-A89B-B58DC979BD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F63790D-4436-4CA2-8668-21DFCAE8AE7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DDE5B-B460-4E7F-803D-309C5441A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95409-46B0-445F-A0BC-BEED65935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924A57-DC2C-498C-93ED-B89947030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84D329-6B48-4C4B-B09D-0648D4CF5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4C5CD-7D6D-4240-8B84-AB4E62FBA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235E42-2BF8-45B3-A7B9-8A55F07E73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29D8D4-201D-4E5C-9455-64FBAEF992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557974-587D-4A36-9E44-2494CE5305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396404-1539-4160-8175-40288AAE94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1F7074-2BF0-4EC0-A6AD-534C1C8EF3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D979F5-A402-4E0F-91D9-0F2F07CDD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08CC59-8837-4A02-A88D-A2CAA979BA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AAAE8-7686-4164-B3AE-4B27F6688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1BE0EB-AA54-47CC-9660-1017ED74CC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710D3-0AEA-4DE0-9CE8-C0C1ACC50C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51F97E-695C-433E-BD07-BFEEFB5F5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35A930-ADE6-4DFF-BDA6-ECCB3D5E2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E3993-EF3E-4ACB-B3C5-53937FA243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1DD8A3-66AD-4554-9A3D-6D0916390A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A70192-0BF5-4DE5-AFC8-42855DD483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B145A5-C32B-4496-9284-D5F6D74D2A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DEB51D-CB41-4E03-89D4-5382D0BF74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AC2244-CB8E-4D77-ABF3-46369DFEA6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D61AB-E133-4556-90F1-79E35769E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8A0A63-DAF1-4B7F-B18B-0B411ED49A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C42184-5D77-46FE-8AF8-47EA1548D8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E2271E-2B77-409F-9A85-EC6A38CB86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230773-2EE0-4A37-AD3B-61A0AD4D90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E3B8BA-1481-47A0-82A9-521E3EA88C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23D292-9525-41E0-BF11-AE8725AD0E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3816D7-6A41-47C9-B6A6-A5A81602F9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F177F1-3C75-458C-80BD-0D10F9F45A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64F493-5754-4411-9E67-32FD9BC72C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A82E9E-77AA-49CA-9584-0DB52F41D4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38377-34D1-47AD-B383-D9A54D496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634358-8A95-43C9-B136-67022BBBCC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563192-BA2C-4B6E-A4E0-EAC0000481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5A81E9-1D23-48D8-945D-0ACAAAD90C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041E3F-BDEC-4D16-8A25-23FBC6745B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AE0264-11E7-4F59-B526-71D3140456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2CE2CF-D223-47F1-98EC-C23ACD70F9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5EB118-C5D0-4615-A18E-539CF944A9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AAF4B-B562-4A0F-AB7A-D4A812F91A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15B67E-BF3B-49EA-8B66-ED63409FD4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3D4DEC-2C9F-483F-BB8C-1D2AABDDF5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3C29F-ABCA-4D51-AA9C-35D0AFC5D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829D5A-B7E3-481A-8D40-C5E9CE748D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2B0D2D-C479-4DDC-9A55-E03B774700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B19CFC-4E52-4FC3-ADC2-F2C0AA2DCE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2C8E8C-D636-4B04-B09D-2F794A8D4B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1A05C9-C9FF-49DD-A41B-35D49E8AF6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19F7FF-17CF-4171-A231-EA6E857F05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95E6DF-B39D-4898-B043-6CB709FD8C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38A6B9-A8B4-409A-8820-33DAF1EE04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55A073-C123-473F-8333-4B35F4A5F6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E39284-9429-4110-B1A3-E733952872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B8305-EADD-4A5C-A0F7-D8731BC53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B93541-97E1-4FFB-BA52-FAF2AAB3C7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92C4D1-8298-48AA-9E0C-B20A238B53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7041AF-183E-470A-B9BA-3FAFC2B270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940BD0-DBD3-43B5-8408-86AA6A5C70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C9A670-054C-400C-83B6-2F2D954D8C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13F955-4080-494B-821D-DB754518716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8AC724-FA92-44B0-8E6E-2CB99C127C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0E2920-1243-4B9A-BDC2-7EF168D1AC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9A1F04-E025-4993-AD35-272CB236DA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AC3544-43EF-4A7D-87FC-4A96BEB13A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FDBDD-11D1-4CD4-88FD-76EAEE707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4D89E8-91A2-4937-A161-849F4BBBF2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5F9125-5BE6-450B-8484-F32F01788F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ADC487-3219-40E2-8453-8E0A5C015A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01122C-F9AA-492C-AF6A-4C0AA4A3E1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03E3CB-176D-4F36-8301-6C6B554121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602BCC-3391-4CC9-9260-6ACCC9CA72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C443B7-0B13-45B4-B69E-C76569D448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551B43-BF17-48C7-B7D3-D7200B8E4C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7AE683-859D-4678-B28F-7966729B18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595A67-5F63-41B0-90ED-9413CECA08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34F03-951F-45DD-B915-2CC4616C3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DA508B-3EC2-406E-B979-6C46CC9BBA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624340-4A03-4C1D-939B-1A28830AC8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28150A-90C4-48B4-A081-988940B70D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3A9C01-F978-415F-BC65-52E01ED73D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1D000E-EB77-4023-9B1C-E377C9E5B3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034182-1BE6-4165-948D-53F8E792DD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D68843-F120-4929-9CC7-82BF7DDA4A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CE4B80-5969-4FB9-B0C0-9BFD899B00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7480EA-3BCA-4874-931C-5EC243CC05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9F9218-FDA1-4258-B4B7-FFDBA0C16FF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E2FE6E-ECBD-4280-97BC-98FEFF8BF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42r00</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42r00</a:t>
            </a:r>
            <a:endParaRPr b="1"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574FC5-ACC1-43F4-93C0-D11A17AE9A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42r00</a:t>
            </a:r>
            <a:endParaRPr b="1"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86E2E2-0B7F-4AC6-8261-9979D5072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42r00</a:t>
            </a:r>
            <a:endParaRPr b="1"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386F76-4E29-47BA-9AC4-4DAA433C8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42r00</a:t>
            </a:r>
            <a:endParaRPr b="1" lang="en-US" sz="1800" spc="-1" strike="noStrike">
              <a:solidFill>
                <a:srgbClr val="000000"/>
              </a:solidFill>
              <a:latin typeface="Times New Roman"/>
            </a:endParaRPr>
          </a:p>
        </p:txBody>
      </p:sp>
      <p:sp>
        <p:nvSpPr>
          <p:cNvPr id="54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4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46" name="PlaceHolder 3"/>
          <p:cNvSpPr>
            <a:spLocks noGrp="1"/>
          </p:cNvSpPr>
          <p:nvPr>
            <p:ph type="dt" idx="37"/>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47" name="PlaceHolder 4"/>
          <p:cNvSpPr>
            <a:spLocks noGrp="1"/>
          </p:cNvSpPr>
          <p:nvPr>
            <p:ph type="ftr" idx="3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48" name="PlaceHolder 5"/>
          <p:cNvSpPr>
            <a:spLocks noGrp="1"/>
          </p:cNvSpPr>
          <p:nvPr>
            <p:ph type="sldNum" idx="3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703E5C-377D-4492-A707-2D6EA3DE1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42r00</a:t>
            </a:r>
            <a:endParaRPr b="1" lang="en-US" sz="1800" spc="-1" strike="noStrike">
              <a:solidFill>
                <a:srgbClr val="000000"/>
              </a:solidFill>
              <a:latin typeface="Times New Roman"/>
            </a:endParaRPr>
          </a:p>
        </p:txBody>
      </p:sp>
      <p:sp>
        <p:nvSpPr>
          <p:cNvPr id="58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8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9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91" name="PlaceHolder 3"/>
          <p:cNvSpPr>
            <a:spLocks noGrp="1"/>
          </p:cNvSpPr>
          <p:nvPr>
            <p:ph type="dt" idx="40"/>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92" name="PlaceHolder 4"/>
          <p:cNvSpPr>
            <a:spLocks noGrp="1"/>
          </p:cNvSpPr>
          <p:nvPr>
            <p:ph type="ftr" idx="4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93" name="PlaceHolder 5"/>
          <p:cNvSpPr>
            <a:spLocks noGrp="1"/>
          </p:cNvSpPr>
          <p:nvPr>
            <p:ph type="sldNum" idx="4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12A9C1-02EF-418F-8B06-D97D821DD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42r00</a:t>
            </a:r>
            <a:endParaRPr b="1" lang="en-US" sz="1800" spc="-1" strike="noStrike">
              <a:solidFill>
                <a:srgbClr val="000000"/>
              </a:solidFill>
              <a:latin typeface="Times New Roman"/>
            </a:endParaRPr>
          </a:p>
        </p:txBody>
      </p:sp>
      <p:sp>
        <p:nvSpPr>
          <p:cNvPr id="63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3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3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36" name="PlaceHolder 3"/>
          <p:cNvSpPr>
            <a:spLocks noGrp="1"/>
          </p:cNvSpPr>
          <p:nvPr>
            <p:ph type="dt" idx="43"/>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637" name="PlaceHolder 4"/>
          <p:cNvSpPr>
            <a:spLocks noGrp="1"/>
          </p:cNvSpPr>
          <p:nvPr>
            <p:ph type="ftr" idx="4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638" name="PlaceHolder 5"/>
          <p:cNvSpPr>
            <a:spLocks noGrp="1"/>
          </p:cNvSpPr>
          <p:nvPr>
            <p:ph type="sldNum" idx="4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48A037-CBD6-4E5B-BE2A-B36DFC15F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42r00</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1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42FCE6-FD0E-4B4D-A606-1D9CA16CF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42r00</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1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3D647D-CF1A-48CE-82FD-C02EF48C7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42r00</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9046C4-22C1-4AED-9396-BD40ED4B8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42r00</a:t>
            </a:r>
            <a:endParaRPr b="1"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7C63A8-0C9A-4A1C-BBD9-2C84B3C6D7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42r00</a:t>
            </a:r>
            <a:endParaRPr b="1"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8BEED0-BAC3-48AE-B8C9-D7B06DB11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42r00</a:t>
            </a:r>
            <a:endParaRPr b="1"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035918-3E2F-45AD-825C-A43BCCF6C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42r00</a:t>
            </a:r>
            <a:endParaRPr b="1"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BFAA4A-D42F-4FD4-95EE-04652607B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42r00</a:t>
            </a:r>
            <a:endParaRPr b="1"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C8A55A-3C4C-40AC-BB1C-EAEF8AFFE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hyperlink" Target="http://standards.ieee.org/guides/bylaws/sb-bylaws.pdf" TargetMode="External"/><Relationship Id="rId4" Type="http://schemas.openxmlformats.org/officeDocument/2006/relationships/hyperlink" Target="mailto:apurva.mody@ieee.org" TargetMode="External"/><Relationship Id="rId5" Type="http://schemas.openxmlformats.org/officeDocument/2006/relationships/hyperlink" Target="mailto:patcom@iee.org" TargetMode="External"/><Relationship Id="rId6" Type="http://schemas.openxmlformats.org/officeDocument/2006/relationships/slideLayout" Target="../slideLayouts/slideLayout2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mentor.ieee.org/802.22/dcn/11/22-11-0040-03-0000-p802-22-d2-sponsor-ballot-comments-database.xls" TargetMode="External"/><Relationship Id="rId2" Type="http://schemas.openxmlformats.org/officeDocument/2006/relationships/hyperlink" Target="mailto:apurva_mody@yahoo.com" TargetMode="External"/><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mentor.ieee.org/802.22/dcn/11/22-11-0040-05-0000-p802-22-d2-sponsor-ballot-comments-database.xls" TargetMode="External"/><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686"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3FACFE-77BB-4105-8414-7532C95A3FE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8" name="PlaceHolder 1"/>
          <p:cNvSpPr>
            <a:spLocks noGrp="1"/>
          </p:cNvSpPr>
          <p:nvPr>
            <p:ph type="title"/>
          </p:nvPr>
        </p:nvSpPr>
        <p:spPr>
          <a:xfrm>
            <a:off x="609120" y="685800"/>
            <a:ext cx="8077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Motions at the March Plenary EC Meeting</a:t>
            </a:r>
            <a:endParaRPr b="1" lang="en-US" sz="2400" spc="-1" strike="noStrike">
              <a:solidFill>
                <a:srgbClr val="000000"/>
              </a:solidFill>
              <a:latin typeface="Times New Roman"/>
            </a:endParaRPr>
          </a:p>
        </p:txBody>
      </p:sp>
      <p:sp>
        <p:nvSpPr>
          <p:cNvPr id="689" name="PlaceHolder 2"/>
          <p:cNvSpPr>
            <a:spLocks noGrp="1"/>
          </p:cNvSpPr>
          <p:nvPr>
            <p:ph/>
          </p:nvPr>
        </p:nvSpPr>
        <p:spPr>
          <a:xfrm>
            <a:off x="685800" y="12193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11-03-17</a:t>
            </a:r>
            <a:endParaRPr b="1" lang="en-US" sz="2000" spc="-1" strike="noStrike">
              <a:solidFill>
                <a:srgbClr val="000000"/>
              </a:solidFill>
              <a:latin typeface="Times New Roman"/>
            </a:endParaRPr>
          </a:p>
        </p:txBody>
      </p:sp>
      <p:graphicFrame>
        <p:nvGraphicFramePr>
          <p:cNvPr id="690" name="Object 11"/>
          <p:cNvGraphicFramePr/>
          <p:nvPr/>
        </p:nvGraphicFramePr>
        <p:xfrm>
          <a:off x="533520" y="2155680"/>
          <a:ext cx="8184960" cy="2264040"/>
        </p:xfrm>
        <a:graphic>
          <a:graphicData uri="http://schemas.openxmlformats.org/presentationml/2006/ole">
            <p:oleObj progId="Word.Document.12" r:id="rId1" spid="">
              <p:embed/>
              <p:pic>
                <p:nvPicPr>
                  <p:cNvPr id="691" name="Object 11" descr=""/>
                  <p:cNvPicPr/>
                  <p:nvPr/>
                </p:nvPicPr>
                <p:blipFill>
                  <a:blip r:embed="rId2"/>
                  <a:stretch/>
                </p:blipFill>
                <p:spPr>
                  <a:xfrm>
                    <a:off x="533520" y="2155680"/>
                    <a:ext cx="8184960" cy="2264040"/>
                  </a:xfrm>
                  <a:prstGeom prst="rect">
                    <a:avLst/>
                  </a:prstGeom>
                  <a:ln w="0">
                    <a:noFill/>
                  </a:ln>
                </p:spPr>
              </p:pic>
            </p:oleObj>
          </a:graphicData>
        </a:graphic>
      </p:graphicFrame>
      <p:sp>
        <p:nvSpPr>
          <p:cNvPr id="692" name="Rectangle 12"/>
          <p:cNvSpPr/>
          <p:nvPr/>
        </p:nvSpPr>
        <p:spPr>
          <a:xfrm>
            <a:off x="533520" y="167652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693" name="Text Box 13"/>
          <p:cNvSpPr/>
          <p:nvPr/>
        </p:nvSpPr>
        <p:spPr>
          <a:xfrm>
            <a:off x="609480" y="4495680"/>
            <a:ext cx="8001000" cy="2180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22.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2.</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a:t>
            </a:r>
            <a:r>
              <a:rPr b="0" lang="en-US" sz="800" spc="-1" strike="noStrike" u="sng">
                <a:solidFill>
                  <a:srgbClr val="0066ff"/>
                </a:solidFill>
                <a:uFillTx/>
                <a:latin typeface="Times New Roman"/>
                <a:hlinkClick r:id="rId3"/>
              </a:rPr>
              <a:t>http://standards.ieee.org/guides/bylaws/sb-bylaws.pdf</a:t>
            </a:r>
            <a:r>
              <a:rPr b="0" lang="en-US" sz="800" spc="-1" strike="noStrike">
                <a:solidFill>
                  <a:srgbClr val="000000"/>
                </a:solidFill>
                <a:latin typeface="Times New Roman"/>
              </a:rPr>
              <a: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Working Group of patent information that might be relevant to the standard is essential to reduce the possibility for delays in the development process and increase the likelihood that the draft publication will be approved for publication. Please notify the Chair </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purva N. Mody &lt; </a:t>
            </a:r>
            <a:r>
              <a:rPr b="1" lang="en-US" sz="800" spc="-1" strike="noStrike" u="sng">
                <a:solidFill>
                  <a:srgbClr val="0066ff"/>
                </a:solidFill>
                <a:uFillTx/>
                <a:latin typeface="Times New Roman"/>
                <a:hlinkClick r:id="rId4"/>
              </a:rPr>
              <a:t>apurva.mody@ieee.org</a:t>
            </a:r>
            <a:r>
              <a:rPr b="1" lang="en-US" sz="800" spc="-1" strike="noStrike">
                <a:solidFill>
                  <a:srgbClr val="000000"/>
                </a:solidFill>
                <a:latin typeface="Times New Roman"/>
              </a:rPr>
              <a:t> &gt; </a:t>
            </a:r>
            <a:r>
              <a:rPr b="0" lang="en-US" sz="800" spc="-1" strike="noStrike">
                <a:solidFill>
                  <a:srgbClr val="000000"/>
                </a:solidFill>
                <a:latin typeface="Times New Roman"/>
              </a:rPr>
              <a:t>as early as possible, in written or electronic form, if patented technology (or technology under patent application) might be incorporated into a draft standard being developed within the IEEE 802.22 Working Group. </a:t>
            </a:r>
            <a:r>
              <a:rPr b="1" lang="en-US" sz="800" spc="-1" strike="noStrike">
                <a:solidFill>
                  <a:srgbClr val="003399"/>
                </a:solidFill>
                <a:latin typeface="Times New Roman"/>
              </a:rPr>
              <a:t>If you have questions, contact the IEEE Patent Committee Administrator at </a:t>
            </a:r>
            <a:r>
              <a:rPr b="1" lang="en-US" sz="800" spc="-1" strike="noStrike" u="sng">
                <a:solidFill>
                  <a:srgbClr val="0066ff"/>
                </a:solidFill>
                <a:uFillTx/>
                <a:latin typeface="Times New Roman"/>
                <a:hlinkClick r:id="rId5"/>
              </a:rPr>
              <a:t>patcom@iee.org</a:t>
            </a:r>
            <a:r>
              <a:rPr b="1" lang="en-US" sz="800" spc="-1" strike="noStrike">
                <a:solidFill>
                  <a:srgbClr val="003399"/>
                </a:solidFill>
                <a:latin typeface="Times New Roman"/>
              </a:rPr>
              <a:t>.</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99"/>
                </a:solidFill>
                <a:latin typeface="Times New Roman"/>
              </a:rPr>
              <a:t>&gt;</a:t>
            </a:r>
            <a:endParaRPr b="1"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228600" y="609480"/>
            <a:ext cx="8610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Exchange with Commenter Rene Struik</a:t>
            </a:r>
            <a:endParaRPr b="1" lang="en-US" sz="2400" spc="-1" strike="noStrike">
              <a:solidFill>
                <a:srgbClr val="000000"/>
              </a:solidFill>
              <a:latin typeface="Times New Roman"/>
            </a:endParaRPr>
          </a:p>
        </p:txBody>
      </p:sp>
      <p:sp>
        <p:nvSpPr>
          <p:cNvPr id="73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816641-EE5D-4871-AB4A-EE04EC5F94B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7" name="Rectangle 8"/>
          <p:cNvSpPr/>
          <p:nvPr/>
        </p:nvSpPr>
        <p:spPr>
          <a:xfrm>
            <a:off x="76320" y="1079640"/>
            <a:ext cx="8839080" cy="511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e: Rene: Confirmation for your Comment Resolutions</a:t>
            </a:r>
            <a:endParaRPr b="1"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rom:Rene Struik &lt;rstruik.ext@gmail.com&gt;</a:t>
            </a:r>
            <a:endParaRPr b="1"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View ContactTo:apurva mody &lt;apurva_mody@yahoo.com&gt;Cc:Gerald Chouinard &lt;gerald.chouinard@crc.ca&gt;; apurva mody &lt;apurva.mody@baesystems.com&gt;</a:t>
            </a:r>
            <a:endParaRPr b="1"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i Apurva:</a:t>
            </a:r>
            <a:br>
              <a:rPr sz="1100"/>
            </a:br>
            <a:r>
              <a:rPr b="1" lang="en-US" sz="1100" spc="-1" strike="noStrike">
                <a:solidFill>
                  <a:srgbClr val="000000"/>
                </a:solidFill>
                <a:latin typeface="Times New Roman"/>
              </a:rPr>
              <a:t>As previously indicated, I hereby confirm that I withdraw all technical ("TR") comments I submitted during the 802.22 sponsor ballot recirculation that ended Sat March 12, 2011, 11:59pm EST. Please record my corresponding vote as Abstain.</a:t>
            </a:r>
            <a:br>
              <a:rPr sz="1100"/>
            </a:br>
            <a:r>
              <a:rPr b="1" lang="en-US" sz="1100" spc="-1" strike="noStrike">
                <a:solidFill>
                  <a:srgbClr val="000000"/>
                </a:solidFill>
                <a:latin typeface="Times New Roman"/>
              </a:rPr>
              <a:t>Best regards, Rene</a:t>
            </a:r>
            <a:br>
              <a:rPr sz="1100"/>
            </a:br>
            <a:r>
              <a:rPr b="1" lang="en-US" sz="1100" spc="-1" strike="noStrike">
                <a:solidFill>
                  <a:srgbClr val="000000"/>
                </a:solidFill>
                <a:latin typeface="Times New Roman"/>
              </a:rPr>
              <a:t>___________________________________________________________________________________________________________________</a:t>
            </a:r>
            <a:endParaRPr b="1"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On 15/03/2011 7:33 PM, apurva mody wrote: </a:t>
            </a:r>
            <a:br>
              <a:rPr sz="1100"/>
            </a:br>
            <a:r>
              <a:rPr b="1" lang="en-US" sz="1100" spc="-1" strike="noStrike">
                <a:solidFill>
                  <a:srgbClr val="000000"/>
                </a:solidFill>
                <a:latin typeface="Times New Roman"/>
              </a:rPr>
              <a:t>Dear Rene, </a:t>
            </a:r>
            <a:br>
              <a:rPr sz="1100"/>
            </a:br>
            <a:r>
              <a:rPr b="1" lang="en-US" sz="1100" spc="-1" strike="noStrike">
                <a:solidFill>
                  <a:srgbClr val="000000"/>
                </a:solidFill>
                <a:latin typeface="Times New Roman"/>
              </a:rPr>
              <a:t>Thank you very much for all your comments to improve the quality of the IEEE 802.22 Draft Standard as well as participating in the comment resolution process.We know that you have re-iterated your wish to 'Withdraw' your comments over our past e-mail exchanges as well as during our telecon that was held on Tuesday, March 15th AM1 session in Singapore. </a:t>
            </a:r>
            <a:br>
              <a:rPr sz="1100"/>
            </a:br>
            <a:r>
              <a:rPr b="1" lang="en-US" sz="1100" spc="-1" strike="noStrike">
                <a:solidFill>
                  <a:srgbClr val="000000"/>
                </a:solidFill>
                <a:latin typeface="Times New Roman"/>
              </a:rPr>
              <a:t>However, the IEEE-SA staff wants us to get a clear confirmation from you that you have indeed withdrawn all the 3 of your submitted comments during the Sponsor Ballot Re-circulation #1 for the P802.22/D2 Standard. Especially Comment #63 since that pertains to a new issue based on the changes made to the draft. </a:t>
            </a:r>
            <a:br>
              <a:rPr sz="1100"/>
            </a:br>
            <a:r>
              <a:rPr b="1" lang="en-US" sz="1100" spc="-1" strike="noStrike">
                <a:solidFill>
                  <a:srgbClr val="000000"/>
                </a:solidFill>
                <a:latin typeface="Times New Roman"/>
              </a:rPr>
              <a:t>So, </a:t>
            </a:r>
            <a:br>
              <a:rPr sz="1100"/>
            </a:br>
            <a:r>
              <a:rPr b="1" lang="en-US" sz="1100" spc="-1" strike="noStrike">
                <a:solidFill>
                  <a:srgbClr val="000000"/>
                </a:solidFill>
                <a:latin typeface="Times New Roman"/>
              </a:rPr>
              <a:t>1. Can you please confirm that you wish to 'Withdraw' all the three of your TR comments submitted during the Sponsor Ballot Re-circulation #1 for the P802.22/D2 Standard: as a result of the telecon that was held on Tues. March 15th, AM 1 Session in Singapore and based on the Comment Resolutions as proposed in the following spreadsheet:</a:t>
            </a:r>
            <a:br>
              <a:rPr sz="1100"/>
            </a:br>
            <a:r>
              <a:rPr b="1" lang="en-US" sz="1100" spc="-1" strike="noStrike" u="sng">
                <a:solidFill>
                  <a:srgbClr val="0066ff"/>
                </a:solidFill>
                <a:uFillTx/>
                <a:latin typeface="Times New Roman"/>
                <a:hlinkClick r:id="rId1"/>
              </a:rPr>
              <a:t>https://mentor.ieee.org/802.22/dcn/11/22-11-0040-03-0000-p802-22-d2-sponsor-ballot-comments-database.xls</a:t>
            </a:r>
            <a:br>
              <a:rPr sz="1100"/>
            </a:br>
            <a:r>
              <a:rPr b="1" lang="en-US" sz="1100" spc="-1" strike="noStrike">
                <a:solidFill>
                  <a:srgbClr val="000000"/>
                </a:solidFill>
                <a:latin typeface="Times New Roman"/>
              </a:rPr>
              <a:t>2. Can you also let us know how you wish your vote to be counted for the P802.22/D2 Draft Standard - Approve / Disapprove / Abstain?</a:t>
            </a:r>
            <a:br>
              <a:rPr sz="1100"/>
            </a:br>
            <a:r>
              <a:rPr b="1" lang="en-US" sz="1100" spc="-1" strike="noStrike">
                <a:solidFill>
                  <a:srgbClr val="000000"/>
                </a:solidFill>
                <a:latin typeface="Times New Roman"/>
              </a:rPr>
              <a:t>Many thanks</a:t>
            </a:r>
            <a:br>
              <a:rPr sz="1100"/>
            </a:br>
            <a:r>
              <a:rPr b="1" lang="en-US" sz="1100" spc="-1" strike="noStrike">
                <a:solidFill>
                  <a:srgbClr val="000000"/>
                </a:solidFill>
                <a:latin typeface="Times New Roman"/>
              </a:rPr>
              <a:t>Apurva </a:t>
            </a:r>
            <a:br>
              <a:rPr sz="1100"/>
            </a:br>
            <a:r>
              <a:rPr b="1" lang="en-US" sz="1100" spc="-1" strike="noStrike">
                <a:solidFill>
                  <a:srgbClr val="000000"/>
                </a:solidFill>
                <a:latin typeface="Times New Roman"/>
              </a:rPr>
              <a:t>___________________________________________________________ </a:t>
            </a:r>
            <a:endParaRPr b="1"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purva N. Mody, Ph. D. </a:t>
            </a:r>
            <a:endParaRPr b="1"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hair, IEEE 802.22 Standard Working Group </a:t>
            </a:r>
            <a:endParaRPr b="1"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ell: 404-819-0314 </a:t>
            </a:r>
            <a:endParaRPr b="1"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E-mail: </a:t>
            </a:r>
            <a:r>
              <a:rPr b="1" lang="en-US" sz="1100" spc="-1" strike="noStrike" u="sng">
                <a:solidFill>
                  <a:srgbClr val="0066ff"/>
                </a:solidFill>
                <a:uFillTx/>
                <a:latin typeface="Times New Roman"/>
                <a:hlinkClick r:id="rId2"/>
              </a:rPr>
              <a:t>apurva_mody@yahoo.com</a:t>
            </a:r>
            <a:endParaRPr b="1" lang="en-US" sz="1100" spc="-1" strike="noStrike">
              <a:solidFill>
                <a:srgbClr val="000000"/>
              </a:solidFill>
              <a:latin typeface="Times New Roman"/>
            </a:endParaRPr>
          </a:p>
        </p:txBody>
      </p:sp>
      <p:sp>
        <p:nvSpPr>
          <p:cNvPr id="738"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 Draft Standard to the IEEE SA RevCom</a:t>
            </a:r>
            <a:endParaRPr b="1" lang="en-US" sz="2400" spc="-1" strike="noStrike">
              <a:solidFill>
                <a:srgbClr val="000000"/>
              </a:solidFill>
              <a:latin typeface="Times New Roman"/>
            </a:endParaRPr>
          </a:p>
        </p:txBody>
      </p:sp>
      <p:sp>
        <p:nvSpPr>
          <p:cNvPr id="74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4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5CEA0C-0603-49CF-B5DD-D9BD3BF6CEA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2" name="Rectangle 8"/>
          <p:cNvSpPr/>
          <p:nvPr/>
        </p:nvSpPr>
        <p:spPr>
          <a:xfrm>
            <a:off x="304920" y="1752480"/>
            <a:ext cx="8686800" cy="155628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for the Launch of IEEE SB Re-circ #2</a:t>
            </a:r>
            <a:endParaRPr b="1" lang="en-US" sz="2400" spc="-1" strike="noStrike">
              <a:solidFill>
                <a:srgbClr val="000000"/>
              </a:solidFill>
              <a:latin typeface="Times New Roman"/>
            </a:endParaRPr>
          </a:p>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Issue IEEE P802.22/D3.0 </a:t>
            </a:r>
            <a:endParaRPr b="1" lang="en-US" sz="2400" spc="-1" strike="noStrike">
              <a:solidFill>
                <a:srgbClr val="000000"/>
              </a:solidFill>
              <a:latin typeface="Times New Roman"/>
            </a:endParaRPr>
          </a:p>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2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pril 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Re-circulation #2</a:t>
            </a:r>
            <a:endParaRPr b="1" lang="en-US" sz="2400" spc="-1" strike="noStrike">
              <a:solidFill>
                <a:srgbClr val="000000"/>
              </a:solidFill>
              <a:latin typeface="Times New Roman"/>
            </a:endParaRPr>
          </a:p>
        </p:txBody>
      </p:sp>
      <p:sp>
        <p:nvSpPr>
          <p:cNvPr id="743"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4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E61D3C-D6FF-4168-8D47-BA8361152D5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6" name="Rectangle 1"/>
          <p:cNvSpPr/>
          <p:nvPr/>
        </p:nvSpPr>
        <p:spPr>
          <a:xfrm>
            <a:off x="457200" y="1316880"/>
            <a:ext cx="4038480" cy="4755960"/>
          </a:xfrm>
          <a:prstGeom prst="rect">
            <a:avLst/>
          </a:prstGeom>
          <a:noFill/>
          <a:ln w="12600">
            <a:solidFill>
              <a:srgbClr val="000000"/>
            </a:solidFill>
            <a:miter/>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WG Motion #2 Document – 22-11-0043 Rev0</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tion #2</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equest that the IEEE P802.22 Working Group Chair issue the P802.22/ D3.0 on or before March 24</a:t>
            </a:r>
            <a:r>
              <a:rPr b="1" lang="en-GB" sz="1800" spc="-1" strike="noStrike" baseline="30000">
                <a:solidFill>
                  <a:srgbClr val="000000"/>
                </a:solidFill>
                <a:latin typeface="Times New Roman"/>
              </a:rPr>
              <a:t>th</a:t>
            </a:r>
            <a:r>
              <a:rPr b="1" lang="en-GB" sz="1800" spc="-1" strike="noStrike">
                <a:solidFill>
                  <a:srgbClr val="000000"/>
                </a:solidFill>
                <a:latin typeface="Times New Roman"/>
              </a:rPr>
              <a:t> and launch a 15 day Sponsor Ballot Recirculation #2 based on the modifications to P802.22/D 2.0 as a result of the comment resolutions as contained in 22-11-0040 v6.0.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 Ivan Reede</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cond: Jerry Kalke</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or: 8</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gainst: 0</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bstain: 0</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tion passes unanimously</a:t>
            </a:r>
            <a:endParaRPr b="1" lang="en-US" sz="1800" spc="-1" strike="noStrike">
              <a:solidFill>
                <a:srgbClr val="000000"/>
              </a:solidFill>
              <a:latin typeface="Times New Roman"/>
            </a:endParaRPr>
          </a:p>
        </p:txBody>
      </p:sp>
      <p:sp>
        <p:nvSpPr>
          <p:cNvPr id="74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802.22 WG Motions</a:t>
            </a:r>
            <a:endParaRPr b="1" lang="en-US" sz="3200" spc="-1" strike="noStrike">
              <a:solidFill>
                <a:srgbClr val="000000"/>
              </a:solidFill>
              <a:latin typeface="Times New Roman"/>
            </a:endParaRPr>
          </a:p>
        </p:txBody>
      </p:sp>
      <p:sp>
        <p:nvSpPr>
          <p:cNvPr id="748" name="Rectangle 6"/>
          <p:cNvSpPr/>
          <p:nvPr/>
        </p:nvSpPr>
        <p:spPr>
          <a:xfrm>
            <a:off x="4648320" y="1295280"/>
            <a:ext cx="4267080" cy="466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G Motion #3 </a:t>
            </a:r>
            <a:r>
              <a:rPr b="1" lang="en-US" sz="2000" spc="-1" strike="noStrike">
                <a:solidFill>
                  <a:srgbClr val="000000"/>
                </a:solidFill>
                <a:latin typeface="Times New Roman"/>
                <a:ea typeface="Times New Roman"/>
              </a:rPr>
              <a:t>Document – 22-11-0043 Rev0</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IEEE 802.22 Working Group authorizes the WG Chair to seek Conditional Approval from the IEEE 802 Executive Committee to forward P802.22/D3.0 to the IEEE SA RevCom.</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Ivan Reede</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cond: Dr. Hiroshi Harada</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9</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ainst: 0</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bstain: 0</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tion passes unanimously</a:t>
            </a:r>
            <a:endParaRPr b="1" lang="en-US" sz="2000" spc="-1" strike="noStrike">
              <a:solidFill>
                <a:srgbClr val="000000"/>
              </a:solidFill>
              <a:latin typeface="Times New Roman"/>
            </a:endParaRPr>
          </a:p>
        </p:txBody>
      </p:sp>
      <p:sp>
        <p:nvSpPr>
          <p:cNvPr id="749"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p:nvPr>
        </p:nvSpPr>
        <p:spPr>
          <a:xfrm>
            <a:off x="304920" y="1828440"/>
            <a:ext cx="8534160" cy="426708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grant conditional approval as per the IEEE 802 Operations Manual to forward IEEE P802.22 to the IEEE Standards Review Committee.</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purva N. Mody,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_________________</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___________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inst: __________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 _________</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s / Fails</a:t>
            </a:r>
            <a:endParaRPr b="1" lang="en-US" sz="2400" spc="-1" strike="noStrike">
              <a:solidFill>
                <a:srgbClr val="000000"/>
              </a:solidFill>
              <a:latin typeface="Times New Roman"/>
            </a:endParaRPr>
          </a:p>
        </p:txBody>
      </p:sp>
      <p:sp>
        <p:nvSpPr>
          <p:cNvPr id="751"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52"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DAA75C-76D4-40DF-AA13-37D6E48B412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3"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 Draft Standard to the IEEE SA RevCom</a:t>
            </a:r>
            <a:endParaRPr b="1" lang="en-US" sz="2400" spc="-1" strike="noStrike">
              <a:solidFill>
                <a:srgbClr val="000000"/>
              </a:solidFill>
              <a:latin typeface="Times New Roman"/>
            </a:endParaRPr>
          </a:p>
        </p:txBody>
      </p:sp>
      <p:sp>
        <p:nvSpPr>
          <p:cNvPr id="754"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228600" y="2361960"/>
            <a:ext cx="861048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References</a:t>
            </a:r>
            <a:endParaRPr b="1" lang="en-US" sz="7200" spc="-1" strike="noStrike">
              <a:solidFill>
                <a:srgbClr val="000000"/>
              </a:solidFill>
              <a:latin typeface="Times New Roman"/>
            </a:endParaRPr>
          </a:p>
        </p:txBody>
      </p:sp>
      <p:sp>
        <p:nvSpPr>
          <p:cNvPr id="756"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57"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C52F49-086C-4746-9921-33D8B45A822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8"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76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6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3CDE5D-7E8F-49E9-8B7B-BC837C6795C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2"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sp>
        <p:nvSpPr>
          <p:cNvPr id="763"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graphicFrame>
        <p:nvGraphicFramePr>
          <p:cNvPr id="764" name="Object 9"/>
          <p:cNvGraphicFramePr/>
          <p:nvPr/>
        </p:nvGraphicFramePr>
        <p:xfrm>
          <a:off x="228600" y="2057400"/>
          <a:ext cx="8524800" cy="4038480"/>
        </p:xfrm>
        <a:graphic>
          <a:graphicData uri="http://schemas.openxmlformats.org/presentationml/2006/ole">
            <p:oleObj progId="Excel.Sheet.12" r:id="rId1" spid="">
              <p:embed/>
              <p:pic>
                <p:nvPicPr>
                  <p:cNvPr id="765" name="Object 9" descr=""/>
                  <p:cNvPicPr/>
                  <p:nvPr/>
                </p:nvPicPr>
                <p:blipFill>
                  <a:blip r:embed="rId2"/>
                  <a:stretch/>
                </p:blipFill>
                <p:spPr>
                  <a:xfrm>
                    <a:off x="228600" y="2057400"/>
                    <a:ext cx="8524800" cy="403848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767"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68"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333FD9-60A9-4AD5-A127-6CE3CD96CA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9"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graphicFrame>
        <p:nvGraphicFramePr>
          <p:cNvPr id="770" name="Object 3"/>
          <p:cNvGraphicFramePr/>
          <p:nvPr/>
        </p:nvGraphicFramePr>
        <p:xfrm>
          <a:off x="76320" y="1905120"/>
          <a:ext cx="8839080" cy="2895480"/>
        </p:xfrm>
        <a:graphic>
          <a:graphicData uri="http://schemas.openxmlformats.org/presentationml/2006/ole">
            <p:oleObj progId="Excel.Sheet.12" r:id="rId1" spid="">
              <p:embed/>
              <p:pic>
                <p:nvPicPr>
                  <p:cNvPr id="771" name="Object 3" descr=""/>
                  <p:cNvPicPr/>
                  <p:nvPr/>
                </p:nvPicPr>
                <p:blipFill>
                  <a:blip r:embed="rId2"/>
                  <a:stretch/>
                </p:blipFill>
                <p:spPr>
                  <a:xfrm>
                    <a:off x="76320" y="1905120"/>
                    <a:ext cx="8839080" cy="2895480"/>
                  </a:xfrm>
                  <a:prstGeom prst="rect">
                    <a:avLst/>
                  </a:prstGeom>
                  <a:ln w="0">
                    <a:noFill/>
                  </a:ln>
                </p:spPr>
              </p:pic>
            </p:oleObj>
          </a:graphicData>
        </a:graphic>
      </p:graphicFrame>
      <p:sp>
        <p:nvSpPr>
          <p:cNvPr id="772"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77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7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096D9E-E7BA-4F34-88FA-1AB434A0D89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6"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graphicFrame>
        <p:nvGraphicFramePr>
          <p:cNvPr id="777" name="Object 3"/>
          <p:cNvGraphicFramePr/>
          <p:nvPr/>
        </p:nvGraphicFramePr>
        <p:xfrm>
          <a:off x="228600" y="2057400"/>
          <a:ext cx="8807400" cy="3886200"/>
        </p:xfrm>
        <a:graphic>
          <a:graphicData uri="http://schemas.openxmlformats.org/presentationml/2006/ole">
            <p:oleObj progId="Excel.Sheet.12" r:id="rId1" spid="">
              <p:embed/>
              <p:pic>
                <p:nvPicPr>
                  <p:cNvPr id="778" name="Object 3" descr=""/>
                  <p:cNvPicPr/>
                  <p:nvPr/>
                </p:nvPicPr>
                <p:blipFill>
                  <a:blip r:embed="rId2"/>
                  <a:stretch/>
                </p:blipFill>
                <p:spPr>
                  <a:xfrm>
                    <a:off x="228600" y="2057400"/>
                    <a:ext cx="8807400" cy="3886200"/>
                  </a:xfrm>
                  <a:prstGeom prst="rect">
                    <a:avLst/>
                  </a:prstGeom>
                  <a:ln w="0">
                    <a:noFill/>
                  </a:ln>
                </p:spPr>
              </p:pic>
            </p:oleObj>
          </a:graphicData>
        </a:graphic>
      </p:graphicFrame>
      <p:sp>
        <p:nvSpPr>
          <p:cNvPr id="779"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781"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82"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053C23-57D0-4E7A-864C-66D7A6283CE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3"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784"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785" name="Object 3"/>
          <p:cNvGraphicFramePr/>
          <p:nvPr/>
        </p:nvGraphicFramePr>
        <p:xfrm>
          <a:off x="228600" y="2057400"/>
          <a:ext cx="8850240" cy="3809880"/>
        </p:xfrm>
        <a:graphic>
          <a:graphicData uri="http://schemas.openxmlformats.org/presentationml/2006/ole">
            <p:oleObj progId="Excel.Sheet.12" r:id="rId1" spid="">
              <p:embed/>
              <p:pic>
                <p:nvPicPr>
                  <p:cNvPr id="786" name="Object 3" descr=""/>
                  <p:cNvPicPr/>
                  <p:nvPr/>
                </p:nvPicPr>
                <p:blipFill>
                  <a:blip r:embed="rId2"/>
                  <a:stretch/>
                </p:blipFill>
                <p:spPr>
                  <a:xfrm>
                    <a:off x="228600" y="2057400"/>
                    <a:ext cx="8850240" cy="38098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78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8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7E0A43-0679-44B2-AA8C-1D4509BC9D8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0"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791"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792" name="Object 3"/>
          <p:cNvGraphicFramePr/>
          <p:nvPr/>
        </p:nvGraphicFramePr>
        <p:xfrm>
          <a:off x="228600" y="1905120"/>
          <a:ext cx="8724960" cy="4190760"/>
        </p:xfrm>
        <a:graphic>
          <a:graphicData uri="http://schemas.openxmlformats.org/presentationml/2006/ole">
            <p:oleObj progId="Excel.Sheet.12" r:id="rId1" spid="">
              <p:embed/>
              <p:pic>
                <p:nvPicPr>
                  <p:cNvPr id="793" name="Object 3" descr=""/>
                  <p:cNvPicPr/>
                  <p:nvPr/>
                </p:nvPicPr>
                <p:blipFill>
                  <a:blip r:embed="rId2"/>
                  <a:stretch/>
                </p:blipFill>
                <p:spPr>
                  <a:xfrm>
                    <a:off x="228600" y="1905120"/>
                    <a:ext cx="8724960" cy="419076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0F9C07-BDB6-4124-802B-13FECB33279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6"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697" name="Rectangle 3"/>
          <p:cNvSpPr/>
          <p:nvPr/>
        </p:nvSpPr>
        <p:spPr>
          <a:xfrm>
            <a:off x="228600" y="2438280"/>
            <a:ext cx="8610480" cy="1524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 to the IEEE SA RevCom</a:t>
            </a:r>
            <a:endParaRPr b="1" lang="en-US" sz="2800" spc="-1" strike="noStrike">
              <a:solidFill>
                <a:srgbClr val="000000"/>
              </a:solidFill>
              <a:latin typeface="Times New Roman"/>
            </a:endParaRPr>
          </a:p>
        </p:txBody>
      </p:sp>
      <p:sp>
        <p:nvSpPr>
          <p:cNvPr id="698"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79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9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651F77-229D-4D6A-B300-CF642A7E2B3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7"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798"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799" name="Object 3"/>
          <p:cNvGraphicFramePr/>
          <p:nvPr/>
        </p:nvGraphicFramePr>
        <p:xfrm>
          <a:off x="228600" y="1905120"/>
          <a:ext cx="8686800" cy="4038480"/>
        </p:xfrm>
        <a:graphic>
          <a:graphicData uri="http://schemas.openxmlformats.org/presentationml/2006/ole">
            <p:oleObj progId="Excel.Sheet.12" r:id="rId1" spid="">
              <p:embed/>
              <p:pic>
                <p:nvPicPr>
                  <p:cNvPr id="800" name="Object 3" descr=""/>
                  <p:cNvPicPr/>
                  <p:nvPr/>
                </p:nvPicPr>
                <p:blipFill>
                  <a:blip r:embed="rId2"/>
                  <a:stretch/>
                </p:blipFill>
                <p:spPr>
                  <a:xfrm>
                    <a:off x="228600" y="1905120"/>
                    <a:ext cx="8686800" cy="403848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0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0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968FAA-85EC-417A-984C-08200B3325F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4"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805"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806" name="Object 3"/>
          <p:cNvGraphicFramePr/>
          <p:nvPr/>
        </p:nvGraphicFramePr>
        <p:xfrm>
          <a:off x="228600" y="1828800"/>
          <a:ext cx="8710560" cy="4343400"/>
        </p:xfrm>
        <a:graphic>
          <a:graphicData uri="http://schemas.openxmlformats.org/presentationml/2006/ole">
            <p:oleObj progId="Excel.Sheet.12" r:id="rId1" spid="">
              <p:embed/>
              <p:pic>
                <p:nvPicPr>
                  <p:cNvPr id="807" name="Object 3" descr=""/>
                  <p:cNvPicPr/>
                  <p:nvPr/>
                </p:nvPicPr>
                <p:blipFill>
                  <a:blip r:embed="rId2"/>
                  <a:stretch/>
                </p:blipFill>
                <p:spPr>
                  <a:xfrm>
                    <a:off x="228600" y="1828800"/>
                    <a:ext cx="8710560" cy="43434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0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1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6F521C-EB34-4D25-B21B-CD7A2DFDA05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1"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812"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813" name="Object 3"/>
          <p:cNvGraphicFramePr/>
          <p:nvPr/>
        </p:nvGraphicFramePr>
        <p:xfrm>
          <a:off x="228600" y="1905120"/>
          <a:ext cx="8459640" cy="4267080"/>
        </p:xfrm>
        <a:graphic>
          <a:graphicData uri="http://schemas.openxmlformats.org/presentationml/2006/ole">
            <p:oleObj progId="Excel.Sheet.12" r:id="rId1" spid="">
              <p:embed/>
              <p:pic>
                <p:nvPicPr>
                  <p:cNvPr id="814" name="Object 3" descr=""/>
                  <p:cNvPicPr/>
                  <p:nvPr/>
                </p:nvPicPr>
                <p:blipFill>
                  <a:blip r:embed="rId2"/>
                  <a:stretch/>
                </p:blipFill>
                <p:spPr>
                  <a:xfrm>
                    <a:off x="228600" y="1905120"/>
                    <a:ext cx="8459640" cy="426708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16"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17"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4E4405-B54B-4E9C-930C-5F84876EE25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8"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819"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820" name="Object 3"/>
          <p:cNvGraphicFramePr/>
          <p:nvPr/>
        </p:nvGraphicFramePr>
        <p:xfrm>
          <a:off x="152280" y="1905120"/>
          <a:ext cx="8861400" cy="4190760"/>
        </p:xfrm>
        <a:graphic>
          <a:graphicData uri="http://schemas.openxmlformats.org/presentationml/2006/ole">
            <p:oleObj progId="Excel.Sheet.12" r:id="rId1" spid="">
              <p:embed/>
              <p:pic>
                <p:nvPicPr>
                  <p:cNvPr id="821" name="Object 3" descr=""/>
                  <p:cNvPicPr/>
                  <p:nvPr/>
                </p:nvPicPr>
                <p:blipFill>
                  <a:blip r:embed="rId2"/>
                  <a:stretch/>
                </p:blipFill>
                <p:spPr>
                  <a:xfrm>
                    <a:off x="152280" y="1905120"/>
                    <a:ext cx="8861400" cy="419076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23"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2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4BFB7E-F870-468D-B928-CB48A764D5C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25"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826"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827" name="Object 4"/>
          <p:cNvGraphicFramePr/>
          <p:nvPr/>
        </p:nvGraphicFramePr>
        <p:xfrm>
          <a:off x="228600" y="1905120"/>
          <a:ext cx="8837640" cy="4419360"/>
        </p:xfrm>
        <a:graphic>
          <a:graphicData uri="http://schemas.openxmlformats.org/presentationml/2006/ole">
            <p:oleObj progId="Excel.Sheet.12" r:id="rId1" spid="">
              <p:embed/>
              <p:pic>
                <p:nvPicPr>
                  <p:cNvPr id="828" name="Object 4" descr=""/>
                  <p:cNvPicPr/>
                  <p:nvPr/>
                </p:nvPicPr>
                <p:blipFill>
                  <a:blip r:embed="rId2"/>
                  <a:stretch/>
                </p:blipFill>
                <p:spPr>
                  <a:xfrm>
                    <a:off x="228600" y="1905120"/>
                    <a:ext cx="8837640" cy="441936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3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3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050809-3672-4387-88C4-23E52A88ED5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32"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833"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834" name="Object 3"/>
          <p:cNvGraphicFramePr/>
          <p:nvPr/>
        </p:nvGraphicFramePr>
        <p:xfrm>
          <a:off x="152280" y="1905120"/>
          <a:ext cx="8686800" cy="4267080"/>
        </p:xfrm>
        <a:graphic>
          <a:graphicData uri="http://schemas.openxmlformats.org/presentationml/2006/ole">
            <p:oleObj progId="Excel.Sheet.12" r:id="rId1" spid="">
              <p:embed/>
              <p:pic>
                <p:nvPicPr>
                  <p:cNvPr id="835" name="Object 3" descr=""/>
                  <p:cNvPicPr/>
                  <p:nvPr/>
                </p:nvPicPr>
                <p:blipFill>
                  <a:blip r:embed="rId2"/>
                  <a:stretch/>
                </p:blipFill>
                <p:spPr>
                  <a:xfrm>
                    <a:off x="152280" y="1905120"/>
                    <a:ext cx="8686800" cy="42670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37"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38"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19E52E-6241-4EA3-A5BB-BC5D5E6E037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39"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840"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841" name="Object 3"/>
          <p:cNvGraphicFramePr/>
          <p:nvPr/>
        </p:nvGraphicFramePr>
        <p:xfrm>
          <a:off x="228600" y="1905120"/>
          <a:ext cx="8788320" cy="4038480"/>
        </p:xfrm>
        <a:graphic>
          <a:graphicData uri="http://schemas.openxmlformats.org/presentationml/2006/ole">
            <p:oleObj progId="Excel.Sheet.12" r:id="rId1" spid="">
              <p:embed/>
              <p:pic>
                <p:nvPicPr>
                  <p:cNvPr id="842" name="Object 3" descr=""/>
                  <p:cNvPicPr/>
                  <p:nvPr/>
                </p:nvPicPr>
                <p:blipFill>
                  <a:blip r:embed="rId2"/>
                  <a:stretch/>
                </p:blipFill>
                <p:spPr>
                  <a:xfrm>
                    <a:off x="228600" y="1905120"/>
                    <a:ext cx="8788320" cy="403848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4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4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F49193-918A-4F66-B2B1-89F205B28CD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46"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847"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848" name="Object 3"/>
          <p:cNvGraphicFramePr/>
          <p:nvPr/>
        </p:nvGraphicFramePr>
        <p:xfrm>
          <a:off x="76320" y="1981080"/>
          <a:ext cx="8669160" cy="4114800"/>
        </p:xfrm>
        <a:graphic>
          <a:graphicData uri="http://schemas.openxmlformats.org/presentationml/2006/ole">
            <p:oleObj progId="Excel.Sheet.12" r:id="rId1" spid="">
              <p:embed/>
              <p:pic>
                <p:nvPicPr>
                  <p:cNvPr id="849" name="Object 3" descr=""/>
                  <p:cNvPicPr/>
                  <p:nvPr/>
                </p:nvPicPr>
                <p:blipFill>
                  <a:blip r:embed="rId2"/>
                  <a:stretch/>
                </p:blipFill>
                <p:spPr>
                  <a:xfrm>
                    <a:off x="76320" y="1981080"/>
                    <a:ext cx="8669160" cy="411480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51"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52"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B1839D-9570-486F-8A6D-83B386FB6D9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53"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854"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855" name="Object 3"/>
          <p:cNvGraphicFramePr/>
          <p:nvPr/>
        </p:nvGraphicFramePr>
        <p:xfrm>
          <a:off x="152280" y="1981080"/>
          <a:ext cx="8774280" cy="3886200"/>
        </p:xfrm>
        <a:graphic>
          <a:graphicData uri="http://schemas.openxmlformats.org/presentationml/2006/ole">
            <p:oleObj progId="Excel.Sheet.12" r:id="rId1" spid="">
              <p:embed/>
              <p:pic>
                <p:nvPicPr>
                  <p:cNvPr id="856" name="Object 3" descr=""/>
                  <p:cNvPicPr/>
                  <p:nvPr/>
                </p:nvPicPr>
                <p:blipFill>
                  <a:blip r:embed="rId2"/>
                  <a:stretch/>
                </p:blipFill>
                <p:spPr>
                  <a:xfrm>
                    <a:off x="152280" y="1981080"/>
                    <a:ext cx="8774280" cy="388620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5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5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4485A4-6969-40A0-8853-654D16E0714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60"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861"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862" name="Object 3"/>
          <p:cNvGraphicFramePr/>
          <p:nvPr/>
        </p:nvGraphicFramePr>
        <p:xfrm>
          <a:off x="228600" y="1905120"/>
          <a:ext cx="8734320" cy="3886200"/>
        </p:xfrm>
        <a:graphic>
          <a:graphicData uri="http://schemas.openxmlformats.org/presentationml/2006/ole">
            <p:oleObj progId="Excel.Sheet.12" r:id="rId1" spid="">
              <p:embed/>
              <p:pic>
                <p:nvPicPr>
                  <p:cNvPr id="863" name="Object 3" descr=""/>
                  <p:cNvPicPr/>
                  <p:nvPr/>
                </p:nvPicPr>
                <p:blipFill>
                  <a:blip r:embed="rId2"/>
                  <a:stretch/>
                </p:blipFill>
                <p:spPr>
                  <a:xfrm>
                    <a:off x="228600" y="1905120"/>
                    <a:ext cx="8734320" cy="38862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 to the IEEE SA RevCom</a:t>
            </a:r>
            <a:endParaRPr b="1" lang="en-US" sz="2800" spc="-1" strike="noStrike">
              <a:solidFill>
                <a:srgbClr val="000000"/>
              </a:solidFill>
              <a:latin typeface="Times New Roman"/>
            </a:endParaRPr>
          </a:p>
        </p:txBody>
      </p:sp>
      <p:sp>
        <p:nvSpPr>
          <p:cNvPr id="700" name="Rectangle 9"/>
          <p:cNvSpPr/>
          <p:nvPr/>
        </p:nvSpPr>
        <p:spPr>
          <a:xfrm>
            <a:off x="762120" y="1523880"/>
            <a:ext cx="73152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ules</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requesting conditional approval to forwar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 prior ballot has closed shall be accompanied by:</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ate the ballot close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ote tally including Approve, Disapprove and Abstain vote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mments that support the remaining disapprove votes and Working Group response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hedule for confirmation ballot and resolution meeting.</a:t>
            </a:r>
            <a:endParaRPr b="1" lang="en-US" sz="2400" spc="-1" strike="noStrike">
              <a:solidFill>
                <a:srgbClr val="000000"/>
              </a:solidFill>
              <a:latin typeface="Times New Roman"/>
            </a:endParaRPr>
          </a:p>
        </p:txBody>
      </p:sp>
      <p:sp>
        <p:nvSpPr>
          <p:cNvPr id="701"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6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6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AF377E-058B-4BE7-B93D-22C2620F185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67"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868"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869" name="Object 3"/>
          <p:cNvGraphicFramePr/>
          <p:nvPr/>
        </p:nvGraphicFramePr>
        <p:xfrm>
          <a:off x="152280" y="1905120"/>
          <a:ext cx="8913960" cy="4038480"/>
        </p:xfrm>
        <a:graphic>
          <a:graphicData uri="http://schemas.openxmlformats.org/presentationml/2006/ole">
            <p:oleObj progId="Excel.Sheet.12" r:id="rId1" spid="">
              <p:embed/>
              <p:pic>
                <p:nvPicPr>
                  <p:cNvPr id="870" name="Object 3" descr=""/>
                  <p:cNvPicPr/>
                  <p:nvPr/>
                </p:nvPicPr>
                <p:blipFill>
                  <a:blip r:embed="rId2"/>
                  <a:stretch/>
                </p:blipFill>
                <p:spPr>
                  <a:xfrm>
                    <a:off x="152280" y="1905120"/>
                    <a:ext cx="8913960" cy="403848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7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7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CD5C36-9A12-4E75-BAA9-8D6204EDFD2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74"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875"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876" name="Object 3"/>
          <p:cNvGraphicFramePr/>
          <p:nvPr/>
        </p:nvGraphicFramePr>
        <p:xfrm>
          <a:off x="228600" y="1905120"/>
          <a:ext cx="8805960" cy="4038480"/>
        </p:xfrm>
        <a:graphic>
          <a:graphicData uri="http://schemas.openxmlformats.org/presentationml/2006/ole">
            <p:oleObj progId="Excel.Sheet.12" r:id="rId1" spid="">
              <p:embed/>
              <p:pic>
                <p:nvPicPr>
                  <p:cNvPr id="877" name="Object 3" descr=""/>
                  <p:cNvPicPr/>
                  <p:nvPr/>
                </p:nvPicPr>
                <p:blipFill>
                  <a:blip r:embed="rId2"/>
                  <a:stretch/>
                </p:blipFill>
                <p:spPr>
                  <a:xfrm>
                    <a:off x="228600" y="1905120"/>
                    <a:ext cx="8805960" cy="403848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7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8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B39E43-E2C4-4A9D-B7AC-33ECAD5ED23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81"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882"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883" name="Object 3"/>
          <p:cNvGraphicFramePr/>
          <p:nvPr/>
        </p:nvGraphicFramePr>
        <p:xfrm>
          <a:off x="228600" y="1905120"/>
          <a:ext cx="8655120" cy="4190760"/>
        </p:xfrm>
        <a:graphic>
          <a:graphicData uri="http://schemas.openxmlformats.org/presentationml/2006/ole">
            <p:oleObj progId="Excel.Sheet.12" r:id="rId1" spid="">
              <p:embed/>
              <p:pic>
                <p:nvPicPr>
                  <p:cNvPr id="884" name="Object 3" descr=""/>
                  <p:cNvPicPr/>
                  <p:nvPr/>
                </p:nvPicPr>
                <p:blipFill>
                  <a:blip r:embed="rId2"/>
                  <a:stretch/>
                </p:blipFill>
                <p:spPr>
                  <a:xfrm>
                    <a:off x="228600" y="1905120"/>
                    <a:ext cx="8655120" cy="419076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86"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87"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ABE98D-6588-46A8-AEE8-9101D0C3937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88"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889"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890" name="Object 3"/>
          <p:cNvGraphicFramePr/>
          <p:nvPr/>
        </p:nvGraphicFramePr>
        <p:xfrm>
          <a:off x="228600" y="1905120"/>
          <a:ext cx="8634240" cy="3809880"/>
        </p:xfrm>
        <a:graphic>
          <a:graphicData uri="http://schemas.openxmlformats.org/presentationml/2006/ole">
            <p:oleObj progId="Excel.Sheet.12" r:id="rId1" spid="">
              <p:embed/>
              <p:pic>
                <p:nvPicPr>
                  <p:cNvPr id="891" name="Object 3" descr=""/>
                  <p:cNvPicPr/>
                  <p:nvPr/>
                </p:nvPicPr>
                <p:blipFill>
                  <a:blip r:embed="rId2"/>
                  <a:stretch/>
                </p:blipFill>
                <p:spPr>
                  <a:xfrm>
                    <a:off x="228600" y="1905120"/>
                    <a:ext cx="8634240" cy="380988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93"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9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72B09A-F463-4C65-B6AE-98AB672A591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95"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896"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897" name="Object 3"/>
          <p:cNvGraphicFramePr/>
          <p:nvPr/>
        </p:nvGraphicFramePr>
        <p:xfrm>
          <a:off x="228600" y="1981080"/>
          <a:ext cx="8605800" cy="3733920"/>
        </p:xfrm>
        <a:graphic>
          <a:graphicData uri="http://schemas.openxmlformats.org/presentationml/2006/ole">
            <p:oleObj progId="Excel.Sheet.12" r:id="rId1" spid="">
              <p:embed/>
              <p:pic>
                <p:nvPicPr>
                  <p:cNvPr id="898" name="Object 3" descr=""/>
                  <p:cNvPicPr/>
                  <p:nvPr/>
                </p:nvPicPr>
                <p:blipFill>
                  <a:blip r:embed="rId2"/>
                  <a:stretch/>
                </p:blipFill>
                <p:spPr>
                  <a:xfrm>
                    <a:off x="228600" y="1981080"/>
                    <a:ext cx="8605800" cy="373392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90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0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32FB68-1947-412B-B990-5C57C35C8E4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02"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903"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904" name="Object 3"/>
          <p:cNvGraphicFramePr/>
          <p:nvPr/>
        </p:nvGraphicFramePr>
        <p:xfrm>
          <a:off x="228600" y="1905120"/>
          <a:ext cx="8564400" cy="3733560"/>
        </p:xfrm>
        <a:graphic>
          <a:graphicData uri="http://schemas.openxmlformats.org/presentationml/2006/ole">
            <p:oleObj progId="Excel.Sheet.12" r:id="rId1" spid="">
              <p:embed/>
              <p:pic>
                <p:nvPicPr>
                  <p:cNvPr id="905" name="Object 3" descr=""/>
                  <p:cNvPicPr/>
                  <p:nvPr/>
                </p:nvPicPr>
                <p:blipFill>
                  <a:blip r:embed="rId2"/>
                  <a:stretch/>
                </p:blipFill>
                <p:spPr>
                  <a:xfrm>
                    <a:off x="228600" y="1905120"/>
                    <a:ext cx="8564400" cy="373356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907"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08"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3C9F55-9AE7-463D-9008-B0367EAA029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09"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910"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911" name="Object 3"/>
          <p:cNvGraphicFramePr/>
          <p:nvPr/>
        </p:nvGraphicFramePr>
        <p:xfrm>
          <a:off x="152280" y="1981080"/>
          <a:ext cx="8880480" cy="4038840"/>
        </p:xfrm>
        <a:graphic>
          <a:graphicData uri="http://schemas.openxmlformats.org/presentationml/2006/ole">
            <p:oleObj progId="Excel.Sheet.12" r:id="rId1" spid="">
              <p:embed/>
              <p:pic>
                <p:nvPicPr>
                  <p:cNvPr id="912" name="Object 3" descr=""/>
                  <p:cNvPicPr/>
                  <p:nvPr/>
                </p:nvPicPr>
                <p:blipFill>
                  <a:blip r:embed="rId2"/>
                  <a:stretch/>
                </p:blipFill>
                <p:spPr>
                  <a:xfrm>
                    <a:off x="152280" y="1981080"/>
                    <a:ext cx="8880480" cy="403884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91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1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0469D6-ED2B-49F3-A215-7D7EE2BAECC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16"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917"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918" name="Object 3"/>
          <p:cNvGraphicFramePr/>
          <p:nvPr/>
        </p:nvGraphicFramePr>
        <p:xfrm>
          <a:off x="228600" y="2057400"/>
          <a:ext cx="8840880" cy="4114800"/>
        </p:xfrm>
        <a:graphic>
          <a:graphicData uri="http://schemas.openxmlformats.org/presentationml/2006/ole">
            <p:oleObj progId="Excel.Sheet.12" r:id="rId1" spid="">
              <p:embed/>
              <p:pic>
                <p:nvPicPr>
                  <p:cNvPr id="919" name="Object 3" descr=""/>
                  <p:cNvPicPr/>
                  <p:nvPr/>
                </p:nvPicPr>
                <p:blipFill>
                  <a:blip r:embed="rId2"/>
                  <a:stretch/>
                </p:blipFill>
                <p:spPr>
                  <a:xfrm>
                    <a:off x="228600" y="2057400"/>
                    <a:ext cx="8840880" cy="411480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921"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22"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28E0D8-FE30-4029-9C45-6B9889A453C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23"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924"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925" name="Object 3"/>
          <p:cNvGraphicFramePr/>
          <p:nvPr/>
        </p:nvGraphicFramePr>
        <p:xfrm>
          <a:off x="76320" y="2057400"/>
          <a:ext cx="8991360" cy="2895480"/>
        </p:xfrm>
        <a:graphic>
          <a:graphicData uri="http://schemas.openxmlformats.org/presentationml/2006/ole">
            <p:oleObj progId="Excel.Sheet.12" r:id="rId1" spid="">
              <p:embed/>
              <p:pic>
                <p:nvPicPr>
                  <p:cNvPr id="926" name="Object 3" descr=""/>
                  <p:cNvPicPr/>
                  <p:nvPr/>
                </p:nvPicPr>
                <p:blipFill>
                  <a:blip r:embed="rId2"/>
                  <a:stretch/>
                </p:blipFill>
                <p:spPr>
                  <a:xfrm>
                    <a:off x="76320" y="2057400"/>
                    <a:ext cx="8991360" cy="289548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92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2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6AA887-9C7E-4FD9-9F49-962E594C7F2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30"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931"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932" name="Object 3"/>
          <p:cNvGraphicFramePr/>
          <p:nvPr/>
        </p:nvGraphicFramePr>
        <p:xfrm>
          <a:off x="152280" y="1981080"/>
          <a:ext cx="8953560" cy="3657600"/>
        </p:xfrm>
        <a:graphic>
          <a:graphicData uri="http://schemas.openxmlformats.org/presentationml/2006/ole">
            <p:oleObj progId="Excel.Sheet.12" r:id="rId1" spid="">
              <p:embed/>
              <p:pic>
                <p:nvPicPr>
                  <p:cNvPr id="933" name="Object 3" descr=""/>
                  <p:cNvPicPr/>
                  <p:nvPr/>
                </p:nvPicPr>
                <p:blipFill>
                  <a:blip r:embed="rId2"/>
                  <a:stretch/>
                </p:blipFill>
                <p:spPr>
                  <a:xfrm>
                    <a:off x="152280" y="1981080"/>
                    <a:ext cx="8953560" cy="36576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 to the IEEE SA RevCom</a:t>
            </a:r>
            <a:endParaRPr b="1" lang="en-US" sz="2400" spc="-1" strike="noStrike">
              <a:solidFill>
                <a:srgbClr val="000000"/>
              </a:solidFill>
              <a:latin typeface="Times New Roman"/>
            </a:endParaRPr>
          </a:p>
        </p:txBody>
      </p:sp>
      <p:sp>
        <p:nvSpPr>
          <p:cNvPr id="703"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B68633-4579-4792-AA1C-A2751FDBC83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705" name=""/>
          <p:cNvGraphicFramePr/>
          <p:nvPr/>
        </p:nvGraphicFramePr>
        <p:xfrm>
          <a:off x="304920" y="1722600"/>
          <a:ext cx="8610480" cy="4784400"/>
        </p:xfrm>
        <a:graphic>
          <a:graphicData uri="http://schemas.openxmlformats.org/drawingml/2006/table">
            <a:tbl>
              <a:tblPr/>
              <a:tblGrid>
                <a:gridCol w="1371600"/>
                <a:gridCol w="838080"/>
                <a:gridCol w="1201680"/>
                <a:gridCol w="1541520"/>
                <a:gridCol w="1447920"/>
                <a:gridCol w="1218960"/>
                <a:gridCol w="990720"/>
              </a:tblGrid>
              <a:tr h="119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EEE Sponsor / Re-circ Ballo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sponse Ratio</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roval Ratio</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egative Vot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umber of Negative Comments Received</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ment Resolution Statu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raft Statu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5541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 Ballot #1</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en – Dec 16 2010, Closed – Jan 15, 2011</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83% </a:t>
                      </a:r>
                      <a:r>
                        <a:rPr b="1" lang="en-US" sz="1400" spc="-1" strike="noStrike">
                          <a:solidFill>
                            <a:srgbClr val="3333cc"/>
                          </a:solidFill>
                          <a:latin typeface="Times New Roman"/>
                        </a:rPr>
                        <a:t>(10% abstain)</a:t>
                      </a:r>
                      <a:endParaRPr b="1"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92%</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negative votes with comment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4</a:t>
                      </a:r>
                      <a:endParaRPr b="1"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s addressed &amp; resolved - 22-11-0040r5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802.22/D 2.0 prepared</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040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 Ballot Re-circ #1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en – Feb. 25th, 2011, Closed – March 12, 2011 </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84% </a:t>
                      </a:r>
                      <a:r>
                        <a:rPr b="1" lang="en-US" sz="1400" spc="-1" strike="noStrike">
                          <a:solidFill>
                            <a:srgbClr val="3333cc"/>
                          </a:solidFill>
                          <a:latin typeface="Times New Roman"/>
                        </a:rPr>
                        <a:t>(9% abstain)</a:t>
                      </a:r>
                      <a:endParaRPr b="1"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94%</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negative votes with </a:t>
                      </a:r>
                      <a:r>
                        <a:rPr b="1" lang="en-US" sz="1800" spc="-1" strike="noStrike">
                          <a:solidFill>
                            <a:srgbClr val="000000"/>
                          </a:solidFill>
                          <a:latin typeface="Times New Roman"/>
                        </a:rPr>
                        <a:t>no </a:t>
                      </a:r>
                      <a:r>
                        <a:rPr b="0" lang="en-US" sz="1800" spc="-1" strike="noStrike">
                          <a:solidFill>
                            <a:srgbClr val="000000"/>
                          </a:solidFill>
                          <a:latin typeface="Times New Roman"/>
                        </a:rPr>
                        <a:t>comments,1 negative vote with 3 TR comment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1"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s addressed &amp; resolved – 22-11-0040r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802.22/D3.0 being prepared</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706" name="Rectangle 8"/>
          <p:cNvSpPr/>
          <p:nvPr/>
        </p:nvSpPr>
        <p:spPr>
          <a:xfrm>
            <a:off x="990720" y="1295280"/>
            <a:ext cx="7010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umber of People in the Sponsor Ballot Pool = 155</a:t>
            </a:r>
            <a:endParaRPr b="1" lang="en-US" sz="2400" spc="-1" strike="noStrike">
              <a:solidFill>
                <a:srgbClr val="000000"/>
              </a:solidFill>
              <a:latin typeface="Times New Roman"/>
            </a:endParaRPr>
          </a:p>
        </p:txBody>
      </p:sp>
      <p:sp>
        <p:nvSpPr>
          <p:cNvPr id="707"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93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3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3224FC-D274-44D2-B45D-3876B23EDBD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37"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938" name="Rectangle 8"/>
          <p:cNvSpPr/>
          <p:nvPr/>
        </p:nvSpPr>
        <p:spPr>
          <a:xfrm>
            <a:off x="76320" y="1219320"/>
            <a:ext cx="9067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 Negative Comments from SB that were addressed and resolved but where the commentors have maintained their negative vote during SB Re-circ #1: Document 22-11-0040 Rev5</a:t>
            </a:r>
            <a:endParaRPr b="1" lang="en-US" sz="1600" spc="-1" strike="noStrike">
              <a:solidFill>
                <a:srgbClr val="000000"/>
              </a:solidFill>
              <a:latin typeface="Times New Roman"/>
            </a:endParaRPr>
          </a:p>
        </p:txBody>
      </p:sp>
      <p:graphicFrame>
        <p:nvGraphicFramePr>
          <p:cNvPr id="939" name="Object 3"/>
          <p:cNvGraphicFramePr/>
          <p:nvPr/>
        </p:nvGraphicFramePr>
        <p:xfrm>
          <a:off x="228600" y="2209680"/>
          <a:ext cx="7802640" cy="1143000"/>
        </p:xfrm>
        <a:graphic>
          <a:graphicData uri="http://schemas.openxmlformats.org/presentationml/2006/ole">
            <p:oleObj progId="Excel.Sheet.12" r:id="rId1" spid="">
              <p:embed/>
              <p:pic>
                <p:nvPicPr>
                  <p:cNvPr id="940" name="Object 3" descr=""/>
                  <p:cNvPicPr/>
                  <p:nvPr/>
                </p:nvPicPr>
                <p:blipFill>
                  <a:blip r:embed="rId2"/>
                  <a:stretch/>
                </p:blipFill>
                <p:spPr>
                  <a:xfrm>
                    <a:off x="228600" y="2209680"/>
                    <a:ext cx="7802640" cy="1143000"/>
                  </a:xfrm>
                  <a:prstGeom prst="rect">
                    <a:avLst/>
                  </a:prstGeom>
                  <a:ln w="0">
                    <a:noFill/>
                  </a:ln>
                </p:spPr>
              </p:pic>
            </p:oleObj>
          </a:graphicData>
        </a:graphic>
      </p:graphicFrame>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title"/>
          </p:nvPr>
        </p:nvSpPr>
        <p:spPr>
          <a:xfrm>
            <a:off x="228600" y="609480"/>
            <a:ext cx="8610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ingency Motion</a:t>
            </a:r>
            <a:endParaRPr b="1" lang="en-US" sz="2400" spc="-1" strike="noStrike">
              <a:solidFill>
                <a:srgbClr val="000000"/>
              </a:solidFill>
              <a:latin typeface="Times New Roman"/>
            </a:endParaRPr>
          </a:p>
        </p:txBody>
      </p:sp>
      <p:sp>
        <p:nvSpPr>
          <p:cNvPr id="94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4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99BB35-8BAC-4C3D-A874-DADD4366C10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44" name="Rectangle 8"/>
          <p:cNvSpPr/>
          <p:nvPr/>
        </p:nvSpPr>
        <p:spPr>
          <a:xfrm>
            <a:off x="380880" y="1079640"/>
            <a:ext cx="853452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802.22 WG Motion #4 – Document 22-11-0043 Rev 0</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case another round of re-circulation is needed after the Sponsor Ballot Re-circulation #2 for Draft P802.22/D3.0</a:t>
            </a:r>
            <a:endParaRPr b="1"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EEE 802.22 Working Group authorizes the WG Chair to conduct telecons to address and resolve the comments, prepare the new Draft P802.22/D4.0 and launch the Sponsor Ballot Re-circulation. </a:t>
            </a:r>
            <a:endParaRPr b="1" lang="en-US" sz="20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EEE 802.22 WG also authorizes the WG Chair to forward P802.22/ D4.0 to the IEEE SA RevCom and conduct any business that the Chair may require to progress the approval of the standard.</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Gwangzeen Ko</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cond: Sasaki Shigenobu</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9</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ainst: 0</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bstain: 0</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tion passes unanimously</a:t>
            </a:r>
            <a:endParaRPr b="1" lang="en-US" sz="2000" spc="-1" strike="noStrike">
              <a:solidFill>
                <a:srgbClr val="000000"/>
              </a:solidFill>
              <a:latin typeface="Times New Roman"/>
            </a:endParaRPr>
          </a:p>
        </p:txBody>
      </p:sp>
      <p:sp>
        <p:nvSpPr>
          <p:cNvPr id="945"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70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FC64AA-526A-442E-B12C-87727EBDEC6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1"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 -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712" name=""/>
          <p:cNvGraphicFramePr/>
          <p:nvPr/>
        </p:nvGraphicFramePr>
        <p:xfrm>
          <a:off x="380880" y="2057400"/>
          <a:ext cx="8458200" cy="4251240"/>
        </p:xfrm>
        <a:graphic>
          <a:graphicData uri="http://schemas.openxmlformats.org/drawingml/2006/table">
            <a:tbl>
              <a:tblPr/>
              <a:tblGrid>
                <a:gridCol w="2286000"/>
                <a:gridCol w="2895840"/>
                <a:gridCol w="3276360"/>
              </a:tblGrid>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mentor</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of TR/ ER Comments during SB #1 and SB Re-circ #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tus After Sponsor Ballot Re-circ #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amond, Patrick</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and 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rove (Vote Chang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6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cclesine, Peter</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and 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approve (No New Comment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urley, Tom</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and 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rove (Vote Chang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 Wendong</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nd 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approve (No New Comment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nnedy, Richard</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nd 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approve (No New Comment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ccann, Stephe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 and 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approve (No New Comment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thley, Steve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and 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rove (Vote Chang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iegel, Maximilia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nd 0</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approve (No New Comment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uik, Ren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7 and 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ain</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713"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28600" y="685800"/>
            <a:ext cx="8610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gative Comments and Commentor Details</a:t>
            </a:r>
            <a:endParaRPr b="1" lang="en-US" sz="2800" spc="-1" strike="noStrike">
              <a:solidFill>
                <a:srgbClr val="000000"/>
              </a:solidFill>
              <a:latin typeface="Times New Roman"/>
            </a:endParaRPr>
          </a:p>
        </p:txBody>
      </p:sp>
      <p:sp>
        <p:nvSpPr>
          <p:cNvPr id="71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68CA69-5AE9-4055-B611-7C9D27AF200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7" name="Rectangle 8"/>
          <p:cNvSpPr/>
          <p:nvPr/>
        </p:nvSpPr>
        <p:spPr>
          <a:xfrm>
            <a:off x="0" y="1295280"/>
            <a:ext cx="9067680" cy="448308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R Comments were received from Rene Struik during the P802.22/D2.0 Sponsor Ballot Re-circ #1</a:t>
            </a:r>
            <a:endParaRPr b="1" lang="en-US" sz="1800" spc="-1" strike="noStrike">
              <a:solidFill>
                <a:srgbClr val="000000"/>
              </a:solidFill>
              <a:latin typeface="Times New Roman"/>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maining 5 Negative Voters did not submit any comments during Re-circ #1</a:t>
            </a:r>
            <a:endParaRPr b="1" lang="en-US" sz="1800" spc="-1" strike="noStrike">
              <a:solidFill>
                <a:srgbClr val="000000"/>
              </a:solidFill>
              <a:latin typeface="Times New Roman"/>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wo of the three comments from Rene Struik were the same as the comments from Sponsor Ballot #1 (Hence these were not new issues). </a:t>
            </a:r>
            <a:endParaRPr b="1" lang="en-US" sz="1800" spc="-1" strike="noStrike">
              <a:solidFill>
                <a:srgbClr val="000000"/>
              </a:solidFill>
              <a:latin typeface="Times New Roman"/>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sed on the telecon during AM1 on March 15</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in Singapore, the Commentor was willing to withdraw all the three of his TR comments, however, the Comment Resolution Committee decided to address and resolve Comment #63 (New Comment based on a New Issue) and go for another round of re-circulation. </a:t>
            </a:r>
            <a:endParaRPr b="1" lang="en-US" sz="1800" spc="-1" strike="noStrike">
              <a:solidFill>
                <a:srgbClr val="000000"/>
              </a:solidFill>
              <a:latin typeface="Times New Roman"/>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omment resolutions are incorporated here-in entirely and can also be found at </a:t>
            </a:r>
            <a:endParaRPr b="1" lang="en-US" sz="1800" spc="-1" strike="noStrike">
              <a:solidFill>
                <a:srgbClr val="000000"/>
              </a:solidFill>
              <a:latin typeface="Times New Roman"/>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s://mentor.ieee.org/802.22/dcn/11/22-11-0040-05-0000-p802-22-d2-sponsor-ballot-comments-database.xls</a:t>
            </a:r>
            <a:endParaRPr b="1" lang="en-US" sz="1800" spc="-1" strike="noStrike">
              <a:solidFill>
                <a:srgbClr val="000000"/>
              </a:solidFill>
              <a:latin typeface="Times New Roman"/>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gative comments resolved but carried forward from the SB and the comment resolutions are also included in the reference section at the end of this presentation.</a:t>
            </a:r>
            <a:endParaRPr b="1" lang="en-US" sz="1800" spc="-1" strike="noStrike">
              <a:solidFill>
                <a:srgbClr val="000000"/>
              </a:solidFill>
              <a:latin typeface="Times New Roman"/>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ne Struik has agreed to change his Dis-approve vote to APPROVE/ ABSTAIN, based on the comment resolutions and the changes to the draft during SB and Re-circ #2.</a:t>
            </a:r>
            <a:endParaRPr b="1" lang="en-US" sz="1800" spc="-1" strike="noStrike">
              <a:solidFill>
                <a:srgbClr val="000000"/>
              </a:solidFill>
              <a:latin typeface="Times New Roman"/>
            </a:endParaRPr>
          </a:p>
        </p:txBody>
      </p:sp>
      <p:sp>
        <p:nvSpPr>
          <p:cNvPr id="718"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228600" y="609480"/>
            <a:ext cx="8610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Comments and Resolution Details</a:t>
            </a:r>
            <a:endParaRPr b="1" lang="en-US" sz="2400" spc="-1" strike="noStrike">
              <a:solidFill>
                <a:srgbClr val="000000"/>
              </a:solidFill>
              <a:latin typeface="Times New Roman"/>
            </a:endParaRPr>
          </a:p>
        </p:txBody>
      </p:sp>
      <p:sp>
        <p:nvSpPr>
          <p:cNvPr id="72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8232D7-BF83-40CD-AD95-5FD549F117A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2"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
        <p:nvSpPr>
          <p:cNvPr id="723" name="Rectangle 8"/>
          <p:cNvSpPr/>
          <p:nvPr/>
        </p:nvSpPr>
        <p:spPr>
          <a:xfrm>
            <a:off x="0" y="1136520"/>
            <a:ext cx="9067680" cy="527004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omment #61 – Document 22-11-40 Rev5</a:t>
            </a:r>
            <a:endParaRPr b="1" lang="en-US" sz="18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er: Rene Struik</a:t>
            </a:r>
            <a:endParaRPr b="1" lang="en-US" sz="14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 (TR) Clause 2, p. 4, l. 43: RFC 2437 (PKCS#1, v2.0), if so, this would allow RSA MultiPrime and, thereby, RSA schemes with different cryptographic properties than the original scheme. It is unclear whether this is intended. Moreover, NIST SP 800-56 explicitly rules out support for MultiPrime, thus making it a less suitable choice to support in case this standard would also be used by US Government agencies. </a:t>
            </a:r>
            <a:endParaRPr b="1" lang="en-US" sz="14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ggested remedy: Refer to a specific version of PKCS#1 - early enough version without support for RSA MultiPrime.</a:t>
            </a:r>
            <a:endParaRPr b="1" lang="en-US" sz="14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olution Status: Out of Scope (Withdraw)</a:t>
            </a:r>
            <a:endParaRPr b="1" lang="en-US" sz="14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solution Detail: Comment is the same as the previous comment #100 submitted by Rene Struik during the Sponsor Ballot #1 for P802.22/D1.0 so this comment is not related to a new Issue based on the changes made to the Draft during the Sponsor Ballot Comment Resolution. The Comment Resolution Committee had a telecon with the commentor on Tuesday, March 15th, during the AM1 session in Singapore, where the commentor decided to 'Withdraw' this comment.  </a:t>
            </a:r>
            <a:endParaRPr b="1" lang="en-US" sz="14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ne: The version of the RFC 2437 referred to in the 802.22 Draft should not allow support for the MultiPrime feature.  Based on the Comment #100 during Sponsor Ballot #1, P802.22/D2 was modified to refer to Version 2.0 (October 1998) of the RFC 2437.  It was confirmed that this version does not include the MultiPrime support. Rene agreed that this was the case.</a:t>
            </a:r>
            <a:endParaRPr b="1" lang="en-US" sz="14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ne Struik (email: 13 March 2011, 19:09:06 -0400):</a:t>
            </a:r>
            <a:endParaRPr b="1" lang="en-US" sz="14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ose are indeed the correct references and I confirm I will withdraw #1 you quoted below." This sentence referred to this comment #61.</a:t>
            </a:r>
            <a:endParaRPr b="1" lang="en-US" sz="14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228600" y="609480"/>
            <a:ext cx="8610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Comments and Resolution Details</a:t>
            </a:r>
            <a:endParaRPr b="1" lang="en-US" sz="2400" spc="-1" strike="noStrike">
              <a:solidFill>
                <a:srgbClr val="000000"/>
              </a:solidFill>
              <a:latin typeface="Times New Roman"/>
            </a:endParaRPr>
          </a:p>
        </p:txBody>
      </p:sp>
      <p:sp>
        <p:nvSpPr>
          <p:cNvPr id="72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F135DF-782B-441E-8854-97B34ABF1FC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7" name="Rectangle 8"/>
          <p:cNvSpPr/>
          <p:nvPr/>
        </p:nvSpPr>
        <p:spPr>
          <a:xfrm>
            <a:off x="0" y="936720"/>
            <a:ext cx="9067680" cy="567576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Negative Comments and Commentor Details  - Comment #62 – Document 22-11-40 Rev5</a:t>
            </a:r>
            <a:endParaRPr b="1" lang="en-US" sz="16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er: Rene Struik</a:t>
            </a:r>
            <a:endParaRPr b="1" lang="en-US" sz="12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 (TR) Clause 2, p. 5, l-12: To my knowledge, the SEC4 specification is only a draft specification and, thereby, may be subject to change. A standard should not reference external specifications as normative references, it the latter are only draft standards. Suggested remedy: Create an Annex that specifies the full details of the SEC4 scheme as used in the IEEE 802.22 standard, so as to be independent of any changes made by an external standards body. Please note here that the latest draft on the SECG website is v0.91 (dated November 18, 2008) and, although the final specification was supposed to be published prior to end of February 2011, this did not happen. Note: Please note also IACR ePrint 2009-620. Is it known that the composition of ECQV and ECPVS is secure (I have seen convincing papers on these individually, but not a compositional proof). </a:t>
            </a:r>
            <a:endParaRPr b="1" lang="en-US" sz="12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ggested remedy: Create an Annex that specifies the full details of the SEC4 scheme as used in the IEEE 802.22 standard, so as to be independent of any changes made by an external standards body. Please note here that the latest draft on the SECG website is v0.91 (dated November 18, 2008) and, although the final specification was supposed to be published prior to end of February 2011, this did not happen.</a:t>
            </a:r>
            <a:endParaRPr b="1" lang="en-US" sz="12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olution Status: Out of Scope (Withdraw)</a:t>
            </a:r>
            <a:endParaRPr b="1" lang="en-US" sz="12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solution Detail: Comment is the same as Comment #125 from the Sponsor Ballot #1 for P802.22/D1.0, so this is Not a New Issue based on the changes made to the Draft. The commentor has decided to 'Withdraw' this comment for the following reasons. The comment resolution committee had a telecon with the commentor on Tuesday, March 15th, during the AM1 meeting in Singapore, and asked the commentor the nature of this comment.  The commentor clarified that this should really be an Editorial comment. In response, the chair asked for clarification from Michelle Turner (IEEE-SA chief editor):"IEEE 802.22 is planning to refer to the SEC4 Standard which is a Draft Standard under development as a normative reference.“ Micheller Turner's response: "The reference to the draft is fine. However, please make sure when it's referenced it includes the date and version of the draft. Also, please make sure the draft is readily available, because we will need to footnote how the draft can be obtained." The CRC wanted further clarification on whether the IEEE SA can store the draft SEC4 standard being referred - Michelle provided this further clarification as follows: "The draft will be placed on file with the IEEE. So the issue of the possibility of it not being at the website years from now, doesn't matter because we will have it. During publication prep, we would include the appropriate footnotes, so the user will know how to obtain the draft. Hopefully this was helpful.“ As a further clarification, the Chair asked the IEEE -SA Sr. Program Manager if the IEEE -SA will take care of keeping this Draft Standard in their repository and will provide it to whoever asks for it. Please find the e-mail exchange below: </a:t>
            </a:r>
            <a:r>
              <a:rPr b="1" lang="en-US" sz="1200" spc="-1" strike="noStrike">
                <a:solidFill>
                  <a:srgbClr val="2d2db9"/>
                </a:solidFill>
                <a:latin typeface="Times New Roman"/>
              </a:rPr>
              <a:t>Based on this, the commentor agreed to Withdraw his comment.</a:t>
            </a:r>
            <a:endParaRPr b="1" lang="en-US" sz="12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728" name="Date Placeholder 3"/>
          <p:cNvSpPr/>
          <p:nvPr/>
        </p:nvSpPr>
        <p:spPr>
          <a:xfrm>
            <a:off x="693360" y="30636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228600" y="609120"/>
            <a:ext cx="861048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Comments and Resolution Details</a:t>
            </a:r>
            <a:endParaRPr b="1" lang="en-US" sz="2400" spc="-1" strike="noStrike">
              <a:solidFill>
                <a:srgbClr val="000000"/>
              </a:solidFill>
              <a:latin typeface="Times New Roman"/>
            </a:endParaRPr>
          </a:p>
        </p:txBody>
      </p:sp>
      <p:sp>
        <p:nvSpPr>
          <p:cNvPr id="73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F379E1-FACE-4659-AE88-8FF9276FA7B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2" name="Rectangle 8"/>
          <p:cNvSpPr/>
          <p:nvPr/>
        </p:nvSpPr>
        <p:spPr>
          <a:xfrm>
            <a:off x="0" y="888840"/>
            <a:ext cx="9067680" cy="537264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ment #63 – Document 22-11-40 Rev5</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enter: Rene Struik</a:t>
            </a:r>
            <a:endParaRPr b="1" lang="en-US" sz="16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ment: (TR) Clause 8.6.2.3, p. 299, Table 135: This table suggests the use of elliptic curves of bit-size 163-bits, thus offering a cryptographic strength of just 80-bits. This would not be allowed according to key management guidelines of NIST SP 800-57, since 80-bit crypto strength is not to be endorsed from 2011 onwards. </a:t>
            </a:r>
            <a:endParaRPr b="1" lang="en-US" sz="16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ggested remedy: specify an elliptic curve with higher cryptographic bit strength.</a:t>
            </a:r>
            <a:endParaRPr b="1" lang="en-US" sz="16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olution Status: Princilple</a:t>
            </a:r>
            <a:endParaRPr b="1" lang="en-US" sz="16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solution Detail: On Tuesday, March 15th, AM1 Session in Singapore, the comment resolution committee had a telecon with the commentor. During the telecon, the commentor elaborated his reasons for submitting this comment: In certain applications, one is no longer allowed to use crypto strength of 80 bits (e.g., US Gov't requires a crypto strength of more than 80 bits for government's applications (NIST SP 800-57)). While the cryptographic construct strength used in this specification is deemed to be adequate for industrial/commercial applications right now, it is realized that in the future, more flexibility and higher-crypto bit strengths may be warranted. The commentor is okay if this issue is addressed in a future amendment of the 802.22 specification and he was willing to withdraw this comment. However, the Comment Resolution Committee decided to accept this comment in principle and provided the resolution to this comment, which can be found in  contribution (22-22-0041r1). Higher strength crypto elliptical curve was selected: K-233 or B-233 elliptic curves defined in FIPS 186-3 will be used rather than the K-163 and B-163.  Necessary changes were made to the Draft as indicated in document 22-11-0041r1.</a:t>
            </a:r>
            <a:endParaRPr b="1" lang="en-US" sz="1600" spc="-1" strike="noStrike">
              <a:solidFill>
                <a:srgbClr val="000000"/>
              </a:solidFill>
              <a:latin typeface="Times New Roman"/>
            </a:endParaRPr>
          </a:p>
        </p:txBody>
      </p:sp>
      <p:sp>
        <p:nvSpPr>
          <p:cNvPr id="733"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1</a:t>
            </a:r>
            <a:endParaRPr b="1"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20:30:52Z</dcterms:created>
  <dc:creator>Apurva N. Mody</dc:creator>
  <dc:description/>
  <dc:language>en-US</dc:language>
  <cp:lastModifiedBy>apurva_anna</cp:lastModifiedBy>
  <cp:lastPrinted>1998-02-10T13:28:06Z</cp:lastPrinted>
  <dcterms:modified xsi:type="dcterms:W3CDTF">2011-03-17T04:25:16Z</dcterms:modified>
  <cp:revision>445</cp:revision>
  <dc:subject/>
  <dc:title>Overview of IEEE 802.22 Standard</dc:title>
</cp:coreProperties>
</file>