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E889428-1B76-47FE-88DE-BFD20F1417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39"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40"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41"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978F8EB-A4EB-4DA5-95FE-31885FEE41A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2" name="PlaceHolder 1"/>
          <p:cNvSpPr>
            <a:spLocks noGrp="1"/>
          </p:cNvSpPr>
          <p:nvPr>
            <p:ph type="sldImg"/>
          </p:nvPr>
        </p:nvSpPr>
        <p:spPr>
          <a:xfrm>
            <a:off x="1189080" y="701640"/>
            <a:ext cx="4632120" cy="3475080"/>
          </a:xfrm>
          <a:prstGeom prst="rect">
            <a:avLst/>
          </a:prstGeom>
          <a:ln w="0">
            <a:noFill/>
          </a:ln>
        </p:spPr>
      </p:sp>
      <p:sp>
        <p:nvSpPr>
          <p:cNvPr id="743"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673229-4BAC-4328-86B2-BD7BA64840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4C15938-8A90-4FA6-ADE9-AFE5C095FC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DC2795-C0F6-4DF3-9B35-212EA1C1E34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8AF1C14-A100-43E7-9095-440BD6C2218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1C69D6-1158-42CA-9CFC-887A39E8188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04D1058-5FB2-467B-AB3A-0EF84B5FDD0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21B201-4535-47B9-8CA9-DCA5620ECD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E3E82F-4719-4143-BA36-CB1ABF4C39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8E112A-DA1A-4238-A8D6-3E2E9D4481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1ABF3-7AC1-4128-A957-EF7F31D7C8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42DE3-2050-4877-B0D7-4FEBE21CC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9BBCAA-9000-4ACA-95CF-CCA2EC11FA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C32F14-5557-4B63-ABD3-D3CECDF594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D5018C-F561-4673-8EDE-7F38E744FD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2EAADE-BE2F-48FC-9620-14B9E54220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10879D-0729-4293-BE93-3CC1A7813C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6CDAC1-C01B-47F1-9187-8A2DA5A5BD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69835A-7345-44CD-995D-C15E80C05B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7930DD-4E02-4E85-A451-8376FB026D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FDE21C-B8C2-449A-96FE-4CCCA1CF92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CCE19F1-1531-40A0-BB84-847B3FFD7C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18BEE-FF1D-458B-A575-0E321AE7B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E9D4358-F4F0-4C3E-8EE2-8F34E58973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BBFE23-26FD-4AEB-933D-2A8A56C7EF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B255ED-24D8-40E6-880F-FB2BA88F0D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F6F3F1-FD92-4AF1-BD71-1858C7B898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E82F68-5E1F-4541-9E82-B42D3DFAF1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D17D55-0413-4BED-82BE-00B706334E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651C2D-E89D-496E-B7F6-81C29BFD90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0D2FDE-316E-4B59-B044-AEEEF157C15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25B8DFF-5940-488C-8A6A-F2E690491B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1CC28FE-DEC8-4DE6-9336-BBC2C1CC79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34F87-1BEA-48A5-AA9C-83AAAF0F3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D83742-EF71-42FC-A3F7-908657CF77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F08C12-4108-425C-9A99-8E5078EB8C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C89C1F9-07B4-4B4B-82EB-9447BB694A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E0F0A3-294E-43C1-8A2B-657635A5ABC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EAD149-1BD9-43B9-A43E-8A548F6906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261280-5414-4F29-A31E-08F318C5F9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716463-D2EA-4350-8DB7-FC84D0E334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937AD1-3ABB-40D0-85C9-9462192B61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2D5DB6-4A78-4437-A6D7-998A18392B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1D1B75-C805-4E6F-843C-24656DED15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E29BB-6C5E-4927-9D65-96AA838BE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1E03A81-3255-4672-953F-896083ECF5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35FBF2E-7925-4AB2-9721-90B61A071E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70C0849-0FA3-4CB6-8791-6C4B4275F7A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CA8B4B8-2F81-4EE6-8A3C-088E923C634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DBF562-683A-4102-BBC9-558AEF43A2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9BEAB1-6B9F-42F8-8A27-9999F5C042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C428BC-EF8E-4F8C-A361-9A50E89137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A08661-C45A-45BC-9AA0-41FA6F1A6D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C1E39B-0CBC-479A-8D21-08B567CF2A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0DCEF2-7DC3-4B62-84A3-F167403A55F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877F9-B858-4207-BD1E-F78526545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4488B1-B20D-4EAB-9606-EF8594144DB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1681B1-07D6-44CA-B59C-2564A6C612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ED3B09-E420-47C4-8E51-418AA24316D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48D5576-598E-4BA6-A06F-BE875F99010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E34F42-1134-43AF-A683-58095B6FAA0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FA6594E-C53D-4BC3-91D1-DBD8D45DD26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9F6DE9B-8774-4276-84A5-5C3B9E18087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43FDFF9-25EF-4002-8247-6CCC9E049D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51CF4EF-2563-4C3C-AC58-27A5707B6F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A334DF0-D6F1-40E1-8C21-B91ECD7089F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739B1-5E39-4FEC-89AA-2BBA9C91A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66BB888-31EF-4755-8A5C-4754FBA124D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CC9A80-8B2B-4D43-B1C3-EE2814D82A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0A2A72-A76C-46BA-96F8-D99C3F7573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24E5BC9-1539-48E7-8526-110AA86F5C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190BE06-9F3C-42A9-920B-C0FEB9D2EF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27F48B6-A656-4EF3-B983-C2DE194BC5A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71D9D45-9889-4612-A39C-76091C3AAEB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477FB7B-C16F-4E48-A42F-59BC9709865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5F1A253-DCDB-47B7-A012-98307A2EC3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465FAD2-2589-43F9-B232-EDBE089C459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C7E37-85E9-453F-A2F4-182805D54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E08570C-B3DB-4127-9783-2CFF5633793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7856DD3-594A-4903-898A-02877983C6D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5F6BE9-0EBC-4D1A-837A-45D6D3CAA1D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0778D8-5FA8-4502-9652-8A810A83D1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D09951-6AAE-4838-9E6A-52DEC7768B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549DFA-A0B3-4675-80DA-A2E6F00AFC9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9C9EE7-0113-4158-A3FB-5477DE2C8E6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79720FF-07EE-4B0F-BF3A-C17EAD83D1A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430660A-AAC2-411C-8A88-9CC52F76A83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C8E3387-8BE8-4F26-8993-7E4E15D2A4A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24552-8D0E-4D04-A787-1FE095EF4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4B83131-8371-4BAD-9341-6F17BCAAD8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8694AF6-5E97-4732-805A-73462D56619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78F54F1-3D76-4E32-A390-8ACC139C5C1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B79D1E1-FCB0-43B4-9C8F-D2DE8E913E8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7673E5-8B10-4AB4-80FB-557B97CA4C7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0B93A1-1C04-42C9-92B0-F904A1EF2E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F121B5-5746-4AA7-BF45-6FAD4D05AE1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4777F7-4205-4C76-BD11-DA034F2085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F64495F-7A14-40A7-A7C3-23BFBFA839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57EE21B-97B9-46BB-B835-905F70BA717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035BDD-9BD6-464A-A4C0-65A5A505F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1D3F582-A071-454E-BDF7-ED7A14E818D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C8FF5-6D29-47EC-9619-66CD1553B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D7CD1-5260-4715-B456-FF819C1FD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C12B82-8224-49CC-A2FC-29759CCE2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6FF2A-495B-4793-BE41-B38612991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EB852-A142-4715-AAB6-2E8009EDE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CF9C5-190F-4C77-9DDD-088CF294A4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0B89BA-32DE-4055-8E96-A19B657FD2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622338-4D12-4CCE-825D-A0C8B477C3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8BA443-FC9F-453C-9B47-BB8987ECC2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7F09C1-F8BC-4C7E-AD08-C19C8F0A7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218637-15F1-4FE7-95B3-ED5A46A3BC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0EC99-191B-4120-84BE-6D3E5321B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35CBD-3743-4786-86FD-E0E10785F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64C894-C510-4467-A676-9D885F0BE7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7551B-1F5A-41F8-959F-B117D36D91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A45C5-698F-4547-9212-5FFEF1C8B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643DF-EEA3-4819-BF74-356BE2545E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6AAE5-6C20-4991-BFF6-C75D25C155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573426-052E-4923-AD61-C60A8D2FBE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6D84EA-24E6-443F-94D5-2B42C95362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09B899B-CF7E-4993-AF33-3EC40BC00F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87CCB-5BD4-48E3-B543-D9FA787FC7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F0EDE6-5F11-4AF6-A5D5-EBC6B4A5F1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AE054-F1DE-4778-ABCB-D6E7AEB59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E9E2CF-46E9-49A0-90B7-554F4FEA09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B03404-0498-41EE-A884-DD470FA178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2B4900-F33F-461E-9B48-A8427A693C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CE08B0-9726-435F-9D0E-2BDB9C8D9C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64EF3-E60D-4FB6-BE29-1AEB2D21E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82F4C-EE48-45E7-A28E-B17E15F87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077467-6BDB-4271-9A9E-7704D6F77A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1BDAAE-220E-4822-AAB4-9CCE43DE25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7C6A66-E9E6-4C44-B1E0-995095181B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F09535-2DC3-480C-A2DB-2BE311E768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2C8F55-07BF-42FB-A0AD-41126A4B4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60604A-A562-4EB9-A778-2982635D5A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105E5-C296-4500-BA75-E28B13E029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6C1948-2792-4BB8-AC0A-0B0246A94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DC89F4-56EE-40CA-97A4-4D42B74AE7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B3CFE4-5D96-44B9-A70B-E0598C8364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47C54-0A64-421F-A822-5750454612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0E19AC-313E-44C7-84AA-72477583D5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FC459B-05BE-42FF-8EDA-45A6177BD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642F81-AD77-4937-BD87-4F174716AD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3BAC47-5AF9-4D81-8B79-A88CB8FF46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C1C0F-C921-433E-B8DC-6BBADDA86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4B3D92-47B6-477D-A6CC-2A7A5E2F32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C4574B-4E83-42C1-AAB2-31BD03A8C2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CF45D6-9688-4958-A3E3-364A853B1A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CBA273-3A48-453A-8A6C-6B2B45A58D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0FF31F-C2C6-468A-8A79-9BADCE020A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5A851C-8F20-4F74-8CB7-1FC641F314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86D318-3A34-4E57-9DA8-33008FA69D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7CFE8D-2684-462E-97CE-E392EF05D9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664721-4200-4E19-A168-BF41B34377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55C35-B27A-4135-967A-DD78E057B6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9EE4A-3628-422B-AAED-CE36E739B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5D4091-D396-4231-8FAC-EC71791284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FC10B6-8849-42DB-82F3-75F9347181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374823-C632-462B-9487-361F077FDE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DD022E-082B-4FAE-8FBE-AEBA90A4E9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244226-D151-4451-86A2-C956C2E4F0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3638E7-7DAE-4089-9095-FE9A6C5CF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67DED6-7822-45B5-8C9F-207E8C1C6F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FCFC36-7026-4A1B-965D-64632DD065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A9BE37-181B-4CD7-8E93-816440511B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D02E8-462D-46CD-B7DD-34563BE738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29F55-6FA6-4A2A-A070-BD84C41D8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1B61A-4CAB-44BF-9C6D-FAE809E40D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12F092-DAC8-4802-B007-FC24214BAE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CA6FCE-33B4-4472-8715-7A07F8896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3C4AF3-2176-4FC6-9B35-4103B4473C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974C7F-F009-4941-9E89-86AD27E8FF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708574-03A4-4EA5-96A9-58B43B316F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A76336-332E-4A1D-9D41-318AC718A4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24D6220-3730-4D51-AC4F-60F586AC9B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7023AA-AD44-4E78-8539-E8AE4D78D8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DD8A6D-5CA5-4ED8-8666-1FCD97EB5F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134A6-5A0F-47E9-BBE4-014E9AFCB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771EE7-1D13-472F-A8FB-A815D052A2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318DD-98DC-4AF1-9336-66341CF805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8FE2C2-9C2F-42A7-8C52-2AD362148D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3A454E-AF00-473D-9FDE-97BC45396B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BBFE6E-B0BF-4443-BACE-D7297C731F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AAD476-DBF0-462F-901D-A8E595D4AD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74AAF5-56B7-4150-B4FE-CB2129A986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7A7D0D-2087-438E-BE49-188DDFFC2D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8850E3-D2D5-4782-BBA9-49657E7145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937754-6128-4118-B8FE-03DF6A2A6D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277EC3-FC94-43CD-A6D1-3114D9568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000DD1-32CF-4D83-8314-0BCD81444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F241B8-ED69-4086-BFDB-C61CF26C99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3CC94D-C7B0-4160-9BFF-38928EFFA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BB4A95-0272-40F6-85AB-9C296D7B4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AEE558-FAC4-4247-A4BD-0F6D232FE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AD9B9D-FE2E-4511-8364-E636ED491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183AF2-04EC-40CF-AD6D-93D3E93D4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07ACE6-876A-47F7-9E3F-879152992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BD007C-40BC-4F72-81FB-876590797D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D20A88-F007-41BB-80AF-ED8EBA101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EA2B72-C148-4D3F-A40A-F1A9DD168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846361-8877-41B0-8BD0-376A22261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F13611-0EB6-461C-9E99-04FBCAEC3E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F8B010-B2D9-48CA-A5EC-BF7D54DAF7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2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613800" y="30636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68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14C2B5-EF0A-46D0-AFFB-F5CCD343796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8" name="PlaceHolder 1"/>
          <p:cNvSpPr>
            <a:spLocks noGrp="1"/>
          </p:cNvSpPr>
          <p:nvPr>
            <p:ph type="title"/>
          </p:nvPr>
        </p:nvSpPr>
        <p:spPr>
          <a:xfrm>
            <a:off x="380880" y="685800"/>
            <a:ext cx="83059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November Plenary EC Meeting</a:t>
            </a:r>
            <a:endParaRPr b="1" lang="en-US" sz="2400" spc="-1" strike="noStrike">
              <a:solidFill>
                <a:srgbClr val="000000"/>
              </a:solidFill>
              <a:latin typeface="Times New Roman"/>
            </a:endParaRPr>
          </a:p>
        </p:txBody>
      </p:sp>
      <p:sp>
        <p:nvSpPr>
          <p:cNvPr id="689"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0-11-12</a:t>
            </a:r>
            <a:endParaRPr b="1" lang="en-US" sz="2000" spc="-1" strike="noStrike">
              <a:solidFill>
                <a:srgbClr val="000000"/>
              </a:solidFill>
              <a:latin typeface="Times New Roman"/>
            </a:endParaRPr>
          </a:p>
        </p:txBody>
      </p:sp>
      <p:graphicFrame>
        <p:nvGraphicFramePr>
          <p:cNvPr id="690" name="Object 11"/>
          <p:cNvGraphicFramePr/>
          <p:nvPr/>
        </p:nvGraphicFramePr>
        <p:xfrm>
          <a:off x="533520" y="2362320"/>
          <a:ext cx="8184960" cy="2263680"/>
        </p:xfrm>
        <a:graphic>
          <a:graphicData uri="http://schemas.openxmlformats.org/presentationml/2006/ole">
            <p:oleObj progId="Word.Document.12" r:id="rId1" spid="">
              <p:embed/>
              <p:pic>
                <p:nvPicPr>
                  <p:cNvPr id="691" name="Object 11" descr=""/>
                  <p:cNvPicPr/>
                  <p:nvPr/>
                </p:nvPicPr>
                <p:blipFill>
                  <a:blip r:embed="rId2"/>
                  <a:stretch/>
                </p:blipFill>
                <p:spPr>
                  <a:xfrm>
                    <a:off x="533520" y="2362320"/>
                    <a:ext cx="8184960" cy="2263680"/>
                  </a:xfrm>
                  <a:prstGeom prst="rect">
                    <a:avLst/>
                  </a:prstGeom>
                  <a:ln w="0">
                    <a:noFill/>
                  </a:ln>
                </p:spPr>
              </p:pic>
            </p:oleObj>
          </a:graphicData>
        </a:graphic>
      </p:graphicFrame>
      <p:sp>
        <p:nvSpPr>
          <p:cNvPr id="692" name="Rectangle 12"/>
          <p:cNvSpPr/>
          <p:nvPr/>
        </p:nvSpPr>
        <p:spPr>
          <a:xfrm>
            <a:off x="533520" y="198108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93"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p:nvPr>
        </p:nvSpPr>
        <p:spPr>
          <a:xfrm>
            <a:off x="304920" y="1295280"/>
            <a:ext cx="8534160" cy="426744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EE P802.22 WG November Plenary Motions – 22-10-0172 Rev7</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 WG Policies and Procedures – 22-04-0001 Rev0</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 Draft v5.0 Re-circ #1 Comment Database – 22-10-0174 Rev5</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 Draft v4.0 Re-circ #2 Comment Database – 22-10-0155 Rev7</a:t>
            </a:r>
            <a:endParaRPr b="1" lang="en-US" sz="2000" spc="-1" strike="noStrike">
              <a:solidFill>
                <a:srgbClr val="000000"/>
              </a:solidFill>
              <a:latin typeface="Times New Roman"/>
            </a:endParaRPr>
          </a:p>
        </p:txBody>
      </p:sp>
      <p:sp>
        <p:nvSpPr>
          <p:cNvPr id="734"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3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100686-C20D-4F6D-AB82-F31C0C6DDE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7"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69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826F7E-C702-4A3D-83B8-A0720DC403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7"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8"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 to the Sponsor Ballot</a:t>
            </a:r>
            <a:endParaRPr b="1"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 to the IEEE Sponsor Ballot</a:t>
            </a:r>
            <a:endParaRPr b="1" lang="en-US" sz="2800" spc="-1" strike="noStrike">
              <a:solidFill>
                <a:srgbClr val="000000"/>
              </a:solidFill>
              <a:latin typeface="Times New Roman"/>
            </a:endParaRPr>
          </a:p>
        </p:txBody>
      </p:sp>
      <p:sp>
        <p:nvSpPr>
          <p:cNvPr id="700"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01" name="Rectangle 9"/>
          <p:cNvSpPr/>
          <p:nvPr/>
        </p:nvSpPr>
        <p:spPr>
          <a:xfrm>
            <a:off x="762120" y="1523880"/>
            <a:ext cx="73152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ules</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requesting conditional approval to forwar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prior ballot has closed shall be accompanied b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ballot clos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 to the IEEE Sponsor Ballot</a:t>
            </a:r>
            <a:endParaRPr b="1" lang="en-US" sz="2800" spc="-1" strike="noStrike">
              <a:solidFill>
                <a:srgbClr val="000000"/>
              </a:solidFill>
              <a:latin typeface="Times New Roman"/>
            </a:endParaRPr>
          </a:p>
        </p:txBody>
      </p:sp>
      <p:sp>
        <p:nvSpPr>
          <p:cNvPr id="703"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04" name="Rectangle 9"/>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last ballot closed: </a:t>
            </a:r>
            <a:r>
              <a:rPr b="1" lang="en-US" sz="2400" spc="-1" strike="noStrike">
                <a:solidFill>
                  <a:srgbClr val="2d2db9"/>
                </a:solidFill>
                <a:latin typeface="Times New Roman"/>
              </a:rPr>
              <a:t>Nov. 9</a:t>
            </a:r>
            <a:r>
              <a:rPr b="1" lang="en-US" sz="2400" spc="-1" strike="noStrike" baseline="30000">
                <a:solidFill>
                  <a:srgbClr val="2d2db9"/>
                </a:solidFill>
                <a:latin typeface="Times New Roman"/>
              </a:rPr>
              <a:t>th</a:t>
            </a:r>
            <a:r>
              <a:rPr b="1" lang="en-US" sz="2400" spc="-1" strike="noStrike">
                <a:solidFill>
                  <a:srgbClr val="2d2db9"/>
                </a:solidFill>
                <a:latin typeface="Times New Roman"/>
              </a:rPr>
              <a:t> 2010</a:t>
            </a:r>
            <a:endParaRPr b="1" lang="en-US" sz="24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 </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lot Pool = 26, Response = 22 (</a:t>
            </a:r>
            <a:r>
              <a:rPr b="1" lang="en-US" sz="2400" spc="-1" strike="noStrike">
                <a:solidFill>
                  <a:srgbClr val="3333cc"/>
                </a:solidFill>
                <a:latin typeface="Times New Roman"/>
              </a:rPr>
              <a:t>85%</a:t>
            </a:r>
            <a:r>
              <a:rPr b="1" lang="en-US" sz="2400" spc="-1" strike="noStrike">
                <a:solidFill>
                  <a:srgbClr val="000000"/>
                </a:solidFill>
                <a:latin typeface="Times New Roman"/>
              </a:rPr>
              <a:t>), # of comments = 110</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Approves = 21</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Disapproves = 0</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Abstains = 1</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al Ratio = </a:t>
            </a:r>
            <a:r>
              <a:rPr b="1" lang="en-US" sz="2400" spc="-1" strike="noStrike">
                <a:solidFill>
                  <a:srgbClr val="2d2db9"/>
                </a:solidFill>
                <a:latin typeface="Times New Roman"/>
              </a:rPr>
              <a:t>100%</a:t>
            </a:r>
            <a:endParaRPr b="1" lang="en-US" sz="24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 – </a:t>
            </a:r>
            <a:r>
              <a:rPr b="1" lang="en-US" sz="2400" spc="-1" strike="noStrike">
                <a:solidFill>
                  <a:srgbClr val="2d2db9"/>
                </a:solidFill>
                <a:latin typeface="Times New Roman"/>
              </a:rPr>
              <a:t>N/ A</a:t>
            </a:r>
            <a:endParaRPr b="1" lang="en-US" sz="24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 – We are resolving comments this week and </a:t>
            </a:r>
            <a:r>
              <a:rPr b="1" lang="en-US" sz="2400" spc="-1" strike="noStrike">
                <a:solidFill>
                  <a:srgbClr val="2d2db9"/>
                </a:solidFill>
                <a:latin typeface="Times New Roman"/>
              </a:rPr>
              <a:t>planning to launch the WG Re-circ #3 by Nov. 22</a:t>
            </a:r>
            <a:r>
              <a:rPr b="1" lang="en-US" sz="2400" spc="-1" strike="noStrike" baseline="30000">
                <a:solidFill>
                  <a:srgbClr val="2d2db9"/>
                </a:solidFill>
                <a:latin typeface="Times New Roman"/>
              </a:rPr>
              <a:t>nd</a:t>
            </a:r>
            <a:r>
              <a:rPr b="1" lang="en-US" sz="2400" spc="-1" strike="noStrike">
                <a:solidFill>
                  <a:srgbClr val="2d2db9"/>
                </a:solidFill>
                <a:latin typeface="Times New Roman"/>
              </a:rPr>
              <a:t> 2010.</a:t>
            </a:r>
            <a:endParaRPr b="1"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160" y="60912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 Draft History and Statistics</a:t>
            </a:r>
            <a:endParaRPr b="1" lang="en-US" sz="3200" spc="-1" strike="noStrike">
              <a:solidFill>
                <a:srgbClr val="000000"/>
              </a:solidFill>
              <a:latin typeface="Times New Roman"/>
            </a:endParaRPr>
          </a:p>
        </p:txBody>
      </p:sp>
      <p:sp>
        <p:nvSpPr>
          <p:cNvPr id="706"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0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20F571-5A3F-4EB6-BB3B-1E21E1D0791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09" name=""/>
          <p:cNvGraphicFramePr/>
          <p:nvPr/>
        </p:nvGraphicFramePr>
        <p:xfrm>
          <a:off x="152280" y="1158840"/>
          <a:ext cx="8915400" cy="4937040"/>
        </p:xfrm>
        <a:graphic>
          <a:graphicData uri="http://schemas.openxmlformats.org/drawingml/2006/table">
            <a:tbl>
              <a:tblPr/>
              <a:tblGrid>
                <a:gridCol w="1486080"/>
                <a:gridCol w="1015920"/>
                <a:gridCol w="1407960"/>
                <a:gridCol w="1084320"/>
                <a:gridCol w="1027080"/>
                <a:gridCol w="1330560"/>
                <a:gridCol w="1563480"/>
              </a:tblGrid>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1.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08</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8</a:t>
                      </a:r>
                      <a:r>
                        <a:rPr b="0" lang="en-US" sz="1600" spc="-1" strike="noStrike">
                          <a:solidFill>
                            <a:srgbClr val="000000"/>
                          </a:solidFill>
                          <a:latin typeface="Times New Roman"/>
                        </a:rPr>
                        <a:t> (526 T / TR, 452 E /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7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802.22 Draft v2.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2.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3</a:t>
                      </a:r>
                      <a:r>
                        <a:rPr b="0" lang="en-US" sz="1600" spc="-1" strike="noStrike">
                          <a:solidFill>
                            <a:srgbClr val="000000"/>
                          </a:solidFill>
                          <a:latin typeface="Times New Roman"/>
                        </a:rPr>
                        <a:t> (942 T / TR,  707 E /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7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3</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1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5</a:t>
                      </a:r>
                      <a:r>
                        <a:rPr b="0" lang="en-US" sz="1600" spc="-1" strike="noStrike">
                          <a:solidFill>
                            <a:srgbClr val="000000"/>
                          </a:solidFill>
                          <a:latin typeface="Times New Roman"/>
                        </a:rPr>
                        <a:t> (432 T / TR, 286 E /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9%</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4.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a:t>
                      </a:r>
                      <a:r>
                        <a:rPr b="1" lang="en-US" sz="1200" spc="-1" strike="noStrike">
                          <a:solidFill>
                            <a:srgbClr val="000000"/>
                          </a:solidFill>
                          <a:latin typeface="Times New Roman"/>
                        </a:rPr>
                        <a:t>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v 4.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7</a:t>
                      </a:r>
                      <a:r>
                        <a:rPr b="0" lang="en-US" sz="1600" spc="-1" strike="noStrike">
                          <a:solidFill>
                            <a:srgbClr val="000000"/>
                          </a:solidFill>
                          <a:latin typeface="Times New Roman"/>
                        </a:rPr>
                        <a:t> (270 T / TR,117 E /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87%</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5.0 Prepar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5.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tober</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a:t>
                      </a:r>
                      <a:r>
                        <a:rPr b="0" lang="en-US" sz="1600" spc="-1" strike="noStrike">
                          <a:solidFill>
                            <a:srgbClr val="000000"/>
                          </a:solidFill>
                          <a:latin typeface="Times New Roman"/>
                        </a:rPr>
                        <a:t> (80 T, 30 E)</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are being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00%</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6.0 is being prepar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710" name="Rounded Rectangular Callout 7"/>
          <p:cNvSpPr/>
          <p:nvPr/>
        </p:nvSpPr>
        <p:spPr>
          <a:xfrm>
            <a:off x="228600" y="6172200"/>
            <a:ext cx="8534520" cy="457200"/>
          </a:xfrm>
          <a:prstGeom prst="wedgeRoundRectCallout">
            <a:avLst>
              <a:gd name="adj1" fmla="val -5060"/>
              <a:gd name="adj2" fmla="val -97449"/>
              <a:gd name="adj3" fmla="val 16667"/>
            </a:avLst>
          </a:prstGeom>
          <a:solidFill>
            <a:srgbClr val="ccffcc"/>
          </a:solidFill>
          <a:ln w="25560">
            <a:solidFill>
              <a:srgbClr val="2d2db9"/>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P802.22 is ON TRACK to reach the Sponsor Ballot by December 2010</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10" descr=""/>
          <p:cNvPicPr/>
          <p:nvPr/>
        </p:nvPicPr>
        <p:blipFill>
          <a:blip r:embed="rId1"/>
          <a:stretch/>
        </p:blipFill>
        <p:spPr>
          <a:xfrm>
            <a:off x="304920" y="450720"/>
            <a:ext cx="8410320" cy="5873760"/>
          </a:xfrm>
          <a:prstGeom prst="rect">
            <a:avLst/>
          </a:prstGeom>
          <a:ln w="0">
            <a:noFill/>
          </a:ln>
        </p:spPr>
      </p:pic>
      <p:sp>
        <p:nvSpPr>
          <p:cNvPr id="712"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1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FACAC4-7363-41E5-9147-63C6F7235D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5" name="PlaceHolder 1"/>
          <p:cNvSpPr>
            <a:spLocks noGrp="1"/>
          </p:cNvSpPr>
          <p:nvPr>
            <p:ph type="title"/>
          </p:nvPr>
        </p:nvSpPr>
        <p:spPr>
          <a:xfrm>
            <a:off x="685440" y="762120"/>
            <a:ext cx="80010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 Draft History and Statistics</a:t>
            </a:r>
            <a:endParaRPr b="1" lang="en-US" sz="3200" spc="-1" strike="noStrike">
              <a:solidFill>
                <a:srgbClr val="000000"/>
              </a:solidFill>
              <a:latin typeface="Times New Roman"/>
            </a:endParaRPr>
          </a:p>
        </p:txBody>
      </p:sp>
      <p:sp>
        <p:nvSpPr>
          <p:cNvPr id="716"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1</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18"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1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F80FC1-1B3C-4AC2-A5DF-DE2F49007C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1" name="Rectangle 8"/>
          <p:cNvSpPr/>
          <p:nvPr/>
        </p:nvSpPr>
        <p:spPr>
          <a:xfrm>
            <a:off x="304920" y="1752480"/>
            <a:ext cx="8686800" cy="301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for the Launch of P802.22 WG Re-circ #3 and Sponsor Ballot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ponsor Ballot Pool formation is currently under way.</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2010 - Issue IEEE P802.22 Draft 6.0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0 – Re-circulation #3 is completed.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1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0 – Address and Resolve Comments if any.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20</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0 – Launch Sponsor Ballot #1 </a:t>
            </a:r>
            <a:endParaRPr b="1"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2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778710-9DBB-4C9D-87FF-1866A95CB0C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5" name="Rectangle 1"/>
          <p:cNvSpPr/>
          <p:nvPr/>
        </p:nvSpPr>
        <p:spPr>
          <a:xfrm>
            <a:off x="457200" y="1038600"/>
            <a:ext cx="8458200" cy="458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802.22 WG Motion 2 – Document – 22-10-0172 Rev7</a:t>
            </a:r>
            <a:endParaRPr b="1" lang="en-US" sz="2400" spc="-1" strike="noStrike">
              <a:solidFill>
                <a:srgbClr val="000000"/>
              </a:solidFill>
              <a:latin typeface="Times New Roman"/>
            </a:endParaRPr>
          </a:p>
        </p:txBody>
      </p:sp>
      <p:sp>
        <p:nvSpPr>
          <p:cNvPr id="72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
        <p:nvSpPr>
          <p:cNvPr id="727" name="Rectangle 7"/>
          <p:cNvSpPr/>
          <p:nvPr/>
        </p:nvSpPr>
        <p:spPr>
          <a:xfrm>
            <a:off x="304920" y="1832400"/>
            <a:ext cx="8686800" cy="40564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PMingLiU"/>
              </a:rPr>
              <a:t>Move to authorize the P802.22 WG Chair to make a motion to the IEEE 802 Executive Committee Meeting for a (conditional) approval to forward the P802.22 Draft Standard to the Sponsor Ballot and to launch the Sponsor Ballot based on the latest P802.22 Draft that has met all the conditions as stated in the IEEE 802 Operations Manual</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Move: Ranga Reddy</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Second: Jerry Kalke</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Discussion: None</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For: 10  </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Against: 0   </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Abstain: 0</a:t>
            </a:r>
            <a:r>
              <a:rPr b="1" lang="en-US" sz="2000" spc="-1" strike="noStrike">
                <a:solidFill>
                  <a:srgbClr val="000000"/>
                </a:solidFill>
                <a:latin typeface="Times New Roman"/>
                <a:ea typeface="PMingLiU"/>
              </a:rPr>
              <a:t>	</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Motion Passes Unanimously</a:t>
            </a:r>
            <a:endParaRPr b="1"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grant conditional approval as per the IEEE 802 Operations Manual to forward IEEE P802.22 to the Sponsor Ballo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________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_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 Fails</a:t>
            </a:r>
            <a:endParaRPr b="1" lang="en-US" sz="2400" spc="-1" strike="noStrike">
              <a:solidFill>
                <a:srgbClr val="000000"/>
              </a:solidFill>
              <a:latin typeface="Times New Roman"/>
            </a:endParaRPr>
          </a:p>
        </p:txBody>
      </p:sp>
      <p:sp>
        <p:nvSpPr>
          <p:cNvPr id="729"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3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45B8FF-83CF-4C94-92A8-9F519F201C4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2"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 Draft Standard to the Sponsor Ballot</a:t>
            </a:r>
            <a:endParaRPr b="1"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mody</cp:lastModifiedBy>
  <cp:lastPrinted>1998-02-10T13:28:06Z</cp:lastPrinted>
  <dcterms:modified xsi:type="dcterms:W3CDTF">2010-11-12T18:20:40Z</dcterms:modified>
  <cp:revision>420</cp:revision>
  <dc:subject/>
  <dc:title>Overview of IEEE 802.22 Standard</dc:title>
</cp:coreProperties>
</file>