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934DCA6-BF4F-4704-BD90-1FDA016767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38"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39"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40"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2E4B5F5-BBDC-497C-B615-B644E24185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1" name="PlaceHolder 1"/>
          <p:cNvSpPr>
            <a:spLocks noGrp="1"/>
          </p:cNvSpPr>
          <p:nvPr>
            <p:ph type="sldImg"/>
          </p:nvPr>
        </p:nvSpPr>
        <p:spPr>
          <a:xfrm>
            <a:off x="1189080" y="701640"/>
            <a:ext cx="4632120" cy="3475080"/>
          </a:xfrm>
          <a:prstGeom prst="rect">
            <a:avLst/>
          </a:prstGeom>
          <a:ln w="0">
            <a:noFill/>
          </a:ln>
        </p:spPr>
      </p:sp>
      <p:sp>
        <p:nvSpPr>
          <p:cNvPr id="742"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9D6D741-07A3-4AAB-A552-4B7A12EDCE3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1DCB215-A223-40E8-89F3-39F02B50503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94513C5-38AA-476D-9B50-99975B5BEF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C2D5E00-46A8-4FD9-A64A-0159C6157E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38BABC-2531-414B-9322-D45B8D4B507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47724C7-2732-4833-8EC4-7D7917F00C4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F4BEDC-A242-4502-9215-C3C2AA6DCED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A08E8F-87DE-4D50-9178-852AFCAF2E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907096-D549-46DD-9242-06D403818C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D4C378-EA13-4E30-B7D6-C75AE7CCA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0A951-074D-4D1F-B954-8C449098C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8B70B0-28A4-45E2-85E8-697942A6FB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6B0361-36E3-412F-A311-A7089479E4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3B80AB-9393-46CE-9A44-4AE57C7259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BAA16-3922-4B39-B1EC-616B7A1FD1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A7A76D-950A-4985-AA92-1E770DD4BA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F77057-8EA3-422C-9C4C-666C141168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7EBA70-BB2A-4E9A-A75F-60F00AAE0A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FEB8E3-9C70-4045-8BA5-E191A13AFD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BB6CC1-D0E3-4EAD-9489-43E0D7A128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156324-734D-4CA1-897D-0111BB8654A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151E6-8946-498F-B7D3-6408E4BAC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E99D113-9803-4FB0-AEDC-DF29F57F2F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379FB1-BE2D-48B9-BC72-457FCE112A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14E441-4BF9-4A28-B0D0-C2B2D6F376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B4CA89-91CE-4056-9562-0DDE9F19B51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8F58CB-8A6B-499E-B69C-FDCC3BDE18D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485A71-91A3-40FE-BFD3-ED3A2061A6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3532BD-E7ED-4186-9A94-EDDB819D7B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85D4E2-1215-4816-BCE4-A774A84AA5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3E5478-48BD-410F-83A2-DDF9B0865E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E4E4100-E193-4446-AD99-59783806679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4DA2B-8D47-4BE8-8FDB-95880CEDE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DAFA2C1-53F9-41F0-A395-576A35D8EC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3B6C782-BF49-4E14-A9C6-8EC430D72E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F72679-6FA5-4F89-B012-D5646C6B682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9CBA92-1E7B-4896-B8CF-B2B4949F5C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2D345D-93EE-4EBE-A2F7-5DA30F6AA5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74F572-7EDD-47D1-8E92-14B272028E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50456E-3AF3-4532-A24B-7FB2E3BE951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CC7F53-F9D8-410B-98D7-2660DF1181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1B5AB7-C5DA-425B-A64F-287E2CD7A1A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E818E4-1242-4891-8755-ACEF8A660B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0F8DA-66F8-4D29-A9B0-99C5F195B4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2B3AFA-07BC-4E28-A673-FE3E2CC1E7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3916248-3F98-4449-8E37-6BF94E6526D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43B286F-B2EA-471B-9D12-F1A00919102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251C277-32C0-4CFB-934C-40DEEF9D5E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47A7A4A-7AD8-4D6B-BEE0-9314CCC40D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439870B-CB51-4894-977C-2CB7081B57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63F122-1441-4C26-A434-A1B43A9BEA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AA0D87-0F5C-4F46-A229-39DE6E1B06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FC9B6B3-04A6-493B-8920-FD1882407E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CE443B-5176-4888-B3ED-4C13453709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7AE5A-9AF5-4F08-B10C-57CED04057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CFA242-A765-47C9-BD7D-BF4BDA0CE3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8698F4-58B4-4E44-BAD5-1A32E0642C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13AA5C-CEFD-48B7-9803-7762171DBA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48512C0-68DB-448E-A9EB-BE2BC4F6198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4E1A9F3-98E5-4BEA-8F41-8B1BBFFAA93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424F36-FB20-4C5F-87A3-7C52B67CDD0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5DBDB41-1674-48A1-8A9E-C5ED735A889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E14E97-FB41-4215-B6A7-BFB249EA06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26DC8D-588E-40FC-A71D-D0058A98A0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1A692A2-B17C-4ACC-9CEF-C105116D553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EA18E-9B00-487E-8032-749013744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A51F56-77F2-4512-9574-16C28F023B8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E8A87D-F1AC-47C0-AFC1-2F6AC305E9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AC909A0-298A-47CE-8786-23EBDFDC76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95DAA0-D197-4E02-A1BF-A3B91589C9E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D7CEDB-1225-4DD2-A33C-393C9B67DC7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D4B2A6B-5B33-4ED5-9FB0-1BE0921BE0B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56816F7-31D6-4590-8878-BDE82A46D7F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5AB09F2-3DAE-4FF3-BD6F-6B286D6654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0166917-26FC-474A-9E60-5F7D6A5E61B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78F3E4F-7B2B-4195-8CD5-F6EEFCEE14D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E7738-EF38-4C8E-BB4C-BB0A253E0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8BAEE63-67C4-45E0-ADB0-8E65554062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7FA685-928D-4BF6-96F5-F235F10340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0D44DA2-1BF3-4F7E-AB69-F91C104F56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E79FEE-D2E7-4AC1-839F-FD0DB4E88DB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11215A-9C39-4F6F-A1DD-F8B5181F34E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8B3A9C6-7AE0-451C-A0CD-3AC07A9496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9C9052-A706-47C1-95EE-45E27DB1231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E00EE66-B896-4F2E-8CE6-18D48E36E93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370B099-B5E4-4532-A4A1-E42B0924AEB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2E1D90F-3638-456C-A03B-17C7EE47615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4431FE-0AFD-4E72-9D34-657DC4674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7897EDC-8E95-4C39-BB45-4FE4D553328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8EFB25A-2AFF-42D6-BCF4-3349B683757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8589226-6CB3-4D4D-B645-5F873799E8F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13C7D1-A282-406D-B6F0-5BAC2F4AC2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21D8805-FA12-495E-9803-2833F5FEC1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D20694A-366A-4620-A2C0-21E014A68F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CA6B73B-C9B0-42CA-8E27-0E875884C1E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21315F-A14B-4C0B-99F4-77B32AD6A7C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7DAF588-622D-4B00-BF5F-5F480B71CA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2351931-E566-42B0-8FDA-2B94756208F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94AB3-EC0F-45D4-A174-8AA3CE8A1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17AD3D4-2E88-480B-B989-E8C78103BB2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94BAA-EFEA-4DB7-8FB4-E2FAEEA75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2FA33-B45E-4499-8FD4-851623B6D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875B1-6F4C-40E9-A85E-6E431B3A9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6F2EC-D319-4EA5-A2A2-47A659F86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41D27-0B39-4280-AEA2-273E18216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F6EC86-81EE-4CEC-B41C-EFF368D49F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76179-3A0D-485D-94BD-D2DECC7DEC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202CCC-4297-4CA5-9DEC-AC31049639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1C4BA2-49D8-4750-B589-ED884CB683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2BB262-943B-4362-848F-7E20DBE2C6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E7BB6F-2561-47B8-931F-63AA3F6A08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B7B33C-69A7-4336-9D32-BD8747EDDC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656BF-CCAD-43EF-8452-EC61972CC3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C2FB89-1632-46C5-8DE2-FE36BC7CCD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BEE51D-E4E0-42C3-9360-E42A3C73C6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899AB-DB77-4692-A79B-87A8728A5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0A19D-F022-4C31-80B0-9286333434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44B683-0DD6-498C-9C31-43F3506D8A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D2316D-D8D2-440F-87A9-69FD4966D1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2B7C9E-F53F-4D5D-AEC9-FFB582AB95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3DF5ACE-B0DD-477B-98E0-5AA1E1EBE2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16D817-15EC-493E-A06B-E390CD4152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3DD9B2-FFB5-4136-946F-38117D8EDF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36D6D-6D90-45E4-8753-367DD00EF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82D46-3D41-4FE6-9E18-7835E4239B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377352-7135-4D30-B4D0-82B245ECC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26719B-B976-419D-993E-C1FE026486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7FC7AD-B086-47BE-831D-9255FFF9AF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48508F-B94B-407A-9964-EB28976CA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1A5713-F9C7-4A80-BE85-4C6A4F186A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854371-26AA-4898-9DD4-B03E7496D0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1A0D6A-250A-41A1-832D-C74EC0663E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34DDBD-F664-42BE-9611-591B985A03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720C9B-5375-4EB0-AD4F-E80C04D2C3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53AA5-2788-41E4-AD99-3C47B504E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48BFEC-BF3E-4518-A80A-A990742B4B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796CA3-3468-4544-BB88-3020642A68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BF4885-BA01-4B95-9A7C-0A6A04530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D20BF7-EF58-4185-B4D0-6FA92D2165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9597E2-CDEE-4BB2-ACD6-340BB6A846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464B2-826A-460F-A3D6-48C4E3A21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CDD715-0741-46EC-9488-3BADC9B4C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5ED3A-EEB7-4E5E-806E-BFD60A3C4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F0BDC3-477B-46B2-B50C-A87F216CB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5FBD0F-053B-4300-9F0F-3B125E9F4DA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B1333-3C73-45F6-BCD0-9AEFB60CE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C8BB01-BF55-44D2-AB5B-78F19E39AB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DEF113-7092-4EC1-8A24-13BEF5C726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D09731-DF08-472E-BB0A-24E874DBF4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88DB37-102E-45CE-95BB-FA857117C0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ABF903-139D-413C-B60C-1BCC2E567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433CB5-E20A-49F9-8AA4-F6348F4825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E4ABD4-E9B1-4614-98F4-982BFF297E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5A7216-064E-43C0-8C6E-4A59EC3B42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51480A-4A8B-41C4-A3A0-875C55C605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CD4696-E11E-470F-AF1A-6F2DD392CE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81883-F3AB-470B-ABAD-AB01B3398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0B6CAA-8D21-4E1E-B2AA-E4C8E14B5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72B482F-793B-4507-BA6C-1355F51B032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4D8ED3-5437-4544-B976-D005BD243E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B966C9-AFC5-47DC-85BC-4CC216A81B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CA0701-3DF8-467E-8C6E-CC6E82F307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CB8605-AD20-4A61-9691-BE9971A6FD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7B0DBC-47D8-44BD-875C-403CEC73CC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D19D6D-A6A5-4C35-93E7-F7089902B7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ACA694-5480-44F3-8B86-EF7E91632F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4B99F6-3B6C-4F26-B3D7-23B4E48F3F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0F186-D756-40CB-AB51-9B7ECF12A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D77DCC-61BE-4034-BE77-B84286C168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C640C3-022D-4D10-A0FA-283D150213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FD260B-60D9-497F-9443-B33B176FB9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DD1C4C-67F6-4648-B195-C094191D24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D71000-14D8-49AD-A079-7B4991E7DF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8490C4-9028-4647-BF17-797D6439F0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74DD70-DE3D-430D-AB97-5CF98EE888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560616-EBB0-4F6D-92D2-03E5CA9359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13260B-9DB0-44FF-B8FB-6FBA8B1C69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73E45B-11DF-42E2-B079-0AD274C1F5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86C2C-B1DD-4EF7-8331-7392101BF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4CFEC9-6D97-4D4A-98E1-961EBF1726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35C68E-BE84-4CA1-8BFA-7BA25DB6F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6086C-8050-4628-AB31-E8795CB016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3CE34B-27DD-49A4-A78A-2428F847E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82C8EF-1CBA-4E72-B2E4-A34F8C4D99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676058-F9E1-41E5-A573-3A3872AE97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B89180-71D5-4E67-93AE-82AC7CBD4B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1D2711-34CF-471E-8585-A7A6C582F0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F78037-045D-426B-9CDA-7B4F5415B3B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87C3B0-90D9-4E73-AF70-AA45E9F8A3B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1EE392-CE9F-4D31-B9FA-87D7B9481C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254731-F178-42B7-86C7-E94702636C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B719B9-1796-4C2A-A783-E7EC51165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56E7EF-5E51-4ECA-A718-751F706C7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44598D-57F7-4B3D-8B07-5D4729C80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4CC68B-1D6B-441D-836E-45CF0968D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F373096-964A-4CD5-8AFC-5A48FA999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08BF15-2C34-4CBF-8307-393943E532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8E5582-2948-433D-A8D4-88B3CFDE1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B8A213-8360-45C5-A89E-5D5FF8B8FC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6CF91A-2F49-432D-AE14-F91D234E40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01B9635-FCB1-471C-A90F-E3A7E4D7D3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29CD6B-B533-445A-A7C2-207C52DBDD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653DAD-0BC0-43AE-84A1-AD0DF0D69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71r00</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72C2C3-EC62-46D4-BC85-87FD3C56D8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2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10000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68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4A3344-8A07-4EAF-B9A1-6033DF64582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8" name="PlaceHolder 1"/>
          <p:cNvSpPr>
            <a:spLocks noGrp="1"/>
          </p:cNvSpPr>
          <p:nvPr>
            <p:ph type="title"/>
          </p:nvPr>
        </p:nvSpPr>
        <p:spPr>
          <a:xfrm>
            <a:off x="380880" y="685800"/>
            <a:ext cx="83059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November Plenary EC Meeting</a:t>
            </a:r>
            <a:endParaRPr b="1" lang="en-US" sz="2400" spc="-1" strike="noStrike">
              <a:solidFill>
                <a:srgbClr val="000000"/>
              </a:solidFill>
              <a:latin typeface="Times New Roman"/>
            </a:endParaRPr>
          </a:p>
        </p:txBody>
      </p:sp>
      <p:sp>
        <p:nvSpPr>
          <p:cNvPr id="689"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0-11-09</a:t>
            </a:r>
            <a:endParaRPr b="1" lang="en-US" sz="2000" spc="-1" strike="noStrike">
              <a:solidFill>
                <a:srgbClr val="000000"/>
              </a:solidFill>
              <a:latin typeface="Times New Roman"/>
            </a:endParaRPr>
          </a:p>
        </p:txBody>
      </p:sp>
      <p:graphicFrame>
        <p:nvGraphicFramePr>
          <p:cNvPr id="690" name="Object 11"/>
          <p:cNvGraphicFramePr/>
          <p:nvPr/>
        </p:nvGraphicFramePr>
        <p:xfrm>
          <a:off x="533520" y="2362320"/>
          <a:ext cx="8184960" cy="2263680"/>
        </p:xfrm>
        <a:graphic>
          <a:graphicData uri="http://schemas.openxmlformats.org/presentationml/2006/ole">
            <p:oleObj progId="Word.Document.12" r:id="rId1" spid="">
              <p:embed/>
              <p:pic>
                <p:nvPicPr>
                  <p:cNvPr id="691" name="Object 11" descr=""/>
                  <p:cNvPicPr/>
                  <p:nvPr/>
                </p:nvPicPr>
                <p:blipFill>
                  <a:blip r:embed="rId2"/>
                  <a:stretch/>
                </p:blipFill>
                <p:spPr>
                  <a:xfrm>
                    <a:off x="533520" y="2362320"/>
                    <a:ext cx="8184960" cy="2263680"/>
                  </a:xfrm>
                  <a:prstGeom prst="rect">
                    <a:avLst/>
                  </a:prstGeom>
                  <a:ln w="0">
                    <a:noFill/>
                  </a:ln>
                </p:spPr>
              </p:pic>
            </p:oleObj>
          </a:graphicData>
        </a:graphic>
      </p:graphicFrame>
      <p:sp>
        <p:nvSpPr>
          <p:cNvPr id="692" name="Rectangle 12"/>
          <p:cNvSpPr/>
          <p:nvPr/>
        </p:nvSpPr>
        <p:spPr>
          <a:xfrm>
            <a:off x="533520" y="198108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93"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p:nvPr>
        </p:nvSpPr>
        <p:spPr>
          <a:xfrm>
            <a:off x="304920" y="1295280"/>
            <a:ext cx="8534160" cy="426744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EE P802.22 WG November Plenary Motions – 22-10-0172 Rev6</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 WG Policies and Procedures – 22-04-0001 Rev0</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 Draft v5.0 Re-circ #1 Comment Database – 22-10-0174 Rev2</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 Draft v4.0 Re-circ #2 Comment Database – 22-10-0155 Rev7</a:t>
            </a:r>
            <a:endParaRPr b="1" lang="en-US" sz="2000" spc="-1" strike="noStrike">
              <a:solidFill>
                <a:srgbClr val="000000"/>
              </a:solidFill>
              <a:latin typeface="Times New Roman"/>
            </a:endParaRPr>
          </a:p>
        </p:txBody>
      </p:sp>
      <p:sp>
        <p:nvSpPr>
          <p:cNvPr id="73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3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C3A34F-7790-4396-8DC3-1BA29B2F16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6"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69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84E9DF-42FC-44C9-9639-6FE5D6B4105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7"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8"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 to the Sponsor Ballot</a:t>
            </a:r>
            <a:endParaRPr b="1"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 to the IEEE Sponsor Ballot</a:t>
            </a:r>
            <a:endParaRPr b="1" lang="en-US" sz="2800" spc="-1" strike="noStrike">
              <a:solidFill>
                <a:srgbClr val="000000"/>
              </a:solidFill>
              <a:latin typeface="Times New Roman"/>
            </a:endParaRPr>
          </a:p>
        </p:txBody>
      </p:sp>
      <p:sp>
        <p:nvSpPr>
          <p:cNvPr id="700"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01" name="Rectangle 9"/>
          <p:cNvSpPr/>
          <p:nvPr/>
        </p:nvSpPr>
        <p:spPr>
          <a:xfrm>
            <a:off x="762120" y="1523880"/>
            <a:ext cx="73152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ules</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requesting conditional approval to forwar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prior ballot has closed shall be accompanied b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ballot clo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a:t>
            </a:r>
            <a:endParaRPr b="1"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 to the IEEE Sponsor Ballot</a:t>
            </a:r>
            <a:endParaRPr b="1" lang="en-US" sz="2800" spc="-1" strike="noStrike">
              <a:solidFill>
                <a:srgbClr val="000000"/>
              </a:solidFill>
              <a:latin typeface="Times New Roman"/>
            </a:endParaRPr>
          </a:p>
        </p:txBody>
      </p:sp>
      <p:sp>
        <p:nvSpPr>
          <p:cNvPr id="70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04" name="Rectangle 9"/>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last ballot closed: </a:t>
            </a:r>
            <a:r>
              <a:rPr b="1" lang="en-US" sz="2400" spc="-1" strike="noStrike">
                <a:solidFill>
                  <a:srgbClr val="2d2db9"/>
                </a:solidFill>
                <a:latin typeface="Times New Roman"/>
              </a:rPr>
              <a:t>Nov. 9</a:t>
            </a:r>
            <a:r>
              <a:rPr b="1" lang="en-US" sz="2400" spc="-1" strike="noStrike" baseline="30000">
                <a:solidFill>
                  <a:srgbClr val="2d2db9"/>
                </a:solidFill>
                <a:latin typeface="Times New Roman"/>
              </a:rPr>
              <a:t>th</a:t>
            </a:r>
            <a:r>
              <a:rPr b="1" lang="en-US" sz="2400" spc="-1" strike="noStrike">
                <a:solidFill>
                  <a:srgbClr val="2d2db9"/>
                </a:solidFill>
                <a:latin typeface="Times New Roman"/>
              </a:rPr>
              <a:t> 2010</a:t>
            </a:r>
            <a:endParaRPr b="1" lang="en-US" sz="24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 </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lot Pool = 26, Response = 22 (</a:t>
            </a:r>
            <a:r>
              <a:rPr b="1" lang="en-US" sz="2400" spc="-1" strike="noStrike">
                <a:solidFill>
                  <a:srgbClr val="3333cc"/>
                </a:solidFill>
                <a:latin typeface="Times New Roman"/>
              </a:rPr>
              <a:t>85%</a:t>
            </a:r>
            <a:r>
              <a:rPr b="1" lang="en-US" sz="2400" spc="-1" strike="noStrike">
                <a:solidFill>
                  <a:srgbClr val="000000"/>
                </a:solidFill>
                <a:latin typeface="Times New Roman"/>
              </a:rPr>
              <a:t>), # of comments = 110</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Approves = 21</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Disapproves = 0</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Abstains = 1</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al Ratio = </a:t>
            </a:r>
            <a:r>
              <a:rPr b="1" lang="en-US" sz="2400" spc="-1" strike="noStrike">
                <a:solidFill>
                  <a:srgbClr val="2d2db9"/>
                </a:solidFill>
                <a:latin typeface="Times New Roman"/>
              </a:rPr>
              <a:t>100%</a:t>
            </a:r>
            <a:endParaRPr b="1" lang="en-US" sz="24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 – </a:t>
            </a:r>
            <a:r>
              <a:rPr b="1" lang="en-US" sz="2400" spc="-1" strike="noStrike">
                <a:solidFill>
                  <a:srgbClr val="2d2db9"/>
                </a:solidFill>
                <a:latin typeface="Times New Roman"/>
              </a:rPr>
              <a:t>N/ A</a:t>
            </a:r>
            <a:endParaRPr b="1" lang="en-US" sz="24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 – We are resolving comments this week and </a:t>
            </a:r>
            <a:r>
              <a:rPr b="1" lang="en-US" sz="2400" spc="-1" strike="noStrike">
                <a:solidFill>
                  <a:srgbClr val="2d2db9"/>
                </a:solidFill>
                <a:latin typeface="Times New Roman"/>
              </a:rPr>
              <a:t>planning to launch the WG Re-circ #3 by Nov. 22</a:t>
            </a:r>
            <a:r>
              <a:rPr b="1" lang="en-US" sz="2400" spc="-1" strike="noStrike" baseline="30000">
                <a:solidFill>
                  <a:srgbClr val="2d2db9"/>
                </a:solidFill>
                <a:latin typeface="Times New Roman"/>
              </a:rPr>
              <a:t>nd</a:t>
            </a:r>
            <a:r>
              <a:rPr b="1" lang="en-US" sz="2400" spc="-1" strike="noStrike">
                <a:solidFill>
                  <a:srgbClr val="2d2db9"/>
                </a:solidFill>
                <a:latin typeface="Times New Roman"/>
              </a:rPr>
              <a:t> 2010.</a:t>
            </a:r>
            <a:endParaRPr b="1"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33160" y="60912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 Draft History and Statistics</a:t>
            </a:r>
            <a:endParaRPr b="1" lang="en-US" sz="3200" spc="-1" strike="noStrike">
              <a:solidFill>
                <a:srgbClr val="000000"/>
              </a:solidFill>
              <a:latin typeface="Times New Roman"/>
            </a:endParaRPr>
          </a:p>
        </p:txBody>
      </p:sp>
      <p:sp>
        <p:nvSpPr>
          <p:cNvPr id="706"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0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10A6FA-D77B-4594-9391-EAEB346C621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09" name=""/>
          <p:cNvGraphicFramePr/>
          <p:nvPr/>
        </p:nvGraphicFramePr>
        <p:xfrm>
          <a:off x="152280" y="1158840"/>
          <a:ext cx="8915400" cy="4937040"/>
        </p:xfrm>
        <a:graphic>
          <a:graphicData uri="http://schemas.openxmlformats.org/drawingml/2006/table">
            <a:tbl>
              <a:tblPr/>
              <a:tblGrid>
                <a:gridCol w="1486080"/>
                <a:gridCol w="1015920"/>
                <a:gridCol w="1407960"/>
                <a:gridCol w="1084320"/>
                <a:gridCol w="1027080"/>
                <a:gridCol w="1330560"/>
                <a:gridCol w="1563480"/>
              </a:tblGrid>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1.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08</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8</a:t>
                      </a:r>
                      <a:r>
                        <a:rPr b="0" lang="en-US" sz="1600" spc="-1" strike="noStrike">
                          <a:solidFill>
                            <a:srgbClr val="000000"/>
                          </a:solidFill>
                          <a:latin typeface="Times New Roman"/>
                        </a:rPr>
                        <a:t> (526 T / TR, 452 E /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 Draft v2.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2.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3</a:t>
                      </a:r>
                      <a:r>
                        <a:rPr b="0" lang="en-US" sz="1600" spc="-1" strike="noStrike">
                          <a:solidFill>
                            <a:srgbClr val="000000"/>
                          </a:solidFill>
                          <a:latin typeface="Times New Roman"/>
                        </a:rPr>
                        <a:t> (942 T / TR,  707 E /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3</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5</a:t>
                      </a:r>
                      <a:r>
                        <a:rPr b="0" lang="en-US" sz="1600" spc="-1" strike="noStrike">
                          <a:solidFill>
                            <a:srgbClr val="000000"/>
                          </a:solidFill>
                          <a:latin typeface="Times New Roman"/>
                        </a:rPr>
                        <a:t> (432 T / TR, 286 E /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9%</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4.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a:t>
                      </a:r>
                      <a:r>
                        <a:rPr b="1" lang="en-US" sz="1200" spc="-1" strike="noStrike">
                          <a:solidFill>
                            <a:srgbClr val="000000"/>
                          </a:solidFill>
                          <a:latin typeface="Times New Roman"/>
                        </a:rPr>
                        <a:t>1</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v 4.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gust</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87</a:t>
                      </a:r>
                      <a:r>
                        <a:rPr b="0" lang="en-US" sz="1600" spc="-1" strike="noStrike">
                          <a:solidFill>
                            <a:srgbClr val="000000"/>
                          </a:solidFill>
                          <a:latin typeface="Times New Roman"/>
                        </a:rPr>
                        <a:t> (270 T / TR,117 E / ER)</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87%</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5.0 Prepar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5.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ctober</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0</a:t>
                      </a:r>
                      <a:r>
                        <a:rPr b="0" lang="en-US" sz="1600" spc="-1" strike="noStrike">
                          <a:solidFill>
                            <a:srgbClr val="000000"/>
                          </a:solidFill>
                          <a:latin typeface="Times New Roman"/>
                        </a:rPr>
                        <a:t> (80 T, 30 E)</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are being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00%</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6.0 is being prepar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10" name="Rounded Rectangular Callout 7"/>
          <p:cNvSpPr/>
          <p:nvPr/>
        </p:nvSpPr>
        <p:spPr>
          <a:xfrm>
            <a:off x="228600" y="6172200"/>
            <a:ext cx="8534520" cy="457200"/>
          </a:xfrm>
          <a:prstGeom prst="wedgeRoundRectCallout">
            <a:avLst>
              <a:gd name="adj1" fmla="val -5060"/>
              <a:gd name="adj2" fmla="val -97449"/>
              <a:gd name="adj3" fmla="val 16667"/>
            </a:avLst>
          </a:prstGeom>
          <a:solidFill>
            <a:srgbClr val="ccffcc"/>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P802.22 is ON TRACK to reach the Sponsor Ballot by December 2010</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7" descr=""/>
          <p:cNvPicPr/>
          <p:nvPr/>
        </p:nvPicPr>
        <p:blipFill>
          <a:blip r:embed="rId1"/>
          <a:stretch/>
        </p:blipFill>
        <p:spPr>
          <a:xfrm>
            <a:off x="452520" y="690480"/>
            <a:ext cx="8234280" cy="5862600"/>
          </a:xfrm>
          <a:prstGeom prst="rect">
            <a:avLst/>
          </a:prstGeom>
          <a:ln w="0">
            <a:noFill/>
          </a:ln>
        </p:spPr>
      </p:pic>
      <p:sp>
        <p:nvSpPr>
          <p:cNvPr id="712"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1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B646B0-C533-48F2-B563-CEA0501387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5" name="PlaceHolder 1"/>
          <p:cNvSpPr>
            <a:spLocks noGrp="1"/>
          </p:cNvSpPr>
          <p:nvPr>
            <p:ph type="title"/>
          </p:nvPr>
        </p:nvSpPr>
        <p:spPr>
          <a:xfrm>
            <a:off x="685440" y="762120"/>
            <a:ext cx="80010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 Draft History and Statistics</a:t>
            </a:r>
            <a:endParaRPr b="1"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17"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1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1F75AA-11A5-412D-8333-160126AF32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0" name="Rectangle 8"/>
          <p:cNvSpPr/>
          <p:nvPr/>
        </p:nvSpPr>
        <p:spPr>
          <a:xfrm>
            <a:off x="304920" y="1752480"/>
            <a:ext cx="8686800" cy="301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for the Launch of P802.22 WG Re-circ #3 and Sponsor Ballot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onsor Ballot Pool formation is currently under way.</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2010 - Issue IEEE P802.22 Draft 6.0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0 – Re-circulation #3 is completed.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1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0 – Address and Resolve Comments if any.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 20</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0 – Launch Sponsor Ballot #1 </a:t>
            </a:r>
            <a:endParaRPr b="1"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2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FED597-E1EB-420A-AF79-136D8046AFB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4" name="Rectangle 1"/>
          <p:cNvSpPr/>
          <p:nvPr/>
        </p:nvSpPr>
        <p:spPr>
          <a:xfrm>
            <a:off x="457200" y="1038600"/>
            <a:ext cx="8458200" cy="458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P802.22 WG Motion 2 – Document – 22-10-0172 Rev6</a:t>
            </a:r>
            <a:endParaRPr b="1" lang="en-US" sz="2400" spc="-1" strike="noStrike">
              <a:solidFill>
                <a:srgbClr val="000000"/>
              </a:solidFill>
              <a:latin typeface="Times New Roman"/>
            </a:endParaRPr>
          </a:p>
        </p:txBody>
      </p:sp>
      <p:sp>
        <p:nvSpPr>
          <p:cNvPr id="725"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
        <p:nvSpPr>
          <p:cNvPr id="726" name="Rectangle 7"/>
          <p:cNvSpPr/>
          <p:nvPr/>
        </p:nvSpPr>
        <p:spPr>
          <a:xfrm>
            <a:off x="304920" y="1832400"/>
            <a:ext cx="8686800" cy="405648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PMingLiU"/>
              </a:rPr>
              <a:t>Move to authorize the P802.22 WG Chair to make a motion to the IEEE 802 Executive Committee Meeting for a (conditional) approval to forward the P802.22 Draft Standard to the Sponsor Ballot and to launch the Sponsor Ballot based on the latest P802.22 Draft that has met all the conditions as stated in the IEEE 802 Operations Manual</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Move: Ranga Reddy</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Second: Jerry Kalke</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Discussion: None</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For: 10  </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Against: 0   </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Abstain: 0</a:t>
            </a:r>
            <a:r>
              <a:rPr b="1" lang="en-US" sz="2000" spc="-1" strike="noStrike">
                <a:solidFill>
                  <a:srgbClr val="000000"/>
                </a:solidFill>
                <a:latin typeface="Times New Roman"/>
                <a:ea typeface="PMingLiU"/>
              </a:rPr>
              <a:t>	</a:t>
            </a:r>
            <a:endParaRPr b="1" lang="en-US" sz="2000" spc="-1" strike="noStrike">
              <a:solidFill>
                <a:srgbClr val="000000"/>
              </a:solidFill>
              <a:latin typeface="Times New Roman"/>
            </a:endParaRPr>
          </a:p>
          <a:p>
            <a:pPr>
              <a:tabLst>
                <a:tab algn="l" pos="0"/>
                <a:tab algn="l" pos="127152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Motion Passes Unanimously</a:t>
            </a:r>
            <a:endParaRPr b="1"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conditional approval as per the IEEE 802 Operations Manual to forward IEEE P802.22 to the Sponsor Ballo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________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_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72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2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34D00C-E434-4C16-A9F8-762D27C06AF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1"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 Draft Standard to the Sponsor Ballot</a:t>
            </a:r>
            <a:endParaRPr b="1"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0-11-10T17:48:30Z</dcterms:modified>
  <cp:revision>414</cp:revision>
  <dc:subject/>
  <dc:title>Overview of IEEE 802.22 Standard</dc:title>
</cp:coreProperties>
</file>