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79111C4-70E6-49AD-B6F0-ADF1365E6C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919"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920"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921"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93B7090-0C34-4B10-B7FA-E501AC5B65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2" name="PlaceHolder 1"/>
          <p:cNvSpPr>
            <a:spLocks noGrp="1"/>
          </p:cNvSpPr>
          <p:nvPr>
            <p:ph type="sldImg"/>
          </p:nvPr>
        </p:nvSpPr>
        <p:spPr>
          <a:xfrm>
            <a:off x="1189080" y="701640"/>
            <a:ext cx="4632120" cy="3475080"/>
          </a:xfrm>
          <a:prstGeom prst="rect">
            <a:avLst/>
          </a:prstGeom>
          <a:ln w="0">
            <a:noFill/>
          </a:ln>
        </p:spPr>
      </p:sp>
      <p:sp>
        <p:nvSpPr>
          <p:cNvPr id="923"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33C696C-E117-4F5A-9E74-FDC2E0C5FEA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2098D7-A896-466B-87A6-44F7991640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5FDE3AD-F780-4C5C-BA7C-D41986D542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C6920D-F73F-47B0-A8D6-E69D452F3C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5313153-3F94-4CA3-8B21-B02B7704E4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1E8717-5865-4354-99CB-C08DDE107F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DF673B4-B38D-46CD-A36F-F3F8468023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454A2A-0AF6-44BD-922B-6B70861686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7A154DD-C89F-42A7-B38A-89036E9C1D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AEB349-F0DF-48D8-8BBB-8033A5048D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F53EE8-27BE-4101-BD8A-940C03F267B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9918E17-5515-4F3C-8A11-81BFA770D12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171C208-EBA5-4FD3-90F3-A21384D5D3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4198FA-68DB-4864-AD3F-8BFCEB05D6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0B24CF-DE1F-477C-87DC-A02AE7BFFC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46FEB18-8615-4DEC-BA12-BFDFCC57434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BB7C39-E584-4880-BD8B-9C81EDAC3F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0C11FAB-07D1-4036-B319-2470B10191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D42899-C141-41AB-843F-683D928EB3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A130B6C-890C-460C-B518-277123997B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D4851BF-D90F-4A31-A01D-F60724B47B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B9B1353-AAB2-489C-B813-FA5CEFB571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B87B899-7810-4E9F-A99F-BDBECE6B48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5278FA0-96BC-4FC6-AFCD-38CA90FF026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44FDF8-97D7-4DE6-91C5-5FF0B2190A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FA8A5F-3785-4B7C-8BB2-D602025E3D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8F73BD4-FB87-42AD-B0DF-7FEC52C2258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F85496-9F93-4466-ABA9-700B46F9385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D69983-9674-407A-839E-58282277DF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31A8D8D-6A36-4726-89E7-8B10D3BF19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7BED59-131E-47D5-B781-3AE8008905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03655D-047B-4906-B136-410CD5248C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243DD9-BC8A-4A3A-B3D0-40EC4FD6EC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7ECD73-BC37-4B84-8886-E16DCD9F0D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BFBA8DE-2D06-49DA-B1FE-28D187C08D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CE6DF3-C235-460A-A707-68490B6060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67BEA-BE59-4787-AE45-3DB6A45E6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EAA58-935C-4C51-B45E-4F00C378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23812A-77DE-4E14-842E-30FE41D9B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69F203-2D42-4C1D-A2D3-069BB01D73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3CAEF3-AFB7-4040-A233-3092FA03E7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42AAB8-C19E-49F6-8ACE-57938F321F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3B40FE-C83A-43BD-9931-811710D28A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4AAA96-44CE-4617-A894-D7902BC9B7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F71E9A-DADA-498E-855E-5CF78AE92C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523A8B7-73B8-4314-AFF7-1048FBA040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FFB4F1-7257-4042-A843-72BEC7EEF9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1B33E54-C1ED-4F9C-994C-4015FA97B1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B5F71C-466B-4080-B59E-2A91DD8B45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856736-B20C-46F1-A53F-3C59C3BE4DE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AC3009-5EE3-4B26-8D3E-9553CD4120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69288B8-43FA-444C-8AC5-2F88FB738C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300E1A-3863-430D-BE0D-049EBFCBC2F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ABFE4A9-67A5-49EC-8526-7E7D27627E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B0A66-343A-47A7-AE21-539A03224A4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F4C57-86B1-4026-9B66-E1C7519A027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741EC9-338E-4D74-8E78-9FE9E57A4A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B00BFBF-D92A-4BFC-999C-10E409E084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9F41C33-8979-41C8-BB23-4C5A16C250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8FB8A-482A-4DAA-B660-C0D27BE3D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1F6B824-75E3-488B-B290-AE3005CC3A9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4E9EDB-DC3F-427B-84DD-E81CFD2CE4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54F2FB-B4D7-4C53-8035-58C72233C21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84E814-1E38-4E6C-A1F1-038B9DBE23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CB4430-653D-42B7-BDB1-F876D188B6D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AD2CDC-5775-49FC-B6B3-6DA7F04D03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353413-705C-46E4-8EF5-CC288B8982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7EF9ED-859D-4505-9D0B-1FF33B8493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F4E96F-8CEB-4E61-9028-9A954ACCB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22D68D9-1AF5-49CA-958E-61907E1382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86C5C6-08F1-4550-97F5-955579EDB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3FAED6B-9C10-45A6-99D1-C88DA7CF00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682105-CF10-44F0-B7E1-A65E41B061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5B40B6-733B-47E5-8807-3FFF38358B3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1EC911-293E-4123-B299-9293CF71FD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2998FAF-080C-455E-9E6E-71AC27433ED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B3BF25D-200F-4A8A-A854-13D0092A7F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DBC48B-67F1-4271-B028-3A961A318F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41E5DBF-888C-4EAF-AA36-1F7B8A80A3F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C881BE-93C6-4D9E-82A7-DCAF5D1014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A1CB3A-513F-40D1-B390-BCFE36FAB1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66566-B0EC-469B-8F9D-83CF9265C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29C5F1-19D7-4646-825B-550C404F99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5A563D-0B2F-4B72-9992-34F5B803DE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BB1383-A502-41B5-9424-7FFEEB64051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23CE6D-665C-4120-98FD-C7751A6408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088364B-2EFD-41E4-A365-C4F37A32FD4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A109852-1281-4470-BEB1-9FC9A1F4B8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A7640CD-495A-47E6-A308-1CB6712926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92916E6-A247-4BCC-8FD5-2509028802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AFCADD-D375-4ACC-B975-5AEDE3A12B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6B2564A-DB04-422F-87F5-FE2D6902BCC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8C0F0C-AA29-4023-8649-E9EF01D97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5444B1-01C2-4B6D-93CA-D444B567375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FBFA188-4016-4C52-B747-2A25E03D830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D817B6-DAF1-4CB5-98D8-76C3B728DB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052585-F328-47AE-9A9A-0C3B9457FD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AD8A7C-A5F2-40AA-AB72-507BFB81FF1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B816F6E-2807-4FBC-AC6B-426CD4FDC6F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0E94C7-BC37-4801-B6B7-88BBD11EF98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9FBBD1C-6B42-4276-83C9-776B0F94F8D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32BFB7C-368A-4606-A947-13E41811CE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E28EA9-A55A-4B17-B9FB-B6BBDC67F8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85126-F3C7-4D5D-BCA7-2EF1538D5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FE864C9-2C1B-401D-971C-A43DB43B09E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E637430-30BA-405E-B693-000D0636530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E739224-FA7B-44DF-A175-4BFB522748F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F387DA-E45B-47CA-8F6A-0841350B3E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53443A-AED5-4872-A620-6D1AE845A9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633806-3AD7-4881-9CB2-715D74AECE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66752D0-BD56-44DA-8C3A-ADF6691BE02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C2A5BC6-34FC-48E6-AF3C-5C16D7509F8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6EAAAC-0873-4225-B044-1DED64BD899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16EF1F7-0F2F-4E36-842F-277BAD6DC11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9BBBF6-E00F-4526-9158-8F2881808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4B414EC-12DC-47D6-A650-46CB88B5B93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1CD3E93-A9EE-4AD8-97D0-618EF8D8719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408EA99-F268-424C-BBD6-9FB3890D4E2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C63A8A9-803D-4F32-A9C6-E0F3E3F8B7C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0C2B2E5-9590-41E7-B224-207B35D5B23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795136-7940-4353-A693-F1D5F6A40BB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7A271C6-2969-49C8-BB04-E7C660D53A3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8E43BEE-6BA4-45BF-937A-5A0075953C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7952BCD-6FFF-4FE9-A924-316ADF64370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7FD670D-076B-4A5A-AAAB-43318090746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9C1A-A369-47F5-AA52-5B06D9A83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E775C6F-471A-4B87-849B-F450744EBC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B3A5A-15F9-45B5-A9FB-4FE385CC8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8B12-6D2C-4A8E-A205-48DD8A2FD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4D816-02D7-4C8C-B2D0-21485132A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8F7D9-91C6-40EC-84A3-2172D0629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25A65-923B-4DE7-B00F-942244266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5DA5AA-A53B-42FE-BEFC-7A0E98536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B71B2-843E-4DF9-8764-63BBA1751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46F39-4405-4B00-B01F-88D235484F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C48781-C3F3-4D65-A25C-E39D2497D1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29682-EB7E-469A-A98E-4315F2138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46CBF8-9DC4-4E49-A05D-DC582C4E69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FF5253-9B23-42C9-9CB2-F31C4BF2EB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175FD-CE12-443A-B681-DAB37666F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03D656-227B-4F07-A573-C7C67A1818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2C671-3A5B-43C1-8B6D-0D3A0207EF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A85A4-CEBF-4A4A-8F01-570E53F651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5300D-F812-4455-BD3C-4EB045BEF7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D5B3A7-932C-4422-8532-F7FF02D28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1B0E1A-3851-473B-9870-5ED0D8E863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4B7061-0921-445D-BC53-1013511EAE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92962D-69F9-4599-A029-33EB12B83A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244F73-FE05-4943-B0BC-8CB11A28BE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C85BB-D81A-4A74-874F-8AF6E6A6D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8623D6-3DF4-4E77-8434-04EB98C23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266E9F-5AC7-4A84-9448-117496C7A3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5FA1E-05FD-431A-97B2-1D0C81230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544A44-166D-4A29-8CD9-328A33B54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6C3B28-132A-4C0C-AD9F-3111D6570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608463-E151-4B8F-A778-7B06FC22E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6560E7-B458-4391-BA21-1A02AB0BD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F381FC-505D-4063-B4A5-E5BEE7E770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B9A199-E92F-4117-AE5E-1540B5F46E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581980-F142-43A2-9D13-BB43BB6282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2CCBB0-DE5F-4558-8602-B61337E104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5F17F-B26E-4E26-BC53-7AF8BDC4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CE0BF2-32E7-4A1C-B121-0F244D8F0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DE5F8E-4596-47CF-8C5D-B269A49DB3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632C02-5D66-4746-9CF1-09F0338F1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43DC8-6184-49F9-9E86-BAB58AA197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B890C-DC75-4EF7-B162-DF102DA4DC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EA703-EABD-4B58-BCA8-8F173DCE7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09872C-A4A2-458E-8E27-DB87A5DFC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51037-CAD8-4A43-A9BD-311D21383F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C38035-1405-49BA-82C7-406346F5FD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D91356-59C8-4AFA-A9B0-1DAE3F466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8D17A-2169-485E-BD18-6BED15C2C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BD77F8-4298-4D30-8FAB-E8A0F5B04F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538DF-B073-4EDA-B511-9261F9CD16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20D154-5821-4C05-9FD9-540EC3917C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B0899-9EA5-41E7-85B1-8521CCA405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03BB6-E8DE-4BF3-9776-336C36653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ACCDDA-A39F-4C20-856A-97083F6FAF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C768F9-C5BC-4A75-957E-A2F1529E6F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6D7F14-20DB-43D7-8917-A7C55AABCF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E628A-342E-4C47-BDB9-CB27DBE67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D6BF1-7745-40BE-B505-D674E6D6A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B8C4E-F214-429A-B14D-ECA50B3B0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1CF28-FA81-401D-B00A-76F50220C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6AE3E2-6571-47EC-899B-FB3D17E4D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DC65C0-F298-4978-9318-F226A12989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7A7113-79EC-436E-B613-6A5EBDAEBC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377BA9-B9BB-4FAD-B4DE-888BF0215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4605C2-60B2-4980-A74D-18AC20112C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3647AC-4218-4E85-8DFE-290404689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C99359-EA48-411D-9D89-31E3BF984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ABEDA7-368D-4629-BBA7-D830596DA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A91DA9-70A1-471D-A61C-1919C2B5CC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B7977-B743-4F69-8BEA-DB66BFA83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0E80D4-3E74-4093-A7EC-A280D243BB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8BF17B-F79C-4780-9FD1-2E48A814ED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F2E528-214C-4A60-801A-77195F8234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69FCC8F-BF9A-4329-933F-89D64CF3E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E06B16-9E66-4788-BD1A-F07500EC86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0088B6-774B-45D5-8DDB-C57C8FE7E6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815528-9060-40A8-A932-F90EB267D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31E10-95A9-4FA1-B774-C9A7CB8B17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E67093-79A1-4DC3-AC56-B2FAD323FF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1A5D68-B336-4A08-B34A-60ACB756A6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71FA-9EB2-4DA4-9D3A-32BF35074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0CFBB-7383-415B-A052-9D1FFC2417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0977F-E098-49F4-AFF1-AB156975D2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E45060-AAF5-4938-897B-FB97A43759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01567-62FD-451C-A2EF-34F415655E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5080A-9051-4D8B-9733-1AB4A572D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8697C4-E49F-4442-8243-51CFB49A39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7EF593-1C3D-4570-9072-0F285A1882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DEC01D-8AC9-4238-A583-2A6D688F4B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0F32AC-E33C-4D0A-9BD4-6946F2790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6C2603-7588-46DB-A253-E5536D25BE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AB74AA-13D8-4405-82DD-4713FD8DB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70EA80-B9D5-45CD-B253-7D43D2C3F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80DDBCF-E048-4CCF-937A-9D932FCD0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08AA85-EBFC-4FC8-833E-2E4091D420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FAEEC0-53F6-4B91-9594-A9D9797F2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50AA5C-87CB-4171-98A4-45CAEA770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9E357E-F2CE-4A48-940A-48C8BED9B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BC73DA-0D5D-4B5F-B58D-53952C69FC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861A4-1D9D-4591-BEBB-A6DC57584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9E76DF-9610-48F2-B840-B46DD4DD2F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EA9E51-F801-40DA-9469-C9A07EB949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C61631-0FBD-41EF-A7E8-8603865E2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3B1C60-9845-445C-ABCA-2D6A45776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8DABA1-CC31-4731-87AF-760B1F2DF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3</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870253-D2B9-4F38-BFF0-58004F928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0/22-10-0104-03-0001-tg1-sponsor-ballot-comments-d7.xls"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396310-209D-4F3D-A300-391DD2CDAA2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609120" y="68580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July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0-07-15</a:t>
            </a:r>
            <a:endParaRPr b="1" lang="en-US" sz="2000" spc="-1" strike="noStrike">
              <a:solidFill>
                <a:srgbClr val="000000"/>
              </a:solidFill>
              <a:latin typeface="Times New Roman"/>
            </a:endParaRPr>
          </a:p>
        </p:txBody>
      </p:sp>
      <p:graphicFrame>
        <p:nvGraphicFramePr>
          <p:cNvPr id="690" name="Object 11"/>
          <p:cNvGraphicFramePr/>
          <p:nvPr/>
        </p:nvGraphicFramePr>
        <p:xfrm>
          <a:off x="533520" y="2460600"/>
          <a:ext cx="8184960" cy="2263680"/>
        </p:xfrm>
        <a:graphic>
          <a:graphicData uri="http://schemas.openxmlformats.org/presentationml/2006/ole">
            <p:oleObj progId="Word.Document.12" r:id="rId1" spid="">
              <p:embed/>
              <p:pic>
                <p:nvPicPr>
                  <p:cNvPr id="691" name="Object 11" descr=""/>
                  <p:cNvPicPr/>
                  <p:nvPr/>
                </p:nvPicPr>
                <p:blipFill>
                  <a:blip r:embed="rId2"/>
                  <a:stretch/>
                </p:blipFill>
                <p:spPr>
                  <a:xfrm>
                    <a:off x="533520" y="2460600"/>
                    <a:ext cx="8184960" cy="2263680"/>
                  </a:xfrm>
                  <a:prstGeom prst="rect">
                    <a:avLst/>
                  </a:prstGeom>
                  <a:ln w="0">
                    <a:noFill/>
                  </a:ln>
                </p:spPr>
              </p:pic>
            </p:oleObj>
          </a:graphicData>
        </a:graphic>
      </p:graphicFrame>
      <p:sp>
        <p:nvSpPr>
          <p:cNvPr id="692"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4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275AD3-F209-4DD8-B863-4D4499E847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47" name="Object 3"/>
          <p:cNvGraphicFramePr/>
          <p:nvPr/>
        </p:nvGraphicFramePr>
        <p:xfrm>
          <a:off x="152280" y="2362320"/>
          <a:ext cx="8691840" cy="3657600"/>
        </p:xfrm>
        <a:graphic>
          <a:graphicData uri="http://schemas.openxmlformats.org/presentationml/2006/ole">
            <p:oleObj progId="Excel.Sheet.12" r:id="rId1" spid="">
              <p:embed/>
              <p:pic>
                <p:nvPicPr>
                  <p:cNvPr id="748" name="Object 3" descr=""/>
                  <p:cNvPicPr/>
                  <p:nvPr/>
                </p:nvPicPr>
                <p:blipFill>
                  <a:blip r:embed="rId2"/>
                  <a:stretch/>
                </p:blipFill>
                <p:spPr>
                  <a:xfrm>
                    <a:off x="152280" y="2362320"/>
                    <a:ext cx="8691840" cy="36576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5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BE3C86-F187-4025-A7ED-81FBE539C5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54" name="Object 4"/>
          <p:cNvGraphicFramePr/>
          <p:nvPr/>
        </p:nvGraphicFramePr>
        <p:xfrm>
          <a:off x="228600" y="2438280"/>
          <a:ext cx="8712360" cy="3200400"/>
        </p:xfrm>
        <a:graphic>
          <a:graphicData uri="http://schemas.openxmlformats.org/presentationml/2006/ole">
            <p:oleObj progId="Excel.Sheet.12" r:id="rId1" spid="">
              <p:embed/>
              <p:pic>
                <p:nvPicPr>
                  <p:cNvPr id="755" name="Object 4" descr=""/>
                  <p:cNvPicPr/>
                  <p:nvPr/>
                </p:nvPicPr>
                <p:blipFill>
                  <a:blip r:embed="rId2"/>
                  <a:stretch/>
                </p:blipFill>
                <p:spPr>
                  <a:xfrm>
                    <a:off x="228600" y="2438280"/>
                    <a:ext cx="8712360" cy="3200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5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BF491C-5D18-4F91-B5B1-77E1369B87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9" name="Rectangle 1"/>
          <p:cNvSpPr/>
          <p:nvPr/>
        </p:nvSpPr>
        <p:spPr>
          <a:xfrm>
            <a:off x="380880" y="1716120"/>
            <a:ext cx="8458200" cy="42832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 WG Motion 10 – Document – 22-10-0127 Rev2</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PMingLiU"/>
              </a:rPr>
              <a:t>Motion: Request that the IEEE P802.22.1 TG Chair issue the P802.22.1 Draft 8.0 by July 22</a:t>
            </a:r>
            <a:r>
              <a:rPr b="1" lang="en-US" sz="2400" spc="-1" strike="noStrike" baseline="30000">
                <a:solidFill>
                  <a:srgbClr val="000000"/>
                </a:solidFill>
                <a:latin typeface="Times New Roman"/>
                <a:ea typeface="PMingLiU"/>
              </a:rPr>
              <a:t>nd</a:t>
            </a:r>
            <a:r>
              <a:rPr b="1" lang="en-US" sz="2400" spc="-1" strike="noStrike">
                <a:solidFill>
                  <a:srgbClr val="000000"/>
                </a:solidFill>
                <a:latin typeface="Times New Roman"/>
                <a:ea typeface="PMingLiU"/>
              </a:rPr>
              <a:t> and launch the Sponsor Ballot Recirculation Ballot #2 based on P802.22.1 Draft v7.0 as modified by the comment resolutions contained in 22-10-0104 Rev 1, to start by July 22</a:t>
            </a:r>
            <a:r>
              <a:rPr b="1" lang="en-US" sz="2400" spc="-1" strike="noStrike" baseline="30000">
                <a:solidFill>
                  <a:srgbClr val="000000"/>
                </a:solidFill>
                <a:latin typeface="Times New Roman"/>
                <a:ea typeface="PMingLiU"/>
              </a:rPr>
              <a:t>nd</a:t>
            </a:r>
            <a:r>
              <a:rPr b="1" lang="en-US" sz="2400" spc="-1" strike="noStrike">
                <a:solidFill>
                  <a:srgbClr val="000000"/>
                </a:solidFill>
                <a:latin typeface="Times New Roman"/>
                <a:ea typeface="PMingLiU"/>
              </a:rPr>
              <a:t>, 2010 and that the WG Chair request Conditional Approval to forward P8022.1 to the IEEE SA RevCom.</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v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Second: </a:t>
            </a:r>
            <a:endParaRPr b="1" lang="en-US" sz="2400" spc="-1" strike="noStrike">
              <a:solidFill>
                <a:srgbClr val="000000"/>
              </a:solidFill>
              <a:latin typeface="Times New Roman"/>
            </a:endParaRPr>
          </a:p>
        </p:txBody>
      </p:sp>
      <p:sp>
        <p:nvSpPr>
          <p:cNvPr id="7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6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6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2F2DA4-03F1-4D9D-9397-71487A3552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5" name="Rectangle 8"/>
          <p:cNvSpPr/>
          <p:nvPr/>
        </p:nvSpPr>
        <p:spPr>
          <a:xfrm>
            <a:off x="304920" y="1752480"/>
            <a:ext cx="8686800" cy="15562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IEEE SB Re-circ #2</a:t>
            </a:r>
            <a:endParaRPr b="1" lang="en-US" sz="24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 Issue IEEE P802.22.1 Draft 8.0 </a:t>
            </a:r>
            <a:endParaRPr b="1"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 August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Re-circulation #2</a:t>
            </a:r>
            <a:endParaRPr b="1"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1 to the IEEE Standards Review Committee.</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6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6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614AE7-0C85-455A-BA6E-0F8DAAF025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0"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7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7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82C5BA-48A0-44F5-B357-06E7DF0906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4"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2</a:t>
            </a:r>
            <a:endParaRPr b="1" lang="en-US" sz="6600" spc="-1" strike="noStrike">
              <a:solidFill>
                <a:srgbClr val="000000"/>
              </a:solidFill>
              <a:latin typeface="Times New Roman"/>
            </a:endParaRPr>
          </a:p>
        </p:txBody>
      </p:sp>
      <p:sp>
        <p:nvSpPr>
          <p:cNvPr id="775" name="Rectangle 3"/>
          <p:cNvSpPr/>
          <p:nvPr/>
        </p:nvSpPr>
        <p:spPr>
          <a:xfrm>
            <a:off x="685800" y="2514600"/>
            <a:ext cx="8001000" cy="1600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Extend the PAR of the IEEE P802.22 Standard by Two Years</a:t>
            </a:r>
            <a:endParaRPr b="1"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7621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Current Status of the Draft</a:t>
            </a:r>
            <a:endParaRPr b="1" lang="en-US" sz="3200" spc="-1" strike="noStrike">
              <a:solidFill>
                <a:srgbClr val="000000"/>
              </a:solidFill>
              <a:latin typeface="Times New Roman"/>
            </a:endParaRPr>
          </a:p>
        </p:txBody>
      </p:sp>
      <p:sp>
        <p:nvSpPr>
          <p:cNvPr id="77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7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7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7B826E-446D-4404-A8C6-DEA232DB03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80" name=""/>
          <p:cNvGraphicFramePr/>
          <p:nvPr/>
        </p:nvGraphicFramePr>
        <p:xfrm>
          <a:off x="609480" y="1371600"/>
          <a:ext cx="7848720" cy="3048120"/>
        </p:xfrm>
        <a:graphic>
          <a:graphicData uri="http://schemas.openxmlformats.org/drawingml/2006/table">
            <a:tbl>
              <a:tblPr/>
              <a:tblGrid>
                <a:gridCol w="1251000"/>
                <a:gridCol w="959040"/>
                <a:gridCol w="761760"/>
                <a:gridCol w="1447920"/>
                <a:gridCol w="1143000"/>
                <a:gridCol w="1295280"/>
                <a:gridCol w="99072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0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08</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8</a:t>
                      </a:r>
                      <a:r>
                        <a:rPr b="0" lang="en-US" sz="1600" spc="-1" strike="noStrike">
                          <a:solidFill>
                            <a:srgbClr val="000000"/>
                          </a:solidFill>
                          <a:latin typeface="Times New Roman"/>
                        </a:rPr>
                        <a:t> (526 T, 452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0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3</a:t>
                      </a:r>
                      <a:r>
                        <a:rPr b="0" lang="en-US" sz="1600" spc="-1" strike="noStrike">
                          <a:solidFill>
                            <a:srgbClr val="000000"/>
                          </a:solidFill>
                          <a:latin typeface="Times New Roman"/>
                        </a:rPr>
                        <a:t> (942 T,  707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78%</a:t>
                      </a:r>
                      <a:endParaRPr b="1" lang="en-US" sz="3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a:t>
                      </a:r>
                      <a:r>
                        <a:rPr b="0" lang="en-US" sz="1600" spc="-1" strike="noStrike">
                          <a:solidFill>
                            <a:srgbClr val="000000"/>
                          </a:solidFill>
                          <a:latin typeface="Times New Roman"/>
                        </a:rPr>
                        <a:t> (432 T, 286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are being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4.0 Being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81" name="Rectangle 54"/>
          <p:cNvSpPr/>
          <p:nvPr/>
        </p:nvSpPr>
        <p:spPr>
          <a:xfrm>
            <a:off x="533520" y="5762880"/>
            <a:ext cx="8381880" cy="610200"/>
          </a:xfrm>
          <a:prstGeom prst="rect">
            <a:avLst/>
          </a:prstGeom>
          <a:noFill/>
          <a:ln w="0">
            <a:noFill/>
          </a:ln>
        </p:spPr>
        <p:style>
          <a:lnRef idx="0"/>
          <a:fillRef idx="0"/>
          <a:effectRef idx="0"/>
          <a:fontRef idx="minor"/>
        </p:style>
        <p:txBody>
          <a:bodyPr lIns="92160" rIns="921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PMingLiU"/>
              </a:rPr>
              <a:t>IEEE P802.22 is ON TRACK to reach the Sponsor Ballot in Nov. 2010 and to Complete the Sponsor Ballot Process by Jun 2012</a:t>
            </a:r>
            <a:endParaRPr b="1" lang="en-US" sz="2000" spc="-1" strike="noStrike">
              <a:solidFill>
                <a:srgbClr val="000000"/>
              </a:solidFill>
              <a:latin typeface="Times New Roman"/>
            </a:endParaRPr>
          </a:p>
        </p:txBody>
      </p:sp>
      <p:sp>
        <p:nvSpPr>
          <p:cNvPr id="782" name="Rounded Rectangular Callout 10"/>
          <p:cNvSpPr/>
          <p:nvPr/>
        </p:nvSpPr>
        <p:spPr>
          <a:xfrm>
            <a:off x="76320" y="4648320"/>
            <a:ext cx="8915400" cy="838080"/>
          </a:xfrm>
          <a:prstGeom prst="wedgeRoundRectCallout">
            <a:avLst>
              <a:gd name="adj1" fmla="val -6314"/>
              <a:gd name="adj2" fmla="val -101791"/>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PMingLiU"/>
              </a:rPr>
              <a:t>Based on the Resolution to the Comments as contained in Document 22-10-0078 Rev 13</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As per the IEEE P802.22 WG P&amp;P  as contained in 22-04-0001 Rev 0 </a:t>
            </a:r>
            <a:endParaRPr b="1"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sons why Extension is Requested</a:t>
            </a:r>
            <a:endParaRPr b="1" lang="en-US" sz="3600" spc="-1" strike="noStrike">
              <a:solidFill>
                <a:srgbClr val="000000"/>
              </a:solidFill>
              <a:latin typeface="Times New Roman"/>
            </a:endParaRPr>
          </a:p>
        </p:txBody>
      </p:sp>
      <p:sp>
        <p:nvSpPr>
          <p:cNvPr id="78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8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8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FE786A-9F95-4BE0-893B-827F2C404D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7" name="Rectangle 54"/>
          <p:cNvSpPr/>
          <p:nvPr/>
        </p:nvSpPr>
        <p:spPr>
          <a:xfrm>
            <a:off x="304920" y="1543320"/>
            <a:ext cx="8381880" cy="4023720"/>
          </a:xfrm>
          <a:prstGeom prst="rect">
            <a:avLst/>
          </a:prstGeom>
          <a:noFill/>
          <a:ln w="0">
            <a:noFill/>
          </a:ln>
        </p:spPr>
        <p:style>
          <a:lnRef idx="0"/>
          <a:fillRef idx="0"/>
          <a:effectRef idx="0"/>
          <a:fontRef idx="minor"/>
        </p:style>
        <p:txBody>
          <a:bodyPr lIns="92160" rIns="92160" tIns="0" bIns="0" anchor="ctr">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EEE P802.22 WG is responsible for three Projects</a:t>
            </a:r>
            <a:r>
              <a:rPr b="0" lang="en-GB" sz="2400" spc="-1" strike="noStrike">
                <a:solidFill>
                  <a:srgbClr val="000000"/>
                </a:solidFill>
                <a:latin typeface="Times New Roman"/>
              </a:rPr>
              <a:t>. P802.22 (WG Letter Ballot Stage), P802.22.1 (Sponsor Ballot Re-circ Stage and likely to be sent to IEEE RevCom this year), P802.22.2 (Contributions Stage) – </a:t>
            </a:r>
            <a:r>
              <a:rPr b="1" i="1" lang="en-GB" sz="2400" spc="-1" strike="noStrike">
                <a:solidFill>
                  <a:srgbClr val="000000"/>
                </a:solidFill>
                <a:latin typeface="Times New Roman"/>
              </a:rPr>
              <a:t>We have made progress</a:t>
            </a:r>
            <a:r>
              <a:rPr b="0" lang="en-GB" sz="2400" spc="-1" strike="noStrike">
                <a:solidFill>
                  <a:srgbClr val="000000"/>
                </a:solidFill>
                <a:latin typeface="Times New Roman"/>
              </a:rPr>
              <a:t>.</a:t>
            </a:r>
            <a:endParaRPr b="1" lang="en-US" sz="24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regulatory rules for the targeted spectrum are still evolving and not finalized as yet</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802.22 has had two changes in leadership since the beginning</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231840" indent="-231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EEE P802.22 highly motivated to complete this standard is ON TRACK to reach the Sponsor Ballot in Nov. 2010 and to Complete the Sponsor Ballot Process by Jun 2012</a:t>
            </a: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28600" y="990720"/>
            <a:ext cx="8763120" cy="4952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Extension of the IEEE P802.22 PAR by Two Years and Submission of the PAR Extension Request Form (Doc: 22-10-0117 Rev2) to IEEE NESCOM</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Apurva N. Mody,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________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_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ainst: 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ain: 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Passes / Fails</a:t>
            </a:r>
            <a:endParaRPr b="1" lang="en-US" sz="2800" spc="-1" strike="noStrike">
              <a:solidFill>
                <a:srgbClr val="000000"/>
              </a:solidFill>
              <a:latin typeface="Times New Roman"/>
            </a:endParaRPr>
          </a:p>
        </p:txBody>
      </p:sp>
      <p:sp>
        <p:nvSpPr>
          <p:cNvPr id="78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9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CBA099-5EF6-45B2-8DF9-36FC47ED4D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9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ED38B9-0B6B-4FE7-8311-469765A749B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5"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3</a:t>
            </a:r>
            <a:endParaRPr b="1" lang="en-US" sz="6600" spc="-1" strike="noStrike">
              <a:solidFill>
                <a:srgbClr val="000000"/>
              </a:solidFill>
              <a:latin typeface="Times New Roman"/>
            </a:endParaRPr>
          </a:p>
        </p:txBody>
      </p:sp>
      <p:sp>
        <p:nvSpPr>
          <p:cNvPr id="796" name="Rectangle 3"/>
          <p:cNvSpPr/>
          <p:nvPr/>
        </p:nvSpPr>
        <p:spPr>
          <a:xfrm>
            <a:off x="380880" y="259092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Extend the PAR of the IEEE P802.22.2 Standard by Three Years</a:t>
            </a:r>
            <a:endParaRPr b="1"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20CEB0-08B7-4F7C-B2C2-A4AE91492D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1</a:t>
            </a:r>
            <a:endParaRPr b="1" lang="en-US" sz="6600" spc="-1" strike="noStrike">
              <a:solidFill>
                <a:srgbClr val="000000"/>
              </a:solidFill>
              <a:latin typeface="Times New Roman"/>
            </a:endParaRPr>
          </a:p>
        </p:txBody>
      </p:sp>
      <p:sp>
        <p:nvSpPr>
          <p:cNvPr id="69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1 to the IEEE SA RevCom</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sons why Extension is Requested</a:t>
            </a:r>
            <a:endParaRPr b="1" lang="en-US" sz="3600" spc="-1" strike="noStrike">
              <a:solidFill>
                <a:srgbClr val="000000"/>
              </a:solidFill>
              <a:latin typeface="Times New Roman"/>
            </a:endParaRPr>
          </a:p>
        </p:txBody>
      </p:sp>
      <p:sp>
        <p:nvSpPr>
          <p:cNvPr id="79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EB7F4-2168-46F3-A50F-5FDC31B256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1" name="Rectangle 54"/>
          <p:cNvSpPr/>
          <p:nvPr/>
        </p:nvSpPr>
        <p:spPr>
          <a:xfrm>
            <a:off x="380880" y="1397520"/>
            <a:ext cx="8382240" cy="4996440"/>
          </a:xfrm>
          <a:prstGeom prst="rect">
            <a:avLst/>
          </a:prstGeom>
          <a:noFill/>
          <a:ln w="0">
            <a:noFill/>
          </a:ln>
        </p:spPr>
        <p:style>
          <a:lnRef idx="0"/>
          <a:fillRef idx="0"/>
          <a:effectRef idx="0"/>
          <a:fontRef idx="minor"/>
        </p:style>
        <p:txBody>
          <a:bodyPr lIns="92160" rIns="92160" tIns="0" bIns="0" anchor="ctr">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velopment of IEEE P802.22.2 is dependent upon the advancement of IEEE P802.22 Standard</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gulatory rules for the targeted spectrum are still evolving and not finalized as yet</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22.2 plans to launch its WG Letter Ballot 1.0 in August 2010.</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talked to Lisa Yacone from IEEE-SA and she advised us to ask for a three year extension for this standard</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p:nvPr>
        </p:nvSpPr>
        <p:spPr>
          <a:xfrm>
            <a:off x="152280" y="1066680"/>
            <a:ext cx="8763120" cy="51818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Extension of the IEEE P802.22.2 PAR by Three Years and Submission of the PAR Extension Request Form (Doc: 22-10-0120 Rev2) to IEEE NESCOM</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Apurva N. Mody,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________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_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ainst: 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ain: 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Passes / Fails</a:t>
            </a:r>
            <a:endParaRPr b="1" lang="en-US" sz="2800" spc="-1" strike="noStrike">
              <a:solidFill>
                <a:srgbClr val="000000"/>
              </a:solidFill>
              <a:latin typeface="Times New Roman"/>
            </a:endParaRPr>
          </a:p>
        </p:txBody>
      </p:sp>
      <p:sp>
        <p:nvSpPr>
          <p:cNvPr id="80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0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B22099-DD1A-4D57-8F8A-AF4BFC10DA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0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0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5C67A9-55E8-468F-9D0C-EA577A41871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0"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11" name="Object 4"/>
          <p:cNvGraphicFramePr/>
          <p:nvPr/>
        </p:nvGraphicFramePr>
        <p:xfrm>
          <a:off x="380880" y="2057400"/>
          <a:ext cx="8305920" cy="3998880"/>
        </p:xfrm>
        <a:graphic>
          <a:graphicData uri="http://schemas.openxmlformats.org/presentationml/2006/ole">
            <p:oleObj progId="Excel.Sheet.12" r:id="rId1" spid="">
              <p:embed/>
              <p:pic>
                <p:nvPicPr>
                  <p:cNvPr id="812" name="Object 4" descr=""/>
                  <p:cNvPicPr/>
                  <p:nvPr/>
                </p:nvPicPr>
                <p:blipFill>
                  <a:blip r:embed="rId2"/>
                  <a:stretch/>
                </p:blipFill>
                <p:spPr>
                  <a:xfrm>
                    <a:off x="380880" y="2057400"/>
                    <a:ext cx="8305920" cy="39988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1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1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1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77A3C0-1680-490A-AE7C-DF3FC00CA23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7"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18" name="Object 3"/>
          <p:cNvGraphicFramePr/>
          <p:nvPr/>
        </p:nvGraphicFramePr>
        <p:xfrm>
          <a:off x="228600" y="1981080"/>
          <a:ext cx="8712360" cy="3657600"/>
        </p:xfrm>
        <a:graphic>
          <a:graphicData uri="http://schemas.openxmlformats.org/presentationml/2006/ole">
            <p:oleObj progId="Excel.Sheet.12" r:id="rId1" spid="">
              <p:embed/>
              <p:pic>
                <p:nvPicPr>
                  <p:cNvPr id="819" name="Object 3" descr=""/>
                  <p:cNvPicPr/>
                  <p:nvPr/>
                </p:nvPicPr>
                <p:blipFill>
                  <a:blip r:embed="rId2"/>
                  <a:stretch/>
                </p:blipFill>
                <p:spPr>
                  <a:xfrm>
                    <a:off x="228600" y="1981080"/>
                    <a:ext cx="8712360" cy="365760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2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97B675-3A8B-434B-9D0B-43287F499CD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24"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25" name="Object 4"/>
          <p:cNvGraphicFramePr/>
          <p:nvPr/>
        </p:nvGraphicFramePr>
        <p:xfrm>
          <a:off x="380880" y="1905120"/>
          <a:ext cx="8382240" cy="4522680"/>
        </p:xfrm>
        <a:graphic>
          <a:graphicData uri="http://schemas.openxmlformats.org/presentationml/2006/ole">
            <p:oleObj progId="Excel.Sheet.12" r:id="rId1" spid="">
              <p:embed/>
              <p:pic>
                <p:nvPicPr>
                  <p:cNvPr id="826" name="Object 4" descr=""/>
                  <p:cNvPicPr/>
                  <p:nvPr/>
                </p:nvPicPr>
                <p:blipFill>
                  <a:blip r:embed="rId2"/>
                  <a:stretch/>
                </p:blipFill>
                <p:spPr>
                  <a:xfrm>
                    <a:off x="380880" y="1905120"/>
                    <a:ext cx="8382240" cy="4522680"/>
                  </a:xfrm>
                  <a:prstGeom prst="rect">
                    <a:avLst/>
                  </a:prstGeom>
                  <a:ln w="0">
                    <a:noFill/>
                  </a:ln>
                </p:spPr>
              </p:pic>
            </p:oleObj>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2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2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4E0839-91CC-4A23-9F21-F2A4704457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1"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32" name="Object 3"/>
          <p:cNvGraphicFramePr/>
          <p:nvPr/>
        </p:nvGraphicFramePr>
        <p:xfrm>
          <a:off x="380880" y="1905120"/>
          <a:ext cx="8458200" cy="4444920"/>
        </p:xfrm>
        <a:graphic>
          <a:graphicData uri="http://schemas.openxmlformats.org/presentationml/2006/ole">
            <p:oleObj progId="Excel.Sheet.12" r:id="rId1" spid="">
              <p:embed/>
              <p:pic>
                <p:nvPicPr>
                  <p:cNvPr id="833" name="Object 3" descr=""/>
                  <p:cNvPicPr/>
                  <p:nvPr/>
                </p:nvPicPr>
                <p:blipFill>
                  <a:blip r:embed="rId2"/>
                  <a:stretch/>
                </p:blipFill>
                <p:spPr>
                  <a:xfrm>
                    <a:off x="380880" y="1905120"/>
                    <a:ext cx="8458200" cy="44449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3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3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81C3FC-A83C-4A45-A6FD-F0A8DE1FDD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8"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39" name="Object 4"/>
          <p:cNvGraphicFramePr/>
          <p:nvPr/>
        </p:nvGraphicFramePr>
        <p:xfrm>
          <a:off x="271440" y="1981080"/>
          <a:ext cx="8643960" cy="4391280"/>
        </p:xfrm>
        <a:graphic>
          <a:graphicData uri="http://schemas.openxmlformats.org/presentationml/2006/ole">
            <p:oleObj progId="Excel.Sheet.12" r:id="rId1" spid="">
              <p:embed/>
              <p:pic>
                <p:nvPicPr>
                  <p:cNvPr id="840" name="Object 4" descr=""/>
                  <p:cNvPicPr/>
                  <p:nvPr/>
                </p:nvPicPr>
                <p:blipFill>
                  <a:blip r:embed="rId2"/>
                  <a:stretch/>
                </p:blipFill>
                <p:spPr>
                  <a:xfrm>
                    <a:off x="271440" y="1981080"/>
                    <a:ext cx="8643960" cy="439128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4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4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4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6FB574-4F74-452F-BFF6-9D6508F39A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45"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46" name="Object 3"/>
          <p:cNvGraphicFramePr/>
          <p:nvPr/>
        </p:nvGraphicFramePr>
        <p:xfrm>
          <a:off x="457200" y="2057400"/>
          <a:ext cx="8229600" cy="3962520"/>
        </p:xfrm>
        <a:graphic>
          <a:graphicData uri="http://schemas.openxmlformats.org/presentationml/2006/ole">
            <p:oleObj progId="Excel.Sheet.12" r:id="rId1" spid="">
              <p:embed/>
              <p:pic>
                <p:nvPicPr>
                  <p:cNvPr id="847" name="Object 3" descr=""/>
                  <p:cNvPicPr/>
                  <p:nvPr/>
                </p:nvPicPr>
                <p:blipFill>
                  <a:blip r:embed="rId2"/>
                  <a:stretch/>
                </p:blipFill>
                <p:spPr>
                  <a:xfrm>
                    <a:off x="457200" y="2057400"/>
                    <a:ext cx="8229600" cy="396252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4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5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5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0AED75-E1C3-498F-8DAA-943D6E2674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52"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53" name="Object 3"/>
          <p:cNvGraphicFramePr/>
          <p:nvPr/>
        </p:nvGraphicFramePr>
        <p:xfrm>
          <a:off x="304920" y="2057400"/>
          <a:ext cx="8704080" cy="4191120"/>
        </p:xfrm>
        <a:graphic>
          <a:graphicData uri="http://schemas.openxmlformats.org/presentationml/2006/ole">
            <p:oleObj progId="Excel.Sheet.12" r:id="rId1" spid="">
              <p:embed/>
              <p:pic>
                <p:nvPicPr>
                  <p:cNvPr id="854" name="Object 3" descr=""/>
                  <p:cNvPicPr/>
                  <p:nvPr/>
                </p:nvPicPr>
                <p:blipFill>
                  <a:blip r:embed="rId2"/>
                  <a:stretch/>
                </p:blipFill>
                <p:spPr>
                  <a:xfrm>
                    <a:off x="304920" y="2057400"/>
                    <a:ext cx="8704080" cy="41911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56"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5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5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AF8268-3A8D-464F-8EA4-D968BB333A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59"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60" name="Object 3"/>
          <p:cNvGraphicFramePr/>
          <p:nvPr/>
        </p:nvGraphicFramePr>
        <p:xfrm>
          <a:off x="380880" y="2057400"/>
          <a:ext cx="8302680" cy="3733920"/>
        </p:xfrm>
        <a:graphic>
          <a:graphicData uri="http://schemas.openxmlformats.org/presentationml/2006/ole">
            <p:oleObj progId="Excel.Sheet.12" r:id="rId1" spid="">
              <p:embed/>
              <p:pic>
                <p:nvPicPr>
                  <p:cNvPr id="861" name="Object 3" descr=""/>
                  <p:cNvPicPr/>
                  <p:nvPr/>
                </p:nvPicPr>
                <p:blipFill>
                  <a:blip r:embed="rId2"/>
                  <a:stretch/>
                </p:blipFill>
                <p:spPr>
                  <a:xfrm>
                    <a:off x="380880" y="2057400"/>
                    <a:ext cx="8302680" cy="373392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1 to the IEEE SA RevCom</a:t>
            </a:r>
            <a:endParaRPr b="1" lang="en-US" sz="2800" spc="-1" strike="noStrike">
              <a:solidFill>
                <a:srgbClr val="000000"/>
              </a:solidFill>
              <a:latin typeface="Times New Roman"/>
            </a:endParaRPr>
          </a:p>
        </p:txBody>
      </p:sp>
      <p:sp>
        <p:nvSpPr>
          <p:cNvPr id="70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1"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6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6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6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578DF0-A97A-45C6-A41A-9069E42257D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6"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67" name="Object 3"/>
          <p:cNvGraphicFramePr/>
          <p:nvPr/>
        </p:nvGraphicFramePr>
        <p:xfrm>
          <a:off x="304920" y="1905120"/>
          <a:ext cx="8640720" cy="3886200"/>
        </p:xfrm>
        <a:graphic>
          <a:graphicData uri="http://schemas.openxmlformats.org/presentationml/2006/ole">
            <p:oleObj progId="Excel.Sheet.12" r:id="rId1" spid="">
              <p:embed/>
              <p:pic>
                <p:nvPicPr>
                  <p:cNvPr id="868" name="Object 3" descr=""/>
                  <p:cNvPicPr/>
                  <p:nvPr/>
                </p:nvPicPr>
                <p:blipFill>
                  <a:blip r:embed="rId2"/>
                  <a:stretch/>
                </p:blipFill>
                <p:spPr>
                  <a:xfrm>
                    <a:off x="304920" y="1905120"/>
                    <a:ext cx="8640720" cy="38862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7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7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BA8EF2-32A1-497A-8A91-028419B1B6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73"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74" name="Object 3"/>
          <p:cNvGraphicFramePr/>
          <p:nvPr/>
        </p:nvGraphicFramePr>
        <p:xfrm>
          <a:off x="380880" y="2057400"/>
          <a:ext cx="8585280" cy="3733920"/>
        </p:xfrm>
        <a:graphic>
          <a:graphicData uri="http://schemas.openxmlformats.org/presentationml/2006/ole">
            <p:oleObj progId="Excel.Sheet.12" r:id="rId1" spid="">
              <p:embed/>
              <p:pic>
                <p:nvPicPr>
                  <p:cNvPr id="875" name="Object 3" descr=""/>
                  <p:cNvPicPr/>
                  <p:nvPr/>
                </p:nvPicPr>
                <p:blipFill>
                  <a:blip r:embed="rId2"/>
                  <a:stretch/>
                </p:blipFill>
                <p:spPr>
                  <a:xfrm>
                    <a:off x="380880" y="2057400"/>
                    <a:ext cx="8585280" cy="37339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7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7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FB28C4-0622-45C0-A76B-CF62A6309F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0"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81" name="Object 3"/>
          <p:cNvGraphicFramePr/>
          <p:nvPr/>
        </p:nvGraphicFramePr>
        <p:xfrm>
          <a:off x="380880" y="1981080"/>
          <a:ext cx="8229600" cy="4430880"/>
        </p:xfrm>
        <a:graphic>
          <a:graphicData uri="http://schemas.openxmlformats.org/presentationml/2006/ole">
            <p:oleObj progId="Excel.Sheet.12" r:id="rId1" spid="">
              <p:embed/>
              <p:pic>
                <p:nvPicPr>
                  <p:cNvPr id="882" name="Object 3" descr=""/>
                  <p:cNvPicPr/>
                  <p:nvPr/>
                </p:nvPicPr>
                <p:blipFill>
                  <a:blip r:embed="rId2"/>
                  <a:stretch/>
                </p:blipFill>
                <p:spPr>
                  <a:xfrm>
                    <a:off x="380880" y="1981080"/>
                    <a:ext cx="8229600" cy="443088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8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8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8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55DE87-3314-46E7-A351-15E9BD3AB3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7"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88" name="Object 3"/>
          <p:cNvGraphicFramePr/>
          <p:nvPr/>
        </p:nvGraphicFramePr>
        <p:xfrm>
          <a:off x="304920" y="2057400"/>
          <a:ext cx="8467560" cy="3429000"/>
        </p:xfrm>
        <a:graphic>
          <a:graphicData uri="http://schemas.openxmlformats.org/presentationml/2006/ole">
            <p:oleObj progId="Excel.Sheet.12" r:id="rId1" spid="">
              <p:embed/>
              <p:pic>
                <p:nvPicPr>
                  <p:cNvPr id="889" name="Object 3" descr=""/>
                  <p:cNvPicPr/>
                  <p:nvPr/>
                </p:nvPicPr>
                <p:blipFill>
                  <a:blip r:embed="rId2"/>
                  <a:stretch/>
                </p:blipFill>
                <p:spPr>
                  <a:xfrm>
                    <a:off x="304920" y="2057400"/>
                    <a:ext cx="8467560" cy="3429000"/>
                  </a:xfrm>
                  <a:prstGeom prst="rect">
                    <a:avLst/>
                  </a:prstGeom>
                  <a:ln w="0">
                    <a:noFill/>
                  </a:ln>
                </p:spPr>
              </p:pic>
            </p:oleObj>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9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9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9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18F739-FFD8-4AEB-A1F6-60D942FFB6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94"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95" name="Object 3"/>
          <p:cNvGraphicFramePr/>
          <p:nvPr/>
        </p:nvGraphicFramePr>
        <p:xfrm>
          <a:off x="533520" y="1981080"/>
          <a:ext cx="8001000" cy="4438800"/>
        </p:xfrm>
        <a:graphic>
          <a:graphicData uri="http://schemas.openxmlformats.org/presentationml/2006/ole">
            <p:oleObj progId="Excel.Sheet.12" r:id="rId1" spid="">
              <p:embed/>
              <p:pic>
                <p:nvPicPr>
                  <p:cNvPr id="896" name="Object 3" descr=""/>
                  <p:cNvPicPr/>
                  <p:nvPr/>
                </p:nvPicPr>
                <p:blipFill>
                  <a:blip r:embed="rId2"/>
                  <a:stretch/>
                </p:blipFill>
                <p:spPr>
                  <a:xfrm>
                    <a:off x="533520" y="1981080"/>
                    <a:ext cx="8001000" cy="443880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9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9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0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7D402B3-4F01-45F3-B8CA-3EF1A4A655A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1"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02" name="Object 3"/>
          <p:cNvGraphicFramePr/>
          <p:nvPr/>
        </p:nvGraphicFramePr>
        <p:xfrm>
          <a:off x="380880" y="2057400"/>
          <a:ext cx="8196480" cy="3809880"/>
        </p:xfrm>
        <a:graphic>
          <a:graphicData uri="http://schemas.openxmlformats.org/presentationml/2006/ole">
            <p:oleObj progId="Excel.Sheet.12" r:id="rId1" spid="">
              <p:embed/>
              <p:pic>
                <p:nvPicPr>
                  <p:cNvPr id="903" name="Object 3" descr=""/>
                  <p:cNvPicPr/>
                  <p:nvPr/>
                </p:nvPicPr>
                <p:blipFill>
                  <a:blip r:embed="rId2"/>
                  <a:stretch/>
                </p:blipFill>
                <p:spPr>
                  <a:xfrm>
                    <a:off x="380880" y="2057400"/>
                    <a:ext cx="8196480" cy="38098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0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0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0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24C801-5142-46D0-990B-F7A21B5762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8"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09" name="Object 3"/>
          <p:cNvGraphicFramePr/>
          <p:nvPr/>
        </p:nvGraphicFramePr>
        <p:xfrm>
          <a:off x="533520" y="1981080"/>
          <a:ext cx="7986600" cy="4191120"/>
        </p:xfrm>
        <a:graphic>
          <a:graphicData uri="http://schemas.openxmlformats.org/presentationml/2006/ole">
            <p:oleObj progId="Excel.Sheet.12" r:id="rId1" spid="">
              <p:embed/>
              <p:pic>
                <p:nvPicPr>
                  <p:cNvPr id="910" name="Object 3" descr=""/>
                  <p:cNvPicPr/>
                  <p:nvPr/>
                </p:nvPicPr>
                <p:blipFill>
                  <a:blip r:embed="rId2"/>
                  <a:stretch/>
                </p:blipFill>
                <p:spPr>
                  <a:xfrm>
                    <a:off x="533520" y="1981080"/>
                    <a:ext cx="7986600" cy="4191120"/>
                  </a:xfrm>
                  <a:prstGeom prst="rect">
                    <a:avLst/>
                  </a:prstGeom>
                  <a:ln w="0">
                    <a:noFill/>
                  </a:ln>
                </p:spPr>
              </p:pic>
            </p:oleObj>
          </a:graphicData>
        </a:graphic>
      </p:graphicFrame>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1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1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1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87EC26-B526-45D6-AC77-D1E90ECFC8B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15"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16" name="Object 3"/>
          <p:cNvGraphicFramePr/>
          <p:nvPr/>
        </p:nvGraphicFramePr>
        <p:xfrm>
          <a:off x="304920" y="1981080"/>
          <a:ext cx="8673840" cy="3124440"/>
        </p:xfrm>
        <a:graphic>
          <a:graphicData uri="http://schemas.openxmlformats.org/presentationml/2006/ole">
            <p:oleObj progId="Excel.Sheet.12" r:id="rId1" spid="">
              <p:embed/>
              <p:pic>
                <p:nvPicPr>
                  <p:cNvPr id="917" name="Object 3" descr=""/>
                  <p:cNvPicPr/>
                  <p:nvPr/>
                </p:nvPicPr>
                <p:blipFill>
                  <a:blip r:embed="rId2"/>
                  <a:stretch/>
                </p:blipFill>
                <p:spPr>
                  <a:xfrm>
                    <a:off x="304920" y="1981080"/>
                    <a:ext cx="8673840" cy="312444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to the IEEE SA RevCom</a:t>
            </a:r>
            <a:endParaRPr b="1" lang="en-US" sz="2400" spc="-1" strike="noStrike">
              <a:solidFill>
                <a:srgbClr val="000000"/>
              </a:solidFill>
              <a:latin typeface="Times New Roman"/>
            </a:endParaRPr>
          </a:p>
        </p:txBody>
      </p:sp>
      <p:sp>
        <p:nvSpPr>
          <p:cNvPr id="70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F17412-3203-4665-9A40-5D88FEE3EF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6" name=""/>
          <p:cNvGraphicFramePr/>
          <p:nvPr/>
        </p:nvGraphicFramePr>
        <p:xfrm>
          <a:off x="304920" y="1722600"/>
          <a:ext cx="8610480" cy="4724280"/>
        </p:xfrm>
        <a:graphic>
          <a:graphicData uri="http://schemas.openxmlformats.org/drawingml/2006/table">
            <a:tbl>
              <a:tblPr/>
              <a:tblGrid>
                <a:gridCol w="1371600"/>
                <a:gridCol w="838080"/>
                <a:gridCol w="1201680"/>
                <a:gridCol w="1541520"/>
                <a:gridCol w="1447920"/>
                <a:gridCol w="1218960"/>
                <a:gridCol w="990720"/>
              </a:tblGrid>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EEE Sponsor / Re-circ Ballo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ponse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roval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gative Vo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 of Negative Comments Recei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 Resolution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raft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73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Feb 5 2009, Closed – Mar 23, 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7%</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th 15 abstain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negative votes with comments, 1 negative vote without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41</a:t>
                      </a:r>
                      <a:endParaRPr b="1"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1 Draft 7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79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Re-circ #1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Jun 7, 2010, Closed Jun 22,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9%</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3% </a:t>
                      </a:r>
                      <a:r>
                        <a:rPr b="1" lang="en-US" sz="2000" spc="-1" strike="noStrike">
                          <a:solidFill>
                            <a:srgbClr val="ff0000"/>
                          </a:solidFill>
                          <a:latin typeface="Times New Roman"/>
                        </a:rPr>
                        <a:t>with 16 abstain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negative votes with comments,1 negative vote without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w dis-approves</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1 Draft 8 being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07" name="Rectangle 8"/>
          <p:cNvSpPr/>
          <p:nvPr/>
        </p:nvSpPr>
        <p:spPr>
          <a:xfrm>
            <a:off x="990720" y="1295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umber of People in the Sponsor Ballot Pool = 174</a:t>
            </a:r>
            <a:endParaRPr b="1"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0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7DE684-2AF6-4E88-8F2D-4FADCF87FF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2" name="Rectangle 8"/>
          <p:cNvSpPr/>
          <p:nvPr/>
        </p:nvSpPr>
        <p:spPr>
          <a:xfrm>
            <a:off x="76320" y="1582560"/>
            <a:ext cx="9067680" cy="478944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and Commentor Details</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 Comments were received from Peter Ecclestine during the P802.22.1 Draft 7 Sponsor Ballot Re-circ #1</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7 Negative Voters did not submit any comments during Re-circ #1</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s were addressed and resolved. The comment resolutions are incorporated here-in entirely and can also be found at </a:t>
            </a:r>
            <a:r>
              <a:rPr b="1" lang="en-US" sz="2000" spc="-1" strike="noStrike" u="sng">
                <a:solidFill>
                  <a:srgbClr val="0066ff"/>
                </a:solidFill>
                <a:uFillTx/>
                <a:latin typeface="Times New Roman"/>
                <a:hlinkClick r:id="rId1"/>
              </a:rPr>
              <a:t>https://mentor.ieee.org/802.22/dcn/10/22-10-0104-03-0001-tg1-sponsor-ballot-comments-d7.xls</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gative comments resolved but carried forward from the SB and the comment resolutions are also included in the references at the end of this presentation.</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 resolutions were circulated in the WG Electronic Confirmation ballot and we received &gt;75% approval ratio for the proposed resolutions</a:t>
            </a:r>
            <a:endParaRPr b="1" lang="en-US" sz="2000" spc="-1" strike="noStrike">
              <a:solidFill>
                <a:srgbClr val="000000"/>
              </a:solidFill>
              <a:latin typeface="Times New Roman"/>
            </a:endParaRPr>
          </a:p>
          <a:p>
            <a:pPr marL="341280" indent="-341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eter Ecclestine and Shulan Feng have agreed to change their dis-approve vote to APPROVE, based on the comment resolutions during SB and Re-circ #1.</a:t>
            </a:r>
            <a:endParaRPr b="1"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1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CBF15A-D036-4964-B5C3-C581024F9C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7"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18" name="Object 7"/>
          <p:cNvGraphicFramePr/>
          <p:nvPr/>
        </p:nvGraphicFramePr>
        <p:xfrm>
          <a:off x="228600" y="2362320"/>
          <a:ext cx="8589960" cy="3809880"/>
        </p:xfrm>
        <a:graphic>
          <a:graphicData uri="http://schemas.openxmlformats.org/presentationml/2006/ole">
            <p:oleObj progId="Excel.Sheet.12" r:id="rId1" spid="">
              <p:embed/>
              <p:pic>
                <p:nvPicPr>
                  <p:cNvPr id="719" name="Object 7" descr=""/>
                  <p:cNvPicPr/>
                  <p:nvPr/>
                </p:nvPicPr>
                <p:blipFill>
                  <a:blip r:embed="rId2"/>
                  <a:stretch/>
                </p:blipFill>
                <p:spPr>
                  <a:xfrm>
                    <a:off x="228600" y="2362320"/>
                    <a:ext cx="8589960" cy="3809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2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BBAD62-C541-4C92-88EE-203AAAEADB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4"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25" name="Object 3"/>
          <p:cNvGraphicFramePr/>
          <p:nvPr/>
        </p:nvGraphicFramePr>
        <p:xfrm>
          <a:off x="228600" y="2286000"/>
          <a:ext cx="8658360" cy="4038480"/>
        </p:xfrm>
        <a:graphic>
          <a:graphicData uri="http://schemas.openxmlformats.org/presentationml/2006/ole">
            <p:oleObj progId="Excel.Sheet.12" r:id="rId1" spid="">
              <p:embed/>
              <p:pic>
                <p:nvPicPr>
                  <p:cNvPr id="726" name="Object 3" descr=""/>
                  <p:cNvPicPr/>
                  <p:nvPr/>
                </p:nvPicPr>
                <p:blipFill>
                  <a:blip r:embed="rId2"/>
                  <a:stretch/>
                </p:blipFill>
                <p:spPr>
                  <a:xfrm>
                    <a:off x="228600" y="2286000"/>
                    <a:ext cx="8658360" cy="4038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2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DC30DC-24C0-4A2A-8190-3AE360BB010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1"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32" name="Object 3"/>
          <p:cNvGraphicFramePr/>
          <p:nvPr/>
        </p:nvGraphicFramePr>
        <p:xfrm>
          <a:off x="228600" y="2286000"/>
          <a:ext cx="8610480" cy="4070520"/>
        </p:xfrm>
        <a:graphic>
          <a:graphicData uri="http://schemas.openxmlformats.org/presentationml/2006/ole">
            <p:oleObj progId="Excel.Sheet.12" r:id="rId1" spid="">
              <p:embed/>
              <p:pic>
                <p:nvPicPr>
                  <p:cNvPr id="733" name="Object 3" descr=""/>
                  <p:cNvPicPr/>
                  <p:nvPr/>
                </p:nvPicPr>
                <p:blipFill>
                  <a:blip r:embed="rId2"/>
                  <a:stretch/>
                </p:blipFill>
                <p:spPr>
                  <a:xfrm>
                    <a:off x="228600" y="2286000"/>
                    <a:ext cx="8610480" cy="4070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3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3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786884-421F-4168-B2E0-6C6E5750455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8"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39" name="Object 4"/>
          <p:cNvGraphicFramePr/>
          <p:nvPr/>
        </p:nvGraphicFramePr>
        <p:xfrm>
          <a:off x="304920" y="2362320"/>
          <a:ext cx="8450280" cy="3657600"/>
        </p:xfrm>
        <a:graphic>
          <a:graphicData uri="http://schemas.openxmlformats.org/presentationml/2006/ole">
            <p:oleObj progId="Excel.Sheet.12" r:id="rId1" spid="">
              <p:embed/>
              <p:pic>
                <p:nvPicPr>
                  <p:cNvPr id="740" name="Object 4" descr=""/>
                  <p:cNvPicPr/>
                  <p:nvPr/>
                </p:nvPicPr>
                <p:blipFill>
                  <a:blip r:embed="rId2"/>
                  <a:stretch/>
                </p:blipFill>
                <p:spPr>
                  <a:xfrm>
                    <a:off x="304920" y="2362320"/>
                    <a:ext cx="8450280" cy="3657600"/>
                  </a:xfrm>
                  <a:prstGeom prst="rect">
                    <a:avLst/>
                  </a:prstGeom>
                  <a:ln w="0">
                    <a:noFill/>
                  </a:ln>
                </p:spPr>
              </p:pic>
            </p:oleObj>
          </a:graphicData>
        </a:graphic>
      </p:graphicFrame>
      <p:sp>
        <p:nvSpPr>
          <p:cNvPr id="741" name="Rounded Rectangular Callout 9"/>
          <p:cNvSpPr/>
          <p:nvPr/>
        </p:nvSpPr>
        <p:spPr>
          <a:xfrm>
            <a:off x="0" y="5867280"/>
            <a:ext cx="8915400" cy="609840"/>
          </a:xfrm>
          <a:prstGeom prst="wedgeRoundRectCallout">
            <a:avLst>
              <a:gd name="adj1" fmla="val -44740"/>
              <a:gd name="adj2" fmla="val -342972"/>
              <a:gd name="adj3" fmla="val 16667"/>
            </a:avLst>
          </a:prstGeom>
          <a:solidFill>
            <a:srgbClr val="ccffcc">
              <a:alpha val="22000"/>
            </a:srgbClr>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ile-on comment from Shulan Feng from the SB. Since then, Shulan has agreed to change his vote from Disapprove to Approve for this comment.</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0-07-16T07:37:22Z</dcterms:modified>
  <cp:revision>368</cp:revision>
  <dc:subject/>
  <dc:title>Overview of IEEE 802.22 Standard</dc:title>
</cp:coreProperties>
</file>