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3F93-8523-484F-9B3E-7E8F9A38832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AD49-09D1-4E92-8334-FB3F9D114EF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CCF9-3E5A-41C5-8BF1-D00B65D8E20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8556-67D8-4FB2-BCDF-9EA36E419313}"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32CAB3-BEE8-41A1-B935-D3996A505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C9FC72-93FF-42D0-A9FC-D4BAB7CC28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EDB4BC-C8B0-47DD-B25A-1B390206BB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92D57E-0351-4088-8FCE-B4D97F6251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3031FA-708E-47F4-B281-A8387BDFDF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808ED4-EA7F-4C6B-A5F4-BB0BD5A53B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5CB66E-43D9-421F-88C2-CC9EAE2CF3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8FA284-88AA-49A3-8149-990450A1A3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9F7915-539D-404F-8B5A-E100CFD5E9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194C1C-60AF-4EBA-A8F4-E0A66FAD26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0FD3A8-AF6D-4DD4-90AE-799123123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FBEBD-AC50-43B9-ADA8-FA7577A157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118120-955E-4E6F-B9A2-E6A9FE75A1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9D71D4-CA9C-46D5-8D00-81B6CB25CC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BD21B2-2548-486A-B108-4603D1265B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D9B74F-67F7-4D27-AA60-45B30B3ED0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1375D7-FA9B-4998-9057-871E1A7B41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A0144B-2F36-495F-BF66-E4DEC67BE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B09DF9-7A0A-4A5F-A936-C83F0EE27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111C4-3FE7-4B6C-96CF-9B9A3FC9F8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ADE700-9ADF-4FDE-AE1C-2D5AC6C111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B0159-AB52-47A4-B87B-91CB5D7A12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C2EAA4-750A-4FCB-85D9-18CBE93FE9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F3B41E-14CB-46C9-B922-392D75FF0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AED4-EEEF-43D0-B814-5C850B0EA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440"/>
            <a:ext cx="257148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CDCC-4A6C-4DC9-8409-72CE286E8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5BE0-A12A-4ED7-818D-4BDFAB0B0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8</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288</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S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a:t>
            </a:r>
            <a:r>
              <a:rPr b="0" lang="en-US" sz="2400" spc="-1" strike="noStrike">
                <a:solidFill>
                  <a:srgbClr val="000000"/>
                </a:solidFill>
                <a:latin typeface="Times New Roman"/>
                <a:ea typeface="ＭＳ Ｐゴシック"/>
              </a:rPr>
              <a:t> 0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8</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29</a:t>
            </a:r>
            <a:r>
              <a:rPr b="0" lang="en-US" sz="2400" spc="-1" strike="noStrike">
                <a:solidFill>
                  <a:srgbClr val="000000"/>
                </a:solidFill>
                <a:latin typeface="Times New Roman"/>
                <a:ea typeface="Times New Roman"/>
              </a:rPr>
              <a:t> in Dalla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SG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F679-8572-4D76-A657-86725D65D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SG Meeting Agenda</a:t>
            </a:r>
            <a:endParaRPr b="1" lang="en-US" sz="3600" spc="-1" strike="noStrike">
              <a:solidFill>
                <a:srgbClr val="000000"/>
              </a:solidFill>
              <a:latin typeface="Times New Roman"/>
            </a:endParaRPr>
          </a:p>
        </p:txBody>
      </p:sp>
      <p:sp>
        <p:nvSpPr>
          <p:cNvPr id="98"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0A95-DCAD-4F58-85A8-754A07A81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0" name=""/>
          <p:cNvGraphicFramePr/>
          <p:nvPr/>
        </p:nvGraphicFramePr>
        <p:xfrm>
          <a:off x="466560" y="1563840"/>
          <a:ext cx="8137800" cy="2178000"/>
        </p:xfrm>
        <a:graphic>
          <a:graphicData uri="http://schemas.openxmlformats.org/drawingml/2006/table">
            <a:tbl>
              <a:tblPr/>
              <a:tblGrid>
                <a:gridCol w="4748400"/>
                <a:gridCol w="2214720"/>
                <a:gridCol w="1174680"/>
              </a:tblGrid>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Security SG </a:t>
                      </a:r>
                      <a:r>
                        <a:rPr b="0" lang="en-US" sz="1600" spc="-1" strike="noStrike">
                          <a:solidFill>
                            <a:srgbClr val="000000"/>
                          </a:solidFill>
                          <a:latin typeface="Times New Roman"/>
                        </a:rPr>
                        <a:t> Meeting Called to Ord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genda for November 2008 Mee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the November 2008 Meeting Agend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7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previous Meeting Minu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1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Inter-AAA-domain Assumptions and Requiremen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jay / Subir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1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AP Authenticator Discove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a-Peng Liu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9:15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Re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Text Box 65"/>
          <p:cNvSpPr/>
          <p:nvPr/>
        </p:nvSpPr>
        <p:spPr>
          <a:xfrm>
            <a:off x="412560" y="1035000"/>
            <a:ext cx="637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November11</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8,  8:00am – 10:00am</a:t>
            </a:r>
            <a:endParaRPr b="0" lang="en-US" sz="2400" spc="-1" strike="noStrike">
              <a:solidFill>
                <a:srgbClr val="000000"/>
              </a:solidFill>
              <a:latin typeface="Times New Roman"/>
            </a:endParaRPr>
          </a:p>
        </p:txBody>
      </p:sp>
      <p:graphicFrame>
        <p:nvGraphicFramePr>
          <p:cNvPr id="102" name=""/>
          <p:cNvGraphicFramePr/>
          <p:nvPr/>
        </p:nvGraphicFramePr>
        <p:xfrm>
          <a:off x="428760" y="4322880"/>
          <a:ext cx="8137440" cy="1242720"/>
        </p:xfrm>
        <a:graphic>
          <a:graphicData uri="http://schemas.openxmlformats.org/drawingml/2006/table">
            <a:tbl>
              <a:tblPr/>
              <a:tblGrid>
                <a:gridCol w="4748040"/>
                <a:gridCol w="2214720"/>
                <a:gridCol w="1174680"/>
              </a:tblGrid>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Security SG </a:t>
                      </a:r>
                      <a:r>
                        <a:rPr b="0" lang="en-US" sz="1600" spc="-1" strike="noStrike">
                          <a:solidFill>
                            <a:srgbClr val="000000"/>
                          </a:solidFill>
                          <a:latin typeface="Times New Roman"/>
                        </a:rPr>
                        <a:t> Meeting Called to Ord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Inter-AAA-domain Assumptions and Requiremen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jay / Subir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8:0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AP Authenticator Discove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a-Peng Liu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9: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djour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3" name="Text Box 65"/>
          <p:cNvSpPr/>
          <p:nvPr/>
        </p:nvSpPr>
        <p:spPr>
          <a:xfrm>
            <a:off x="386280" y="3794040"/>
            <a:ext cx="649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November13</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8,  8:00am – 10:00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8-11-03T22:16:50Z</dcterms:modified>
  <cp:revision>789</cp:revision>
  <dc:subject/>
  <dc:title>PowerPoint Presentation</dc:title>
</cp:coreProperties>
</file>