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CB0D-7E04-48B1-8E04-696711E257F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B899-8C6F-411B-AC28-5028AFE4852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0765-99FC-4FC3-B7E9-56D8DB640A4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5FF9-6B9A-4EA4-B62F-BBBE3BAC5F4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209EB5-0CDD-4573-AC41-B561D9380B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86A9C5-AD89-431C-9A2B-D2B04FAAB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527AA3-606D-45BD-90F1-C4D1024ED6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9394D3-E21D-4ABD-8B90-AC4FD8FD1D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3DE973-1E97-4DAC-A4F7-999CF96E01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AFC0DF-7077-4F39-B8D3-51B6DB1FF1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EDE3AC-5AAE-47D4-8707-191E023ABE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C4ED9D-7CD4-46D2-B5DF-EEBCAA18C3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3131EC-40BE-49D4-A111-407317411C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E43D12-A544-417B-81F1-F78E321083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7A1D47-EB4E-458B-8092-E37752470D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988E3C-AC54-4346-AA6F-D8E1ECF85E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A4CAF2-23FB-4774-BE6C-FCEB5CEEFB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CD19D2-E478-48A2-A1A7-E131C16CD7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277FE6-E039-4422-8200-751F7DF487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6D4A70-90C2-4513-BDE0-3C5DEC1DC8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1E2B9E3-3DDE-4023-9D14-454E5F142A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0C5EF3-33AB-4A7C-8D71-54E39EA566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458D6-4D81-4C2E-9182-91DC801100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3CD43B-B36C-459B-BA42-3213788445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F87C3F-E39B-4BD3-9631-4FFA0C5215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CB4F4-26A4-4027-AA7C-A01BCC6C7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3B3921-0FAF-405D-8414-E05E65CEA3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AA043-BE75-436C-9739-71D9A097C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A959-4004-4611-852A-C1B84822D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440"/>
            <a:ext cx="257148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485A-5662-47FD-9073-ACB776FD5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3AF3-88B0-4BC9-ACE7-8DFB2EE80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8</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288</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S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November</a:t>
            </a:r>
            <a:r>
              <a:rPr b="0" lang="en-US" sz="2400" spc="-1" strike="noStrike">
                <a:solidFill>
                  <a:srgbClr val="000000"/>
                </a:solidFill>
                <a:latin typeface="Times New Roman"/>
                <a:ea typeface="ＭＳ Ｐゴシック"/>
              </a:rPr>
              <a:t> 0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8</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29</a:t>
            </a:r>
            <a:r>
              <a:rPr b="0" lang="en-US" sz="2400" spc="-1" strike="noStrike">
                <a:solidFill>
                  <a:srgbClr val="000000"/>
                </a:solidFill>
                <a:latin typeface="Times New Roman"/>
                <a:ea typeface="Times New Roman"/>
              </a:rPr>
              <a:t> in Dalla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SG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60F0-F495-44A8-A0E1-C80FD04B5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SG Meeting Agenda</a:t>
            </a:r>
            <a:endParaRPr b="1" lang="en-US" sz="3600" spc="-1" strike="noStrike">
              <a:solidFill>
                <a:srgbClr val="000000"/>
              </a:solidFill>
              <a:latin typeface="Times New Roman"/>
            </a:endParaRPr>
          </a:p>
        </p:txBody>
      </p:sp>
      <p:sp>
        <p:nvSpPr>
          <p:cNvPr id="98"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DC20-6E04-4BD8-80E0-C31872BE8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0" name=""/>
          <p:cNvGraphicFramePr/>
          <p:nvPr/>
        </p:nvGraphicFramePr>
        <p:xfrm>
          <a:off x="466560" y="1563840"/>
          <a:ext cx="8137800" cy="2178000"/>
        </p:xfrm>
        <a:graphic>
          <a:graphicData uri="http://schemas.openxmlformats.org/drawingml/2006/table">
            <a:tbl>
              <a:tblPr/>
              <a:tblGrid>
                <a:gridCol w="4748400"/>
                <a:gridCol w="2214720"/>
                <a:gridCol w="1174680"/>
              </a:tblGrid>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Security SG </a:t>
                      </a:r>
                      <a:r>
                        <a:rPr b="0" lang="en-US" sz="1600" spc="-1" strike="noStrike">
                          <a:solidFill>
                            <a:srgbClr val="000000"/>
                          </a:solidFill>
                          <a:latin typeface="Times New Roman"/>
                        </a:rPr>
                        <a:t> Meeting Called to Ord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genda for November 2008 Meet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2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pproval of the November 2008 Meeting Agend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7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pproval of previous Meeting Minut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1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Inter-AAA-domain Assumptions and Requiremen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jay / Subir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12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AP Authenticator Discove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a-Peng Liu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9:15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Rec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Text Box 65"/>
          <p:cNvSpPr/>
          <p:nvPr/>
        </p:nvSpPr>
        <p:spPr>
          <a:xfrm>
            <a:off x="412560" y="1035000"/>
            <a:ext cx="637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uesday, November11</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8,  8:00am – 10:00am</a:t>
            </a:r>
            <a:endParaRPr b="0" lang="en-US" sz="2400" spc="-1" strike="noStrike">
              <a:solidFill>
                <a:srgbClr val="000000"/>
              </a:solidFill>
              <a:latin typeface="Times New Roman"/>
            </a:endParaRPr>
          </a:p>
        </p:txBody>
      </p:sp>
      <p:graphicFrame>
        <p:nvGraphicFramePr>
          <p:cNvPr id="102" name=""/>
          <p:cNvGraphicFramePr/>
          <p:nvPr/>
        </p:nvGraphicFramePr>
        <p:xfrm>
          <a:off x="428760" y="4322880"/>
          <a:ext cx="8137440" cy="1242720"/>
        </p:xfrm>
        <a:graphic>
          <a:graphicData uri="http://schemas.openxmlformats.org/drawingml/2006/table">
            <a:tbl>
              <a:tblPr/>
              <a:tblGrid>
                <a:gridCol w="4748040"/>
                <a:gridCol w="2214720"/>
                <a:gridCol w="1174680"/>
              </a:tblGrid>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Security SG </a:t>
                      </a:r>
                      <a:r>
                        <a:rPr b="0" lang="en-US" sz="1600" spc="-1" strike="noStrike">
                          <a:solidFill>
                            <a:srgbClr val="000000"/>
                          </a:solidFill>
                          <a:latin typeface="Times New Roman"/>
                        </a:rPr>
                        <a:t> Meeting Called to Ord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Inter-AAA-domain Assumptions and Requiremen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jay / Subir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2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AP Authenticator Discove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a-Peng Liu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9: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djour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3" name="Text Box 65"/>
          <p:cNvSpPr/>
          <p:nvPr/>
        </p:nvSpPr>
        <p:spPr>
          <a:xfrm>
            <a:off x="386280" y="3794040"/>
            <a:ext cx="649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hursday, November13</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8,  8:00am – 10:00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8-11-03T22:16:50Z</dcterms:modified>
  <cp:revision>789</cp:revision>
  <dc:subject/>
  <dc:title>PowerPoint Presentation</dc:title>
</cp:coreProperties>
</file>