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3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ED3B-F57D-4777-9C7C-9D30BD5BED4B}"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4FDF-27A2-4E70-8486-9B279721F7AF}"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293840" y="795240"/>
            <a:ext cx="4271760" cy="3203640"/>
          </a:xfrm>
          <a:prstGeom prst="rect">
            <a:avLst/>
          </a:prstGeom>
          <a:ln w="0">
            <a:noFill/>
          </a:ln>
        </p:spPr>
      </p:sp>
      <p:sp>
        <p:nvSpPr>
          <p:cNvPr id="399" name="PlaceHolder 2"/>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43CE-7200-4F15-A994-89BE435EF3A0}"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293840" y="795240"/>
            <a:ext cx="4271760" cy="3203640"/>
          </a:xfrm>
          <a:prstGeom prst="rect">
            <a:avLst/>
          </a:prstGeom>
          <a:ln w="0">
            <a:noFill/>
          </a:ln>
        </p:spPr>
      </p:sp>
      <p:sp>
        <p:nvSpPr>
          <p:cNvPr id="402" name="PlaceHolder 2"/>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D375-34DA-4BDC-8802-CBA73D5D025E}"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8DFCAF-7EBB-4EAF-8ED7-DE042ED8F2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EF4AE9-05F7-4841-9A14-E90216C7FF1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7"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8"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B4B59D-66E8-49A3-A4CC-A5C67017163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E7C41D-77FE-4616-AAA0-1225509D7D4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6A9A5E-EFD0-498E-A45C-7BAC3CF1882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5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3"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4"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DC70AA-1B17-4B9F-9453-940E2280C7D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5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8"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2DE829-CDF6-407E-A138-21C4EDEB359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0"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2"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E73D49-9CF9-417C-B83D-B1AF1CED382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4"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5"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406573-DE05-4E54-8545-D283D0E657A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7"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8"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9"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0"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DC3F49-949D-423C-A5E2-6853512E041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72"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3"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4"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5"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6"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7"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BA3029-C53C-4B6E-A7D7-1E7CFAF569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18A24E-3EB2-4A32-8598-7D8E7C99CF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19BECF-A920-43CE-99AD-D6FDD13D6D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4921FDD-C23A-4210-8C34-BF7DE5197E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9F2E3F-6D89-4DFA-8ED7-B3CE495576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228A60-A00B-4CF1-BAAB-30D2807B00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64B170-CFF3-40AF-BB4E-B340A54564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B9EC0A-FAB7-491C-B6B9-1B8F879767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4CB633-67EC-47CA-8715-E02593ED5B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7B8B03-4CAE-4C44-9616-9D0E2E6853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95097F-8EA3-4215-82F5-2437A3C609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F851C2-EA2B-4EC7-B676-B339F036B1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DBDBB5-6E77-44E7-BA33-4920942A8D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C41DD8-2459-419D-B6DF-1D4278BC35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AAB8300-633E-4A21-8386-C954E4CEF8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563B466-0D6B-48B6-ADC6-9B58B10C983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D8E74A-98D7-479A-B884-B8C2C3186BA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1"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5E333-E510-48E6-9832-EB93915BD11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9FE25-1E42-4034-9D63-9D3C58C4AE4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6"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6D4AF-E694-4776-8C5A-D8D020911C6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3CBC1-C703-4CD3-9133-9F7DF148DA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DD3D25-FD2B-44CC-B4B9-4251177CE2A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7EF11-6E7D-419D-8546-77FFE016B86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00"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1"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2"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0C388-508C-483A-A9CC-84B89AB9E12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04"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6"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D0A02-3B79-4FE3-BC15-1C5D7789E36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0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0"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6457D-C534-46F9-AFEC-77F675A3E30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2"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66F33-9257-441D-ACE5-F3B5110B38F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5"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7"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8"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26932D-4E1F-45CB-B022-D6FBCA9F8C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20"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1"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2"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3"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4"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5"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82528-2DD4-4595-8A21-36252880831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AF500D2-714B-4C29-B597-BE319D7A261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33"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AD98A8E-99BA-4254-BA44-9E31B990D18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3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1EFAE51-7DEE-4075-B13A-0D2A686012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4C927B-AD37-4CB3-BCE1-FF62E21C82D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37"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38"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BBBA0C-5934-4736-9319-457D0436A82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941351-08B3-4C2B-8750-EE0D72745E0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B17D6B9-DF5E-4F25-9D99-DB49A9EEAF9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3"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4"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0BBB91-7E0D-4F2C-8F73-A89173EE6D4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8"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A1C546-ED57-473D-BCB3-5E946775A1A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50"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2"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074BD7-252A-40B1-81E9-A0D62522253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54"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5"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F45B8B1-0EFD-4C2B-9A42-ABA113D76DD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57"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8"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9"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0"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52C6456-C226-4D86-B519-96E76CBFFE9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2"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3"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4"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5"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6"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7"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3D6A44F-E768-4698-B066-E486D4D77B9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2CEE045-349A-40C4-8529-E73BB2F867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921EE8-45E7-4E75-AA1D-87DFEF42540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7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E581110-6B33-4B03-9BCE-D77D3D9A32B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7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8C8BE61-13E5-4AA6-A3ED-8D359F93415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7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91E9CB5-C776-4D2E-A335-76A85C6AC50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117137C-45A6-476C-93BD-8E6A1447A41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18B73C2-810F-41E5-9BED-6E4A6C8B758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03C7D6B-3529-4DF4-8729-53215C5026F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38FF643-0071-4F45-8E97-AF5778F0BC3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9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87982D4-828D-4E93-A9F5-C55571EF4D2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9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E4D296F-93A1-4B07-9CE7-57AC0C35E5C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9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F7D2FC2-DEEC-4A16-BB36-6BE4FD635F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AA0FE2-45AD-40A6-9B63-AB4060A262D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8C95932-C44B-49D1-87A0-9631213B8CE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20BA4D-4AFA-4C2B-B2FE-B33584A11AE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1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C612FB-25EF-4582-86E2-D6CD8042C6D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1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C82F2C-A5DD-486A-809A-2AB436B7AEC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0D5708-F706-4120-A2AF-CED7FB3A084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DC9180-4298-4632-B6DB-37363199BCB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163774-1A98-4640-8D17-9048A57AB0B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91B8EE-8355-4CD6-AD81-187C3DDC529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3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DCBDBF-5E0C-4D16-9B94-DCCCADA81A8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3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AED01F-9A95-4130-89CC-2274B65E8C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07D64A-5DCA-4D09-8353-B694336F55F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3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30275C-FA78-41C9-88FA-C91BC8C14F0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55AA44-AAEC-470F-80F7-1D0C338FC28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DB0807-0865-4D9D-A0D1-618E22E2ECA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CF23E43-883C-47BE-BCCB-0D952A57FF2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59"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BDFE06A-9DF1-40FB-BE79-635B6A37055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400456E-CD3C-4F62-AB52-81D82E9A8A1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3"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4"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289D6AF-0FC3-43F5-8ED4-3506C6D18F7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2EC6DBE-B7DB-4A59-9CCC-9F1220E2DA7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5BA8463-9570-437A-B856-0A413164A2F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9"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0"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6B8446A-C15B-44D8-A8C3-01DCC2F674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4B802C-7EA3-4FDD-9771-BF50D65F1CB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72"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4"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A217533-EEBC-4025-88A7-F3AAF81A651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7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8"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DC131DA-E977-4551-BC32-C0C638145E0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0"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1"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DD0576D-49FA-432E-9A75-A298D32333A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4"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5"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6"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DFB8D9C-9175-4A17-B138-0833C144832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8"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9"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0"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1"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2"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3"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906FFB7-7C74-46B4-8A1F-BE585773DE3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6ABE3CA-9779-46E5-9CFD-170271BBB97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01"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E71BE2C-19B7-4894-8BBC-617A04FCFB7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0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D1C5A75-E787-48CC-BEBF-6DB88054E4D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0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6"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BB79FEB-8D5C-4F60-8D6C-CBC6E8B379C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6F442AB-4755-4B67-B604-E43E65DF3D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9C4CA4-B512-402A-93C7-3BCD91CA293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E5EF255-237D-4C35-91BE-6E6AE96A86B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0"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1"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2"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BBF643A-E535-46C7-8D4E-981DFD44CA9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4"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6"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A356CCE-5E75-479D-9C66-3AF7D445A33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0"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6F7693D-C93D-4AA1-92AA-59085E038D8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22"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3"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157ADC9-3A3F-4929-8AD6-2EEEE114C71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25"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7"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8"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9083118-710C-434F-B82C-B66450C566F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30"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1"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2"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3"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4"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5"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B85A252-3E58-444E-B58C-A95A4C00A79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04D2E1-C784-425A-A9A0-584B1AE0875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3"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A522FC-9F2B-4564-9EC4-48F708B4C7F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E8828B-99FB-491A-8B56-671F703FFD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57</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125F-F5FA-4BED-94C3-175DEF956F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380520" y="6400800"/>
            <a:ext cx="311940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57</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7D93-94ED-4285-A5DD-D754AFFE07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smllieee"/>
          <p:cNvPicPr/>
          <p:nvPr/>
        </p:nvPicPr>
        <p:blipFill>
          <a:blip r:embed="rId2"/>
          <a:stretch/>
        </p:blipFill>
        <p:spPr>
          <a:xfrm>
            <a:off x="228600" y="57240"/>
            <a:ext cx="754200" cy="857160"/>
          </a:xfrm>
          <a:prstGeom prst="rect">
            <a:avLst/>
          </a:prstGeom>
          <a:ln w="0">
            <a:noFill/>
          </a:ln>
        </p:spPr>
      </p:pic>
      <p:pic>
        <p:nvPicPr>
          <p:cNvPr id="85" name="Picture 7" descr="802logo"/>
          <p:cNvPicPr/>
          <p:nvPr/>
        </p:nvPicPr>
        <p:blipFill>
          <a:blip r:embed="rId3"/>
          <a:stretch/>
        </p:blipFill>
        <p:spPr>
          <a:xfrm>
            <a:off x="8237520" y="76320"/>
            <a:ext cx="754200" cy="777600"/>
          </a:xfrm>
          <a:prstGeom prst="rect">
            <a:avLst/>
          </a:prstGeom>
          <a:ln w="0">
            <a:noFill/>
          </a:ln>
        </p:spPr>
      </p:pic>
      <p:sp>
        <p:nvSpPr>
          <p:cNvPr id="8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87"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8" name="PlaceHolder 3"/>
          <p:cNvSpPr>
            <a:spLocks noGrp="1"/>
          </p:cNvSpPr>
          <p:nvPr>
            <p:ph type="ftr" idx="5"/>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04</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1</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89" name="PlaceHolder 4"/>
          <p:cNvSpPr>
            <a:spLocks noGrp="1"/>
          </p:cNvSpPr>
          <p:nvPr>
            <p:ph type="sldNum" idx="6"/>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CD04-1371-44E8-903E-A1238F17B4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smllieee"/>
          <p:cNvPicPr/>
          <p:nvPr/>
        </p:nvPicPr>
        <p:blipFill>
          <a:blip r:embed="rId2"/>
          <a:stretch/>
        </p:blipFill>
        <p:spPr>
          <a:xfrm>
            <a:off x="228600" y="57240"/>
            <a:ext cx="754200" cy="857160"/>
          </a:xfrm>
          <a:prstGeom prst="rect">
            <a:avLst/>
          </a:prstGeom>
          <a:ln w="0">
            <a:noFill/>
          </a:ln>
        </p:spPr>
      </p:pic>
      <p:pic>
        <p:nvPicPr>
          <p:cNvPr id="127" name="Picture 7" descr="802logo"/>
          <p:cNvPicPr/>
          <p:nvPr/>
        </p:nvPicPr>
        <p:blipFill>
          <a:blip r:embed="rId3"/>
          <a:stretch/>
        </p:blipFill>
        <p:spPr>
          <a:xfrm>
            <a:off x="8237520" y="76320"/>
            <a:ext cx="754200" cy="777600"/>
          </a:xfrm>
          <a:prstGeom prst="rect">
            <a:avLst/>
          </a:prstGeom>
          <a:ln w="0">
            <a:noFill/>
          </a:ln>
        </p:spPr>
      </p:pic>
      <p:sp>
        <p:nvSpPr>
          <p:cNvPr id="1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29"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30" name="PlaceHolder 3"/>
          <p:cNvSpPr>
            <a:spLocks noGrp="1"/>
          </p:cNvSpPr>
          <p:nvPr>
            <p:ph type="ftr" idx="7"/>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04</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1</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131" name="PlaceHolder 4"/>
          <p:cNvSpPr>
            <a:spLocks noGrp="1"/>
          </p:cNvSpPr>
          <p:nvPr>
            <p:ph type="sldNum" idx="8"/>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1CA8-C3F1-4B33-9955-3D0A578D34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6" descr="smllieee"/>
          <p:cNvPicPr/>
          <p:nvPr/>
        </p:nvPicPr>
        <p:blipFill>
          <a:blip r:embed="rId2"/>
          <a:stretch/>
        </p:blipFill>
        <p:spPr>
          <a:xfrm>
            <a:off x="228600" y="57240"/>
            <a:ext cx="754200" cy="857160"/>
          </a:xfrm>
          <a:prstGeom prst="rect">
            <a:avLst/>
          </a:prstGeom>
          <a:ln w="0">
            <a:noFill/>
          </a:ln>
        </p:spPr>
      </p:pic>
      <p:pic>
        <p:nvPicPr>
          <p:cNvPr id="169" name="Picture 7" descr="802logo"/>
          <p:cNvPicPr/>
          <p:nvPr/>
        </p:nvPicPr>
        <p:blipFill>
          <a:blip r:embed="rId3"/>
          <a:stretch/>
        </p:blipFill>
        <p:spPr>
          <a:xfrm>
            <a:off x="8237520" y="76320"/>
            <a:ext cx="754200" cy="777600"/>
          </a:xfrm>
          <a:prstGeom prst="rect">
            <a:avLst/>
          </a:prstGeom>
          <a:ln w="0">
            <a:noFill/>
          </a:ln>
        </p:spPr>
      </p:pic>
      <p:sp>
        <p:nvSpPr>
          <p:cNvPr id="1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7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72" name="PlaceHolder 3"/>
          <p:cNvSpPr>
            <a:spLocks noGrp="1"/>
          </p:cNvSpPr>
          <p:nvPr>
            <p:ph type="ftr" idx="9"/>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04</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1</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173" name="PlaceHolder 4"/>
          <p:cNvSpPr>
            <a:spLocks noGrp="1"/>
          </p:cNvSpPr>
          <p:nvPr>
            <p:ph type="sldNum" idx="10"/>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2B9E-4216-44D1-982D-F88B39DB8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6" descr="smllieee"/>
          <p:cNvPicPr/>
          <p:nvPr/>
        </p:nvPicPr>
        <p:blipFill>
          <a:blip r:embed="rId2"/>
          <a:stretch/>
        </p:blipFill>
        <p:spPr>
          <a:xfrm>
            <a:off x="228600" y="57240"/>
            <a:ext cx="754200" cy="857160"/>
          </a:xfrm>
          <a:prstGeom prst="rect">
            <a:avLst/>
          </a:prstGeom>
          <a:ln w="0">
            <a:noFill/>
          </a:ln>
        </p:spPr>
      </p:pic>
      <p:pic>
        <p:nvPicPr>
          <p:cNvPr id="211" name="Picture 7" descr="802logo"/>
          <p:cNvPicPr/>
          <p:nvPr/>
        </p:nvPicPr>
        <p:blipFill>
          <a:blip r:embed="rId3"/>
          <a:stretch/>
        </p:blipFill>
        <p:spPr>
          <a:xfrm>
            <a:off x="8237520" y="76320"/>
            <a:ext cx="754200" cy="777600"/>
          </a:xfrm>
          <a:prstGeom prst="rect">
            <a:avLst/>
          </a:prstGeom>
          <a:ln w="0">
            <a:noFill/>
          </a:ln>
        </p:spPr>
      </p:pic>
      <p:sp>
        <p:nvSpPr>
          <p:cNvPr id="2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21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14" name="PlaceHolder 3"/>
          <p:cNvSpPr>
            <a:spLocks noGrp="1"/>
          </p:cNvSpPr>
          <p:nvPr>
            <p:ph type="ftr" idx="1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04</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1</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215" name="PlaceHolder 4"/>
          <p:cNvSpPr>
            <a:spLocks noGrp="1"/>
          </p:cNvSpPr>
          <p:nvPr>
            <p:ph type="sldNum" idx="1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90EC-1E58-4FE1-99DD-E0D38A6B3B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6" descr="smllieee"/>
          <p:cNvPicPr/>
          <p:nvPr/>
        </p:nvPicPr>
        <p:blipFill>
          <a:blip r:embed="rId2"/>
          <a:stretch/>
        </p:blipFill>
        <p:spPr>
          <a:xfrm>
            <a:off x="228600" y="57240"/>
            <a:ext cx="754200" cy="857160"/>
          </a:xfrm>
          <a:prstGeom prst="rect">
            <a:avLst/>
          </a:prstGeom>
          <a:ln w="0">
            <a:noFill/>
          </a:ln>
        </p:spPr>
      </p:pic>
      <p:pic>
        <p:nvPicPr>
          <p:cNvPr id="253" name="Picture 7" descr="802logo"/>
          <p:cNvPicPr/>
          <p:nvPr/>
        </p:nvPicPr>
        <p:blipFill>
          <a:blip r:embed="rId3"/>
          <a:stretch/>
        </p:blipFill>
        <p:spPr>
          <a:xfrm>
            <a:off x="8237520" y="76320"/>
            <a:ext cx="754200" cy="777600"/>
          </a:xfrm>
          <a:prstGeom prst="rect">
            <a:avLst/>
          </a:prstGeom>
          <a:ln w="0">
            <a:noFill/>
          </a:ln>
        </p:spPr>
      </p:pic>
      <p:sp>
        <p:nvSpPr>
          <p:cNvPr id="2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255"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56" name="PlaceHolder 3"/>
          <p:cNvSpPr>
            <a:spLocks noGrp="1"/>
          </p:cNvSpPr>
          <p:nvPr>
            <p:ph type="ftr" idx="13"/>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04</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1</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257" name="PlaceHolder 4"/>
          <p:cNvSpPr>
            <a:spLocks noGrp="1"/>
          </p:cNvSpPr>
          <p:nvPr>
            <p:ph type="sldNum" idx="1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B87F-5890-4FCB-8B6F-694B184985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6" descr="smllieee"/>
          <p:cNvPicPr/>
          <p:nvPr/>
        </p:nvPicPr>
        <p:blipFill>
          <a:blip r:embed="rId2"/>
          <a:stretch/>
        </p:blipFill>
        <p:spPr>
          <a:xfrm>
            <a:off x="228600" y="57240"/>
            <a:ext cx="754200" cy="857160"/>
          </a:xfrm>
          <a:prstGeom prst="rect">
            <a:avLst/>
          </a:prstGeom>
          <a:ln w="0">
            <a:noFill/>
          </a:ln>
        </p:spPr>
      </p:pic>
      <p:pic>
        <p:nvPicPr>
          <p:cNvPr id="295" name="Picture 7" descr="802logo"/>
          <p:cNvPicPr/>
          <p:nvPr/>
        </p:nvPicPr>
        <p:blipFill>
          <a:blip r:embed="rId3"/>
          <a:stretch/>
        </p:blipFill>
        <p:spPr>
          <a:xfrm>
            <a:off x="8237520" y="76320"/>
            <a:ext cx="754200" cy="777600"/>
          </a:xfrm>
          <a:prstGeom prst="rect">
            <a:avLst/>
          </a:prstGeom>
          <a:ln w="0">
            <a:noFill/>
          </a:ln>
        </p:spPr>
      </p:pic>
      <p:sp>
        <p:nvSpPr>
          <p:cNvPr id="29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297"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98" name="PlaceHolder 3"/>
          <p:cNvSpPr>
            <a:spLocks noGrp="1"/>
          </p:cNvSpPr>
          <p:nvPr>
            <p:ph type="ftr" idx="15"/>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04</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1</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299" name="PlaceHolder 4"/>
          <p:cNvSpPr>
            <a:spLocks noGrp="1"/>
          </p:cNvSpPr>
          <p:nvPr>
            <p:ph type="sldNum" idx="16"/>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51ED7-765B-49BC-8193-F27B9CF90D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6" descr="smllieee"/>
          <p:cNvPicPr/>
          <p:nvPr/>
        </p:nvPicPr>
        <p:blipFill>
          <a:blip r:embed="rId2"/>
          <a:stretch/>
        </p:blipFill>
        <p:spPr>
          <a:xfrm>
            <a:off x="228600" y="57240"/>
            <a:ext cx="754200" cy="857160"/>
          </a:xfrm>
          <a:prstGeom prst="rect">
            <a:avLst/>
          </a:prstGeom>
          <a:ln w="0">
            <a:noFill/>
          </a:ln>
        </p:spPr>
      </p:pic>
      <p:pic>
        <p:nvPicPr>
          <p:cNvPr id="337" name="Picture 7" descr="802logo"/>
          <p:cNvPicPr/>
          <p:nvPr/>
        </p:nvPicPr>
        <p:blipFill>
          <a:blip r:embed="rId3"/>
          <a:stretch/>
        </p:blipFill>
        <p:spPr>
          <a:xfrm>
            <a:off x="8237520" y="76320"/>
            <a:ext cx="754200" cy="777600"/>
          </a:xfrm>
          <a:prstGeom prst="rect">
            <a:avLst/>
          </a:prstGeom>
          <a:ln w="0">
            <a:noFill/>
          </a:ln>
        </p:spPr>
      </p:pic>
      <p:sp>
        <p:nvSpPr>
          <p:cNvPr id="33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339"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40" name="PlaceHolder 3"/>
          <p:cNvSpPr>
            <a:spLocks noGrp="1"/>
          </p:cNvSpPr>
          <p:nvPr>
            <p:ph type="ftr" idx="17"/>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04</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1</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341" name="PlaceHolder 4"/>
          <p:cNvSpPr>
            <a:spLocks noGrp="1"/>
          </p:cNvSpPr>
          <p:nvPr>
            <p:ph type="sldNum" idx="18"/>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6AF7-8980-4B81-B981-E3B84D9B9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3"/>
          <p:cNvSpPr/>
          <p:nvPr/>
        </p:nvSpPr>
        <p:spPr>
          <a:xfrm>
            <a:off x="380880" y="6400800"/>
            <a:ext cx="31194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57</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38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1A50-483B-49FA-A721-94F5903E17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7" name="PlaceHolder 1"/>
          <p:cNvSpPr>
            <a:spLocks noGrp="1"/>
          </p:cNvSpPr>
          <p:nvPr>
            <p:ph/>
          </p:nvPr>
        </p:nvSpPr>
        <p:spPr>
          <a:xfrm>
            <a:off x="439560" y="907560"/>
            <a:ext cx="8399520" cy="533412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8</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257</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0</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SG Agenda</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September</a:t>
            </a:r>
            <a:r>
              <a:rPr b="0" lang="en-US" sz="2400" spc="-1" strike="noStrike">
                <a:solidFill>
                  <a:srgbClr val="000000"/>
                </a:solidFill>
                <a:latin typeface="Times New Roman"/>
                <a:ea typeface="ＭＳ Ｐゴシック"/>
              </a:rPr>
              <a:t> 08</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2008</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a:t>
            </a:r>
            <a:r>
              <a:rPr b="0" lang="en-US" sz="2400" spc="-1" strike="noStrike">
                <a:solidFill>
                  <a:srgbClr val="000000"/>
                </a:solidFill>
                <a:latin typeface="Times New Roman"/>
                <a:ea typeface="ＭＳ Ｐゴシック"/>
              </a:rPr>
              <a:t>28</a:t>
            </a:r>
            <a:r>
              <a:rPr b="0" lang="en-US" sz="2400" spc="-1" strike="noStrike">
                <a:solidFill>
                  <a:srgbClr val="000000"/>
                </a:solidFill>
                <a:latin typeface="Times New Roman"/>
                <a:ea typeface="Times New Roman"/>
              </a:rPr>
              <a:t> in Big Island</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Yoshihiro Ohba (Toshiba)</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r>
              <a:rPr b="0" lang="en-US" sz="2400" spc="-1" strike="noStrike">
                <a:solidFill>
                  <a:srgbClr val="000000"/>
                </a:solidFill>
                <a:latin typeface="Times New Roman"/>
                <a:ea typeface="ＭＳ Ｐゴシック"/>
              </a:rPr>
              <a:t> Agenda for Security SG mee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Footer Placeholder 3"/>
          <p:cNvSpPr/>
          <p:nvPr/>
        </p:nvSpPr>
        <p:spPr>
          <a:xfrm>
            <a:off x="380880" y="6400800"/>
            <a:ext cx="31194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57</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389"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479A-FB0D-469B-BCCD-33B693F44C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0"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0" algn="just">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0" algn="just">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0">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outlined in </a:t>
            </a:r>
            <a:r>
              <a:rPr b="0" lang="en-US" sz="1600" spc="-1" strike="noStrike" u="sng">
                <a:solidFill>
                  <a:srgbClr val="fc0128"/>
                </a:solidFill>
                <a:uFillTx/>
                <a:latin typeface="Times New Roman"/>
                <a:ea typeface="Times New Roman"/>
                <a:hlinkClick r:id="rId1"/>
              </a:rPr>
              <a:t>Section 6.3 of the IEEE-SA Standards Board Operations Manual</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opman/sect6.html#6.3&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guide.html&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91"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3"/>
          <p:cNvSpPr/>
          <p:nvPr/>
        </p:nvSpPr>
        <p:spPr>
          <a:xfrm>
            <a:off x="380880" y="6400800"/>
            <a:ext cx="31194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57</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393"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FAE0-4A28-4442-A141-BCF5DB9F84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4" name="PlaceHolder 1"/>
          <p:cNvSpPr>
            <a:spLocks noGrp="1"/>
          </p:cNvSpPr>
          <p:nvPr>
            <p:ph type="title"/>
          </p:nvPr>
        </p:nvSpPr>
        <p:spPr>
          <a:xfrm>
            <a:off x="685800" y="19800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SG Meeting Agenda</a:t>
            </a:r>
            <a:endParaRPr b="1" lang="en-US" sz="3600" spc="-1" strike="noStrike">
              <a:solidFill>
                <a:srgbClr val="000000"/>
              </a:solidFill>
              <a:latin typeface="Times New Roman"/>
            </a:endParaRPr>
          </a:p>
        </p:txBody>
      </p:sp>
      <p:graphicFrame>
        <p:nvGraphicFramePr>
          <p:cNvPr id="395" name=""/>
          <p:cNvGraphicFramePr/>
          <p:nvPr/>
        </p:nvGraphicFramePr>
        <p:xfrm>
          <a:off x="466560" y="1563840"/>
          <a:ext cx="8137800" cy="2800080"/>
        </p:xfrm>
        <a:graphic>
          <a:graphicData uri="http://schemas.openxmlformats.org/drawingml/2006/table">
            <a:tbl>
              <a:tblPr/>
              <a:tblGrid>
                <a:gridCol w="4748400"/>
                <a:gridCol w="2214720"/>
                <a:gridCol w="1174680"/>
              </a:tblGrid>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Security SG </a:t>
                      </a:r>
                      <a:r>
                        <a:rPr b="0" lang="en-US" sz="1600" spc="-1" strike="noStrike">
                          <a:solidFill>
                            <a:srgbClr val="000000"/>
                          </a:solidFill>
                          <a:latin typeface="Times New Roman"/>
                        </a:rPr>
                        <a:t> Meeting Called to Ord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10:3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Agenda for September 2008 Meetin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10:32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Approval of the July 2008 Meeting Agend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10:37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Opening Not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10:4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Approval of the July 2008 Meeting Minut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10:55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TR document updat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hubhranshu Singh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11:0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tudy on 3GPP Access Network Secur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Lily Che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1:3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tudy on WiMAX Access Network Secur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hubhranshu Singh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2:00p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Adjour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12:3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6" name="Text Box 65"/>
          <p:cNvSpPr/>
          <p:nvPr/>
        </p:nvSpPr>
        <p:spPr>
          <a:xfrm>
            <a:off x="403920" y="1035000"/>
            <a:ext cx="702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Wednesday, September 10</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8,  10:30am – 12:30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shihiro Ohba</cp:lastModifiedBy>
  <dcterms:modified xsi:type="dcterms:W3CDTF">2008-09-09T00:23:58Z</dcterms:modified>
  <cp:revision>777</cp:revision>
  <dc:subject/>
  <dc:title>PowerPoint Presentation</dc:title>
</cp:coreProperties>
</file>