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4A0C-B392-4128-9A6D-D241807EE79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0C61-E8F6-4246-AF16-063BA1D840A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293840" y="795240"/>
            <a:ext cx="4271760" cy="3203640"/>
          </a:xfrm>
          <a:prstGeom prst="rect">
            <a:avLst/>
          </a:prstGeom>
          <a:ln w="0">
            <a:noFill/>
          </a:ln>
        </p:spPr>
      </p:sp>
      <p:sp>
        <p:nvSpPr>
          <p:cNvPr id="61"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BA15-220F-40D0-8EF8-29536E63594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293840" y="795240"/>
            <a:ext cx="4271760" cy="3203640"/>
          </a:xfrm>
          <a:prstGeom prst="rect">
            <a:avLst/>
          </a:prstGeom>
          <a:ln w="0">
            <a:noFill/>
          </a:ln>
        </p:spPr>
      </p:sp>
      <p:sp>
        <p:nvSpPr>
          <p:cNvPr id="67"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C8B945-9A09-4B94-9F10-EEF8923D8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F58A5A-E9A6-4A5B-B0F5-3542022A37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D05715-3D31-480C-BCDA-5E7D2A552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0FD0D3-0976-412A-8679-F50EA96CF3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6B461B-CB91-4285-9AAD-55163DEE4B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4B89CA-3583-4F28-90F4-38E4667140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754BA0-A279-4459-B50A-B1C7D8A7A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04FDB4-E93F-4DA4-B266-AF659B5DB2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20AFD6-F2FB-47E1-88E7-182F68867A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D9D9A5-0E0B-4D25-9DF9-61CFEFB1B0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DCA1EF-FAB6-4A9E-845C-102DAEF60E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A638B9-1BB2-4194-A67C-2714BD91F2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99</a:t>
            </a:r>
            <a:r>
              <a:rPr b="0" lang="en-US" sz="1400" spc="-1" strike="noStrike">
                <a:solidFill>
                  <a:srgbClr val="000000"/>
                </a:solidFill>
                <a:latin typeface="Times New Roman"/>
              </a:rPr>
              <a:t>-01-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7A2B-382E-4E34-A2DB-16EB9A019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8</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99</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1</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SG Closing Not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t>
            </a:r>
            <a:r>
              <a:rPr b="0" lang="en-US" sz="2400" spc="-1" strike="noStrike">
                <a:solidFill>
                  <a:srgbClr val="000000"/>
                </a:solidFill>
                <a:latin typeface="Times New Roman"/>
                <a:ea typeface="ＭＳ Ｐゴシック"/>
              </a:rPr>
              <a:t>March 24</a:t>
            </a:r>
            <a:r>
              <a:rPr b="0" lang="en-US" sz="2400" spc="-1" strike="noStrike">
                <a:solidFill>
                  <a:srgbClr val="000000"/>
                </a:solidFill>
                <a:latin typeface="Times New Roman"/>
                <a:ea typeface="Times New Roman"/>
              </a:rPr>
              <a:t>, 2</a:t>
            </a:r>
            <a:r>
              <a:rPr b="0" lang="en-US" sz="2400" spc="-1" strike="noStrike">
                <a:solidFill>
                  <a:srgbClr val="000000"/>
                </a:solidFill>
                <a:latin typeface="Times New Roman"/>
                <a:ea typeface="ＭＳ Ｐゴシック"/>
              </a:rPr>
              <a:t>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25</a:t>
            </a:r>
            <a:r>
              <a:rPr b="0" lang="en-US" sz="2400" spc="-1" strike="noStrike">
                <a:solidFill>
                  <a:srgbClr val="000000"/>
                </a:solidFill>
                <a:latin typeface="Times New Roman"/>
                <a:ea typeface="Times New Roman"/>
              </a:rPr>
              <a:t> in </a:t>
            </a:r>
            <a:r>
              <a:rPr b="0" lang="en-US" sz="2400" spc="-1" strike="noStrike">
                <a:solidFill>
                  <a:srgbClr val="000000"/>
                </a:solidFill>
                <a:latin typeface="Times New Roman"/>
                <a:ea typeface="ＭＳ Ｐゴシック"/>
              </a:rPr>
              <a:t>Orlando</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t>
            </a:r>
            <a:r>
              <a:rPr b="0" lang="en-US" sz="2400" spc="-1" strike="noStrike">
                <a:solidFill>
                  <a:srgbClr val="000000"/>
                </a:solidFill>
                <a:latin typeface="Times New Roman"/>
                <a:ea typeface="ＭＳ Ｐゴシック"/>
              </a:rPr>
              <a:t>Closing notes of Security SG meeting.</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673C9C9-E963-41B0-87C2-8F13054E3D2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2"/>
              </a:rPr>
              <a:t>http://standards.ieee.org/guides/opman/sect6.html#6.3</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guide.html&gt; </a:t>
            </a:r>
            <a:endParaRPr b="0" lang="en-US" sz="2000" spc="-1" strike="noStrike">
              <a:solidFill>
                <a:srgbClr val="000000"/>
              </a:solidFill>
              <a:latin typeface="Times New Roman"/>
            </a:endParaRPr>
          </a:p>
        </p:txBody>
      </p:sp>
      <p:sp>
        <p:nvSpPr>
          <p:cNvPr id="51" name=""/>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bylaws/sect6-7.html#6&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faq.pdf&gt; </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9A9C7F6-60BD-4387-8CA2-E57F07E6E5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SG Milestones (Revised)</a:t>
            </a:r>
            <a:endParaRPr b="1" lang="en-US" sz="3600" spc="-1" strike="noStrike">
              <a:solidFill>
                <a:srgbClr val="000000"/>
              </a:solidFill>
              <a:latin typeface="Times New Roman"/>
            </a:endParaRPr>
          </a:p>
        </p:txBody>
      </p:sp>
      <p:sp>
        <p:nvSpPr>
          <p:cNvPr id="5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March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R discussion (MIH-level security)</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utorial preparation</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Joint Meeting with 802.1 Security Task Group</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April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eleconference(s) for PAR/5C update</a:t>
            </a:r>
            <a:endParaRPr b="0" lang="en-US" sz="20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May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Finalize PAR/5C</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R discussion (distributed authenticator model)</a:t>
            </a:r>
            <a:endParaRPr b="0" lang="en-US" sz="20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June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Submit PAR/5C to IEEE 802 EC to create a TG</a:t>
            </a:r>
            <a:endParaRPr b="0" lang="en-US" sz="20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July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Completion of TR</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Discuss feedback on PAR/5C</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AFB1C65-4E0C-456B-ABF4-ED278D26A1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Next Step</a:t>
            </a:r>
            <a:endParaRPr b="1" lang="en-US" sz="36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eleconferenc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llocate 3 meeting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ＭＳ Ｐゴシック"/>
              </a:rPr>
              <a:t>April 2, 16, and 30, 2008 (Wednesday, 10AM EST)</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opics: MIH-level security (Use case / Threat analysis), PAR and 5C</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IH-level security volunteers: Subir Das, Rahul Sinha, Lily Chen, Marc Meylemans, Shubhranshu Singh, Michael Williams, Kapil Sood</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See you in Jacksonvill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1382C0-241C-487D-A00D-1115112ECA54}"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8-03-24T14:28:40Z</dcterms:modified>
  <cp:revision>664</cp:revision>
  <dc:subject/>
  <dc:title>PowerPoint Presentation</dc:title>
</cp:coreProperties>
</file>