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9E71-67DC-4C16-8DD8-10C5812BC4E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9B30-33D4-4984-B6F9-DBF7B4E4738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C51F-127D-4545-B2CC-368D3A11963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0DF1-3044-44F5-B02D-56FC302FFF2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6BFC-1C5D-42F4-90F1-DE22E2F92F4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B099F2-D0F5-4E91-92D5-09907035D5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472642-CD52-4F4A-BE5A-F9C31C07F2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D2EB78-92F7-4880-A9BD-B1C901807F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8F1A02-2C6A-41B1-80A4-68511BBD53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1CFDE0-E70A-43FB-8677-280EE2ACCB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3F74D3-4FF2-4B81-8393-AC51740CFF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EFE7E5-2C6E-498D-A9A3-90D7EF005A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216BF3-B850-41F5-99FD-D892E0A932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C7D28A-8ABE-4789-86A7-CFDE4B6722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43D9FB-0528-49F3-A680-C27EDF733B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382825-6CCD-488E-8AD4-A19E27BA0E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1CD29C-1FF4-46BF-B7AE-2EA7DBAAB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4CF6D-4291-4C26-B770-9713091A2E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B07E5E-72F1-43B1-B91D-7D5D276213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740EB6-C511-4693-8B07-CFC341CCA7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D2A84C-9AEA-4AAB-B001-8C0BAA9528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AF5217-20D6-47F3-AA34-C191A88CE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B4CEDF-CCFC-4A62-AF6E-33FE5BDDC8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75FBB6-6FED-400B-BFF1-BD762EE10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4376DD-69FE-49C8-9EA1-9C1E3BD26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9AF03-CCAE-4343-B6AA-0597FF8BB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DEF9F-6E7A-4F3E-BF88-388DAD8F7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CE71B-8E9A-4F36-B2EC-F05EE74C0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1839E-F2C8-4136-867A-92D300E64E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9337-7703-45BC-9B5E-75398D5E1E86}"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F308-3249-436A-A792-8B249C9C8ABF}"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3-0055-00-MuGM</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Multicast Group Management TG Closing Note</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March 21, 2013</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5 in Orland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TGd Closing Report for session #55</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E760-5333-41E4-85FC-1A62F1DF532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81D6-7D7D-4D92-8FDF-C1AA336312F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ＭＳ Ｐゴシック"/>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name any IEEE Standards publication even though it may include portions of this contribution; and at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is familiar with IEEE patent policy, as stated in Section 6 of the IEEE-SA Standards Board bylaws</a:t>
            </a:r>
            <a:r>
              <a:rPr b="0" lang="en-US" sz="1600" spc="-1" strike="noStrike">
                <a:solidFill>
                  <a:srgbClr val="000099"/>
                </a:solidFill>
                <a:latin typeface="Times New Roman"/>
                <a:ea typeface="ＭＳ Ｐゴシック"/>
              </a:rPr>
              <a:t> </a:t>
            </a:r>
            <a:r>
              <a:rPr b="0" lang="en-US" sz="1600" spc="-1" strike="noStrike">
                <a:solidFill>
                  <a:srgbClr val="000000"/>
                </a:solidFill>
                <a:latin typeface="Times New Roman"/>
                <a:ea typeface="ＭＳ Ｐゴシック"/>
              </a:rPr>
              <a:t>&lt;http://standards.ieee.org/guides/bylaws/sect6-7.html#6&gt; and in </a:t>
            </a:r>
            <a:r>
              <a:rPr b="0" i="1" lang="en-US" sz="1600" spc="-1" strike="noStrike">
                <a:solidFill>
                  <a:srgbClr val="000000"/>
                </a:solidFill>
                <a:latin typeface="Times New Roman"/>
                <a:ea typeface="ＭＳ Ｐゴシック"/>
              </a:rPr>
              <a:t>Understanding Patent Issues During IEEE Standards Development</a:t>
            </a:r>
            <a:r>
              <a:rPr b="0" lang="en-US" sz="1600" spc="-1" strike="noStrike">
                <a:solidFill>
                  <a:srgbClr val="000000"/>
                </a:solidFill>
                <a:latin typeface="Times New Roman"/>
                <a:ea typeface="ＭＳ Ｐゴシック"/>
              </a:rPr>
              <a:t> http://standards.ieee.org/board/pat/faq.pdf&g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rogress in March 2013 Meeting</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C60B-EE79-4B1C-8F19-31C8F6F1240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0" name="Content Placeholder 2"/>
          <p:cNvSpPr/>
          <p:nvPr/>
        </p:nvSpPr>
        <p:spPr>
          <a:xfrm>
            <a:off x="201600" y="1071720"/>
            <a:ext cx="8299440" cy="5572080"/>
          </a:xfrm>
          <a:prstGeom prst="rect">
            <a:avLst/>
          </a:prstGeom>
          <a:noFill/>
          <a:ln w="0">
            <a:noFill/>
          </a:ln>
        </p:spPr>
        <p:style>
          <a:lnRef idx="0"/>
          <a:fillRef idx="0"/>
          <a:effectRef idx="0"/>
          <a:fontRef idx="minor"/>
        </p:style>
        <p:txBody>
          <a:bodyPr lIns="90360" rIns="90360" tIns="44280" bIns="442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roposal Presentation III for 2 proposals (DCN 34, 42)</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roduced a single harmonized proposal (DCN 34-01)</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dentified several issue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heck ResponseFlag applicability to all multicast-eligible message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Update group manipulate Figure in 9.4.2</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dd GKB Generator description (9.4.1)</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Revise Key hierarchy &amp; derivation (9.4.3)</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dd GKB example in Annex P </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fine bootstrapping group &amp; GKB</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Gd Motion</a:t>
            </a:r>
            <a:endParaRPr b="1" lang="en-US" sz="36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otion: The Task Group approves DCN 21-13-0034-01 as the 802.21d baseline docu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oved by: Farrokh Khatibi</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econded by: Toru Kambayashi</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Yes: 7</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No: 0</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ain: 0</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Result: Motion passes</a:t>
            </a:r>
            <a:endParaRPr b="0" lang="en-US" sz="2400" spc="-1" strike="noStrike">
              <a:solidFill>
                <a:srgbClr val="000000"/>
              </a:solidFill>
              <a:latin typeface="Times New Roman"/>
            </a:endParaRPr>
          </a:p>
        </p:txBody>
      </p:sp>
      <p:sp>
        <p:nvSpPr>
          <p:cNvPr id="103" name="フッター プレースホルダー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04" name="スライド番号プレースホルダー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BAA1-497E-4607-856D-97A10CED392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s</a:t>
            </a:r>
            <a:endParaRPr b="1" lang="en-US" sz="3600" spc="-1" strike="noStrike">
              <a:solidFill>
                <a:srgbClr val="000000"/>
              </a:solidFill>
              <a:latin typeface="Times New Roman"/>
            </a:endParaRPr>
          </a:p>
        </p:txBody>
      </p:sp>
      <p:sp>
        <p:nvSpPr>
          <p:cNvPr id="10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0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FD5D-CE3F-4192-83DC-958316D13A4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8" name="Content Placeholder 2"/>
          <p:cNvSpPr/>
          <p:nvPr/>
        </p:nvSpPr>
        <p:spPr>
          <a:xfrm>
            <a:off x="201600" y="907920"/>
            <a:ext cx="8299440" cy="562788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No down-selection is conducted in May 2013 Interim Meeting</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Expected to improve the editorial/technical content of the baseline document before the document is sent to WG Letter Ballot</a:t>
            </a:r>
            <a:endParaRPr b="0" lang="en-US" sz="2400" spc="-1" strike="noStrike">
              <a:solidFill>
                <a:srgbClr val="000000"/>
              </a:solidFill>
              <a:latin typeface="Times New Roman"/>
            </a:endParaRPr>
          </a:p>
          <a:p>
            <a:pPr lvl="1" marL="743040" indent="-28584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ny technical changes to the baseline document requires 75% support from TG members</a:t>
            </a:r>
            <a:endParaRPr b="0" lang="en-US" sz="2400" spc="-1" strike="noStrike">
              <a:solidFill>
                <a:srgbClr val="000000"/>
              </a:solidFill>
              <a:latin typeface="Times New Roman"/>
            </a:endParaRPr>
          </a:p>
          <a:p>
            <a:pPr lvl="1" marL="743040" indent="-285840">
              <a:lnSpc>
                <a:spcPct val="7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eleconference</a:t>
            </a:r>
            <a:r>
              <a:rPr b="1" lang="ja-JP" sz="3600" spc="-1" strike="noStrike">
                <a:solidFill>
                  <a:srgbClr val="000000"/>
                </a:solidFill>
                <a:latin typeface="Times New Roman"/>
                <a:ea typeface="ＭＳ Ｐゴシック"/>
              </a:rPr>
              <a:t> </a:t>
            </a:r>
            <a:r>
              <a:rPr b="1" lang="en-US" sz="3600" spc="-1" strike="noStrike">
                <a:solidFill>
                  <a:srgbClr val="000000"/>
                </a:solidFill>
                <a:latin typeface="Times New Roman"/>
                <a:ea typeface="ＭＳ Ｐゴシック"/>
              </a:rPr>
              <a:t>Schedule (Tentative)</a:t>
            </a:r>
            <a:endParaRPr b="1" lang="en-US" sz="3600" spc="-1" strike="noStrike">
              <a:solidFill>
                <a:srgbClr val="000000"/>
              </a:solidFill>
              <a:latin typeface="Times New Roman"/>
            </a:endParaRPr>
          </a:p>
        </p:txBody>
      </p:sp>
      <p:sp>
        <p:nvSpPr>
          <p:cNvPr id="110" name=""/>
          <p:cNvSpPr txBox="1"/>
          <p:nvPr/>
        </p:nvSpPr>
        <p:spPr>
          <a:xfrm>
            <a:off x="201600" y="999720"/>
            <a:ext cx="8299440" cy="5181480"/>
          </a:xfrm>
          <a:prstGeom prst="rect">
            <a:avLst/>
          </a:prstGeom>
          <a:noFill/>
          <a:ln w="0">
            <a:noFill/>
          </a:ln>
        </p:spPr>
        <p:txBody>
          <a:bodyPr lIns="90360" rIns="90360" tIns="44280" bIns="44280" anchor="t">
            <a:normAutofit/>
          </a:bodyPr>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pril 17 (Wed) 8am-10am ET</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ay 8 (Wed) 8am-10am ET</a:t>
            </a:r>
            <a:endParaRPr b="0" lang="en-US" sz="2400" spc="-1" strike="noStrike">
              <a:solidFill>
                <a:srgbClr val="000000"/>
              </a:solidFill>
              <a:latin typeface="Times New Roman"/>
            </a:endParaRPr>
          </a:p>
        </p:txBody>
      </p:sp>
      <p:sp>
        <p:nvSpPr>
          <p:cNvPr id="11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1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104F-849C-4CEB-A8FF-5AE70F8C707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13-03-21T13:31:15Z</dcterms:modified>
  <cp:revision>971</cp:revision>
  <dc:subject/>
  <dc:title>PowerPoint Presentation</dc:title>
</cp:coreProperties>
</file>