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8E37-0DB1-4034-9199-7F5D5F89DA44}"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E9EB-D24A-444C-B3B8-3F309F83A85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A625-2A8B-4B21-AC90-C00F3F73C07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3FD4-93ED-4636-88F9-BDF75602AFD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84DD-5E52-4662-8D09-5B3B304C782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049D46-44DE-406A-9B02-6F137B9388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15C2CF-A143-4D9C-ABC2-BFDE37F330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6A1199-37AA-4F81-9BF9-BEA9B0BD3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B85CF3-A5A9-4872-A4C3-64203D2520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BF8E3E-4FC3-4253-AB2A-3D4C6383FD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474D0B-8338-4C69-B9DA-A5EF12D23B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A037AE-9EE8-4B2D-AE4C-A64A53D982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DBAF9B-D3EF-43E1-85BF-B9D52EFEB0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C1A0CB-B58C-4149-9759-419BD15851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ADE946-EA73-4AD0-B44D-9806300B9C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17360D-E3EA-496A-8902-8D0E2C5D04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F72CAB-3CD2-4D83-B27B-3CD719C8C9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93470D-DFF3-4FFB-AEDC-062E876779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1AE1C2-3411-48F7-8132-F65DDEFD04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782631-F10F-4D19-B46B-9F08967DAD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E9DA09-DD33-477F-89F3-CA103A9A72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9EB80D-99E3-4C0C-AE30-059286026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D2761B-ADD8-4D6B-A018-8EC2AE2084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FD1A50-D735-47F9-AD5E-74F58C4209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44CADF-79DA-48BD-8083-296FC656F2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6E063A-9B2A-4686-A163-EF227726C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414AAF-57BD-4452-A84D-1E252957FB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A803D6-D65B-4F4C-A925-127B1DE53B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8ADD9-ED63-4D8A-978C-9CB364C3EA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8755-CB22-4FEC-A524-07D3E504DF20}"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F75E-0596-4877-915C-68631DF59F0E}"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ＭＳ Ｐゴシック"/>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CN: 21-12-0062-00-MuGM</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itle: </a:t>
            </a:r>
            <a:r>
              <a:rPr b="1" lang="en-US" sz="2400" spc="-1" strike="noStrike">
                <a:solidFill>
                  <a:srgbClr val="000000"/>
                </a:solidFill>
                <a:latin typeface="Times New Roman"/>
                <a:ea typeface="ＭＳ Ｐゴシック"/>
              </a:rPr>
              <a:t>Security TG Closing Note</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ate Submitted: May 15, 2012</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resented at IEEE 802.21 session #50 in Atlant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Security TG Closing Report for session #50</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5074-2C8C-4E18-B863-C2969AE177C6}"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85CA-56E4-48DB-86D5-930996A8BC5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ＭＳ Ｐゴシック"/>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name any IEEE Standards publication even though it may include portions of this contribution; and at the IEEE</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ＭＳ Ｐゴシック"/>
              </a:rPr>
              <a:t>The contributor is familiar with IEEE patent policy, as stated in Section 6 of the IEEE-SA Standards Board bylaws</a:t>
            </a:r>
            <a:r>
              <a:rPr b="0" lang="en-US" sz="1600" spc="-1" strike="noStrike">
                <a:solidFill>
                  <a:srgbClr val="000099"/>
                </a:solidFill>
                <a:latin typeface="Times New Roman"/>
                <a:ea typeface="ＭＳ Ｐゴシック"/>
              </a:rPr>
              <a:t> </a:t>
            </a:r>
            <a:r>
              <a:rPr b="0" lang="en-US" sz="1600" spc="-1" strike="noStrike">
                <a:solidFill>
                  <a:srgbClr val="000000"/>
                </a:solidFill>
                <a:latin typeface="Times New Roman"/>
                <a:ea typeface="ＭＳ Ｐゴシック"/>
              </a:rPr>
              <a:t>&lt;http://standards.ieee.org/guides/bylaws/sect6-7.html#6&gt; and in </a:t>
            </a:r>
            <a:r>
              <a:rPr b="0" i="1" lang="en-US" sz="1600" spc="-1" strike="noStrike">
                <a:solidFill>
                  <a:srgbClr val="000000"/>
                </a:solidFill>
                <a:latin typeface="Times New Roman"/>
                <a:ea typeface="ＭＳ Ｐゴシック"/>
              </a:rPr>
              <a:t>Understanding Patent Issues During IEEE Standards Development</a:t>
            </a:r>
            <a:r>
              <a:rPr b="0" lang="en-US" sz="1600" spc="-1" strike="noStrike">
                <a:solidFill>
                  <a:srgbClr val="000000"/>
                </a:solidFill>
                <a:latin typeface="Times New Roman"/>
                <a:ea typeface="ＭＳ Ｐゴシック"/>
              </a:rPr>
              <a:t> http://standards.ieee.org/board/pat/faq.pdf&g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rogress in May 2012 Meeting</a:t>
            </a:r>
            <a:endParaRPr b="1" lang="en-US" sz="3600" spc="-1" strike="noStrike">
              <a:solidFill>
                <a:srgbClr val="000000"/>
              </a:solidFill>
              <a:latin typeface="Times New Roman"/>
            </a:endParaRPr>
          </a:p>
        </p:txBody>
      </p:sp>
      <p:sp>
        <p:nvSpPr>
          <p:cNvPr id="98"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9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6B16-21FB-4A15-99F1-2C75EE76D8F0}"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0" name="Content Placeholder 2"/>
          <p:cNvSpPr/>
          <p:nvPr/>
        </p:nvSpPr>
        <p:spPr>
          <a:xfrm>
            <a:off x="201600" y="1071720"/>
            <a:ext cx="8299440" cy="5572080"/>
          </a:xfrm>
          <a:prstGeom prst="rect">
            <a:avLst/>
          </a:prstGeom>
          <a:noFill/>
          <a:ln w="0">
            <a:noFill/>
          </a:ln>
        </p:spPr>
        <p:style>
          <a:lnRef idx="0"/>
          <a:fillRef idx="0"/>
          <a:effectRef idx="0"/>
          <a:fontRef idx="minor"/>
        </p:style>
        <p:txBody>
          <a:bodyPr lIns="90360" rIns="90360" tIns="44280" bIns="442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Gap Analysis (DCN 21-12-0051)</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Use cases (DCN 21-12-005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Requirements (DCN-21-12-005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Identification of related SDOs (DCN 21-12-00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Discussion on TG schedule (DCN 21-12-006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Next Steps</a:t>
            </a:r>
            <a:endParaRPr b="1" lang="en-US" sz="3600" spc="-1" strike="noStrike">
              <a:solidFill>
                <a:srgbClr val="000000"/>
              </a:solidFill>
              <a:latin typeface="Times New Roman"/>
            </a:endParaRPr>
          </a:p>
        </p:txBody>
      </p:sp>
      <p:sp>
        <p:nvSpPr>
          <p:cNvPr id="102"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10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1994-22CB-4E50-AE91-A097AA0DAF88}"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104" name="Content Placeholder 2"/>
          <p:cNvSpPr/>
          <p:nvPr/>
        </p:nvSpPr>
        <p:spPr>
          <a:xfrm>
            <a:off x="201600" y="1071720"/>
            <a:ext cx="8299440" cy="535752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Develop Use Cases / Requirements document including</a:t>
            </a:r>
            <a:endParaRPr b="0" lang="en-US" sz="2800" spc="-1" strike="noStrike">
              <a:solidFill>
                <a:srgbClr val="000000"/>
              </a:solidFill>
              <a:latin typeface="Times New Roman"/>
            </a:endParaRPr>
          </a:p>
          <a:p>
            <a:pPr marL="2811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Security requirements</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Firmware distribution method (using MIH or something else?)</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Detailed restoration procedure</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Scalability requirements</a:t>
            </a:r>
            <a:endParaRPr b="0" lang="en-US" sz="2800" spc="-1" strike="noStrike">
              <a:solidFill>
                <a:srgbClr val="000000"/>
              </a:solidFill>
              <a:latin typeface="Times New Roman"/>
            </a:endParaRPr>
          </a:p>
          <a:p>
            <a:pPr lvl="1" marL="7383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1160" indent="-281160">
              <a:lnSpc>
                <a:spcPct val="7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ＭＳ Ｐゴシック"/>
              </a:rPr>
              <a:t>More study of multicast-related protocols/mechanisms and existing pract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Teleconference</a:t>
            </a:r>
            <a:r>
              <a:rPr b="1" lang="ja-JP" sz="3600" spc="-1" strike="noStrike">
                <a:solidFill>
                  <a:srgbClr val="000000"/>
                </a:solidFill>
                <a:latin typeface="Times New Roman"/>
                <a:ea typeface="ＭＳ Ｐゴシック"/>
              </a:rPr>
              <a:t> </a:t>
            </a:r>
            <a:r>
              <a:rPr b="1" lang="en-US" sz="3600" spc="-1" strike="noStrike">
                <a:solidFill>
                  <a:srgbClr val="000000"/>
                </a:solidFill>
                <a:latin typeface="Times New Roman"/>
                <a:ea typeface="ＭＳ Ｐゴシック"/>
              </a:rPr>
              <a:t>Schedule (Tentative)</a:t>
            </a:r>
            <a:endParaRPr b="1" lang="en-US" sz="3600" spc="-1" strike="noStrike">
              <a:solidFill>
                <a:srgbClr val="000000"/>
              </a:solidFill>
              <a:latin typeface="Times New Roman"/>
            </a:endParaRPr>
          </a:p>
        </p:txBody>
      </p:sp>
      <p:sp>
        <p:nvSpPr>
          <p:cNvPr id="106" name=""/>
          <p:cNvSpPr txBox="1"/>
          <p:nvPr/>
        </p:nvSpPr>
        <p:spPr>
          <a:xfrm>
            <a:off x="201600" y="999720"/>
            <a:ext cx="8299440" cy="5181480"/>
          </a:xfrm>
          <a:prstGeom prst="rect">
            <a:avLst/>
          </a:prstGeom>
          <a:noFill/>
          <a:ln w="0">
            <a:noFill/>
          </a:ln>
        </p:spPr>
        <p:txBody>
          <a:bodyPr lIns="90360" rIns="90360" tIns="44280" bIns="44280" anchor="t">
            <a:normAutofit/>
          </a:bodyPr>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May 31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June 14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June 28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July 12 (Thu) 10am-noon Eastern Time</a:t>
            </a: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5244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7"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2-0062-00-MuGM</a:t>
            </a:r>
            <a:endParaRPr b="0" lang="en-US" sz="1400" spc="-1" strike="noStrike">
              <a:solidFill>
                <a:srgbClr val="000000"/>
              </a:solidFill>
              <a:latin typeface="Times New Roman"/>
            </a:endParaRPr>
          </a:p>
        </p:txBody>
      </p:sp>
      <p:sp>
        <p:nvSpPr>
          <p:cNvPr id="10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AEB9-A6E6-4D72-BB1A-8728B430637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hba</cp:lastModifiedBy>
  <dcterms:modified xsi:type="dcterms:W3CDTF">2012-05-15T21:03:07Z</dcterms:modified>
  <cp:revision>915</cp:revision>
  <dc:subject/>
  <dc:title>PowerPoint Presentation</dc:title>
</cp:coreProperties>
</file>