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649B6-0480-4C67-BAD8-80F6600955E5}"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DFA4A-7FEB-452E-9A9D-510046FDCCFE}"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0247A-C58B-4816-BEF5-60429F6190F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AE73-1083-44F1-8D27-6BFA1AD6AF03}"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3DF28-8B96-45DE-A847-9ADAB412C096}"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2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32BD-8E96-4029-B3AB-04C1FDE3D89D}"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13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15893-2221-4D91-A69D-CF2C1DE45CD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ED6DAC3-54B0-4A49-AF1E-8A9970BB28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3905CA-A3BB-4C3D-8E28-A93426AF50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78FBAE-2551-49E1-A539-DC10B444F7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596F259-EE3D-4112-A7C2-A9F7A22493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04EB609-124F-4B6F-8D42-F006937FFD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D756B0-6113-4657-96EC-55BA0B7D50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A7173A-ADD8-4A46-9D90-4B1DA926000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263632-F8C2-46B2-8C48-5124FA0C0B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D41A4F-2D86-4569-8830-E86D880D48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4EB0E1-1096-45FD-A6BB-D7FFF78F22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53CCF9-9F8A-4782-A97A-C3DA265EBE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232BAF-4856-4D56-ABB6-B6F63C3EDE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32418C-D776-4C4C-A211-6A332A55EC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8C6378-CDB8-4118-A975-3EA9060AE9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882E58-9EEB-4A56-A6C4-E7C8CC84FA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6C9846-EED4-4C2E-99C9-0551588332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98F06FB-5E13-4407-9222-9649202B98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76500D-F3F6-41A7-BECF-2004EE200B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287859-259D-4DBB-95FD-A05FF9C34B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6E7E0E-8E27-4B19-9136-7630CCDBE9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D6DF44-F671-4BEF-A18E-81EF25988B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4483AC-875B-4004-81B7-E2DB1DCE72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9FFD8-19A0-45AE-A4A5-F99868137F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CCBBF5-D1C5-42A2-852B-268641E234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1-0178-01-0000</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3D848-152C-48C7-BAEB-3009773551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1-0178-01-0000</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7E254-E429-41A8-9750-A260D9BCBB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11-0178-01-0000</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Comments on P802.15.9 PAR</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November 8, 2011</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47 in Atlant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802.21 WG</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 This document contains comments on the proposed  P802.15.9 PAR</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A605E-E193-4BE1-AF5A-A678C08904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Footer Placeholder 7"/>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1-0178-01-00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1-0178-01-0000</a:t>
            </a:r>
            <a:endParaRPr b="0" lang="en-US" sz="1400" spc="-1" strike="noStrike">
              <a:solidFill>
                <a:srgbClr val="000000"/>
              </a:solidFill>
              <a:latin typeface="Times New Roman"/>
            </a:endParaRPr>
          </a:p>
        </p:txBody>
      </p:sp>
      <p:sp>
        <p:nvSpPr>
          <p:cNvPr id="95"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E1A7-B30B-423C-812B-BBEDF7C28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http://standards.ieee.org/guides/bylaws/sect6-7.html#6&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http://standards.ieee.org/board/pat/faq.pdf&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P802.15.9 PAR/Section 5.2</a:t>
            </a:r>
            <a:endParaRPr b="1" lang="en-US" sz="3600" spc="-1" strike="noStrike">
              <a:solidFill>
                <a:srgbClr val="000000"/>
              </a:solidFill>
              <a:latin typeface="Times New Roman"/>
            </a:endParaRPr>
          </a:p>
        </p:txBody>
      </p:sp>
      <p:sp>
        <p:nvSpPr>
          <p:cNvPr id="98" name=""/>
          <p:cNvSpPr txBox="1"/>
          <p:nvPr/>
        </p:nvSpPr>
        <p:spPr>
          <a:xfrm>
            <a:off x="201600" y="1055520"/>
            <a:ext cx="829944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urrent text: “This Recommended Practice defines a transport mechanism interface for key management protocols (KMPs) and guidelines for the use of some existing KMPs with IEEE 802.15 standards. This Recommended Practice does not create a new KMP.”</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omment: It is not clear what “a transport mechanism interface” means. Is it trying to define a transport mechanism for KMPs, or just an interface to a transport mechanism for KMPs?  The remaining text of the PAR implies that this project is trying to define a transport mechanism for KMPs. Additional clarification would improve the PAR.</a:t>
            </a:r>
            <a:endParaRPr b="0" lang="en-US" sz="2400" spc="-1" strike="noStrike">
              <a:solidFill>
                <a:srgbClr val="000000"/>
              </a:solidFill>
              <a:latin typeface="Times New Roman"/>
            </a:endParaRPr>
          </a:p>
        </p:txBody>
      </p:sp>
      <p:sp>
        <p:nvSpPr>
          <p:cNvPr id="99" name="フッター プレースホルダ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1-0178-01-0000</a:t>
            </a:r>
            <a:endParaRPr b="0" lang="en-US" sz="1400" spc="-1" strike="noStrike">
              <a:solidFill>
                <a:srgbClr val="000000"/>
              </a:solidFill>
              <a:latin typeface="Times New Roman"/>
            </a:endParaRPr>
          </a:p>
        </p:txBody>
      </p:sp>
      <p:sp>
        <p:nvSpPr>
          <p:cNvPr id="100" name="スライド番号プレースホルダ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0BAC-0003-4FE2-857F-FD7853087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P802.15.9 PAR/Section 5.3</a:t>
            </a:r>
            <a:endParaRPr b="1" lang="en-US" sz="3600" spc="-1" strike="noStrike">
              <a:solidFill>
                <a:srgbClr val="000000"/>
              </a:solidFill>
              <a:latin typeface="Times New Roman"/>
            </a:endParaRPr>
          </a:p>
        </p:txBody>
      </p:sp>
      <p:sp>
        <p:nvSpPr>
          <p:cNvPr id="102" name=""/>
          <p:cNvSpPr txBox="1"/>
          <p:nvPr/>
        </p:nvSpPr>
        <p:spPr>
          <a:xfrm>
            <a:off x="201600" y="1055520"/>
            <a:ext cx="8299440" cy="518184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urrent Text: “This proposal uses facilities provided by amendment IEEE 802.15.4e. In addition, it provides a transport mechanism for IEEE 802.15.6. Both of these standards have passed their first Sponsor ballot are are expected to be completed in early 2012.”</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omment: The sentence “In addition, it provides a transport mechanism for IEEE 802.15.6.”  is not clear.  What is carried by the transport should be clearly stated. In this case, we believe that it is a transport mechanism for KMPs, but it is not obvious from the tex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Editorial: Replace “are are” with “and are”.</a:t>
            </a:r>
            <a:endParaRPr b="0" lang="en-US" sz="2400" spc="-1" strike="noStrike">
              <a:solidFill>
                <a:srgbClr val="000000"/>
              </a:solidFill>
              <a:latin typeface="Times New Roman"/>
            </a:endParaRPr>
          </a:p>
        </p:txBody>
      </p:sp>
      <p:sp>
        <p:nvSpPr>
          <p:cNvPr id="103" name="フッター プレースホルダ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1-0178-01-0000</a:t>
            </a:r>
            <a:endParaRPr b="0" lang="en-US" sz="1400" spc="-1" strike="noStrike">
              <a:solidFill>
                <a:srgbClr val="000000"/>
              </a:solidFill>
              <a:latin typeface="Times New Roman"/>
            </a:endParaRPr>
          </a:p>
        </p:txBody>
      </p:sp>
      <p:sp>
        <p:nvSpPr>
          <p:cNvPr id="104" name="スライド番号プレースホルダ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8DC8-80F6-4BF0-9A1A-5870C2E62E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P802.15.9 PAR/Section 5.5</a:t>
            </a:r>
            <a:endParaRPr b="1" lang="en-US" sz="3600" spc="-1" strike="noStrike">
              <a:solidFill>
                <a:srgbClr val="000000"/>
              </a:solidFill>
              <a:latin typeface="Times New Roman"/>
            </a:endParaRPr>
          </a:p>
        </p:txBody>
      </p:sp>
      <p:sp>
        <p:nvSpPr>
          <p:cNvPr id="106"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urrent text: “802.15 standards have always supported datagram security, but have not provided a mechanism for establishing the keys used by this feature and upper layer key management is complex to deploy. “ …  “It will also provide guidelines for commonly used KMPs like IETF's HIP, IKEv2, IEEE 802.1X, and 4-Way-Handshake.”</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omment: Without proper reference, it is difficult to understand why upper layer key management is complex to deploy. In particular, the examples cited here “IETF’s HIP,  IKEv2” are  upper layer KMPs. In addition, RFC 5191 (also known as PANA) is the IETF KMP used by ZigBee IP to provide MAC keys for 802.15.4-based  HAN (Home Area Network), and is intended for mass-market deployment. </a:t>
            </a:r>
            <a:endParaRPr b="0" lang="en-US" sz="2400" spc="-1" strike="noStrike">
              <a:solidFill>
                <a:srgbClr val="000000"/>
              </a:solidFill>
              <a:latin typeface="Times New Roman"/>
            </a:endParaRPr>
          </a:p>
        </p:txBody>
      </p:sp>
      <p:sp>
        <p:nvSpPr>
          <p:cNvPr id="107" name="フッター プレースホルダ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1-0178-01-0000</a:t>
            </a:r>
            <a:endParaRPr b="0" lang="en-US" sz="1400" spc="-1" strike="noStrike">
              <a:solidFill>
                <a:srgbClr val="000000"/>
              </a:solidFill>
              <a:latin typeface="Times New Roman"/>
            </a:endParaRPr>
          </a:p>
        </p:txBody>
      </p:sp>
      <p:sp>
        <p:nvSpPr>
          <p:cNvPr id="108" name="スライド番号プレースホルダ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5567-0EE1-447F-83F1-C853FC45AA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P802.15.9 PAR/Section 7.1</a:t>
            </a:r>
            <a:endParaRPr b="1" lang="en-US" sz="3600" spc="-1" strike="noStrike">
              <a:solidFill>
                <a:srgbClr val="000000"/>
              </a:solidFill>
              <a:latin typeface="Times New Roman"/>
            </a:endParaRPr>
          </a:p>
        </p:txBody>
      </p:sp>
      <p:sp>
        <p:nvSpPr>
          <p:cNvPr id="110"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urrent text: “</a:t>
            </a:r>
            <a:r>
              <a:rPr b="1" lang="en-US" sz="2400" spc="-1" strike="noStrike">
                <a:solidFill>
                  <a:srgbClr val="000000"/>
                </a:solidFill>
                <a:latin typeface="Times New Roman"/>
              </a:rPr>
              <a:t>Are there other standards or projects with a similar scope?: No”</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Comment: This is not correct. For example, ZigBee IP uses PANA</a:t>
            </a:r>
            <a:r>
              <a:rPr b="0" lang="ja-JP" sz="2400" spc="-1" strike="noStrike">
                <a:solidFill>
                  <a:srgbClr val="000000"/>
                </a:solidFill>
                <a:latin typeface="Times New Roman"/>
                <a:ea typeface="ＭＳ Ｐゴシック"/>
              </a:rPr>
              <a:t>　</a:t>
            </a:r>
            <a:r>
              <a:rPr b="0" lang="en-US" sz="2400" spc="-1" strike="noStrike">
                <a:solidFill>
                  <a:srgbClr val="000000"/>
                </a:solidFill>
                <a:latin typeface="Times New Roman"/>
                <a:ea typeface="ＭＳ Ｐゴシック"/>
              </a:rPr>
              <a:t>(RFC 5191) as the KMP to provide MAC keys for 802.15.4 based  HAN in ZigBee Smart Energy Profile 2.0 (SEP2.0), where UDP/IP is used as the transport of the PANA KMP.</a:t>
            </a:r>
            <a:endParaRPr b="0" lang="en-US" sz="2400" spc="-1" strike="noStrike">
              <a:solidFill>
                <a:srgbClr val="000000"/>
              </a:solidFill>
              <a:latin typeface="Times New Roman"/>
            </a:endParaRPr>
          </a:p>
        </p:txBody>
      </p:sp>
      <p:sp>
        <p:nvSpPr>
          <p:cNvPr id="111" name="フッター プレースホルダ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11-0178-01-0000</a:t>
            </a:r>
            <a:endParaRPr b="0" lang="en-US" sz="1400" spc="-1" strike="noStrike">
              <a:solidFill>
                <a:srgbClr val="000000"/>
              </a:solidFill>
              <a:latin typeface="Times New Roman"/>
            </a:endParaRPr>
          </a:p>
        </p:txBody>
      </p:sp>
      <p:sp>
        <p:nvSpPr>
          <p:cNvPr id="112" name="スライド番号プレースホルダ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BCC9-803C-4E84-A44E-FA64422C3B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hba</cp:lastModifiedBy>
  <dcterms:modified xsi:type="dcterms:W3CDTF">2011-11-08T19:05:50Z</dcterms:modified>
  <cp:revision>1127</cp:revision>
  <dc:subject/>
  <dc:title>PowerPoint Presentation</dc:title>
</cp:coreProperties>
</file>