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AB90-EB09-41EA-A6D4-F081E5A9829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3136-44CB-4198-B5FC-5C7C29BF410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8D2E-112D-46CC-BDAD-AE6F7F775C6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F911-F4EA-45C1-A560-9AD4D39E66C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09F2-B4BF-42E6-97C7-A42533AC9E6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404196-2A08-40B9-BD91-1379A1612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A93FDC-4361-4822-A532-E82543B49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810ED5-BFAE-423D-8E73-A154C70CB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47D22A-4551-41B4-8414-B26C2C323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EEDEEF-A976-4373-B668-93E06145E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9B7E6C-E4B4-418E-A299-9947B63132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765B38-1CD5-4EF2-A1A4-8180AB1846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E198A2-4244-4AD6-B8CF-C5ADD7FAE9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CCBB3E-2B9D-49A9-A8DE-C641B6711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0708BF-D401-4471-96BB-97D0884C8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9468AC-C86F-4074-90DF-DC323F9EE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66B550-4D3E-4172-864E-B697C328F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F341B3-B9F6-4DD4-852A-AE938E58BA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DE30C8-70C7-431F-9018-728045F8B9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295F53-73D2-4809-B32A-CE85B4374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3A08B2-1874-4594-A1FB-880DFC58F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F9C7B9-8536-4772-82C1-FC0F99853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B8161C-91AA-45A7-BE02-0CAD885CA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32FA2-4E21-422E-B2B0-3057D6C3B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03E45-4392-4E26-8868-550BAF70B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FA24D-03FD-4AF8-AACE-C9747B72F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2DDAA-B45C-4844-A52F-870EB0397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C6AA6-7134-475F-A02B-E02F8B9C6B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DEB43-7604-4D23-8E79-9D873BA62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0F4A-6033-423F-878B-03214F128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6F15-9600-4DAF-B16C-7EED4C902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9-0174-00-0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6,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35 in Atlant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4998-4830-4B02-9B39-47A75FFA1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500B-8777-4A38-B863-08596669F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sp>
        <p:nvSpPr>
          <p:cNvPr id="98" name="Slide Number Placeholder 11"/>
          <p:cNvSpPr/>
          <p:nvPr/>
        </p:nvSpPr>
        <p:spPr>
          <a:xfrm>
            <a:off x="7772400" y="6405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8609-953F-4966-A252-3AFAE3364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Footer Placeholder 12"/>
          <p:cNvSpPr/>
          <p:nvPr/>
        </p:nvSpPr>
        <p:spPr>
          <a:xfrm>
            <a:off x="0" y="642924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100" name="Rectangle 69"/>
          <p:cNvSpPr/>
          <p:nvPr/>
        </p:nvSpPr>
        <p:spPr>
          <a:xfrm>
            <a:off x="2214720" y="64299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graphicFrame>
        <p:nvGraphicFramePr>
          <p:cNvPr id="101" name=""/>
          <p:cNvGraphicFramePr/>
          <p:nvPr/>
        </p:nvGraphicFramePr>
        <p:xfrm>
          <a:off x="434880" y="1508040"/>
          <a:ext cx="8137800" cy="333216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curity TG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genda for September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vised document development pla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8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ocument structure discuss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21-09-0102-03-0sec (Proactive Auth. &amp; MIH Se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21-09-0170-00-0sec (Candidate Auth. Discovery Me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mments on existing proposals (21-09-0169-00-0se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Open Issue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5: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2" name="Text Box 65"/>
          <p:cNvSpPr/>
          <p:nvPr/>
        </p:nvSpPr>
        <p:spPr>
          <a:xfrm>
            <a:off x="301320" y="103824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Wednesday, November 18</a:t>
            </a:r>
            <a:r>
              <a:rPr b="0" lang="en-US" sz="2400" spc="-1" strike="noStrike" baseline="30000">
                <a:solidFill>
                  <a:srgbClr val="00ae00"/>
                </a:solidFill>
                <a:latin typeface="Times New Roman"/>
              </a:rPr>
              <a:t>th</a:t>
            </a:r>
            <a:r>
              <a:rPr b="0" lang="en-US" sz="2400" spc="-1" strike="noStrike">
                <a:solidFill>
                  <a:srgbClr val="00ae00"/>
                </a:solidFill>
                <a:latin typeface="Times New Roman"/>
              </a:rPr>
              <a:t> , 2009,  10:30am-12:30pm &amp; 4pm-6pm</a:t>
            </a:r>
            <a:endParaRPr b="0" lang="en-US" sz="2400" spc="-1" strike="noStrike">
              <a:solidFill>
                <a:srgbClr val="000000"/>
              </a:solidFill>
              <a:latin typeface="Times New Roman"/>
            </a:endParaRPr>
          </a:p>
        </p:txBody>
      </p:sp>
      <p:sp>
        <p:nvSpPr>
          <p:cNvPr id="103" name="テキスト ボックス 9"/>
          <p:cNvSpPr/>
          <p:nvPr/>
        </p:nvSpPr>
        <p:spPr>
          <a:xfrm>
            <a:off x="2089800" y="5286240"/>
            <a:ext cx="43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continues to the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 (cont’d)</a:t>
            </a:r>
            <a:endParaRPr b="1" lang="en-US" sz="3600" spc="-1" strike="noStrike">
              <a:solidFill>
                <a:srgbClr val="000000"/>
              </a:solidFill>
              <a:latin typeface="Times New Roman"/>
            </a:endParaRPr>
          </a:p>
        </p:txBody>
      </p:sp>
      <p:sp>
        <p:nvSpPr>
          <p:cNvPr id="105"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106"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413-4AA0-469F-AE42-C41DFD69E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7" name=""/>
          <p:cNvGraphicFramePr/>
          <p:nvPr/>
        </p:nvGraphicFramePr>
        <p:xfrm>
          <a:off x="434880" y="1708200"/>
          <a:ext cx="8137800" cy="179208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roactive Auth. Architecture Discussion (0164-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Felnan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 for Coffee Brea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ditor’s presentation on document structur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Open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Text Box 65"/>
          <p:cNvSpPr/>
          <p:nvPr/>
        </p:nvSpPr>
        <p:spPr>
          <a:xfrm>
            <a:off x="423720" y="1143000"/>
            <a:ext cx="64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Thursday, November 19</a:t>
            </a:r>
            <a:r>
              <a:rPr b="0" lang="en-US" sz="2400" spc="-1" strike="noStrike" baseline="30000">
                <a:solidFill>
                  <a:srgbClr val="00ae00"/>
                </a:solidFill>
                <a:latin typeface="Times New Roman"/>
              </a:rPr>
              <a:t>th</a:t>
            </a:r>
            <a:r>
              <a:rPr b="0" lang="en-US" sz="2400" spc="-1" strike="noStrike">
                <a:solidFill>
                  <a:srgbClr val="00ae00"/>
                </a:solidFill>
                <a:latin typeface="Times New Roman"/>
              </a:rPr>
              <a:t>,  2009,  8:00am-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09-11-16T13:35:13Z</dcterms:modified>
  <cp:revision>947</cp:revision>
  <dc:subject/>
  <dc:title>PowerPoint Presentation</dc:title>
</cp:coreProperties>
</file>