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A696-82A8-4216-BFFB-C301CD5F21F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21C4-A176-4448-9BAD-94B19ACD01E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6D540-B0B4-4212-8B46-DFC58DC5127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65933-B60C-4A17-BE00-E7E7BA511EB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2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7F72-DFFE-4C5F-927E-3A1938B5616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A3BC3E-8176-4055-A429-FD4D0491EE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441150-4180-48F3-894F-D6C631882B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E5FF6B-9BF7-4EA5-83D3-38C9C703D0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71AB72-A910-4EC1-AA9C-FA39F4893C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84E4FCB-50A9-4162-846B-3BA3EF0C88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E3D97E4-093E-4971-99DC-8807CC0C7C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95BF22-C781-49B6-AA6D-BFE449A9D7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764C6C-C5D3-4930-A9C9-E98AF30EE0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C0BF71-196C-4219-AB91-AE14806A78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2593134-6050-4A63-B29C-0B7F1EA8A6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EF5DE0-7403-403E-AC49-F515B960E4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6AC430-1224-4A27-8393-F81E5BCD29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40099B-7F51-4A9F-9DF5-19D879B946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A04589-C23F-40F8-9FC0-CD75174338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F64C5B-D73D-4CC7-8791-2F5E4C1053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4E6752B-1251-47F0-8A73-0E8D46EA90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FB7C251-A5DC-42AC-B05E-4132ABFEB6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D38A1F-84C4-4391-B532-00DCE4DF41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D87CA2-2B04-4506-86A4-1548CA4321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E910F0-7862-4B21-B15A-6D5EB2E2AE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58D05B-D101-407E-A187-1FACEB18A1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18B887-4AE6-4AF4-960E-9D8171AF5C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D0093C-F5F2-4B54-8451-18514427F6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30077C-CB52-423F-92ED-8D680C6998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74-00-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D7B2-4312-4064-8D6D-45E18BEC45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800"/>
            <a:ext cx="257148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74-00-0sec</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EFD0-240E-4AC9-97C2-34359ADF2D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9-0174-00-0sec</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Times New Roman"/>
              </a:rPr>
              <a:t>Security TG Meeting Agenda</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November 16, 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35 in Atlanta</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Yoshihiro Ohba (Toshiba)</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Agenda for Security TG meeting</a:t>
            </a:r>
            <a:endParaRPr b="0" lang="en-US" sz="2400" spc="-1" strike="noStrike">
              <a:solidFill>
                <a:srgbClr val="000000"/>
              </a:solidFill>
              <a:latin typeface="Times New Roman"/>
            </a:endParaRPr>
          </a:p>
        </p:txBody>
      </p:sp>
      <p:sp>
        <p:nvSpPr>
          <p:cNvPr id="92"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DE2E-D171-4C96-9A3A-D318274645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Footer Placeholder 7"/>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74-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74-00-0sec</a:t>
            </a:r>
            <a:endParaRPr b="0" lang="en-US" sz="1400" spc="-1" strike="noStrike">
              <a:solidFill>
                <a:srgbClr val="000000"/>
              </a:solidFill>
              <a:latin typeface="Times New Roman"/>
            </a:endParaRPr>
          </a:p>
        </p:txBody>
      </p:sp>
      <p:sp>
        <p:nvSpPr>
          <p:cNvPr id="9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EA90-3AA8-4F1C-88AF-EC01A59EA1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bylaws/sect6-7.html#6&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faq.pdf&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Security TG Meeting Agenda</a:t>
            </a:r>
            <a:endParaRPr b="1" lang="en-US" sz="3600" spc="-1" strike="noStrike">
              <a:solidFill>
                <a:srgbClr val="000000"/>
              </a:solidFill>
              <a:latin typeface="Times New Roman"/>
            </a:endParaRPr>
          </a:p>
        </p:txBody>
      </p:sp>
      <p:sp>
        <p:nvSpPr>
          <p:cNvPr id="98" name="Slide Number Placeholder 11"/>
          <p:cNvSpPr/>
          <p:nvPr/>
        </p:nvSpPr>
        <p:spPr>
          <a:xfrm>
            <a:off x="7772400" y="6405480"/>
            <a:ext cx="685800" cy="3812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E6A72-C73E-452A-AC78-78946FE719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Footer Placeholder 12"/>
          <p:cNvSpPr/>
          <p:nvPr/>
        </p:nvSpPr>
        <p:spPr>
          <a:xfrm>
            <a:off x="0" y="6429240"/>
            <a:ext cx="25718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74-00-0sec</a:t>
            </a:r>
            <a:endParaRPr b="0" lang="en-US" sz="1400" spc="-1" strike="noStrike">
              <a:solidFill>
                <a:srgbClr val="000000"/>
              </a:solidFill>
              <a:latin typeface="Times New Roman"/>
            </a:endParaRPr>
          </a:p>
        </p:txBody>
      </p:sp>
      <p:sp>
        <p:nvSpPr>
          <p:cNvPr id="100" name="Rectangle 69"/>
          <p:cNvSpPr/>
          <p:nvPr/>
        </p:nvSpPr>
        <p:spPr>
          <a:xfrm>
            <a:off x="2214720" y="6429960"/>
            <a:ext cx="49291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otes:</a:t>
            </a:r>
            <a:r>
              <a:rPr b="0" lang="en-US" sz="1000" spc="-1" strike="noStrike">
                <a:solidFill>
                  <a:srgbClr val="000000"/>
                </a:solidFill>
                <a:latin typeface="Times New Roman"/>
                <a:ea typeface="Times New Roman"/>
              </a:rPr>
              <a:t> Submission times are placeholders only. They can be moved based on available time</a:t>
            </a:r>
            <a:br>
              <a:rPr sz="1000"/>
            </a:br>
            <a:r>
              <a:rPr b="0" lang="en-US" sz="1000" spc="-1" strike="noStrike">
                <a:solidFill>
                  <a:srgbClr val="000000"/>
                </a:solidFill>
                <a:latin typeface="Times New Roman"/>
                <a:ea typeface="Times New Roman"/>
              </a:rPr>
              <a:t>Breaks shall be taken as needed</a:t>
            </a:r>
            <a:endParaRPr b="0" lang="en-US" sz="1000" spc="-1" strike="noStrike">
              <a:solidFill>
                <a:srgbClr val="000000"/>
              </a:solidFill>
              <a:latin typeface="Times New Roman"/>
            </a:endParaRPr>
          </a:p>
        </p:txBody>
      </p:sp>
      <p:graphicFrame>
        <p:nvGraphicFramePr>
          <p:cNvPr id="101" name=""/>
          <p:cNvGraphicFramePr/>
          <p:nvPr/>
        </p:nvGraphicFramePr>
        <p:xfrm>
          <a:off x="434880" y="1508040"/>
          <a:ext cx="8137800" cy="3332160"/>
        </p:xfrm>
        <a:graphic>
          <a:graphicData uri="http://schemas.openxmlformats.org/drawingml/2006/table">
            <a:tbl>
              <a:tblPr/>
              <a:tblGrid>
                <a:gridCol w="4280040"/>
                <a:gridCol w="2682720"/>
                <a:gridCol w="117504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jec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tribu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ecurity TG  Meeting Called to Ord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0:3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genda for September 2009 Meet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0:32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Opening No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0:35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pproval of  outstanding meeting minut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Grou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0:45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vised document development pla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0:48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ocument structure discuss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21-09-0102-03-0sec (Proactive Auth. &amp; MIH Se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ir D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1:1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21-09-0170-00-0sec (Candidate Auth. Discovery Mech.)</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apeng Li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1:35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2: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mments on existing proposals (21-09-0169-00-0se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apeng Li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4: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scussion on Open Issues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Grou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5: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6: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102" name="Text Box 65"/>
          <p:cNvSpPr/>
          <p:nvPr/>
        </p:nvSpPr>
        <p:spPr>
          <a:xfrm>
            <a:off x="301320" y="1038240"/>
            <a:ext cx="846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rPr>
              <a:t>Wednesday, November 18</a:t>
            </a:r>
            <a:r>
              <a:rPr b="0" lang="en-US" sz="2400" spc="-1" strike="noStrike" baseline="30000">
                <a:solidFill>
                  <a:srgbClr val="00ae00"/>
                </a:solidFill>
                <a:latin typeface="Times New Roman"/>
              </a:rPr>
              <a:t>th</a:t>
            </a:r>
            <a:r>
              <a:rPr b="0" lang="en-US" sz="2400" spc="-1" strike="noStrike">
                <a:solidFill>
                  <a:srgbClr val="00ae00"/>
                </a:solidFill>
                <a:latin typeface="Times New Roman"/>
              </a:rPr>
              <a:t> , 2009,  10:30am-12:30pm &amp; 4pm-6pm</a:t>
            </a:r>
            <a:endParaRPr b="0" lang="en-US" sz="2400" spc="-1" strike="noStrike">
              <a:solidFill>
                <a:srgbClr val="000000"/>
              </a:solidFill>
              <a:latin typeface="Times New Roman"/>
            </a:endParaRPr>
          </a:p>
        </p:txBody>
      </p:sp>
      <p:sp>
        <p:nvSpPr>
          <p:cNvPr id="103" name="テキスト ボックス 9"/>
          <p:cNvSpPr/>
          <p:nvPr/>
        </p:nvSpPr>
        <p:spPr>
          <a:xfrm>
            <a:off x="2089800" y="5286240"/>
            <a:ext cx="439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da continues to the next sli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Security TG Meeting Agenda (cont’d)</a:t>
            </a:r>
            <a:endParaRPr b="1" lang="en-US" sz="3600" spc="-1" strike="noStrike">
              <a:solidFill>
                <a:srgbClr val="000000"/>
              </a:solidFill>
              <a:latin typeface="Times New Roman"/>
            </a:endParaRPr>
          </a:p>
        </p:txBody>
      </p:sp>
      <p:sp>
        <p:nvSpPr>
          <p:cNvPr id="105" name="フッター プレースホルダ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174-00-0sec</a:t>
            </a:r>
            <a:endParaRPr b="0" lang="en-US" sz="1400" spc="-1" strike="noStrike">
              <a:solidFill>
                <a:srgbClr val="000000"/>
              </a:solidFill>
              <a:latin typeface="Times New Roman"/>
            </a:endParaRPr>
          </a:p>
        </p:txBody>
      </p:sp>
      <p:sp>
        <p:nvSpPr>
          <p:cNvPr id="106" name="スライド番号プレースホルダ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AEFB-9F84-4E6D-9A5D-5478DBFD00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07" name=""/>
          <p:cNvGraphicFramePr/>
          <p:nvPr/>
        </p:nvGraphicFramePr>
        <p:xfrm>
          <a:off x="434880" y="1708200"/>
          <a:ext cx="8137800" cy="1792080"/>
        </p:xfrm>
        <a:graphic>
          <a:graphicData uri="http://schemas.openxmlformats.org/drawingml/2006/table">
            <a:tbl>
              <a:tblPr/>
              <a:tblGrid>
                <a:gridCol w="4280040"/>
                <a:gridCol w="2682720"/>
                <a:gridCol w="117504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jec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tribu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Proactive Auth. Architecture Discussion (0164-02)</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afa, Felnand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8:0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cess for Coffee Break</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0:0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ditor’s presentation on document structur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ly Ch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0:3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scussion on Open Issu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Grou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1:3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osing No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2:2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2: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 name="Text Box 65"/>
          <p:cNvSpPr/>
          <p:nvPr/>
        </p:nvSpPr>
        <p:spPr>
          <a:xfrm>
            <a:off x="423720" y="1143000"/>
            <a:ext cx="646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rPr>
              <a:t>Thursday, November 19</a:t>
            </a:r>
            <a:r>
              <a:rPr b="0" lang="en-US" sz="2400" spc="-1" strike="noStrike" baseline="30000">
                <a:solidFill>
                  <a:srgbClr val="00ae00"/>
                </a:solidFill>
                <a:latin typeface="Times New Roman"/>
              </a:rPr>
              <a:t>th</a:t>
            </a:r>
            <a:r>
              <a:rPr b="0" lang="en-US" sz="2400" spc="-1" strike="noStrike">
                <a:solidFill>
                  <a:srgbClr val="00ae00"/>
                </a:solidFill>
                <a:latin typeface="Times New Roman"/>
              </a:rPr>
              <a:t>,  2009,  8:00am-12:30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hba</cp:lastModifiedBy>
  <dcterms:modified xsi:type="dcterms:W3CDTF">2009-11-16T13:35:13Z</dcterms:modified>
  <cp:revision>947</cp:revision>
  <dc:subject/>
  <dc:title>PowerPoint Presentation</dc:title>
</cp:coreProperties>
</file>