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28A2-6CFA-4496-9792-B944D864C91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F16A-EA5B-429B-8AA6-63E4A66BEB7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4161-C215-4B0E-8BCE-1B84143D262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55FD-0C01-45A0-B88C-1B078DFCCB0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49CF20-3E7B-499E-BD92-95C5D4DB7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11C33-1B86-44CC-BB7A-9E8D106DB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A9EA3C-AD2F-4818-9D07-E88796D038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60315A-A5F2-4939-966A-51FAD3E30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08CBCB-E7CD-4D34-A077-9128118BFA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E8F177-1DDE-4D15-A2EF-7BBB67FED5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D7B4D6-BBF2-48C9-BB84-9EF4B0014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0A278F-9223-4781-A418-104F6E0973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B40B89-DB71-419B-A30D-217B4266A9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192BB3-31E7-4082-9A4F-B1AE2B17E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528823-F38F-4541-B012-E23117A5A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66CBE6-5F33-4C1C-BCDF-2FEE57788C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6AF763-E7D7-45C0-8098-EA6C8D0B81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D2B4A8-9DD5-4922-B757-95A1D50A26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716417-1D59-411C-B12C-1593E95FEF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7872C0-7916-4B20-AC52-728436C2CF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8B9BE6-C83F-4FFC-AFA4-9A065601F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D75BFD-DDB9-482F-9C9B-212F85ABF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9B700-9B32-4C59-99FA-292C8AE2A4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8848E5-4C77-4AB4-9AD5-F0FADDC606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07FBD-A2D0-4DB8-9997-75E01D7E7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4BD5A8-BA94-4807-AAA3-BB14A1F16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38005-A180-41B1-8FD4-CD2D88741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9CA7B-A96C-4FA4-9A19-452ED760F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F05B-39CB-438C-B0E0-6C04BE70C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0DF9-9D61-493E-8F26-9C68B713F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10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10,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3</a:t>
            </a:r>
            <a:r>
              <a:rPr b="0" lang="en-US" sz="2400" spc="-1" strike="noStrike">
                <a:solidFill>
                  <a:srgbClr val="000000"/>
                </a:solidFill>
                <a:latin typeface="Times New Roman"/>
                <a:ea typeface="Times New Roman"/>
              </a:rPr>
              <a:t> in San Francisc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B31F-EF1D-4267-A964-6DCB757DF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1F4A-F3CC-4A49-83E5-BE5E3A92B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34880" y="3797280"/>
          <a:ext cx="8137800" cy="256068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104-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3-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Lun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7-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Key distribution interface discu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15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20120" y="339552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July 16</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3:30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7538-3E9C-4D1F-A26F-11ACC00E9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102" name="Rectangle 69"/>
          <p:cNvSpPr/>
          <p:nvPr/>
        </p:nvSpPr>
        <p:spPr>
          <a:xfrm>
            <a:off x="2214720" y="635868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graphicFrame>
        <p:nvGraphicFramePr>
          <p:cNvPr id="103" name=""/>
          <p:cNvGraphicFramePr/>
          <p:nvPr/>
        </p:nvGraphicFramePr>
        <p:xfrm>
          <a:off x="434880" y="1376280"/>
          <a:ext cx="8137800" cy="205272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5-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2-01 &amp; 21-09-0066-0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4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4" name="Text Box 65"/>
          <p:cNvSpPr/>
          <p:nvPr/>
        </p:nvSpPr>
        <p:spPr>
          <a:xfrm>
            <a:off x="415440" y="966960"/>
            <a:ext cx="56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July 14</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7-13T20:49:14Z</dcterms:modified>
  <cp:revision>843</cp:revision>
  <dc:subject/>
  <dc:title>PowerPoint Presentation</dc:title>
</cp:coreProperties>
</file>