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1D9F-ACD1-4E9E-A267-2D7A4EB1D1B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DAA1-176A-44A5-9C26-FD0E8EEA387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07F7-7531-44CF-AEBD-B2C1D64D9E6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9AE6-DBD1-4B9A-BB65-F8FBEF58658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0C68FA-4CCB-4937-B4D2-4106AE0222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F8ADCF-ECF5-42FA-8B0C-8D07E6D66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1841E3-325B-457E-9CF5-0DAF27539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BFE240-B4D1-466B-A701-D6930ABC6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61870D-CA06-41D6-8A4C-F25BDC0CD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700839-A068-44FA-B70C-B12AE08AC5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927E97-1D1D-4ECB-8778-6ACBB5C0C2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40F9E4-EE13-4D01-9281-A2305F0511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D90D5A-AFA6-4858-8E37-9707EAE99B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B7BADC-2B69-40EA-8C04-21E2EA9824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672AEC-FC99-43CE-8CC5-A92329DC53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F9C794-9D21-4DF0-90F5-439BCA0DE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518FAE-2BA2-42E9-9B71-2191C66EB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F05A97-7FDD-4525-828E-A03817D96F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472F42-E80B-451C-AEEF-BA26C83CFF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A4C2C3-10B8-474D-95C8-40541D0EAD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07492C-9BEF-4B86-B667-368BE04BD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133452-0939-4807-AA8B-7972ED27C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8C7750-7557-4EF3-A130-A7D01657C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EC5B99-9461-4D5A-8FAD-6492A2BC5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4C371B-C98B-4396-AF66-27D0589C8E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4EB6E-A560-4F52-8502-D48D2B6B7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3A1375-F028-4BB5-8461-98AE648F19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35122-8C82-4680-ADD7-8B181611E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E880-BF44-4E15-80F2-679B21992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57EA-61E0-4A7C-BE17-A0B14B93B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10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1</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10,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3</a:t>
            </a:r>
            <a:r>
              <a:rPr b="0" lang="en-US" sz="2400" spc="-1" strike="noStrike">
                <a:solidFill>
                  <a:srgbClr val="000000"/>
                </a:solidFill>
                <a:latin typeface="Times New Roman"/>
                <a:ea typeface="Times New Roman"/>
              </a:rPr>
              <a:t> in San Francisc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9066-585C-4CCA-9C8A-1D5FAFAAF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C802-9C5A-4CB5-8EBA-2D8AB1EEE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8" name=""/>
          <p:cNvGraphicFramePr/>
          <p:nvPr/>
        </p:nvGraphicFramePr>
        <p:xfrm>
          <a:off x="434880" y="3797280"/>
          <a:ext cx="8137800" cy="256068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21-09-0104-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Marin Lopez,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0-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3-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 for Lun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7-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manta Saha, Dmitrij Laguti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1: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59-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tonio Izquierdo ,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Key distribution interface discu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15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3: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65"/>
          <p:cNvSpPr/>
          <p:nvPr/>
        </p:nvSpPr>
        <p:spPr>
          <a:xfrm>
            <a:off x="420120" y="339552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hursday, July 16</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0:30am-3:30pm</a:t>
            </a:r>
            <a:endParaRPr b="0" lang="en-US" sz="2400" spc="-1" strike="noStrike">
              <a:solidFill>
                <a:srgbClr val="000000"/>
              </a:solidFill>
              <a:latin typeface="Times New Roman"/>
            </a:endParaRPr>
          </a:p>
        </p:txBody>
      </p:sp>
      <p:sp>
        <p:nvSpPr>
          <p:cNvPr id="100"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2B97-EC8E-4096-B1A5-9F57421A3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09-01-0sec</a:t>
            </a:r>
            <a:endParaRPr b="0" lang="en-US" sz="1400" spc="-1" strike="noStrike">
              <a:solidFill>
                <a:srgbClr val="000000"/>
              </a:solidFill>
              <a:latin typeface="Times New Roman"/>
            </a:endParaRPr>
          </a:p>
        </p:txBody>
      </p:sp>
      <p:sp>
        <p:nvSpPr>
          <p:cNvPr id="102" name="Rectangle 69"/>
          <p:cNvSpPr/>
          <p:nvPr/>
        </p:nvSpPr>
        <p:spPr>
          <a:xfrm>
            <a:off x="2214720" y="635868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graphicFrame>
        <p:nvGraphicFramePr>
          <p:cNvPr id="103" name=""/>
          <p:cNvGraphicFramePr/>
          <p:nvPr/>
        </p:nvGraphicFramePr>
        <p:xfrm>
          <a:off x="434880" y="1376280"/>
          <a:ext cx="8137800" cy="205272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0:3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pproval of  outstanding meeting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4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5-0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irudh Bhatt, Shubhranshu Sing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102-01 &amp; 21-09-0066-0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4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04" name="Text Box 65"/>
          <p:cNvSpPr/>
          <p:nvPr/>
        </p:nvSpPr>
        <p:spPr>
          <a:xfrm>
            <a:off x="415440" y="966960"/>
            <a:ext cx="563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July 14</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0:30am-12:30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7-13T20:49:14Z</dcterms:modified>
  <cp:revision>843</cp:revision>
  <dc:subject/>
  <dc:title>PowerPoint Presentation</dc:title>
</cp:coreProperties>
</file>