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38617-BC6E-4E6B-AAEC-95AA5F10D7E6}"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D191-177F-4C0F-91DA-3BE764F884E6}"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9A43-51F8-4F09-A01E-8EA3454E9F41}"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B760-B0E6-487F-B7A2-06EA4D38CBF2}"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336FD4-453D-4618-8A70-4D39485982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94BD6A-ECEE-479E-8665-A0498254F9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FB4FA2-11F5-4C0E-8D35-D3FC62131D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6C5688-121D-470C-BF5D-A132DFFA90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929C33F-3BA9-4A18-B38F-070AD74016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AC946E-F2FB-4B16-9D31-4F848A4B5D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A4ED9B-2CA9-48C3-B578-AA624F5DFC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D07EFFB-323D-47A0-9F3F-E65B4EB52C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DD61DC-2ABF-4808-9780-E677A414EE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98EA9C1-7AF5-4361-83E1-90B108DE02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DA98AF-4C01-428B-945C-7A03F51EFA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C25247-038D-4DA2-A5DE-2B70EA3603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2B7F1F-5707-48E5-8677-A1C7EEB480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D9C8A6-5C46-4257-BD59-5EE5506527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E6E8F8-B0FA-4291-AE07-DFD16D85E7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EB9741F-F86D-4665-8D5C-8B1136FD00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AFC82DB-769D-45F2-83BE-7F4FD8BB61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7A5646-A7D4-45D0-96D8-EE1BF23C32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71F344-2C4F-4BB5-9800-C81B52A1D7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CADD9B-6DF5-40DF-94D2-B6303FE0F1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D9E409-45FC-4697-8A4B-30A4ADD10D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6E26A4-6B21-47A3-A541-B4B4C52318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F3723A-92E1-42A5-8635-9A98EF2D0C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2B5E57-49EE-4791-B721-87B5FA527D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09-00-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DB7AB-EE15-4594-8850-587A819E82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800"/>
            <a:ext cx="257148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09-00-0sec</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CB97-866F-40E9-A868-86661E6B4F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9</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109</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0</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Security TG Meeting Agenda</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July 10, </a:t>
            </a:r>
            <a:r>
              <a:rPr b="0" lang="en-US" sz="2400" spc="-1" strike="noStrike">
                <a:solidFill>
                  <a:srgbClr val="000000"/>
                </a:solidFill>
                <a:latin typeface="Times New Roman"/>
                <a:ea typeface="ＭＳ Ｐゴシック"/>
              </a:rPr>
              <a:t>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a:t>
            </a:r>
            <a:r>
              <a:rPr b="0" lang="en-US" sz="2400" spc="-1" strike="noStrike">
                <a:solidFill>
                  <a:srgbClr val="000000"/>
                </a:solidFill>
                <a:latin typeface="Times New Roman"/>
                <a:ea typeface="ＭＳ Ｐゴシック"/>
              </a:rPr>
              <a:t>33</a:t>
            </a:r>
            <a:r>
              <a:rPr b="0" lang="en-US" sz="2400" spc="-1" strike="noStrike">
                <a:solidFill>
                  <a:srgbClr val="000000"/>
                </a:solidFill>
                <a:latin typeface="Times New Roman"/>
                <a:ea typeface="Times New Roman"/>
              </a:rPr>
              <a:t> in San Francisco</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ＭＳ Ｐゴシック"/>
              </a:rPr>
              <a:t>Yoshihiro Ohba (Toshiba)</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a:t>
            </a:r>
            <a:r>
              <a:rPr b="0" lang="en-US" sz="2400" spc="-1" strike="noStrike">
                <a:solidFill>
                  <a:srgbClr val="000000"/>
                </a:solidFill>
                <a:latin typeface="Times New Roman"/>
                <a:ea typeface="ＭＳ Ｐゴシック"/>
              </a:rPr>
              <a:t> Agenda for Security TG meeting</a:t>
            </a:r>
            <a:endParaRPr b="0" lang="en-US" sz="2400" spc="-1" strike="noStrike">
              <a:solidFill>
                <a:srgbClr val="000000"/>
              </a:solidFill>
              <a:latin typeface="Times New Roman"/>
            </a:endParaRPr>
          </a:p>
        </p:txBody>
      </p:sp>
      <p:sp>
        <p:nvSpPr>
          <p:cNvPr id="92"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59DD-BC61-41F1-9D37-50F7FE8E80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Footer Placeholder 7"/>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09-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09-00-0sec</a:t>
            </a:r>
            <a:endParaRPr b="0" lang="en-US" sz="1400" spc="-1" strike="noStrike">
              <a:solidFill>
                <a:srgbClr val="000000"/>
              </a:solidFill>
              <a:latin typeface="Times New Roman"/>
            </a:endParaRPr>
          </a:p>
        </p:txBody>
      </p:sp>
      <p:sp>
        <p:nvSpPr>
          <p:cNvPr id="9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CA878-A7CB-4BA7-A79A-7079256EDB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bylaws/sect6-7.html#6&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faq.pdf&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Security TG Meeting Agenda</a:t>
            </a:r>
            <a:endParaRPr b="1" lang="en-US" sz="3600" spc="-1" strike="noStrike">
              <a:solidFill>
                <a:srgbClr val="000000"/>
              </a:solidFill>
              <a:latin typeface="Times New Roman"/>
            </a:endParaRPr>
          </a:p>
        </p:txBody>
      </p:sp>
      <p:graphicFrame>
        <p:nvGraphicFramePr>
          <p:cNvPr id="98" name=""/>
          <p:cNvGraphicFramePr/>
          <p:nvPr/>
        </p:nvGraphicFramePr>
        <p:xfrm>
          <a:off x="434880" y="1601640"/>
          <a:ext cx="8137800" cy="4357800"/>
        </p:xfrm>
        <a:graphic>
          <a:graphicData uri="http://schemas.openxmlformats.org/drawingml/2006/table">
            <a:tbl>
              <a:tblPr/>
              <a:tblGrid>
                <a:gridCol w="4280040"/>
                <a:gridCol w="2682720"/>
                <a:gridCol w="117504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jec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tribu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Security TG </a:t>
                      </a:r>
                      <a:r>
                        <a:rPr b="0" lang="en-US" sz="1200" spc="-1" strike="noStrike">
                          <a:solidFill>
                            <a:srgbClr val="000000"/>
                          </a:solidFill>
                          <a:latin typeface="Times New Roman"/>
                        </a:rPr>
                        <a:t> Meeting Called to Ord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8:0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Agenda for March 2009 Meet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8:02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Opening No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8:05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Approval of  outstanding meeting minut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Grou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8:15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105-0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irudh Bhatt, Shubhranshu Singh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8:2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102-01 &amp; 21-09-0066-01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ir Das,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9:1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Recess for Coffee Break</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0:0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21-09-0104-0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afa Marin Lopez,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0:3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060-02</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ly Chen,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1:1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103-0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apeng Li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1:5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Recess for Lunch</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2: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107-0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manta Saha, Dmitrij Lagutin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1: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059-0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tonio Izquierdo ,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2: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Key distribution interface discussion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ir D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2: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osing No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3:15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3: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Text Box 65"/>
          <p:cNvSpPr/>
          <p:nvPr/>
        </p:nvSpPr>
        <p:spPr>
          <a:xfrm>
            <a:off x="418320" y="1071720"/>
            <a:ext cx="506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Thursday, July 16</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9,  8am-3:30pm</a:t>
            </a:r>
            <a:endParaRPr b="0" lang="en-US" sz="2400" spc="-1" strike="noStrike">
              <a:solidFill>
                <a:srgbClr val="000000"/>
              </a:solidFill>
              <a:latin typeface="Times New Roman"/>
            </a:endParaRPr>
          </a:p>
        </p:txBody>
      </p:sp>
      <p:sp>
        <p:nvSpPr>
          <p:cNvPr id="100" name="Slide Number Placeholder 11"/>
          <p:cNvSpPr/>
          <p:nvPr/>
        </p:nvSpPr>
        <p:spPr>
          <a:xfrm>
            <a:off x="7772400" y="647712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75735-A0B9-4181-B7B9-3CA52809AA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Footer Placeholder 12"/>
          <p:cNvSpPr/>
          <p:nvPr/>
        </p:nvSpPr>
        <p:spPr>
          <a:xfrm>
            <a:off x="0" y="6500880"/>
            <a:ext cx="25718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09-00-0sec</a:t>
            </a:r>
            <a:endParaRPr b="0" lang="en-US" sz="1400" spc="-1" strike="noStrike">
              <a:solidFill>
                <a:srgbClr val="000000"/>
              </a:solidFill>
              <a:latin typeface="Times New Roman"/>
            </a:endParaRPr>
          </a:p>
        </p:txBody>
      </p:sp>
      <p:sp>
        <p:nvSpPr>
          <p:cNvPr id="102" name="Rectangle 69"/>
          <p:cNvSpPr/>
          <p:nvPr/>
        </p:nvSpPr>
        <p:spPr>
          <a:xfrm>
            <a:off x="2214720" y="6101640"/>
            <a:ext cx="49291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otes:</a:t>
            </a:r>
            <a:r>
              <a:rPr b="0" lang="en-US" sz="1000" spc="-1" strike="noStrike">
                <a:solidFill>
                  <a:srgbClr val="000000"/>
                </a:solidFill>
                <a:latin typeface="Times New Roman"/>
                <a:ea typeface="Times New Roman"/>
              </a:rPr>
              <a:t> Submission times are placeholders only. They can be moved based on available time</a:t>
            </a:r>
            <a:br>
              <a:rPr sz="1000"/>
            </a:br>
            <a:r>
              <a:rPr b="0" lang="en-US" sz="1000" spc="-1" strike="noStrike">
                <a:solidFill>
                  <a:srgbClr val="000000"/>
                </a:solidFill>
                <a:latin typeface="Times New Roman"/>
                <a:ea typeface="Times New Roman"/>
              </a:rPr>
              <a:t>Breaks shall be taken as need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oshihiro Ohba</cp:lastModifiedBy>
  <dcterms:modified xsi:type="dcterms:W3CDTF">2009-07-10T20:33:15Z</dcterms:modified>
  <cp:revision>839</cp:revision>
  <dc:subject/>
  <dc:title>PowerPoint Presentation</dc:title>
</cp:coreProperties>
</file>