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2D5B1-C312-4B7B-855C-A453A4F48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B4B5A-2A7B-433F-8CCE-4A09DBA2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DCA8C-5311-495A-A96C-04F2AA11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7BDC0-1D6E-450F-8E4E-9D7A438E7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7D1DC-301D-4529-A0A2-190D440B0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E31AF-ED48-4D8F-90C7-E111A25ED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BC600-65C4-4B02-8543-8A8E8AFC6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9FC91-7F51-4DF7-B13E-E8C60CB05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0C5BD-4A9B-4EE2-8B0E-C66120DB4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27C68-4312-47F0-B7B5-5CA16C4B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3E0AE-13C4-496A-81A2-2A9CA1D59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D185F-7C25-43CB-A892-EE0CAEA7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2ACD-66C7-4003-8F0A-EE661ECD9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578AF-81D7-4D5D-800D-DF017F8E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EE2D-194E-4711-A48E-3D5F460FB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C0DA8-CD3C-445F-94CC-16576E54D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29D82-5774-4DAC-9E76-CC0CDE539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A9A2-2942-447B-9AEF-501882344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74CB-97AA-4575-B7BE-201D87902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9E5E3-BAB4-48F2-B9D2-DAD37472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EF113-0D0E-40C6-AD62-464FEE62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21D8-761E-47AD-A44B-F6B762297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B562-EEC5-4934-A137-24B5A03BA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4105-C3C6-410C-8E12-198D64A81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2780-9FDC-4E99-9033-97F9158BC91F}"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7326-6F2C-4C1B-8BED-A0F3EF81A36B}"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idon.reid@bt.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B818-0C95-4AC5-8A4C-8AD92DF3A585}"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p:nvPr>
        </p:nvSpPr>
        <p:spPr>
          <a:xfrm>
            <a:off x="468360" y="692280"/>
            <a:ext cx="8399520" cy="5665680"/>
          </a:xfrm>
          <a:prstGeom prst="rect">
            <a:avLst/>
          </a:prstGeom>
          <a:solidFill>
            <a:srgbClr val="66ccff"/>
          </a:solid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MEDIA INDEPENDENT HANDOVER </a:t>
            </a:r>
            <a:endParaRPr b="0" lang="en-US" sz="28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CN: 21-09/61r0 </a:t>
            </a:r>
            <a:r>
              <a:rPr b="0" lang="de-DE" sz="3200" spc="-1" strike="noStrike">
                <a:solidFill>
                  <a:srgbClr val="000000"/>
                </a:solidFill>
                <a:latin typeface="Arial"/>
              </a:rPr>
              <a:t> </a:t>
            </a:r>
            <a:r>
              <a:rPr b="0" lang="en-US" sz="3200" spc="-1" strike="noStrike">
                <a:solidFill>
                  <a:srgbClr val="000000"/>
                </a:solidFill>
                <a:latin typeface="Calibri"/>
              </a:rPr>
              <a: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tle: </a:t>
            </a:r>
            <a:r>
              <a:rPr b="1" lang="en-US" sz="3200" spc="-1" strike="noStrike">
                <a:solidFill>
                  <a:srgbClr val="000000"/>
                </a:solidFill>
                <a:latin typeface="Calibri"/>
              </a:rPr>
              <a:t>FMCA MIH Use Cases</a:t>
            </a:r>
            <a:endParaRPr b="0" lang="en-US" sz="32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 Submitted: April,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uthors or Source(s):</a:t>
            </a:r>
            <a:endParaRPr b="0" lang="en-US" sz="2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idon Reid (BT), Daniel Wenger (Swisscom), Hans Einsiedler (DT), Marijo Eliseeff (Globe), Jin-Young Hong (KT), Frank Zdarsky (NEC)</a:t>
            </a:r>
            <a:endParaRPr b="0" lang="en-US" sz="1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bstract: </a:t>
            </a:r>
            <a:endParaRPr b="0" lang="en-US" sz="28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hat follows is a collection of use cases contributed from members of the Fixed Mobile Convergence Alliance (FMCA), which are likely to benefit from MIH services. These use cases are being shared with the IEEE 802.21 WG for discussion and to help them develop an appropriate document (e.g., test specifications) from the published IEEE 802.21 Standard that can be used by participants of an FMCA Interoperability Event, open to FMCA members, IEEE members and other invited parties, to be held in October 2009 (tbc). </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se use cases have been approved by FMCA members participating in the MIH Special Interest Group, for sharing with the IEEE.</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se use cases have been summarized for this submission. The full report can be obtained from </a:t>
            </a:r>
            <a:r>
              <a:rPr b="0" lang="en-US" sz="1700" spc="-1" strike="noStrike" u="sng">
                <a:solidFill>
                  <a:srgbClr val="0000ff"/>
                </a:solidFill>
                <a:uFillTx/>
                <a:latin typeface="Arial"/>
                <a:hlinkClick r:id="rId1"/>
              </a:rPr>
              <a:t>gidon.reid@bt.com</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BA45-08EB-4DFE-8925-F8C27971AB13}"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http://standards.ieee.org/guides/opman/sect6.html#6.3&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http://standards.ieee.org/board/pat/guide.html&g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7"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controlled access technology selection (Daniel Wenger, Swisscom)</a:t>
            </a:r>
            <a:endParaRPr b="0" lang="en-US" sz="2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ustomer expects being always best connected to the different networks of his operator at any place (ABC Always Best Connected). If different access technologies are available he/she has to make a choice which is of no interest to her/him whereas often alternative networks are not even discovered because the interface on the device is switched off for battery power saving reasons. The operator prefers to control the user's point of attachment in order to perform network optimisation (e.g. load, operation costs...)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expects to seamlessly being connected by the operator's networks to the internet. Operator's network selection on the end device is performed completely transparently without user interaction. Active communication (voice and/or data) continues without interruption - data communication is handed over simultaneously.</a:t>
            </a:r>
            <a:endParaRPr b="0" lang="en-US" sz="1400" spc="-1" strike="noStrike">
              <a:solidFill>
                <a:srgbClr val="000000"/>
              </a:solidFill>
              <a:latin typeface="Arial"/>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G to WLAN Handover</a:t>
            </a:r>
            <a:br>
              <a:rPr sz="2400"/>
            </a:br>
            <a:r>
              <a:rPr b="1" lang="en-GB" sz="2400" spc="-1" strike="noStrike">
                <a:solidFill>
                  <a:srgbClr val="000000"/>
                </a:solidFill>
                <a:latin typeface="Arial"/>
              </a:rPr>
              <a:t> (Gidon Reid, BT)</a:t>
            </a:r>
            <a:endParaRPr b="0" lang="en-US" sz="24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starts a voice call on the 3G cellular network. They then walk into coverage of a public WLAN hotspot. The call is handed-over to WLAN. As far as the user is concerned, the call just continues seamlessly – except (possibly) for a change of tariff indication (e.g. beep or LED). As the user begins to lose their WLAN signal the call is handed back seamlessly to 3G.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has a multi-mode device with 3G, WLAN and GPS radios, capable of making voice or voice/video calls. To save battery consumption only the radios that are required to be active are switched on. The device is able to communicate with an IEEE 802.21 (MIH) Information Service on the network to retrieve information on what networks are available to them at their current location. Their current location is provided by GPS and the information request is sent via whatever interface the device currently has active. The user begins the call on the 3G network. The device discovers from this MIH information request the location of the WLAN hotspot. When the device enters coverage of the WLAN hotspot, the WLAN radio is switched on and the MIH Command Service hands the call over seamlessly to this WLAN network at the physical layer. Session continuity is handled at a higher layer, for example using SIP.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WLAN signal deteriorates, the MIH Event Service provides this information to the client. Through knowledge from the MIH Information Service that the only network available with the loss of WLAN is 3G, the MIH Command Service hands the call back to the 3G network again.</a:t>
            </a:r>
            <a:endParaRPr b="0" lang="en-US" sz="1400" spc="-1" strike="noStrike">
              <a:solidFill>
                <a:srgbClr val="000000"/>
              </a:solidFill>
              <a:latin typeface="Arial"/>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flow</a:t>
            </a:r>
            <a:br>
              <a:rPr sz="2400"/>
            </a:br>
            <a:r>
              <a:rPr b="1" lang="en-GB" sz="2400" spc="-1" strike="noStrike">
                <a:solidFill>
                  <a:srgbClr val="000000"/>
                </a:solidFill>
                <a:latin typeface="Arial"/>
              </a:rPr>
              <a:t> (Frank Zdarsky, NEC Labs)</a:t>
            </a:r>
            <a:endParaRPr b="0" lang="en-US" sz="2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ser on a 3G cellular network has an ongoing voice call and is concurrently watching a video that is streamed and buffered on demand to the same terminal. When the user has coverage of a public WLAN hotspot, the resource-consuming but less time-critical video stream is handed over to the WLAN hotspot, while the voice call is still received via the 3G network.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has a multi-mode device with 3G and WLAN and begins a voice call on the 3G network. During the conversation, the user is offered to watch a video and decides to start streaming it to the same device. Through localization and MIH information Service requests, the network discovers that the user has entered the coverage area of a public WLAN hotspot or a home WLAN access point. Using the MIH Command Service, the WLAN radio is switched on and only the video stream is seamlessly handed over to the WLAN access point in order to off-load resource-intensive traffic from the cellular network. At the same time, the voice call is continued over the 3G network to maintain a higher service qualit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voice call on the 3G network is ended, the video continues to be streamed via the WLAN hotspot until all remaining video data has been buffered on the terminal or until the user leaves WLAN coverage range and the video transfer is handed back to the 3G network.</a:t>
            </a:r>
            <a:endParaRPr b="0" lang="en-US" sz="1400" spc="-1" strike="noStrike">
              <a:solidFill>
                <a:srgbClr val="000000"/>
              </a:solidFill>
              <a:latin typeface="Arial"/>
            </a:endParaRPr>
          </a:p>
        </p:txBody>
      </p:sp>
      <p:sp>
        <p:nvSpPr>
          <p:cNvPr id="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 limited backhaul</a:t>
            </a:r>
            <a:br>
              <a:rPr sz="2400"/>
            </a:br>
            <a:r>
              <a:rPr b="1" lang="en-GB" sz="2400" spc="-1" strike="noStrike">
                <a:solidFill>
                  <a:srgbClr val="000000"/>
                </a:solidFill>
                <a:latin typeface="Arial"/>
              </a:rPr>
              <a:t> (Frank Zdarsky, NEC Labs)</a:t>
            </a: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scenarios, in which the backhaul between a point of attachment and the core network constitutes a temporary or permanent bottleneck, the delivered service quality can be increased by incorporating (information on) this constraint to improve mobility and resource managemen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expects the best-possible service quality without worrying about the type of access or the point of attachment. Some points of attachment may have sufficient access capacity, but the backhaul may be a bottleneck. Examples of resource-constrained backhauls are access points or femto cells in user homes with xDSL uplinks that share capacity with local network services. A further example is wireless backhauls (for rural areas or for short-term deployments). Such constraints should be considered during MIH, no matter whether mobile or network controlled.</a:t>
            </a:r>
            <a:endParaRPr b="0" lang="en-US" sz="1400" spc="-1" strike="noStrike">
              <a:solidFill>
                <a:srgbClr val="000000"/>
              </a:solidFill>
              <a:latin typeface="Arial"/>
            </a:endParaRPr>
          </a:p>
        </p:txBody>
      </p:sp>
      <p:sp>
        <p:nvSpPr>
          <p:cNvPr id="1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amless handover and service adaptation</a:t>
            </a:r>
            <a:br>
              <a:rPr sz="2400"/>
            </a:br>
            <a:r>
              <a:rPr b="1" lang="en-GB" sz="2400" spc="-1" strike="noStrike">
                <a:solidFill>
                  <a:srgbClr val="000000"/>
                </a:solidFill>
                <a:latin typeface="Arial"/>
              </a:rPr>
              <a:t> (Hans Einsiedler, DT)</a:t>
            </a:r>
            <a:endParaRPr b="0" lang="en-US" sz="2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er requires flexibility of service usage while changing locations (e.g. in the house) or going abroad. Besides session should continue seamlessly without loosing connection, picture frames, etc., and the transfer should be as easy as possible: one click or even automatically using sensors or context information. Service adaptation should be supported based on availability of networks, network resources, and devices (e.g. splitting audio &amp; video stream) too.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nsiderations: Customer may already own a “home hub” which provides several access technologies and services such as - WiFi, Fixed access (xDSL), IPTV, VoIP capabilities within the home environmen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ser has a VoIP video call at a fixed IPTV set at home connected via xDSL. He/she wants to leave the house. Therefore, a transfer of the current video call has to be made to his/her mobile device using the in house WiFi network. The session will be reduced to an audio conference only, because he/she wants to drive with his/her car afterwards and video call on the mobile device while walking does not make sens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le being in the car the session (audio call) will be transferred to a wide area network (WAN), such as UMTS (data transfer mode, VoIP client on the UMTS-device). In house (fixed and wireless) &amp; WAN being operated by one telecommunication operator and will host also other services. The handover is controlled by the network operator and triggered by context information of the user/customer management by the network operator (profile) and by network resource management and network context information (IEEE 802.21 information). Currently WiMAX is not considered as a home access technology.</a:t>
            </a:r>
            <a:endParaRPr b="0" lang="en-US" sz="1400" spc="-1" strike="noStrike">
              <a:solidFill>
                <a:srgbClr val="000000"/>
              </a:solidFill>
              <a:latin typeface="Arial"/>
            </a:endParaRPr>
          </a:p>
        </p:txBody>
      </p:sp>
      <p:sp>
        <p:nvSpPr>
          <p:cNvPr id="1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aptive Handover for Application </a:t>
            </a:r>
            <a:br>
              <a:rPr sz="2400"/>
            </a:br>
            <a:r>
              <a:rPr b="1" lang="en-GB" sz="2400" spc="-1" strike="noStrike">
                <a:solidFill>
                  <a:srgbClr val="000000"/>
                </a:solidFill>
                <a:latin typeface="Arial"/>
              </a:rPr>
              <a:t> (Jin-Young Hong, KT)</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wireless overlay environment, customers want to connect a suitable network in accordance with application's requirements.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user who is using instant messenger on 3G network. As soon as the user turns on a mobile IPTV application, the connection does handover to WIMAX, because streaming applications demand stringent bandwidth, delay and jitter requirements to play clearly.</a:t>
            </a:r>
            <a:endParaRPr b="0" lang="en-US" sz="14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ltiple Simultaneous Sessions (Data, Voice &amp; Mobility)</a:t>
            </a:r>
            <a:br>
              <a:rPr sz="2400"/>
            </a:br>
            <a:r>
              <a:rPr b="1" lang="en-GB" sz="2400" spc="-1" strike="noStrike">
                <a:solidFill>
                  <a:srgbClr val="000000"/>
                </a:solidFill>
                <a:latin typeface="Arial"/>
              </a:rPr>
              <a:t> (Marijo Eliseeff, Globe Telecom)</a:t>
            </a:r>
            <a:endParaRPr b="0" lang="en-US" sz="2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to manage multiple simultaneous sessions (data, voice &amp; mobility) while roaming across various access technologies.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bility to roam seamlessly across various access technologies while performing on-going (and newly initiated or termination of) data/voice session/s. E.g. data download / file transfer during an on-going multiple party call with video streaming, etc.</a:t>
            </a:r>
            <a:endParaRPr b="0" lang="en-US" sz="1400" spc="-1" strike="noStrike">
              <a:solidFill>
                <a:srgbClr val="000000"/>
              </a:solidFill>
              <a:latin typeface="Arial"/>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53:33Z</dcterms:created>
  <dc:creator>user</dc:creator>
  <dc:description/>
  <dc:language>en-US</dc:language>
  <cp:lastModifiedBy>Juan Carlos Zúñiga</cp:lastModifiedBy>
  <dcterms:modified xsi:type="dcterms:W3CDTF">2009-04-28T20:28:27Z</dcterms:modified>
  <cp:revision>2292</cp:revision>
  <dc:subject/>
  <dc:title>Slide 1</dc:title>
</cp:coreProperties>
</file>