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body"/>
          </p:nvPr>
        </p:nvSpPr>
        <p:spPr>
          <a:xfrm>
            <a:off x="946080" y="4878360"/>
            <a:ext cx="5207040" cy="4627440"/>
          </a:xfrm>
          <a:prstGeom prst="rect">
            <a:avLst/>
          </a:prstGeom>
          <a:noFill/>
          <a:ln w="0">
            <a:noFill/>
          </a:ln>
        </p:spPr>
        <p:txBody>
          <a:bodyPr lIns="94320" rIns="9432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158840" y="888840"/>
            <a:ext cx="4781520" cy="35863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A89B-FC5A-4D6B-B5E0-5F7CACE18F64}" type="slidenum">
              <a:rPr b="0" lang="ko-KR" sz="2000" spc="-1" strike="noStrike">
                <a:solidFill>
                  <a:srgbClr val="000000"/>
                </a:solidFill>
                <a:latin typeface="Times New Roman"/>
                <a:ea typeface="Gulim"/>
              </a:rPr>
              <a:t>&lt;number&gt;</a:t>
            </a:fld>
            <a:endParaRPr b="0" lang="en-US" sz="2000" spc="-1" strike="noStrike">
              <a:solidFill>
                <a:srgbClr val="000000"/>
              </a:solidFill>
              <a:latin typeface="Times New Roman"/>
            </a:endParaRPr>
          </a:p>
        </p:txBody>
      </p:sp>
      <p:sp>
        <p:nvSpPr>
          <p:cNvPr id="107" name="PlaceHolder 1"/>
          <p:cNvSpPr>
            <a:spLocks noGrp="1"/>
          </p:cNvSpPr>
          <p:nvPr>
            <p:ph type="sldImg"/>
          </p:nvPr>
        </p:nvSpPr>
        <p:spPr>
          <a:xfrm>
            <a:off x="993600" y="765000"/>
            <a:ext cx="5119920" cy="3840480"/>
          </a:xfrm>
          <a:prstGeom prst="rect">
            <a:avLst/>
          </a:prstGeom>
          <a:ln w="0">
            <a:noFill/>
          </a:ln>
        </p:spPr>
      </p:sp>
      <p:sp>
        <p:nvSpPr>
          <p:cNvPr id="108"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54F426-1288-484E-A325-EEA2847130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B13B6-2F97-4ADE-8398-6125EA8B6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86CDD9-D65A-4725-A8B3-C8645A39A0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621962-B5AF-4518-BED3-FBC0699E0F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AA82FB-4AF3-4CD1-A50C-B204D7BB44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107DFF-CDEE-4433-946A-C53ADE3A80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D5555C-4964-402C-9042-02F294B05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85BE98-DF23-4071-880F-2EBF0B2A9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6FF744-1287-4F86-90D8-4CD6AA9A3A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19BFC-BBED-4DCE-AFA4-AADD70A8DF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AFC59-B7DD-4D10-AAB6-01F6AEB62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1D6F95-FA5E-4DA5-BACB-2AC5DE411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lt;footer&gt;</a:t>
            </a:r>
            <a:r>
              <a:rPr b="0" lang="en-US" sz="1400" spc="-1" strike="noStrike">
                <a:solidFill>
                  <a:srgbClr val="000000"/>
                </a:solidFill>
                <a:latin typeface="Times New Roman"/>
                <a:ea typeface="Gulim"/>
              </a:rPr>
              <a:t>21-09-0043-0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DFB9-92B0-4D44-B02D-A3C27CF305F2}"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ooter Placeholder 3"/>
          <p:cNvSpPr/>
          <p:nvPr/>
        </p:nvSpPr>
        <p:spPr>
          <a:xfrm>
            <a:off x="380880" y="6400800"/>
            <a:ext cx="198144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79E3-3657-4D84-99AA-9D62C9699382}"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7"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CN:21-09-0043-01</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itle: Responses to 802.21c PAR 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ate Submitted: March 11,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Presented at IEEE 802.21 session #31 in Vancou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uthors or Source(s): James Han, Junghoon Jee, H Anthony Cha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bstract: Responses to comments received from the different IEEE 802 working groups on the 802.21c PAR and 5C.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B196624-FFA1-4C49-9AD1-79A469217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3/18)</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1 Keep an energy efficient radio “on” for receiving notification of incoming service.” </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not just energy efficient, but also able to receive and communicate reliably. One also needs to know the power consumption per service per radio in order to choose among radios for a requested service.</a:t>
            </a:r>
            <a:r>
              <a:rPr b="0" i="1" lang="en-US" sz="2800" spc="-1" strike="noStrike">
                <a:solidFill>
                  <a:srgbClr val="063de8"/>
                </a:solidFill>
                <a:latin typeface="Times New Roman"/>
                <a:ea typeface="Gulim"/>
              </a:rPr>
              <a:t> </a:t>
            </a:r>
            <a:endParaRPr b="0" lang="en-US" sz="28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optimization goal can include reliability and power consumption or their weighted combinations.</a:t>
            </a:r>
            <a:r>
              <a:rPr b="0" lang="en-GB" sz="2000" spc="-1" strike="noStrike">
                <a:solidFill>
                  <a:srgbClr val="000000"/>
                </a:solidFill>
                <a:latin typeface="Times New Roman"/>
                <a:ea typeface="Gulim"/>
              </a:rPr>
              <a:t> We revise to:</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Keep an energy efficient and reliable radio “on” for receiving notification of incoming servi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0438722-8FAE-46E6-BCF0-3BC454D12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4/18)</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to section 8.1</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PAR language 8.1: “4. Reduce or avoid futile scanning by unused radios.”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Psychic management of the unused radios in accord with the known traffic is not a formula for success with bursty traffic. Scanning usually refers to available channels, not traffic streams.</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We agree and have revised into:</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Gulim"/>
              </a:rPr>
              <a:t>“</a:t>
            </a:r>
            <a:r>
              <a:rPr b="0" lang="en-US" sz="2800" spc="-1" strike="noStrike">
                <a:solidFill>
                  <a:srgbClr val="000000"/>
                </a:solidFill>
                <a:latin typeface="Times New Roman"/>
                <a:ea typeface="Gulim"/>
              </a:rPr>
              <a:t>4. Reduce or avoid futile scanning in out-of-coverage areas.” </a:t>
            </a:r>
            <a:endParaRPr b="0" lang="en-US" sz="2800" spc="-1" strike="noStrike">
              <a:solidFill>
                <a:srgbClr val="000000"/>
              </a:solidFill>
              <a:latin typeface="Times New Roman"/>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922094-441C-419E-B298-888642E21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5/18)</a:t>
            </a:r>
            <a:endParaRPr b="1" lang="en-US" sz="3600" spc="-1" strike="noStrike">
              <a:solidFill>
                <a:srgbClr val="000000"/>
              </a:solidFill>
              <a:latin typeface="Times New Roman"/>
            </a:endParaRPr>
          </a:p>
        </p:txBody>
      </p:sp>
      <p:sp>
        <p:nvSpPr>
          <p:cNvPr id="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a) Broad sets of applicability: “One major bottleneck in the implementation of multi-mode terminals for any application area is the overall power management mechanism for different radios, each with its own mechanism. We expect multi-radio devices to depend on 802.21 services that should be extended to improve the power efficiency of multi-radio mobile devic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Power management mechanisms are specific to device types and services, not radio interfaces. The claim than an 802.21 API would allow better power management than current schemes is not supported by any reference in these 5C.</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Power management includes many aspects, such as, radio communication, display, services, background light, etc. The power management of multi-radio device investigated here focuses on multiple radio communication issues. It will reduce the power consumption caused by multiple radios’ communic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D263210-F295-4F7C-A4FB-19B6FD448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6/18)</a:t>
            </a: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c) Balanced costs (LAN versus attached stations).: “Multi-radio equipment is accepted as having balanced costs. The addition of multi-radio power management capabilities will not increase the costs of devices significantly.”</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It would increase the message traffic between radio types, without proven benefit.</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he control signaling traffic will increase slightly for the specific radio. The gain is in power consumption reduction in the other radios. There are published papers showing the net gain such as. </a:t>
            </a:r>
            <a:endParaRPr b="0" lang="en-US" sz="20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hih, E., Bahl P., and Sinclair, M.J., “Wake on Wireless: an event driven energy saving strategy for battery operated devices,” in Proc. ACM Int. Conf. Mobile Computing and Networking, 2002.</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garwal, Y., Schurgers C., and Gupta R., “Dynamic Power Management using On Demand Paging for Networked Embedded Systems,” in Proc. of Asia-South Pacific Design Automation Conference (ASPDAC), 2005.</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333A8EB-A47E-4794-A4BF-C079C9436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7/18)</a:t>
            </a:r>
            <a:endParaRPr b="1" lang="en-US" sz="3600" spc="-1" strike="noStrike">
              <a:solidFill>
                <a:srgbClr val="000000"/>
              </a:solidFill>
              <a:latin typeface="Times New Roman"/>
            </a:endParaRPr>
          </a:p>
        </p:txBody>
      </p:sp>
      <p:sp>
        <p:nvSpPr>
          <p:cNvPr id="7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2 Compat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Consideration will be made to ensure compatibility with the IEEE 802.21 and IEEE 802 wireless architectural model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e IEEE 802 O&amp;A does not provide management plane standardization for power consumption. Name the IEEE 802 radio standards that expose power consumption measurands today, and relates those measurands to traffic streams.</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As mentioned before, </a:t>
            </a:r>
            <a:r>
              <a:rPr b="0" lang="en-US" sz="2400" spc="-1" strike="noStrike">
                <a:solidFill>
                  <a:srgbClr val="000000"/>
                </a:solidFill>
                <a:latin typeface="Times New Roman"/>
                <a:ea typeface="Gulim"/>
              </a:rPr>
              <a:t>MRPM will not change the power saving mechanisms defined by each individual radio technology and its approach is based on  existing power saving modes. MRPM does not need to do power measu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4854C0-F954-4C57-9723-6157051F2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8/18)</a:t>
            </a:r>
            <a:endParaRPr b="1" lang="en-US" sz="3600" spc="-1" strike="noStrike">
              <a:solidFill>
                <a:srgbClr val="000000"/>
              </a:solidFill>
              <a:latin typeface="Times New Roman"/>
            </a:endParaRPr>
          </a:p>
        </p:txBody>
      </p:sp>
      <p:sp>
        <p:nvSpPr>
          <p:cNvPr id="7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The ability to save power has been proven in various wireless access technologies such as IEEE 802.11 power saving mode, IEEE 802.16e idle mode and sleep mode, and cellular power saving modes in 3GPP/2.”</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No two are the same, and each trades latency for power saving. There is nothing in the management interfaces of 802.11 that reveal the power consumed in transmission, in frame reception, in idle or in sleeping. Regardless of 802.21’s technical algorithms, no power consumption measurand input equals a psychic management scheme..</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It is true that no two are the same. This is the reason why we need MRPM to manage and coordinate multiple radios to reduce the power consumption. The measurements are not the necessary condition for power reduction approach in MRPM. Each technology already worked out the relative power consumption for various power saving modes. The MRPM can use these information to develop efficient power saving approach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BC68457-ACE0-49A2-BAFB-429C8271E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9/18)</a:t>
            </a:r>
            <a:endParaRPr b="1" lang="en-US" sz="3600" spc="-1" strike="noStrike">
              <a:solidFill>
                <a:srgbClr val="000000"/>
              </a:solidFill>
              <a:latin typeface="Times New Roman"/>
            </a:endParaRPr>
          </a:p>
        </p:txBody>
      </p:sp>
      <p:sp>
        <p:nvSpPr>
          <p:cNvPr id="7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4 Technical Feas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The ability to locate and page a single-radio mobile device in dormant mode is also a proven and tested technology in various networks such as 3GPP/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is observation has nothing to do with the technical feasibility of multi-radio power management of unlicensed band radios, which do no paging.</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t is true that there is no paging in unlicensed band radios. But there are power-saving modes: such as PS mode and extended PS mode. The MRPM does not only deal with radios with paging, but also deal with unlicensed-band radios without paging.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86F2EB-992F-49A1-895F-887052FDF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0/18)</a:t>
            </a:r>
            <a:endParaRPr b="1" lang="en-US" sz="3600" spc="-1" strike="noStrike">
              <a:solidFill>
                <a:srgbClr val="000000"/>
              </a:solidFill>
              <a:latin typeface="Times New Roman"/>
            </a:endParaRPr>
          </a:p>
        </p:txBody>
      </p:sp>
      <p:sp>
        <p:nvSpPr>
          <p:cNvPr id="8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Methods of coordinating the operating modes of multiple independent radio interfaces as well as comparing the relative energy consumption of those radio interfaces can be defined as extensions of IEEE 802.21 which is an extensible protocol and which supports multiple radio interface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802.21 is not chartered to define power consumption metrics for streams in radios defined in other standards, nor to request interfaces that provide that information, nor to control power consumption. Without changing the management interfaces of unlicensed radios, no methods of power consumption coordination are technically feasible.</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a:t>
            </a:r>
            <a:r>
              <a:rPr b="0" lang="en-GB" sz="2000" spc="-1" strike="noStrike">
                <a:solidFill>
                  <a:srgbClr val="000000"/>
                </a:solidFill>
                <a:latin typeface="Times New Roman"/>
              </a:rPr>
              <a:t>he power consumption measurements are not a necessary condition for MRPM as mentioned befor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DC6415B-ECBC-44DC-B27F-CEFF4DBF71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18)</a:t>
            </a:r>
            <a:endParaRPr b="1" lang="en-US" sz="3600" spc="-1" strike="noStrike">
              <a:solidFill>
                <a:srgbClr val="000000"/>
              </a:solidFill>
              <a:latin typeface="Times New Roman"/>
            </a:endParaRPr>
          </a:p>
        </p:txBody>
      </p:sp>
      <p:sp>
        <p:nvSpPr>
          <p:cNvPr id="83"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All but one radio in a mobile multi-radio device may be turned off to save power. Should traffic be sent to one of the turned off radios then it is desirable that the mobile client be notified of that traffic on its active radio. Upon such notification, the mobile client may either turn on the target radio or route the traffic over the currently active interface. The correct choice depends on the anticipated traffic, the performance characteristics of the radios, and on a policy. Regardless, an MRPM entity must coordinate with an entity in each radio’s network in order to update its routing information to reflect the current interface power modes. This operation is similar to the Mobile IP routing update normally required by mobile nodes. Mobile IP is an established routing protocol and a similar update mechanism and demonstrates the feasibility of this approach.”</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gnores the cost of maintaining and communicating traffic over each of the radios, as all but one may be turned off. This text does not acknowledge the fact that multi-radio power management costs more energy to perform than single radio power management does. Balancing traffic among sleeping radios is not technically feasible without changing the management interfaces of unlicensed radios.</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0A895DC-AD9B-4A76-B92F-14AADAF03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2/18)</a:t>
            </a:r>
            <a:endParaRPr b="1" lang="en-US" sz="3600" spc="-1" strike="noStrike">
              <a:solidFill>
                <a:srgbClr val="000000"/>
              </a:solidFill>
              <a:latin typeface="Times New Roman"/>
            </a:endParaRPr>
          </a:p>
        </p:txBody>
      </p:sp>
      <p:sp>
        <p:nvSpPr>
          <p:cNvPr id="8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specific radio traffic will increase for the other radios slightly due to the small amount of control signaling. However, we can expect more gain in power consumption redu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MRPM needs to know the power saving status of unlicensed radios but does not need to change the management interfac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60216B-15F8-4DB7-B172-D4ABCA773E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2BE8-033A-4182-8973-3DCDE66848F9}"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50" name="Rectangle 7"/>
          <p:cNvSpPr/>
          <p:nvPr/>
        </p:nvSpPr>
        <p:spPr>
          <a:xfrm>
            <a:off x="380880" y="990720"/>
            <a:ext cx="8534520" cy="571500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is a contribution by the National Institute of Standards and Technology and is not subject to copyright in the US. The contributors do not have the authority to override the NIST policy in favor of the IEEE 802.21 policy.</a:t>
            </a:r>
            <a:endParaRPr b="0" lang="en-US" sz="2400" spc="-1" strike="noStrike">
              <a:solidFill>
                <a:srgbClr val="000000"/>
              </a:solidFill>
              <a:latin typeface="Times New Roman"/>
            </a:endParaRPr>
          </a:p>
          <a:p>
            <a:pPr marL="281160" indent="-281160">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e contributor is familiar with IEEE patent policy, as stated in </a:t>
            </a:r>
            <a:r>
              <a:rPr b="0" lang="en-US" sz="2400" spc="-1" strike="noStrike" u="sng">
                <a:solidFill>
                  <a:srgbClr val="fc0128"/>
                </a:solidFill>
                <a:uFillTx/>
                <a:latin typeface="Times New Roman"/>
                <a:ea typeface="Gulim"/>
                <a:hlinkClick r:id="rId1"/>
              </a:rPr>
              <a:t>Section 6 of the IEEE-SA Standards Board bylaws</a:t>
            </a:r>
            <a:r>
              <a:rPr b="0" lang="en-US" sz="2400" spc="-1" strike="noStrike">
                <a:solidFill>
                  <a:srgbClr val="000099"/>
                </a:solidFill>
                <a:latin typeface="Times New Roman"/>
                <a:ea typeface="Gulim"/>
              </a:rPr>
              <a:t> </a:t>
            </a:r>
            <a:r>
              <a:rPr b="0" lang="en-US" sz="2400" spc="-1" strike="noStrike">
                <a:solidFill>
                  <a:srgbClr val="000000"/>
                </a:solidFill>
                <a:latin typeface="Times New Roman"/>
                <a:ea typeface="Gulim"/>
              </a:rPr>
              <a:t>&lt;</a:t>
            </a:r>
            <a:r>
              <a:rPr b="0" lang="en-US" sz="2400" spc="-1" strike="noStrike" u="sng">
                <a:solidFill>
                  <a:srgbClr val="fc0128"/>
                </a:solidFill>
                <a:uFillTx/>
                <a:latin typeface="Times New Roman"/>
                <a:ea typeface="Gulim"/>
                <a:hlinkClick r:id="rId2"/>
              </a:rPr>
              <a:t>http://standards.ieee.org/guides/bylaws/sect6-7.html#6</a:t>
            </a:r>
            <a:r>
              <a:rPr b="0" lang="en-US" sz="2400" spc="-1" strike="noStrike">
                <a:solidFill>
                  <a:srgbClr val="000000"/>
                </a:solidFill>
                <a:latin typeface="Times New Roman"/>
                <a:ea typeface="Gulim"/>
              </a:rPr>
              <a:t>&gt; and in </a:t>
            </a:r>
            <a:r>
              <a:rPr b="0" i="1" lang="en-US" sz="2400" spc="-1" strike="noStrike">
                <a:solidFill>
                  <a:srgbClr val="000000"/>
                </a:solidFill>
                <a:latin typeface="Times New Roman"/>
                <a:ea typeface="Gulim"/>
              </a:rPr>
              <a:t>Understanding Patent Issues During IEEE Standards Development</a:t>
            </a:r>
            <a:r>
              <a:rPr b="0" lang="en-US" sz="2400" spc="-1" strike="noStrike">
                <a:solidFill>
                  <a:srgbClr val="000000"/>
                </a:solidFill>
                <a:latin typeface="Times New Roman"/>
                <a:ea typeface="Gulim"/>
              </a:rPr>
              <a:t> </a:t>
            </a:r>
            <a:r>
              <a:rPr b="0" lang="en-US" sz="2400" spc="-1" strike="noStrike" u="sng">
                <a:solidFill>
                  <a:srgbClr val="fc0128"/>
                </a:solidFill>
                <a:uFillTx/>
                <a:latin typeface="Times New Roman"/>
                <a:ea typeface="Gulim"/>
                <a:hlinkClick r:id="rId3"/>
              </a:rPr>
              <a:t>http://standards.ieee.org/board/pat/faq.pdf</a:t>
            </a:r>
            <a:r>
              <a:rPr b="0" lang="en-US" sz="2400" spc="-1" strike="noStrike">
                <a:solidFill>
                  <a:srgbClr val="000000"/>
                </a:solidFill>
                <a:latin typeface="Times New Roman"/>
                <a:ea typeface="Gulim"/>
              </a:rPr>
              <a:t>&g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F0F66BB-B65A-4001-82C7-859A98959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3/18)</a:t>
            </a:r>
            <a:endParaRPr b="1" lang="en-US" sz="3600" spc="-1" strike="noStrike">
              <a:solidFill>
                <a:srgbClr val="000000"/>
              </a:solidFill>
              <a:latin typeface="Times New Roman"/>
            </a:endParaRPr>
          </a:p>
        </p:txBody>
      </p:sp>
      <p:sp>
        <p:nvSpPr>
          <p:cNvPr id="87"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11 supports a power saving mode that is effective when confronted with isochronous traffic flows. “Always on” applications and bulk data transfers reduce the effectiveness of the 802.11 power save mechanism. Because of its high data rates, 802.11 is also an economical choice when a host needs to transfer large volumes of data. These observations have been noted in the literature with several suggestions that a cross-layer power savings can be obtained by intermittently running the radio interface at full speed and otherwise leaving it turned off. Access network entities such as Intermediate-TCP have been proposed to facilitate this sort of periodic power operation and their effectiveness has been demonstrated in actual implementations.”</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s a judgment, as some want two-second sleep time to be supported by access points. There is no provision in the 802.11 standard for access points to start isochronous traffic flows for sleeping stations. This operation is not technically feasible without changing the management interfaces of unlicensed radios.</a:t>
            </a:r>
            <a:r>
              <a:rPr b="0" lang="en-US" sz="1800" spc="-1" strike="noStrike">
                <a:solidFill>
                  <a:srgbClr val="000000"/>
                </a:solidFill>
                <a:latin typeface="Times New Roman"/>
                <a:ea typeface="Gulim"/>
              </a:rPr>
              <a:t>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7AF3FD-BEFE-476C-B0DF-AB782A696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4/18)</a:t>
            </a:r>
            <a:endParaRPr b="1" lang="en-US" sz="3600" spc="-1" strike="noStrike">
              <a:solidFill>
                <a:srgbClr val="000000"/>
              </a:solidFill>
              <a:latin typeface="Times New Roman"/>
            </a:endParaRPr>
          </a:p>
        </p:txBody>
      </p:sp>
      <p:sp>
        <p:nvSpPr>
          <p:cNvPr id="8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agree with your comment and have deleted this paragraph.</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B38129E-C0F7-413D-8664-B3C17B9476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5/18)</a:t>
            </a:r>
            <a:endParaRPr b="1" lang="en-US" sz="3600" spc="-1" strike="noStrike">
              <a:solidFill>
                <a:srgbClr val="000000"/>
              </a:solidFill>
              <a:latin typeface="Times New Roman"/>
            </a:endParaRPr>
          </a:p>
        </p:txBody>
      </p:sp>
      <p:sp>
        <p:nvSpPr>
          <p:cNvPr id="9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There may be a tradeoff between the service availability of always-on connectivity and battery life. Yet existing platform- and network-specific power managers that operate independently without considering the overall power consumption of a multi-radio mobile device may result in shortened battery operation life, which according to user experience is contradictory to a reliable service. This project to enhance battery life is trying to enhance such user experience.  In addition, no specific new hardware technology is introduced, so hardware reliability should not be an issu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has not provided anything that shows a general power management algorithm would work as well as those currently employed by manufacturers of multi-radio devices. Until 802.21 posts some white paper or analysis that shows what improvement is possible, the technical feasibility is unknow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D8BC522-38E1-4EC1-B23A-F92A4E2056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6/18)</a:t>
            </a: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Currently multi-radio devices have already experienced battery life problem and are using proprietary protocol to solve the problem.</a:t>
            </a:r>
            <a:r>
              <a:rPr b="0" lang="en-US" sz="2000" spc="-1" strike="noStrike" u="sng">
                <a:solidFill>
                  <a:srgbClr val="fc0128"/>
                </a:solidFill>
                <a:uFillTx/>
                <a:latin typeface="Times New Roman"/>
                <a:ea typeface="Gulim"/>
              </a:rPr>
              <a:t> </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802.21 provides Information service, event service, and command service for heterogeneous networks. MRPM coordinates and manages multi-radio power using these services.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EE948E7-5A14-4A3A-AA2B-B3BFF03A0D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7/18)</a:t>
            </a:r>
            <a:endParaRPr b="1" lang="en-US" sz="3600" spc="-1" strike="noStrike">
              <a:solidFill>
                <a:srgbClr val="000000"/>
              </a:solidFill>
              <a:latin typeface="Times New Roman"/>
            </a:endParaRPr>
          </a:p>
        </p:txBody>
      </p:sp>
      <p:sp>
        <p:nvSpPr>
          <p:cNvPr id="95"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Sections of this work simply represent an incremental cost in enhancing the baseline implementation of IEEE 802.21. Additional costs will be incurred owing to facilitating network coordination. Where coordination with core network entities is required, the capital and operational costs should be similar to that of installing Mobile IP servers. Where coordination between the mobile device and access network is required, the capital and operational costs will be similar to that of installing an operating system utility at an access poin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ese statements do not account for the operating costs of communicating power consumption to an 802.21 management mechanism, and taking direction from it. By definition, such traffic is in addition to normal operatio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First, the amount of traffics and messages are relatively very small in addition to normal operation. Second, the extra power consumption related to the additional traffics and messages is much less than the power consumption to make the extra radio “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D52E9BA-539E-49D0-9E0A-61162D6680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8/18)</a:t>
            </a:r>
            <a:endParaRPr b="1" lang="en-US" sz="3600" spc="-1" strike="noStrike">
              <a:solidFill>
                <a:srgbClr val="000000"/>
              </a:solidFill>
              <a:latin typeface="Times New Roman"/>
            </a:endParaRPr>
          </a:p>
        </p:txBody>
      </p:sp>
      <p:sp>
        <p:nvSpPr>
          <p:cNvPr id="97"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21 is uniquely positioned to provide a coordinating role in radio power management. IEEE 802.21 already provides a uniform set of services that work across heterogeneous networks.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required the 802.11u amendment to create new elements in the 802.11 MAC and expose them to 802.21. This PAR does not provide energy management hooks in 802.11 at all, and without them, this PAR does not provide any value to 802.11.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The power consumption measurements are not a necessary condition for MRPM as mentioned before. The energy management hooks in 802.11 are not needed. The MRPM manages and coordinate multiple radios to achieve the reduction of power consumption. It does not try to reduce power consumption within 802.11. Therefore, the power measurements within 802.11 are not necessary.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44043BC-7155-4E4A-B1EE-1F74429EC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1/4)</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stated objective for the PAR is as follows:</a:t>
            </a:r>
            <a:br>
              <a:rPr sz="2400"/>
            </a:br>
            <a:r>
              <a:rPr b="0" i="1" lang="en-US" sz="2400" spc="-1" strike="noStrike">
                <a:solidFill>
                  <a:srgbClr val="063de8"/>
                </a:solidFill>
                <a:latin typeface="Times New Roman"/>
                <a:ea typeface="Gulim"/>
              </a:rPr>
              <a:t>"The purpose of this amendment is to enhance the user experience by extending the battery operating life of multi-radio mobile devices"</a:t>
            </a:r>
            <a:br>
              <a:rPr sz="2400"/>
            </a:br>
            <a:r>
              <a:rPr b="0" i="1" lang="en-US" sz="2400" spc="-1" strike="noStrike">
                <a:solidFill>
                  <a:srgbClr val="063de8"/>
                </a:solidFill>
                <a:latin typeface="Times New Roman"/>
                <a:ea typeface="Gulim"/>
              </a:rPr>
              <a:t>In reading the PAR/5C (in particular Clause 5.5 &amp; Clause 17.5.4) the text suggests that the power improvement only applies to multi-radio devices while only 1 radio is active.</a:t>
            </a:r>
            <a:br>
              <a:rPr sz="2400"/>
            </a:br>
            <a:r>
              <a:rPr b="0" i="1" lang="en-US" sz="2400" spc="-1" strike="noStrike">
                <a:solidFill>
                  <a:srgbClr val="063de8"/>
                </a:solidFill>
                <a:latin typeface="Times New Roman"/>
                <a:ea typeface="Gulim"/>
              </a:rPr>
              <a:t>The problem with focusing on saving power by choosing 1 radio over another is that it implies that the device may only use 1 radio at a time for all applications running on the dual mode device.</a:t>
            </a:r>
            <a:br>
              <a:rPr sz="2400"/>
            </a:b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Several points are worth raising about this issu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EE0DAF-9292-40C1-B4A7-2B3B21208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2/4)</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 1: * Many dual radio devices operate today with both radios active. Saving power while BOTH radios are active is a major concern. However, this PAR ignores this use case by suggesting that the solution to the power save problem is to deactivate or disable the secondary radio. The PAR should not suggest a solution to the dual-radio device power save problem is to deactivate the secondary radio.</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gree and the 4th paragraph in section 17.5.4 has been amended into: </a:t>
            </a:r>
            <a:r>
              <a:rPr b="0" lang="en-US" sz="2400" spc="-1" strike="noStrike">
                <a:solidFill>
                  <a:srgbClr val="000000"/>
                </a:solidFill>
                <a:latin typeface="Times New Roman"/>
                <a:ea typeface="Gulim"/>
              </a:rPr>
              <a:t>Radios that are not in service in a mobile multi-radio device may be turned off or put into a lower power state. Should traffic be sent to one of the turned off radios then it is desirable that the mobile client be notified of that traffic on an active radio. Upon such notification, the mobile client may turn on the target radio.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A7E570-E4BF-4D7F-9232-A66BC458F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3/4)</a:t>
            </a:r>
            <a:endParaRPr b="1" lang="en-US" sz="3600" spc="-1" strike="noStrike">
              <a:solidFill>
                <a:srgbClr val="000000"/>
              </a:solidFill>
              <a:latin typeface="Times New Roman"/>
            </a:endParaRPr>
          </a:p>
        </p:txBody>
      </p:sp>
      <p:sp>
        <p:nvSpPr>
          <p:cNvPr id="10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proposed PAR suggests having the .21 "system" enable a mechanism to switch between radios rather than enabling both radios at the same time. It would seem that the .21 is forcing itself into the data path of applications to ensure only one radio is active at a time. It is not clear that this is practical and scalable. The PAR needs to focus on saving power without requiring devices switching between radios coordinated by the .21 system. The PAR also suggests that the .21 will become the entity that chooses the "right" network/radio. This is inappropriate for a IEEE technology to create such a system.</a:t>
            </a:r>
            <a:br>
              <a:rPr sz="2400"/>
            </a:br>
            <a:r>
              <a:rPr b="0" i="1" lang="en-US" sz="2400" spc="-1" strike="noStrike">
                <a:solidFill>
                  <a:srgbClr val="063de8"/>
                </a:solidFill>
                <a:latin typeface="Times New Roman"/>
              </a:rPr>
              <a:t> </a:t>
            </a:r>
            <a:endParaRPr b="0" lang="en-US" sz="2400" spc="-1" strike="noStrike">
              <a:solidFill>
                <a:srgbClr val="000000"/>
              </a:solidFill>
              <a:latin typeface="Times New Roman"/>
            </a:endParaRPr>
          </a:p>
          <a:p>
            <a:pPr marL="281160" indent="-281160">
              <a:lnSpc>
                <a:spcPct val="7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MRPM is not an entity to choose the right network itself. MRPM will define mechanisms for multi-radio power management and coordination. The defined mechanisms can be utilized by a network selection entity in choosing the right network.</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9A9568-0EEE-4EAC-9271-57A7A6141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4/4)</a:t>
            </a:r>
            <a:endParaRPr b="1" lang="en-US" sz="3600" spc="-1" strike="noStrike">
              <a:solidFill>
                <a:srgbClr val="000000"/>
              </a:solidFill>
              <a:latin typeface="Times New Roman"/>
            </a:endParaRPr>
          </a:p>
        </p:txBody>
      </p:sp>
      <p:sp>
        <p:nvSpPr>
          <p:cNvPr id="10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how a .21 system knows what is the best power saving option for each radio technology so in a practical sense what</a:t>
            </a:r>
            <a:br>
              <a:rPr sz="2400"/>
            </a:br>
            <a:r>
              <a:rPr b="0" i="1" lang="en-US" sz="2400" spc="-1" strike="noStrike">
                <a:solidFill>
                  <a:srgbClr val="063de8"/>
                </a:solidFill>
                <a:latin typeface="Times New Roman"/>
                <a:ea typeface="Gulim"/>
              </a:rPr>
              <a:t>terms are defined in the PAR for saving power other than shutting down radios? </a:t>
            </a: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MRPM coordinates and manages multi-radio power management through network support. It turns unused radios into lower power states. It enables an off radio to be awakened through a different radio.</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that the PAR is focused on the right problem to saving power with dual radios activ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lready answered that more than one radios may be in service. However MRPM cannot provide power saving if all radios need to be in service.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BFDD49-F29E-44C0-89E5-19B09FE57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6 Comments (1/1)</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523880"/>
            <a:ext cx="8194680" cy="4114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The IEEE 802.16 Working Group has reviewed the draft P802.21c PAR and offers the following comm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In general, we appreciate the exemplary quality of this documen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We do have one concern. Namely, we believe that, with the amendment, the scope of IEEE Std 802.21 would be expanded enough to make the title of the standard obsolete. Therefore, we suggest that the PAR propose to rename IEEE Std 802.21. Our suggestion is the following: “IEEE Media Independent Handover and Multi-Radio Services.” We believe that this title would provide for additional future amendments, without a title change, should interest develop in other multi-radio services.</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thank you for your comments, which are excellent. There will indeed be more services which can be built above 802.21 beyond handover such as multi-radio power management.</a:t>
            </a:r>
            <a:endParaRPr b="0" lang="en-US" sz="2000" spc="-1" strike="noStrike">
              <a:solidFill>
                <a:srgbClr val="000000"/>
              </a:solidFill>
              <a:latin typeface="Times New Roman"/>
            </a:endParaRPr>
          </a:p>
        </p:txBody>
      </p:sp>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7509-154D-4B45-9790-9746138952E4}"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24938D80-812F-464D-8676-6E70313CC0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1/4)</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General comment:</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f you are managing Watts, then measure Watts.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consumption is not generally available from Radio interfaces, so it is not meaningful to manage power control using measurements that are not available. (802.2 LLC does not expose power consumption).</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Each technology defines its own power saving mechanisms to reduce its own power consumption. MRPM will not change the power saving mechanisms defined by that technology. Therefore, MRPM’s approach is based on  existing power saving modes and does not need to measure Watts. MRPM will provide the mechanism to manage and coordinate multi-radios in the device and their networks to save power.</a:t>
            </a:r>
            <a:r>
              <a:rPr b="0" lang="en-US" sz="2400" spc="-1" strike="noStrike">
                <a:solidFill>
                  <a:srgbClr val="00ae00"/>
                </a:solidFill>
                <a:latin typeface="Times New Roman"/>
                <a:ea typeface="Gulim"/>
              </a:rPr>
              <a:t> </a:t>
            </a:r>
            <a:endParaRPr b="0" lang="en-US" sz="24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80174C7-53BB-4B9D-8175-E8FAB0EB2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2/4)</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Multiple Radio Power Management does not belong in 802.21.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 </a:t>
            </a:r>
            <a:r>
              <a:rPr b="0" i="1" lang="en-US" sz="2400" spc="-1" strike="noStrike">
                <a:solidFill>
                  <a:srgbClr val="063de8"/>
                </a:solidFill>
                <a:latin typeface="Times New Roman"/>
                <a:ea typeface="Gulim"/>
              </a:rPr>
              <a:t>Handover control is not the same as Power management</a:t>
            </a:r>
            <a:r>
              <a:rPr b="0" lang="en-US" sz="2800" spc="-1" strike="noStrike">
                <a:solidFill>
                  <a:srgbClr val="000000"/>
                </a:solidFill>
                <a:latin typeface="Times New Roman"/>
                <a:ea typeface="Gulim"/>
              </a:rPr>
              <a:t>.</a:t>
            </a:r>
            <a:endParaRPr b="0" lang="en-US" sz="28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ink that 802.16’s comments, </a:t>
            </a:r>
            <a:r>
              <a:rPr b="0" lang="en-US" sz="2400" spc="-1" strike="noStrike" u="sng">
                <a:solidFill>
                  <a:srgbClr val="fc0128"/>
                </a:solidFill>
                <a:uFillTx/>
                <a:latin typeface="Times New Roman"/>
                <a:ea typeface="Gulim"/>
              </a:rPr>
              <a:t>“Our suggestion is the following: “IEEE Media Independent Handover and Multi-Radio Services. We believe that this title would provide for additional future amendments”</a:t>
            </a:r>
            <a:r>
              <a:rPr b="0" lang="en-US" sz="2400" spc="-1" strike="noStrike">
                <a:solidFill>
                  <a:srgbClr val="000000"/>
                </a:solidFill>
                <a:latin typeface="Times New Roman"/>
                <a:ea typeface="Gulim"/>
              </a:rPr>
              <a:t> are excellent and as a matter of fact, there will be more services which can be built above 802.21 beyond handover such as multi-radio power management.</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802 EC agreed to create this study group with the objective to create PAR and 5C in 802.21.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A43272E-5F39-4812-AE45-55E0D9EF2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3/4)</a:t>
            </a:r>
            <a:endParaRPr b="1" lang="en-US" sz="3600" spc="-1" strike="noStrike">
              <a:solidFill>
                <a:srgbClr val="000000"/>
              </a:solidFill>
              <a:latin typeface="Times New Roman"/>
            </a:endParaRPr>
          </a:p>
        </p:txBody>
      </p:sp>
      <p:sp>
        <p:nvSpPr>
          <p:cNvPr id="5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management in a client is truly an implementation issue not a standardization issu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do not eliminate the ability of the client to manage power. MRPM extends this ability through network support of additional power saving options. </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Current standards have defined various power saving modes for power management. Without such standards, the network and the device from different vendors cannot achieve today’s talk time and standby time. MRPM is built above these power saving modes in their respective standards to coordinate and manage multi-radio powe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79583F-4576-44D1-87F1-4079F1271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4/4)</a:t>
            </a: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5C provide insufficient justification for starting this project.</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have added the following to section 17.5.1a Multiple vendors and numerous users in the revised 5C: “Multi-radio devices have already experienced battery life problems.”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C8D0B35-71A2-4C5C-AEB1-11295F0AC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8)</a:t>
            </a:r>
            <a:endParaRPr b="1" lang="en-US" sz="36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2. </a:t>
            </a:r>
            <a:r>
              <a:rPr b="0" i="1" lang="en-GB" sz="2400" spc="-1" strike="noStrike">
                <a:solidFill>
                  <a:srgbClr val="063de8"/>
                </a:solidFill>
                <a:latin typeface="Times New Roman"/>
                <a:ea typeface="Gulim"/>
              </a:rPr>
              <a:t>Enable the optimal power configuration of different radios in a multi-radio mobile device: whether radio is “on,” “off-available,” or “off-do-not-disturb.” </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There are more variations on power saving than these three “configurations”, none of which are “optimal”.  </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ank you for your comment and have revised the above sentence into:</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 Enable the power configuration of different radios in a multi-radio mobile device to reduce power consumption: whether which radio is “on,” “off-available,” or “off-do-not-disturb,” and other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70F029-82F2-4BCC-87B1-B1BB08D10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2/18)</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 </a:t>
            </a:r>
            <a:r>
              <a:rPr b="0" i="1" lang="en-GB" sz="2400" spc="-1" strike="noStrike">
                <a:solidFill>
                  <a:srgbClr val="063de8"/>
                </a:solidFill>
                <a:latin typeface="Times New Roman"/>
                <a:ea typeface="Gulim"/>
              </a:rPr>
              <a:t>Enable power management through co-ordination across multiple networks of different radios, taking into account the power management functions in individual radios and networks and QoS requirements.”</a:t>
            </a:r>
            <a:r>
              <a:rPr b="0" lang="en-GB" sz="2400" spc="-1" strike="noStrike">
                <a:solidFill>
                  <a:srgbClr val="000000"/>
                </a:solidFill>
                <a:latin typeface="Times New Roman"/>
                <a:ea typeface="Gulim"/>
              </a:rPr>
              <a:t> </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You cannot put license-exempt bands in the same power regime as licensed bands, as the reliability of management communication is vastly different. Changing the radio’s modulation and coding scheme has as large an effect on power consumption as changing sleep strategy. </a:t>
            </a:r>
            <a:endParaRPr b="0" lang="en-US" sz="2400" spc="-1" strike="noStrike">
              <a:solidFill>
                <a:srgbClr val="000000"/>
              </a:solidFill>
              <a:latin typeface="Times New Roman"/>
            </a:endParaRPr>
          </a:p>
          <a:p>
            <a:pPr marL="281160" indent="-281160">
              <a:lnSpc>
                <a:spcPct val="7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re not trying to change the existing modulations and coding schemes. Our purpose is to manage and coordinate the multi-radio device (either radios in licensed-exempt bands or licensed bands) to reduce power consumption</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B20BA9A-5880-4BC1-95F4-BC1D4DAFE1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21:24:14Z</dcterms:created>
  <dc:creator/>
  <dc:description/>
  <dc:language>en-US</dc:language>
  <cp:lastModifiedBy/>
  <dcterms:modified xsi:type="dcterms:W3CDTF">2009-03-11T19:44:28Z</dcterms:modified>
  <cp:revision>108</cp:revision>
  <dc:subject/>
  <dc:title>Responses to 802.21b PAR com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6786393</vt:lpwstr>
  </property>
</Properties>
</file>