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9EE2E-6507-4416-9464-4C859226A938}"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3596-7CCF-4967-82B7-2D92776A43B3}"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5D67-3AC0-42CC-812A-3C63C79D3E08}"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A699-ABF9-446A-84BD-134C5E645FF6}"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4D036B-B962-4005-A66B-5C43FFF202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09BF14-A9E0-436B-BFDC-3E7310C9D7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997FBA-94B4-415D-AA01-92A88E2126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54749E-9FF4-4312-A4E5-EF4CE02397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A162547-5B2C-49F8-8A05-506EE300ED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90E3752-961E-4BCB-80A0-8938DBD98F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199B0F-863D-4559-B9E3-090181119F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5C6222-6740-486F-BE08-2A3E0CD1E5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33ADEB-1E3D-48C1-BAB0-3527349689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3CD46F-BF80-437C-9C79-39B7394CC8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F14D83-2D6C-4916-86F0-ED1E697BB1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87FCAE-BEFB-490D-975B-AAD8CF5E66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BB69DC-6150-4C83-BAC3-0A4EF16974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0DAEE7-E9E1-4E8C-BB22-319B2C94D4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AB146B-E79A-411E-88E6-604ABD85F8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012B92B-951D-475F-B60F-00A95F029F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E7C2E0B-408E-4390-BA2F-E6BF54F9EB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52A69B-DFFE-4578-84E4-8AA6A7D8A5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71E953-7106-4471-BDD5-360D6BE3BB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D28F89-37CB-4BE0-8B5B-89938F337E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1EDEF4-BC11-4257-B27A-936E40CEEE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8B1DDC-8C23-4DC5-B600-D9CCD60FAA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66C49B-5A39-4308-BAF1-9786745388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49E4DD-A887-4218-BC1A-399A07CE52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33-00-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F137-688B-4307-8029-CD0258A854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33-00-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00E3-959E-4E5C-8AF5-95A47235F5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033</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TG Meeting Agend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March 2,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a:t>
            </a:r>
            <a:r>
              <a:rPr b="0" lang="en-US" sz="2400" spc="-1" strike="noStrike">
                <a:solidFill>
                  <a:srgbClr val="000000"/>
                </a:solidFill>
                <a:latin typeface="Times New Roman"/>
                <a:ea typeface="ＭＳ Ｐゴシック"/>
              </a:rPr>
              <a:t>31</a:t>
            </a:r>
            <a:r>
              <a:rPr b="0" lang="en-US" sz="2400" spc="-1" strike="noStrike">
                <a:solidFill>
                  <a:srgbClr val="000000"/>
                </a:solidFill>
                <a:latin typeface="Times New Roman"/>
                <a:ea typeface="Times New Roman"/>
              </a:rPr>
              <a:t> in Vancouver</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Agenda for Security TG meeting</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13B3-9AD4-457E-9758-486FEAB52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33-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33-00-0sec</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C5AA-09AD-4CF5-9A9F-3F5A25942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428760" y="5221440"/>
          <a:ext cx="8137440" cy="1279440"/>
        </p:xfrm>
        <a:graphic>
          <a:graphicData uri="http://schemas.openxmlformats.org/drawingml/2006/table">
            <a:tbl>
              <a:tblPr/>
              <a:tblGrid>
                <a:gridCol w="4748040"/>
                <a:gridCol w="2214720"/>
                <a:gridCol w="117468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Security SG </a:t>
                      </a:r>
                      <a:r>
                        <a:rPr b="0" lang="en-US" sz="1200" spc="-1" strike="noStrike">
                          <a:solidFill>
                            <a:srgbClr val="000000"/>
                          </a:solidFill>
                          <a:latin typeface="Times New Roman"/>
                        </a:rPr>
                        <a:t> Meeting Called to Or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3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cussion on Call for Proposal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32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os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0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Adjourn until May 2009 meet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2: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TG Meeting Agenda</a:t>
            </a:r>
            <a:endParaRPr b="1" lang="en-US" sz="3600" spc="-1" strike="noStrike">
              <a:solidFill>
                <a:srgbClr val="000000"/>
              </a:solidFill>
              <a:latin typeface="Times New Roman"/>
            </a:endParaRPr>
          </a:p>
        </p:txBody>
      </p:sp>
      <p:graphicFrame>
        <p:nvGraphicFramePr>
          <p:cNvPr id="99" name=""/>
          <p:cNvGraphicFramePr/>
          <p:nvPr/>
        </p:nvGraphicFramePr>
        <p:xfrm>
          <a:off x="466560" y="1289160"/>
          <a:ext cx="8137800" cy="1797120"/>
        </p:xfrm>
        <a:graphic>
          <a:graphicData uri="http://schemas.openxmlformats.org/drawingml/2006/table">
            <a:tbl>
              <a:tblPr/>
              <a:tblGrid>
                <a:gridCol w="4748400"/>
                <a:gridCol w="2214720"/>
                <a:gridCol w="117468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Security TG </a:t>
                      </a:r>
                      <a:r>
                        <a:rPr b="0" lang="en-US" sz="1200" spc="-1" strike="noStrike">
                          <a:solidFill>
                            <a:srgbClr val="000000"/>
                          </a:solidFill>
                          <a:latin typeface="Times New Roman"/>
                        </a:rPr>
                        <a:t> Meeting Called to Or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8:0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Agenda for March 2009 Meet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8:02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Approval of January F2F meeting and February teleconf minut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8:05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Introduc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8:1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cussion on Call for Proposal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8:2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0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Text Box 65"/>
          <p:cNvSpPr/>
          <p:nvPr/>
        </p:nvSpPr>
        <p:spPr>
          <a:xfrm>
            <a:off x="412920" y="871560"/>
            <a:ext cx="510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Tuesday, March 10</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8am –10am</a:t>
            </a:r>
            <a:endParaRPr b="0" lang="en-US" sz="2400" spc="-1" strike="noStrike">
              <a:solidFill>
                <a:srgbClr val="000000"/>
              </a:solidFill>
              <a:latin typeface="Times New Roman"/>
            </a:endParaRPr>
          </a:p>
        </p:txBody>
      </p:sp>
      <p:sp>
        <p:nvSpPr>
          <p:cNvPr id="101" name="Text Box 65"/>
          <p:cNvSpPr/>
          <p:nvPr/>
        </p:nvSpPr>
        <p:spPr>
          <a:xfrm>
            <a:off x="424080" y="4759200"/>
            <a:ext cx="624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Thursday, March 12</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10:30am – 12:30pm</a:t>
            </a:r>
            <a:endParaRPr b="0" lang="en-US" sz="2400" spc="-1" strike="noStrike">
              <a:solidFill>
                <a:srgbClr val="000000"/>
              </a:solidFill>
              <a:latin typeface="Times New Roman"/>
            </a:endParaRPr>
          </a:p>
        </p:txBody>
      </p:sp>
      <p:sp>
        <p:nvSpPr>
          <p:cNvPr id="102" name="Text Box 65"/>
          <p:cNvSpPr/>
          <p:nvPr/>
        </p:nvSpPr>
        <p:spPr>
          <a:xfrm>
            <a:off x="366480" y="3114720"/>
            <a:ext cx="62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Wednesday, March 11</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4:00pm – 6:00pm</a:t>
            </a:r>
            <a:endParaRPr b="0" lang="en-US" sz="2400" spc="-1" strike="noStrike">
              <a:solidFill>
                <a:srgbClr val="000000"/>
              </a:solidFill>
              <a:latin typeface="Times New Roman"/>
            </a:endParaRPr>
          </a:p>
        </p:txBody>
      </p:sp>
      <p:graphicFrame>
        <p:nvGraphicFramePr>
          <p:cNvPr id="103" name=""/>
          <p:cNvGraphicFramePr/>
          <p:nvPr/>
        </p:nvGraphicFramePr>
        <p:xfrm>
          <a:off x="428760" y="3519360"/>
          <a:ext cx="8137440" cy="1279800"/>
        </p:xfrm>
        <a:graphic>
          <a:graphicData uri="http://schemas.openxmlformats.org/drawingml/2006/table">
            <a:tbl>
              <a:tblPr/>
              <a:tblGrid>
                <a:gridCol w="4748040"/>
                <a:gridCol w="2214720"/>
                <a:gridCol w="117468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Security SG </a:t>
                      </a:r>
                      <a:r>
                        <a:rPr b="0" lang="en-US" sz="1200" spc="-1" strike="noStrike">
                          <a:solidFill>
                            <a:srgbClr val="000000"/>
                          </a:solidFill>
                          <a:latin typeface="Times New Roman"/>
                        </a:rPr>
                        <a:t> Meeting Called to Or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4: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cussion on Call for Proposal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4:02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Key Distribution for Fast Access in EAP-based Network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ernando  P. Garc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5: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6: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Slide Number Placeholder 11"/>
          <p:cNvSpPr/>
          <p:nvPr/>
        </p:nvSpPr>
        <p:spPr>
          <a:xfrm>
            <a:off x="7772400" y="647712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B4D7-8817-43F8-834F-17E01C434F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 name="Footer Placeholder 12"/>
          <p:cNvSpPr/>
          <p:nvPr/>
        </p:nvSpPr>
        <p:spPr>
          <a:xfrm>
            <a:off x="0" y="6500880"/>
            <a:ext cx="2571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33-00-0sec</a:t>
            </a:r>
            <a:endParaRPr b="0" lang="en-US" sz="1400" spc="-1" strike="noStrike">
              <a:solidFill>
                <a:srgbClr val="000000"/>
              </a:solidFill>
              <a:latin typeface="Times New Roman"/>
            </a:endParaRPr>
          </a:p>
        </p:txBody>
      </p:sp>
      <p:sp>
        <p:nvSpPr>
          <p:cNvPr id="106" name="Rectangle 69"/>
          <p:cNvSpPr/>
          <p:nvPr/>
        </p:nvSpPr>
        <p:spPr>
          <a:xfrm>
            <a:off x="2857680" y="6458760"/>
            <a:ext cx="49291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tes:</a:t>
            </a:r>
            <a:r>
              <a:rPr b="0" lang="en-US" sz="1000" spc="-1" strike="noStrike">
                <a:solidFill>
                  <a:srgbClr val="000000"/>
                </a:solidFill>
                <a:latin typeface="Times New Roman"/>
                <a:ea typeface="Times New Roman"/>
              </a:rPr>
              <a:t> Submission times are placeholders only. They can be moved based on available time</a:t>
            </a:r>
            <a:br>
              <a:rPr sz="1000"/>
            </a:br>
            <a:r>
              <a:rPr b="0" lang="en-US" sz="1000" spc="-1" strike="noStrike">
                <a:solidFill>
                  <a:srgbClr val="000000"/>
                </a:solidFill>
                <a:latin typeface="Times New Roman"/>
                <a:ea typeface="Times New Roman"/>
              </a:rPr>
              <a:t>Breaks shall be taken as need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9-03-02T17:53:33Z</dcterms:modified>
  <cp:revision>820</cp:revision>
  <dc:subject/>
  <dc:title>PowerPoint Presentation</dc:title>
</cp:coreProperties>
</file>