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709F-42D7-42FE-90B2-EC2DAEFB0914}"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135B-FC85-4940-81D7-FF199F6976B9}"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6006-AF3C-4C13-859D-ED6EEBD97E8A}"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A98F-7E5F-49A4-85C0-4F185288C2F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CDB0D0-F68D-4543-883E-846BF5A57B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9305F5-161A-45DF-8CB0-04F93FD85D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FE9217-406C-45AB-8E34-D5CE7CCF5E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98E453-5024-4133-A6EA-7576887D38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23D443D-9834-46AA-B470-440C448228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788376-0208-4907-B3FF-0644AABF42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F6D9DB-CD51-47BF-8E19-C055B85482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861509-DF66-41C1-9257-EF1789546C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493E4C-8738-48D9-8B48-517A2541C3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6A20CD-F0C7-4F29-B7E6-AD32F6A967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72E7A0-6E12-4EB9-8F82-64B032CF1D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7EA6D1-C928-4BC2-9125-6D60C0A8E0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26A7FD-26D1-4A48-ACEC-6C7501926F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045F1D-73B1-436D-AA44-F74CB0E5A3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E18825-00E9-4FD0-AE06-E367C4ED0A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414B779-454E-4D51-A28E-33CA46D960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3B523DC-D3D6-40D9-A70E-A4A02189AE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0AA914-FB11-4A02-9CC7-50584B653A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40A347-A3CC-47ED-A430-B051420E3C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CD895C-B431-41F4-9EC5-10CCE70CB8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4DB700-3FAE-45D2-A674-D4C48DC30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0614B-467F-45F9-907D-03AC787AE0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06C3F2-EBA0-4B6E-8BC5-B706F0FBCC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8865E1-5DA4-49E4-8FE7-D9852CD271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33-00-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8FFA-0C71-40E8-B4F0-2FB72848E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33-00-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4A6A-3D8E-4FF0-AA2C-7FE1F426B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33</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Meetin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rch 2,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31</a:t>
            </a:r>
            <a:r>
              <a:rPr b="0" lang="en-US" sz="2400" spc="-1" strike="noStrike">
                <a:solidFill>
                  <a:srgbClr val="000000"/>
                </a:solidFill>
                <a:latin typeface="Times New Roman"/>
                <a:ea typeface="Times New Roman"/>
              </a:rPr>
              <a:t> in Vancouver</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TG meeting</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4060-1569-468A-B95A-DA903F44B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33-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33-00-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6C02-2012-4659-BF5A-29EF349DD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428760" y="5221440"/>
          <a:ext cx="8137440" cy="1279440"/>
        </p:xfrm>
        <a:graphic>
          <a:graphicData uri="http://schemas.openxmlformats.org/drawingml/2006/table">
            <a:tbl>
              <a:tblPr/>
              <a:tblGrid>
                <a:gridCol w="4748040"/>
                <a:gridCol w="2214720"/>
                <a:gridCol w="117468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S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on Call for Proposal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2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os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djourn until May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a:t>
            </a:r>
            <a:endParaRPr b="1" lang="en-US" sz="3600" spc="-1" strike="noStrike">
              <a:solidFill>
                <a:srgbClr val="000000"/>
              </a:solidFill>
              <a:latin typeface="Times New Roman"/>
            </a:endParaRPr>
          </a:p>
        </p:txBody>
      </p:sp>
      <p:graphicFrame>
        <p:nvGraphicFramePr>
          <p:cNvPr id="99" name=""/>
          <p:cNvGraphicFramePr/>
          <p:nvPr/>
        </p:nvGraphicFramePr>
        <p:xfrm>
          <a:off x="466560" y="1289160"/>
          <a:ext cx="8137800" cy="1797120"/>
        </p:xfrm>
        <a:graphic>
          <a:graphicData uri="http://schemas.openxmlformats.org/drawingml/2006/table">
            <a:tbl>
              <a:tblPr/>
              <a:tblGrid>
                <a:gridCol w="4748400"/>
                <a:gridCol w="2214720"/>
                <a:gridCol w="117468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T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genda for March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02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pproval of January F2F meeting and February teleconf minut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0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Introduc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1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on Call for Proposal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2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Text Box 65"/>
          <p:cNvSpPr/>
          <p:nvPr/>
        </p:nvSpPr>
        <p:spPr>
          <a:xfrm>
            <a:off x="412920" y="871560"/>
            <a:ext cx="510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uesday, March 10</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8am –10am</a:t>
            </a:r>
            <a:endParaRPr b="0" lang="en-US" sz="2400" spc="-1" strike="noStrike">
              <a:solidFill>
                <a:srgbClr val="000000"/>
              </a:solidFill>
              <a:latin typeface="Times New Roman"/>
            </a:endParaRPr>
          </a:p>
        </p:txBody>
      </p:sp>
      <p:sp>
        <p:nvSpPr>
          <p:cNvPr id="101" name="Text Box 65"/>
          <p:cNvSpPr/>
          <p:nvPr/>
        </p:nvSpPr>
        <p:spPr>
          <a:xfrm>
            <a:off x="424080" y="4759200"/>
            <a:ext cx="624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hursday, March 12</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10:30am – 12:30pm</a:t>
            </a:r>
            <a:endParaRPr b="0" lang="en-US" sz="2400" spc="-1" strike="noStrike">
              <a:solidFill>
                <a:srgbClr val="000000"/>
              </a:solidFill>
              <a:latin typeface="Times New Roman"/>
            </a:endParaRPr>
          </a:p>
        </p:txBody>
      </p:sp>
      <p:sp>
        <p:nvSpPr>
          <p:cNvPr id="102" name="Text Box 65"/>
          <p:cNvSpPr/>
          <p:nvPr/>
        </p:nvSpPr>
        <p:spPr>
          <a:xfrm>
            <a:off x="366480" y="3114720"/>
            <a:ext cx="62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Wednesday, March 11</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4:00pm – 6:00pm</a:t>
            </a:r>
            <a:endParaRPr b="0" lang="en-US" sz="2400" spc="-1" strike="noStrike">
              <a:solidFill>
                <a:srgbClr val="000000"/>
              </a:solidFill>
              <a:latin typeface="Times New Roman"/>
            </a:endParaRPr>
          </a:p>
        </p:txBody>
      </p:sp>
      <p:graphicFrame>
        <p:nvGraphicFramePr>
          <p:cNvPr id="103" name=""/>
          <p:cNvGraphicFramePr/>
          <p:nvPr/>
        </p:nvGraphicFramePr>
        <p:xfrm>
          <a:off x="428760" y="3519360"/>
          <a:ext cx="8137440" cy="1279800"/>
        </p:xfrm>
        <a:graphic>
          <a:graphicData uri="http://schemas.openxmlformats.org/drawingml/2006/table">
            <a:tbl>
              <a:tblPr/>
              <a:tblGrid>
                <a:gridCol w="4748040"/>
                <a:gridCol w="2214720"/>
                <a:gridCol w="117468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S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4: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on Call for Proposal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4:02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Key Distribution for Fast Access in EAP-based Network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ernando  P. Garc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5: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6: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Slide Number Placeholder 11"/>
          <p:cNvSpPr/>
          <p:nvPr/>
        </p:nvSpPr>
        <p:spPr>
          <a:xfrm>
            <a:off x="7772400" y="647712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33B8-E4A7-4C5F-8C3E-7BB296E14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Footer Placeholder 12"/>
          <p:cNvSpPr/>
          <p:nvPr/>
        </p:nvSpPr>
        <p:spPr>
          <a:xfrm>
            <a:off x="0" y="650088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33-00-0sec</a:t>
            </a:r>
            <a:endParaRPr b="0" lang="en-US" sz="1400" spc="-1" strike="noStrike">
              <a:solidFill>
                <a:srgbClr val="000000"/>
              </a:solidFill>
              <a:latin typeface="Times New Roman"/>
            </a:endParaRPr>
          </a:p>
        </p:txBody>
      </p:sp>
      <p:sp>
        <p:nvSpPr>
          <p:cNvPr id="106" name="Rectangle 69"/>
          <p:cNvSpPr/>
          <p:nvPr/>
        </p:nvSpPr>
        <p:spPr>
          <a:xfrm>
            <a:off x="2857680" y="645876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3-02T17:53:33Z</dcterms:modified>
  <cp:revision>820</cp:revision>
  <dc:subject/>
  <dc:title>PowerPoint Presentation</dc:title>
</cp:coreProperties>
</file>