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ea typeface="굴림"/>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ea typeface="굴림"/>
              </a:rPr>
              <a:t>Page </a:t>
            </a:r>
            <a:fld id="{1D3F5A4B-7B49-4536-A036-AF521CF63758}"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3E10D47F-5E90-492B-AB79-04A25130914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4160" y="701640"/>
            <a:ext cx="4626000" cy="3468600"/>
          </a:xfrm>
          <a:prstGeom prst="rect">
            <a:avLst/>
          </a:prstGeom>
          <a:ln w="0">
            <a:noFill/>
          </a:ln>
        </p:spPr>
      </p:sp>
      <p:sp>
        <p:nvSpPr>
          <p:cNvPr id="1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1D878-88C3-4878-B5F1-7D7AD43E1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82046-BECE-4A06-80A6-86510BA5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CC00-7AC5-4F50-963E-E94ED9201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984D3-2476-4F0A-821A-8656A0E19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04059-0021-42A1-ADC5-294153A13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70BA1-F42A-4E68-9561-07D56526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6415F-4EFE-4489-8B92-7482492E4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62042-4313-47B9-913D-22B2A2E71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FEF12-E2C7-4D1D-9C78-9D625A162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CF67-FF98-4EDF-B28A-17F7B7D8D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A6F80-CC9A-431C-A682-67D928602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D166-DE4B-4FB9-9DD4-EF7E7500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F4A5F-FBE1-46BF-ACF5-3591D4A0B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7496-DEB1-4374-8FEB-27862414E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E6395-EC0F-4CC0-8A79-6E0761657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F93DC-850C-4DD6-9754-7AC3BB644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C9282-3E3D-482E-8A79-B44AAFF54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2F29E-CB67-41E0-A7D2-60E06F3D4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8C9A4-FB30-47AE-A065-B5ED5F437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CD53B-77FB-48E1-BDB4-492DBC06F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014F1-3612-4002-923E-5D634D46D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DE93F-1C0F-4EEB-8388-2EC7428E8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DC43-B04F-45FE-B923-22816F94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CAEEC-CAEC-443C-85AF-FC4E9374B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D3DFF-1407-4BBC-A2FE-026F44A0B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27F6C-9AAC-4A3E-9FF3-1932AEC64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53D5A-D5BE-4BC4-B310-A1DD21BEB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22532-D221-40D0-AED1-A35D158C5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ED49B-EB6A-43DA-A58D-968EEE26A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36A9D-46F9-456B-9A42-D27EC5C316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646F-EFCC-4E33-A983-5BF76E97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511F-26FC-4A1A-A199-D55E2DE8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F676-1C6E-4FB4-B97B-F75C4C37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09A3-0818-43C7-AAE0-09865407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CAF6-698D-4514-93C7-0913EB61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AA21-C22E-478F-AB98-4DB68829F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58C71B0C-CC47-4E7E-9A0D-EA84B0885DE3}"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9506E3F6-CE91-40D5-9F63-1B944FCCBD16}"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B3C30FF4-8E9D-4DA3-A498-BC5C6C396095}"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46"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9007F1E-6E17-4457-98C1-3AB250027CE1}"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Decision on SG Formation</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Notic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Releas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Patent Policy and Procedures:</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is familiar with the IEEE 802 Patent Policy and Procedures &lt;</a:t>
            </a:r>
            <a:r>
              <a:rPr b="0" lang="en-US" sz="800" spc="-1" strike="noStrike" u="sng">
                <a:solidFill>
                  <a:srgbClr val="0066ff"/>
                </a:solidFill>
                <a:uFillTx/>
                <a:latin typeface="Times New Roman"/>
                <a:ea typeface="굴림"/>
              </a:rPr>
              <a:t>http:// ieee802.org/guides/bylaws/sb-bylaws.pdf</a:t>
            </a:r>
            <a:r>
              <a:rPr b="0" lang="en-US" sz="800" spc="-1" strike="noStrike">
                <a:solidFill>
                  <a:srgbClr val="000000"/>
                </a:solidFill>
                <a:latin typeface="Times New Roman"/>
                <a:ea typeface="굴림"/>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ea typeface="굴림"/>
              </a:rPr>
              <a:t>If you have questions, contact the IEEE Patent Committee Administrator at &lt;</a:t>
            </a:r>
            <a:r>
              <a:rPr b="1" lang="en-US" sz="800" spc="-1" strike="noStrike" u="sng">
                <a:solidFill>
                  <a:srgbClr val="0066ff"/>
                </a:solidFill>
                <a:uFillTx/>
                <a:latin typeface="Times New Roman"/>
                <a:ea typeface="굴림"/>
                <a:hlinkClick r:id="rId1"/>
              </a:rPr>
              <a:t>patcom@ieee.org</a:t>
            </a:r>
            <a:r>
              <a:rPr b="1" lang="en-US" sz="800" spc="-1" strike="noStrike">
                <a:solidFill>
                  <a:srgbClr val="003399"/>
                </a:solidFill>
                <a:latin typeface="Times New Roman"/>
                <a:ea typeface="굴림"/>
              </a:rPr>
              <a:t>&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e:</a:t>
            </a:r>
            <a:r>
              <a:rPr b="0" lang="en-US" sz="2000" spc="-1" strike="noStrike">
                <a:solidFill>
                  <a:srgbClr val="000000"/>
                </a:solidFill>
                <a:latin typeface="Times New Roman"/>
                <a:ea typeface="굴림"/>
              </a:rPr>
              <a:t> 2014-11-06</a:t>
            </a:r>
            <a:endParaRPr b="1" lang="en-US" sz="2000" spc="-1" strike="noStrike">
              <a:solidFill>
                <a:srgbClr val="000000"/>
              </a:solidFill>
              <a:latin typeface="Times New Roman"/>
            </a:endParaRPr>
          </a:p>
        </p:txBody>
      </p:sp>
      <p:graphicFrame>
        <p:nvGraphicFramePr>
          <p:cNvPr id="151" name="Object 11"/>
          <p:cNvGraphicFramePr/>
          <p:nvPr/>
        </p:nvGraphicFramePr>
        <p:xfrm>
          <a:off x="511200" y="2271600"/>
          <a:ext cx="7991280" cy="1522440"/>
        </p:xfrm>
        <a:graphic>
          <a:graphicData uri="http://schemas.openxmlformats.org/presentationml/2006/ole">
            <p:oleObj progId="Word.Document.12" r:id="rId2" spid="">
              <p:embed/>
              <p:pic>
                <p:nvPicPr>
                  <p:cNvPr id="152" name="Object 11" descr=""/>
                  <p:cNvPicPr/>
                  <p:nvPr/>
                </p:nvPicPr>
                <p:blipFill>
                  <a:blip r:embed="rId3"/>
                  <a:stretch/>
                </p:blipFill>
                <p:spPr>
                  <a:xfrm>
                    <a:off x="511200" y="2271600"/>
                    <a:ext cx="7991280" cy="15224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oexistence in Unlicensed frequency Bands (CUB) Study Group</a:t>
            </a:r>
            <a:endParaRPr b="1" lang="en-US" sz="3200" spc="-1" strike="noStrike">
              <a:solidFill>
                <a:srgbClr val="0000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Study items</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Coexistence scenario and use cases </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To define necessary information to be exchanged between different systems to mitigate coexistence problem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How to exchange messages among entitie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Methods for improving coexistence among wireless dissimilar systems in unlicensed band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To demonstrate potential coexistence improvements from shared information</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Other issues related to enhance coexistence in unlicensed bands</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Target unlicensed frequency bands</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Sub 6GHz</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Target system</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802 system</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Non 802 system</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PAR and CSD creation</a:t>
            </a:r>
            <a:endParaRPr b="1" lang="en-US" sz="1900" spc="-1" strike="noStrike">
              <a:solidFill>
                <a:srgbClr val="000000"/>
              </a:solidFill>
              <a:latin typeface="Times New Roman"/>
            </a:endParaRPr>
          </a:p>
        </p:txBody>
      </p:sp>
      <p:sp>
        <p:nvSpPr>
          <p:cNvPr id="1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5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A7CF858-9899-4C54-9428-B5E55AF0D595}"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Straw Poll</a:t>
            </a:r>
            <a:endParaRPr b="1" lang="en-US" sz="32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o you support formation on CUB Study Group described in slide 2?</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Yes: 7</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No: 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bstain: 0</a:t>
            </a:r>
            <a:endParaRPr b="1"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6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3446014E-9919-4CE8-A778-65D031353831}"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user</cp:lastModifiedBy>
  <cp:lastPrinted>1998-02-10T13:28:06Z</cp:lastPrinted>
  <dcterms:modified xsi:type="dcterms:W3CDTF">2014-11-06T17:22:47Z</dcterms:modified>
  <cp:revision>620</cp:revision>
  <dc:subject/>
  <dc:title>TAG Overview</dc:title>
</cp:coreProperties>
</file>