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F80484-E7AC-412A-98DF-26637E8CC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D25604-E14A-4E6C-ACED-BFB7EDE99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154160" y="701640"/>
            <a:ext cx="4626000" cy="3468600"/>
          </a:xfrm>
          <a:prstGeom prst="rect">
            <a:avLst/>
          </a:prstGeom>
          <a:ln w="0">
            <a:noFill/>
          </a:ln>
        </p:spPr>
      </p:sp>
      <p:sp>
        <p:nvSpPr>
          <p:cNvPr id="3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B8800-D384-47C1-81EE-A823E7287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FE220-5601-44A2-AD86-4FC4C9C64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F53BA-5FD3-4654-918A-D8C6C78D3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D207C-7431-4A1F-9607-DC7462938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EA974-C98D-4915-9166-540D4E5A25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98144-CF5C-414F-8E5C-3C61F3140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05BEE-1CB6-4953-94AA-29BE76990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F5D7E-F597-4388-9BC2-3244AD9FC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B594A-3749-453A-9BBC-67099D8716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D0FF9-DB5C-4547-8AAC-CC2DD8321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2E387-12B2-49DF-A51F-FD5668393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7A4C9-4F5C-4F48-A550-9F55BC722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E80F0-902F-4B1F-92CF-7B16E0674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6F199-F279-44C7-AEB9-E50B0523D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C8224-669F-4D3F-8F7B-3AE026944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EF58B-9DFA-4611-8902-3FE4D5253B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60778-0A9F-4DBC-A350-C0C7523D5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AC0DA-A153-42D8-95E1-F65A70367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A3FEE-6825-4468-8879-E6ABFD7B5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2867ED-1439-4E8C-837C-4995F653F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F275-625A-4C85-8267-4B1907F55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F5F5A-5AB8-4D9A-87E9-203408151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60676-D0C7-4CBB-95FA-668479E2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E5D0A-AA3D-4EEF-9B67-2D531BABDB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32228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4DA102-186F-4688-9881-2138F8716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0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0r2</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4800"/>
            <a:ext cx="132228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4</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DDC3DE-2EEE-4784-ACEA-FCD976856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tandards.ieee.org/about/get/" TargetMode="External"/><Relationship Id="rId2" Type="http://schemas.openxmlformats.org/officeDocument/2006/relationships/hyperlink" Target="https://mentor.ieee.org/802/bp/StartPage"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grouper.ieee.org/groups/802/19/pub/ca.htm"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ieee802.org/PNP/approved/IEEE_802_OM_v15.pdf"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0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6E874D-C070-41F8-97D8-C055A0F301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04560" y="685800"/>
            <a:ext cx="84582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existence Lessons Learned</a:t>
            </a:r>
            <a:endParaRPr b="1" lang="en-US" sz="2800" spc="-1" strike="noStrike">
              <a:solidFill>
                <a:srgbClr val="000000"/>
              </a:solidFill>
              <a:latin typeface="Times New Roman"/>
            </a:endParaRPr>
          </a:p>
        </p:txBody>
      </p:sp>
      <p:sp>
        <p:nvSpPr>
          <p:cNvPr id="104"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11-08</a:t>
            </a:r>
            <a:endParaRPr b="1" lang="en-US" sz="2000" spc="-1" strike="noStrike">
              <a:solidFill>
                <a:srgbClr val="000000"/>
              </a:solidFill>
              <a:latin typeface="Times New Roman"/>
            </a:endParaRPr>
          </a:p>
        </p:txBody>
      </p:sp>
      <p:graphicFrame>
        <p:nvGraphicFramePr>
          <p:cNvPr id="105" name="Object 11"/>
          <p:cNvGraphicFramePr/>
          <p:nvPr/>
        </p:nvGraphicFramePr>
        <p:xfrm>
          <a:off x="503280" y="2193840"/>
          <a:ext cx="8213760" cy="3063960"/>
        </p:xfrm>
        <a:graphic>
          <a:graphicData uri="http://schemas.openxmlformats.org/presentationml/2006/ole">
            <p:oleObj progId="Word.Document.12" r:id="rId1" spid="">
              <p:embed/>
              <p:pic>
                <p:nvPicPr>
                  <p:cNvPr id="106" name="Object 11" descr=""/>
                  <p:cNvPicPr/>
                  <p:nvPr/>
                </p:nvPicPr>
                <p:blipFill>
                  <a:blip r:embed="rId2"/>
                  <a:stretch/>
                </p:blipFill>
                <p:spPr>
                  <a:xfrm>
                    <a:off x="503280" y="2193840"/>
                    <a:ext cx="8213760" cy="3063960"/>
                  </a:xfrm>
                  <a:prstGeom prst="rect">
                    <a:avLst/>
                  </a:prstGeom>
                  <a:ln w="0">
                    <a:noFill/>
                  </a:ln>
                </p:spPr>
              </p:pic>
            </p:oleObj>
          </a:graphicData>
        </a:graphic>
      </p:graphicFrame>
      <p:sp>
        <p:nvSpPr>
          <p:cNvPr id="107" name="Rectangle 12"/>
          <p:cNvSpPr/>
          <p:nvPr/>
        </p:nvSpPr>
        <p:spPr>
          <a:xfrm>
            <a:off x="533520" y="17524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GPP has identified a reasonable initial definition of fair sharing </a:t>
            </a:r>
            <a:endParaRPr b="1" lang="en-US" sz="3200" spc="-1" strike="noStrike">
              <a:solidFill>
                <a:srgbClr val="000000"/>
              </a:solidFill>
              <a:latin typeface="Times New Roman"/>
            </a:endParaRPr>
          </a:p>
        </p:txBody>
      </p:sp>
      <p:sp>
        <p:nvSpPr>
          <p:cNvPr id="148" name=""/>
          <p:cNvSpPr txBox="1"/>
          <p:nvPr/>
        </p:nvSpPr>
        <p:spPr>
          <a:xfrm>
            <a:off x="304560" y="1827000"/>
            <a:ext cx="8458200" cy="4268520"/>
          </a:xfrm>
          <a:prstGeom prst="rect">
            <a:avLst/>
          </a:prstGeom>
          <a:noFill/>
          <a:ln w="0">
            <a:noFill/>
          </a:ln>
        </p:spPr>
        <p:txBody>
          <a:bodyPr lIns="92160" rIns="92160" tIns="46080" bIns="46080" anchor="t">
            <a:normAutofit fontScale="92000"/>
          </a:bodyPr>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GPP doc. RP-141664 has highlighted a potential definition of fair sharing of spectrum between LAA and 802.11</a:t>
            </a:r>
            <a:endParaRPr b="1" lang="en-US" sz="22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s should be captured in terms of relevant fair sharing metrics, e.g., that LAA should not impact Wi-Fi services (data, video and voice services) more than an additional Wi-Fi network on the same carrier; these metrics could include throughput, latency, jitter etc.</a:t>
            </a:r>
            <a:endParaRPr b="0" lang="en-US" sz="20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EEE 802 supports this conceptual definition of fair sharing as the basis for further discussion between 3GPP and IEEE 802 </a:t>
            </a:r>
            <a:endParaRPr b="1"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is definition effectively treats LAA and 802.11 as having equal standing in access to the spectrum, which is aligned with the intent of the regulatory authorities in most countries</a:t>
            </a:r>
            <a:endParaRPr b="1"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etailed system-level simulation scenarios will need to be specified that incorporate the throughput, latency and jitter metrics</a:t>
            </a:r>
            <a:endParaRPr b="1" lang="en-US" sz="2200" spc="-1" strike="noStrike">
              <a:solidFill>
                <a:srgbClr val="000000"/>
              </a:solidFill>
              <a:latin typeface="Times New Roman"/>
            </a:endParaRPr>
          </a:p>
          <a:p>
            <a:pPr marL="315360" indent="-31536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4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44775F-6D20-4811-8B3B-F0208C790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610920"/>
            <a:ext cx="8076960" cy="988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en Before Talk (LBT) provides a useful starting point for fair sharing discussions between 3GPP and IEEE 802</a:t>
            </a:r>
            <a:endParaRPr b="1" lang="en-US" sz="2400" spc="-1" strike="noStrike">
              <a:solidFill>
                <a:srgbClr val="000000"/>
              </a:solidFill>
              <a:latin typeface="Times New Roman"/>
            </a:endParaRPr>
          </a:p>
        </p:txBody>
      </p:sp>
      <p:sp>
        <p:nvSpPr>
          <p:cNvPr id="153" name=""/>
          <p:cNvSpPr txBox="1"/>
          <p:nvPr/>
        </p:nvSpPr>
        <p:spPr>
          <a:xfrm>
            <a:off x="457200" y="1523520"/>
            <a:ext cx="8167680" cy="48754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GPP doc. RP-141664 highlights the use of LBT as a coexistence mechanism that is often used to achieve fair sharing</a:t>
            </a:r>
            <a:endParaRPr b="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n some regions in the world, unlicensed technologies need to abide to certain regulations, e.g. Listen-Before-Talk (LBT). Fair coexistence between LTE and other technologies such as Wi-Fi as well as between LTE operators is seen necessary.</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notes that LBT has a long history of success in promoting fair sharing between non-coordinated systems in unlicensed spectrum and has wide acceptance as a coexistence mechanism from regulators</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supports using the LBT coexistence mechanism as a useful starting point for fair sharing between LAA and 802.11, particularly as it is required by regulations in Europe</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cknowledges that there may be other coexistence mechanisms for fair sharing between LAA and 802.11, and is willing to discuss them as they are proposed</a:t>
            </a:r>
            <a:endParaRPr b="1" lang="en-US" sz="2000" spc="-1" strike="noStrike">
              <a:solidFill>
                <a:srgbClr val="000000"/>
              </a:solidFill>
              <a:latin typeface="Times New Roman"/>
            </a:endParaRPr>
          </a:p>
        </p:txBody>
      </p:sp>
      <p:sp>
        <p:nvSpPr>
          <p:cNvPr id="15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263E18-8472-4A94-BE8B-01DA12835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Footer Placeholder 4"/>
          <p:cNvSpPr/>
          <p:nvPr/>
        </p:nvSpPr>
        <p:spPr>
          <a:xfrm>
            <a:off x="7019280" y="64771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684360"/>
            <a:ext cx="8001000" cy="839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wants to work with 3GPP to achieve consensus on 802.11/LAA sharing</a:t>
            </a:r>
            <a:endParaRPr b="1" lang="en-US" sz="3200" spc="-1" strike="noStrike">
              <a:solidFill>
                <a:srgbClr val="000000"/>
              </a:solidFill>
              <a:latin typeface="Times New Roman"/>
            </a:endParaRPr>
          </a:p>
        </p:txBody>
      </p:sp>
      <p:sp>
        <p:nvSpPr>
          <p:cNvPr id="158" name=""/>
          <p:cNvSpPr txBox="1"/>
          <p:nvPr/>
        </p:nvSpPr>
        <p:spPr>
          <a:xfrm>
            <a:off x="304560" y="1676160"/>
            <a:ext cx="8381880" cy="4724280"/>
          </a:xfrm>
          <a:prstGeom prst="rect">
            <a:avLst/>
          </a:prstGeom>
          <a:noFill/>
          <a:ln w="0">
            <a:noFill/>
          </a:ln>
        </p:spPr>
        <p:txBody>
          <a:bodyPr lIns="92160" rIns="92160" tIns="46080" bIns="46080" anchor="t">
            <a:normAutofit/>
          </a:bodyPr>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would like the opportunity to review the 3GPP coexistence simulation studies related to LAA and 802.11 and provide feedback</a:t>
            </a:r>
            <a:endParaRPr b="1"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would also like to review a range of documents throughout the period of the study item</a:t>
            </a:r>
            <a:endParaRPr b="1"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s of information that IEEE 802 is interested in reviewing include,</a:t>
            </a:r>
            <a:endParaRPr b="1"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 schedule as it develops</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the fairness criteria </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ulation scenarios</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BT related parameters</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imulation methodology</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 coexistence mechanisms for fair sharing</a:t>
            </a:r>
            <a:endParaRPr b="0"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r goal is for IEEE 802 and 3GPP to build towards a consensus on the best way for LAA to fairly share the same spectrum with 802.11 systems</a:t>
            </a:r>
            <a:endParaRPr b="1" lang="en-US" sz="2000" spc="-1" strike="noStrike">
              <a:solidFill>
                <a:srgbClr val="000000"/>
              </a:solidFill>
              <a:latin typeface="Times New Roman"/>
            </a:endParaRPr>
          </a:p>
          <a:p>
            <a:pPr marL="343080" indent="-34308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91F596-3C1A-4407-B497-48345EC68B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2 – Lessons Learned</a:t>
            </a:r>
            <a:endParaRPr b="1" lang="en-US" sz="36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B0D6E5-3A80-456D-9005-6966A4D6B4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lessons learned are highly dependent on the circumstances of the system and environment</a:t>
            </a:r>
            <a:endParaRPr b="1" lang="en-US" sz="2800" spc="-1" strike="noStrike">
              <a:solidFill>
                <a:srgbClr val="000000"/>
              </a:solidFill>
              <a:latin typeface="Times New Roman"/>
            </a:endParaRPr>
          </a:p>
        </p:txBody>
      </p:sp>
      <p:sp>
        <p:nvSpPr>
          <p:cNvPr id="167" name=""/>
          <p:cNvSpPr txBox="1"/>
          <p:nvPr/>
        </p:nvSpPr>
        <p:spPr>
          <a:xfrm>
            <a:off x="609480" y="1827000"/>
            <a:ext cx="7848720" cy="4268520"/>
          </a:xfrm>
          <a:prstGeom prst="rect">
            <a:avLst/>
          </a:prstGeom>
          <a:noFill/>
          <a:ln w="0">
            <a:noFill/>
          </a:ln>
        </p:spPr>
        <p:txBody>
          <a:bodyPr lIns="92160" rIns="92160" tIns="46080" bIns="46080"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ssons learned</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CSMA/CA is better suited to sharing unlicensed spectrum  than TDMA-like system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2: Adaptive Frequency Hopping is an effective mechanism for sharing with 802.11</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6h:  it is challenging to make scheduled systems, like 802.16h, compatible with 802.11 system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2: unique characteristics of TVWS allow spectrum etiquette using database acces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9.1: it is possible to leverage the capabilities of the TVWS devices to enhance coexistence</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10700E-0FF6-4064-B0F0-9D502CE464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800"/>
            <a:ext cx="78580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1 CSMA/CA is better suited to sharing unlicensed spectrum  than TDMA-like systems</a:t>
            </a:r>
            <a:endParaRPr b="1" lang="en-US" sz="2800" spc="-1" strike="noStrike">
              <a:solidFill>
                <a:srgbClr val="000000"/>
              </a:solidFill>
              <a:latin typeface="Times New Roman"/>
            </a:endParaRPr>
          </a:p>
        </p:txBody>
      </p:sp>
      <p:sp>
        <p:nvSpPr>
          <p:cNvPr id="172" name=""/>
          <p:cNvSpPr txBox="1"/>
          <p:nvPr/>
        </p:nvSpPr>
        <p:spPr>
          <a:xfrm>
            <a:off x="380880" y="1676520"/>
            <a:ext cx="8305920" cy="449568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MA/CA works in ISM bands (such as 2.4 and 5.8 GHz band) where there is uncontrolled energy in the band</a:t>
            </a:r>
            <a:endParaRPr b="1"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attempted to use TDMA-like systems (PCF and HCCA), and they have failed in the marketplace for a variety of reasons</a:t>
            </a:r>
            <a:endParaRPr b="1"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ractical to coordinate access between low-cost independent systems, particularly for mobile devices moving across network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formance provided by CSMA/CA has proven by its wide adoption in the marketplace to be good enough for the vast majority of use cases</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cense-exempt wireless systems cannot rely on the guaranteed reception of radio management and control traffic</a:t>
            </a:r>
            <a:endParaRPr b="1" lang="en-US" sz="24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0A97B-9B95-4596-9E0B-990951A963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7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59960"/>
            <a:ext cx="8315280" cy="83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5.2 Adaptive Frequency Hopping is an effective mechanism for coexistence with 802.11</a:t>
            </a:r>
            <a:endParaRPr b="1" lang="en-US" sz="2800" spc="-1" strike="noStrike">
              <a:solidFill>
                <a:srgbClr val="000000"/>
              </a:solidFill>
              <a:latin typeface="Times New Roman"/>
            </a:endParaRPr>
          </a:p>
        </p:txBody>
      </p:sp>
      <p:sp>
        <p:nvSpPr>
          <p:cNvPr id="177" name=""/>
          <p:cNvSpPr txBox="1"/>
          <p:nvPr/>
        </p:nvSpPr>
        <p:spPr>
          <a:xfrm>
            <a:off x="685800" y="1828800"/>
            <a:ext cx="7858080" cy="4572000"/>
          </a:xfrm>
          <a:prstGeom prst="rect">
            <a:avLst/>
          </a:prstGeom>
          <a:noFill/>
          <a:ln w="0">
            <a:noFill/>
          </a:ln>
        </p:spPr>
        <p:txBody>
          <a:bodyPr lIns="92160" rIns="92160" tIns="46080" bIns="46080" anchor="t">
            <a:normAutofit/>
          </a:bodyPr>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EEE 802.15.2 [2] standardizes coexistence methods for IEEE 802.15.1 (Bluetooth) with other wireless systems in the 2.4 GHz frequency band</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ultiple coexistence techniques are included in IEEE 802.15.2 to enable 802.15.1 to coexist with 802.11</a:t>
            </a:r>
            <a:endParaRPr b="1"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veral tables are provides in the backup slides giving a brief overview of these mechanisms</a:t>
            </a:r>
            <a:endParaRPr b="0"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ne of the most powerful coexistence mechanisms included is adaptive frequency hopping (AFH) in which 802.15.1 “hops over” a nearby 802.11 WLAN</a:t>
            </a:r>
            <a:endParaRPr b="1" lang="en-US" sz="22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H has shown to be very effective</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FH was subsequently integrated into the Bluetooth specification </a:t>
            </a:r>
            <a:endParaRPr b="0" lang="en-US" sz="20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FE5BF7-4066-4E59-B58A-1F08291912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8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685440"/>
            <a:ext cx="8010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6h: defines the use of 802.16 systems in shared licensed-exempt spectrum</a:t>
            </a:r>
            <a:endParaRPr b="1" lang="en-US" sz="3200" spc="-1" strike="noStrike">
              <a:solidFill>
                <a:srgbClr val="000000"/>
              </a:solidFill>
              <a:latin typeface="Times New Roman"/>
            </a:endParaRPr>
          </a:p>
        </p:txBody>
      </p:sp>
      <p:sp>
        <p:nvSpPr>
          <p:cNvPr id="182" name=""/>
          <p:cNvSpPr txBox="1"/>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6 as most commonly deployed is time-division duplex (TDD) system based on Orthogonal Frequency Division Multiple Access (OFD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6h [4] is an amendment to the 802.16 standard on “Improved Coexistence Mechanisms for License-Exempt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band considered for 802.16h operation is the 3650-3700 MHz band, also considered for 802.11y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ing the development of 802.16h a coexistence assurance document [5] was developed which studied the coexistence of 802.16h and 802.11y</a:t>
            </a:r>
            <a:endParaRPr b="1" lang="en-US" sz="24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AB0122-32E0-4D97-A760-A60894536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8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95200" y="685440"/>
            <a:ext cx="83916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6h: it is challenging to make scheduled systems, like 802.16h, compatible with 802.11 systems</a:t>
            </a:r>
            <a:endParaRPr b="1" lang="en-US" sz="2800" spc="-1" strike="noStrike">
              <a:solidFill>
                <a:srgbClr val="000000"/>
              </a:solidFill>
              <a:latin typeface="Times New Roman"/>
            </a:endParaRPr>
          </a:p>
        </p:txBody>
      </p:sp>
      <p:sp>
        <p:nvSpPr>
          <p:cNvPr id="187" name=""/>
          <p:cNvSpPr txBox="1"/>
          <p:nvPr/>
        </p:nvSpPr>
        <p:spPr>
          <a:xfrm>
            <a:off x="685800" y="2057400"/>
            <a:ext cx="7772400" cy="41162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Of all the 802 systems, 802.16h is the closest analog to LTE in unlicensed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ime-synchronization requirements of 802.16h systems are incompatible with deployed 802.11 syste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 access required a high-cost high-speed control channel between 802.16h and 802.11 systems, which may be impractic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 of policy between 802.16h and multiple 802.11 systems is challenging since 802.11 systems are often independently managed</a:t>
            </a:r>
            <a:endParaRPr b="1" lang="en-US" sz="2400" spc="-1" strike="noStrike">
              <a:solidFill>
                <a:srgbClr val="000000"/>
              </a:solidFill>
              <a:latin typeface="Times New Roman"/>
            </a:endParaRPr>
          </a:p>
        </p:txBody>
      </p:sp>
      <p:sp>
        <p:nvSpPr>
          <p:cNvPr id="1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22D62F-7F24-434D-9830-A35A63CD8B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9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759960"/>
            <a:ext cx="7772400" cy="91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Defines a WRAN in the TV White Space</a:t>
            </a:r>
            <a:endParaRPr b="1" lang="en-US" sz="3200" spc="-1" strike="noStrike">
              <a:solidFill>
                <a:srgbClr val="000000"/>
              </a:solidFill>
              <a:latin typeface="Times New Roman"/>
            </a:endParaRPr>
          </a:p>
        </p:txBody>
      </p:sp>
      <p:sp>
        <p:nvSpPr>
          <p:cNvPr id="192" name=""/>
          <p:cNvSpPr txBox="1"/>
          <p:nvPr/>
        </p:nvSpPr>
        <p:spPr>
          <a:xfrm>
            <a:off x="685800" y="1875960"/>
            <a:ext cx="7772400" cy="4295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22 is a wireless regional area network (WRAN) standard for operation in the TVW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or more WRAN networks may be running in the same area and be managed by different operato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coexistence mechanisms are included in the standar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pectrum etiquette </a:t>
            </a:r>
            <a:r>
              <a:rPr b="0" lang="en-US" sz="2000" spc="-1" strike="noStrike">
                <a:solidFill>
                  <a:srgbClr val="000000"/>
                </a:solidFill>
                <a:latin typeface="Times New Roman"/>
              </a:rPr>
              <a:t>is used to select orthogonal primary and secondary channels when sufficient channels are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ame-based on-demand spectrum contention </a:t>
            </a:r>
            <a:r>
              <a:rPr b="0" lang="en-US" sz="2000" spc="-1" strike="noStrike">
                <a:solidFill>
                  <a:srgbClr val="000000"/>
                </a:solidFill>
                <a:latin typeface="Times New Roman"/>
              </a:rPr>
              <a:t>is used when a single TVWS channel must be sha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detail is provided in the backup slid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6DFAD4-00E9-4219-B400-A0917784F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9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Approved Presentation</a:t>
            </a:r>
            <a:endParaRPr b="1" lang="en-US" sz="3200" spc="-1" strike="noStrike">
              <a:solidFill>
                <a:srgbClr val="000000"/>
              </a:solidFill>
              <a:latin typeface="Times New Roman"/>
            </a:endParaRPr>
          </a:p>
        </p:txBody>
      </p:sp>
      <p:sp>
        <p:nvSpPr>
          <p:cNvPr id="109" name=""/>
          <p:cNvSpPr txBox="1"/>
          <p:nvPr/>
        </p:nvSpPr>
        <p:spPr>
          <a:xfrm>
            <a:off x="685800" y="1752120"/>
            <a:ext cx="7772400" cy="4419720"/>
          </a:xfrm>
          <a:prstGeom prst="rect">
            <a:avLst/>
          </a:prstGeom>
          <a:noFill/>
          <a:ln w="0">
            <a:noFill/>
          </a:ln>
        </p:spPr>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was developed by IEEE Project 802</a:t>
            </a:r>
            <a:r>
              <a:rPr b="1" lang="en-US" sz="2400" spc="-1" strike="noStrike" baseline="30000">
                <a:solidFill>
                  <a:srgbClr val="000000"/>
                </a:solidFill>
                <a:latin typeface="Times New Roman"/>
              </a:rPr>
              <a:t>®</a:t>
            </a:r>
            <a:r>
              <a:rPr b="1" lang="en-US" sz="2400" spc="-1" strike="noStrike">
                <a:solidFill>
                  <a:srgbClr val="000000"/>
                </a:solidFill>
                <a:latin typeface="Times New Roman"/>
              </a:rPr>
              <a:t>, the Local and Metropolitan Area Network Standards Committee (“IEEE 802”), an international standards development committee organized under the IEEE and the IEEE Standards Association (“IEEE-SA”).</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ntent herein was approved by the IEEE 802 Executive Committee, in accordance with the IEEE 802 policies and procedures, and represents the view of IEEE 802. </a:t>
            </a: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7BA55A-635B-48F1-907D-56A94CC00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1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Unique characteristics of TVWS allow spectrum etiquette using database access </a:t>
            </a:r>
            <a:endParaRPr b="1" lang="en-US" sz="3200" spc="-1" strike="noStrike">
              <a:solidFill>
                <a:srgbClr val="000000"/>
              </a:solidFill>
              <a:latin typeface="Times New Roman"/>
            </a:endParaRPr>
          </a:p>
        </p:txBody>
      </p:sp>
      <p:sp>
        <p:nvSpPr>
          <p:cNvPr id="197" name=""/>
          <p:cNvSpPr txBox="1"/>
          <p:nvPr/>
        </p:nvSpPr>
        <p:spPr>
          <a:xfrm>
            <a:off x="685800" y="2209320"/>
            <a:ext cx="7772400" cy="38862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VWS there are special requirements for geo-location and database access in a master device within the network</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VWS these capabilities can be combined with an external database to enable coexistence, however, there has not yet been sufficient deployment in the TVWS to require any coexistence solutions beyond the spectrum etiquette</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finition of fairness is necessary in order to design a fair coexistence mechanism</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1BF932-D700-45C8-8EEC-97E95F0C3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0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520" y="609120"/>
            <a:ext cx="8458200" cy="1111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9.1: It is possible to leverage the capabilities of TVWS devices to enhance coexistence</a:t>
            </a:r>
            <a:endParaRPr b="1" lang="en-US" sz="2800" spc="-1" strike="noStrike">
              <a:solidFill>
                <a:srgbClr val="000000"/>
              </a:solidFill>
              <a:latin typeface="Times New Roman"/>
            </a:endParaRPr>
          </a:p>
        </p:txBody>
      </p:sp>
      <p:sp>
        <p:nvSpPr>
          <p:cNvPr id="202" name=""/>
          <p:cNvSpPr txBox="1"/>
          <p:nvPr/>
        </p:nvSpPr>
        <p:spPr>
          <a:xfrm>
            <a:off x="609480" y="1828800"/>
            <a:ext cx="8229600" cy="4570560"/>
          </a:xfrm>
          <a:prstGeom prst="rect">
            <a:avLst/>
          </a:prstGeom>
          <a:noFill/>
          <a:ln w="0">
            <a:noFill/>
          </a:ln>
        </p:spPr>
        <p:txBody>
          <a:bodyPr lIns="92160" rIns="92160" tIns="46080" bIns="46080"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the FCC and other regulatory agencies opening up unused TV white space spectrum for unlicensed use multiple protocols may be standardized for TVWS operation</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took a proactive step to address TVWS coexistence by developing a standard</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andard utilizes two unique capabilities of TVWS networks</a:t>
            </a:r>
            <a:endParaRPr b="1" lang="en-US" sz="24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ion awareness</a:t>
            </a:r>
            <a:endParaRPr b="0" lang="en-US" sz="22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to geo-location database</a:t>
            </a:r>
            <a:endParaRPr b="0" lang="en-US" sz="22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the 802.19.1 standard is given in the backup</a:t>
            </a:r>
            <a:endParaRPr b="1" lang="en-US" sz="2400" spc="-1" strike="noStrike">
              <a:solidFill>
                <a:srgbClr val="000000"/>
              </a:solidFill>
              <a:latin typeface="Times New Roman"/>
            </a:endParaRPr>
          </a:p>
        </p:txBody>
      </p:sp>
      <p:sp>
        <p:nvSpPr>
          <p:cNvPr id="2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28E5BB-A25E-4DA0-966C-B59F820AF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0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2560" y="2057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3 – Backup</a:t>
            </a:r>
            <a:endParaRPr b="1" lang="en-US" sz="3600" spc="-1" strike="noStrike">
              <a:solidFill>
                <a:srgbClr val="000000"/>
              </a:solidFill>
              <a:latin typeface="Times New Roman"/>
            </a:endParaRPr>
          </a:p>
        </p:txBody>
      </p:sp>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7413D3-3695-40EF-A7CE-7E6CFB0F28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0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has a long history of dealing with coexistence issues</a:t>
            </a:r>
            <a:endParaRPr b="1" lang="en-US" sz="3200" spc="-1" strike="noStrike">
              <a:solidFill>
                <a:srgbClr val="000000"/>
              </a:solidFill>
              <a:latin typeface="Times New Roman"/>
            </a:endParaRPr>
          </a:p>
        </p:txBody>
      </p:sp>
      <p:sp>
        <p:nvSpPr>
          <p:cNvPr id="211" name=""/>
          <p:cNvSpPr txBox="1"/>
          <p:nvPr/>
        </p:nvSpPr>
        <p:spPr>
          <a:xfrm>
            <a:off x="685440" y="1828800"/>
            <a:ext cx="80010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endix F in 802.11-1997 standard addresses coexistence of frequency hopping and direct sequence in the 2.4 GHz b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 working group was established in July 1999</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802.11b and 802.15.1 operate in the 2.4 GHz ISM band</a:t>
            </a:r>
            <a:endParaRPr b="0" lang="en-US" sz="2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formed 802.15 task group 2 on the coexistence of 802.11 and 802.15.1 in March 200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2 was published in 2003</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Frequency Hopping was later incorporated in to Bluetooth Specification</a:t>
            </a:r>
            <a:endParaRPr b="0" lang="en-US" sz="2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7DE572-052E-4E18-98BC-7DD6FB215B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1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has a long history</a:t>
            </a:r>
            <a:br>
              <a:rPr sz="2800"/>
            </a:br>
            <a:r>
              <a:rPr b="1" lang="en-US" sz="2800" spc="-1" strike="noStrike">
                <a:solidFill>
                  <a:srgbClr val="000000"/>
                </a:solidFill>
                <a:latin typeface="Times New Roman"/>
              </a:rPr>
              <a:t> of dealing with coexistence issues</a:t>
            </a:r>
            <a:endParaRPr b="1" lang="en-US" sz="2800" spc="-1" strike="noStrike">
              <a:solidFill>
                <a:srgbClr val="000000"/>
              </a:solidFill>
              <a:latin typeface="Times New Roman"/>
            </a:endParaRPr>
          </a:p>
        </p:txBody>
      </p:sp>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71F078-AC31-42B5-8DE3-CB081CA549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17" name=""/>
          <p:cNvGraphicFramePr/>
          <p:nvPr/>
        </p:nvGraphicFramePr>
        <p:xfrm>
          <a:off x="762120" y="1569960"/>
          <a:ext cx="7848360" cy="4830840"/>
        </p:xfrm>
        <a:graphic>
          <a:graphicData uri="http://schemas.openxmlformats.org/drawingml/2006/table">
            <a:tbl>
              <a:tblPr/>
              <a:tblGrid>
                <a:gridCol w="1962000"/>
                <a:gridCol w="588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s</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7878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existence Work</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7878d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7</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1 Appendix F addressing coexistence of frequency hopping and direct sequence systems in 2.4 GHz band</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390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2</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mation of IEEE 802.19</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3</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5.2 Recommended Practice on Coexistence of WPAN devices with other devices in Unlicensed Frequency Bands</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 Present</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existence Assurance (CA) Document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1 – Six CA docu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5 – Twelve CA docu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6 – One CA document</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esent</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coexistence methods and self coexistence methods in MAC/PHY standard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2.11, 802.15 802.16h and 802.22</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410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4</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9.1 Standard on TVWS Coexistence Methods</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bl>
          </a:graphicData>
        </a:graphic>
      </p:graphicFrame>
      <p:sp>
        <p:nvSpPr>
          <p:cNvPr id="21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1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7621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 reviews coexistence assurance documents from the working groups</a:t>
            </a:r>
            <a:endParaRPr b="1" lang="en-US" sz="3200" spc="-1" strike="noStrike">
              <a:solidFill>
                <a:srgbClr val="000000"/>
              </a:solidFill>
              <a:latin typeface="Times New Roman"/>
            </a:endParaRPr>
          </a:p>
        </p:txBody>
      </p:sp>
      <p:sp>
        <p:nvSpPr>
          <p:cNvPr id="221" name=""/>
          <p:cNvSpPr txBox="1"/>
          <p:nvPr/>
        </p:nvSpPr>
        <p:spPr>
          <a:xfrm>
            <a:off x="685440" y="1828800"/>
            <a:ext cx="80010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2002, IEEE 802 established a technical advisory group (TAG) on wireless coexistence, outside of the individual wireless working groups, which would operate at the 802 leve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developed rules on coexistence for new projects in 2004</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oject is proposed to the IEEE 802 Executive Committee the working group is required to state if the working group will develop a Coexistence Assurance (CA) document along with the draft standa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WG commits to developing a CA document, then the WG is required to produce a CA document which is to be reviewed by the WG and 802.19 during WG letter ballo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ound 20 CA documents have been reviewe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ails of the process provided in subsequent slides</a:t>
            </a:r>
            <a:endParaRPr b="1" lang="en-US" sz="2000" spc="-1" strike="noStrike">
              <a:solidFill>
                <a:srgbClr val="000000"/>
              </a:solidFill>
              <a:latin typeface="Times New Roman"/>
            </a:endParaRPr>
          </a:p>
        </p:txBody>
      </p:sp>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9E39EF-938C-4F07-87C6-36DE87262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2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1 is a standard for coexistence in the TV white space</a:t>
            </a:r>
            <a:endParaRPr b="1" lang="en-US" sz="3200" spc="-1" strike="noStrike">
              <a:solidFill>
                <a:srgbClr val="000000"/>
              </a:solidFill>
              <a:latin typeface="Times New Roman"/>
            </a:endParaRPr>
          </a:p>
        </p:txBody>
      </p:sp>
      <p:sp>
        <p:nvSpPr>
          <p:cNvPr id="22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n 2009 a new project was initiated focusing on coexistence in the TV white space (TVWS)</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s standard leverages the inherent cognitive capabilities of TVWS devices including location awareness and ability to access on-line databases</a:t>
            </a:r>
            <a:endParaRPr b="1" lang="en-US" sz="2600" spc="-1" strike="noStrike">
              <a:solidFill>
                <a:srgbClr val="000000"/>
              </a:solidFill>
              <a:latin typeface="Times New Roman"/>
            </a:endParaRPr>
          </a:p>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 802.19.1 standard was published in 2014</a:t>
            </a:r>
            <a:endParaRPr b="1" lang="en-US" sz="2600" spc="-1" strike="noStrike">
              <a:solidFill>
                <a:srgbClr val="000000"/>
              </a:solidFill>
              <a:latin typeface="Times New Roman"/>
            </a:endParaRPr>
          </a:p>
        </p:txBody>
      </p:sp>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B19035-97D9-4AEA-A95B-2972BFBABC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2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684360"/>
            <a:ext cx="8382240" cy="91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tion of coexistence must consider various scenarios and metrics</a:t>
            </a:r>
            <a:endParaRPr b="1" lang="en-US" sz="3200" spc="-1" strike="noStrike">
              <a:solidFill>
                <a:srgbClr val="000000"/>
              </a:solidFill>
              <a:latin typeface="Times New Roman"/>
            </a:endParaRPr>
          </a:p>
        </p:txBody>
      </p:sp>
      <p:sp>
        <p:nvSpPr>
          <p:cNvPr id="231" name=""/>
          <p:cNvSpPr txBox="1"/>
          <p:nvPr/>
        </p:nvSpPr>
        <p:spPr>
          <a:xfrm>
            <a:off x="533520" y="1752480"/>
            <a:ext cx="815328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Scenarios - Specify Network Parameters of the two (or more) networ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network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of each of the network device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istic Geometry or Stochastic Geomet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mit power of the network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 and center frequency of network de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s of channel occupancy of each of the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stics of data traffic on each of the network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 parameter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re specified in standard, like carrier sense threshold</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are implementation specific, like rate adaptation algorith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2D16D3-DE7F-4395-BA83-9BC5B5CC0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3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ription of a coexistence scenario involves specification of network geometries</a:t>
            </a:r>
            <a:endParaRPr b="1" lang="en-US" sz="2800" spc="-1" strike="noStrike">
              <a:solidFill>
                <a:srgbClr val="000000"/>
              </a:solidFill>
              <a:latin typeface="Times New Roman"/>
            </a:endParaRPr>
          </a:p>
        </p:txBody>
      </p:sp>
      <p:sp>
        <p:nvSpPr>
          <p:cNvPr id="236" name=""/>
          <p:cNvSpPr txBox="1"/>
          <p:nvPr/>
        </p:nvSpPr>
        <p:spPr>
          <a:xfrm>
            <a:off x="380880" y="1828800"/>
            <a:ext cx="3733920" cy="44956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an unlicensed band the user may not be able to control the physical separation of devices of the two different network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y geometry as a function of the separation (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coexistence metrics as a function of the separation (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mary interference is between WLAN STA and WPAN Node 1</a:t>
            </a:r>
            <a:endParaRPr b="1" lang="en-US" sz="2000" spc="-1" strike="noStrike">
              <a:solidFill>
                <a:srgbClr val="000000"/>
              </a:solidFill>
              <a:latin typeface="Times New Roman"/>
            </a:endParaRPr>
          </a:p>
        </p:txBody>
      </p:sp>
      <p:sp>
        <p:nvSpPr>
          <p:cNvPr id="2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56C89E-1B69-442E-AB3F-395197F51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3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grpSp>
        <p:nvGrpSpPr>
          <p:cNvPr id="240" name="Group 2"/>
          <p:cNvGrpSpPr/>
          <p:nvPr/>
        </p:nvGrpSpPr>
        <p:grpSpPr>
          <a:xfrm>
            <a:off x="4181400" y="1676520"/>
            <a:ext cx="4429080" cy="4502160"/>
            <a:chOff x="4181400" y="1676520"/>
            <a:chExt cx="4429080" cy="4502160"/>
          </a:xfrm>
        </p:grpSpPr>
        <p:pic>
          <p:nvPicPr>
            <p:cNvPr id="241" name="Picture 1" descr=""/>
            <p:cNvPicPr/>
            <p:nvPr/>
          </p:nvPicPr>
          <p:blipFill>
            <a:blip r:embed="rId1"/>
            <a:stretch/>
          </p:blipFill>
          <p:spPr>
            <a:xfrm>
              <a:off x="4435200" y="1822320"/>
              <a:ext cx="3794040" cy="4273560"/>
            </a:xfrm>
            <a:prstGeom prst="rect">
              <a:avLst/>
            </a:prstGeom>
            <a:ln w="0">
              <a:noFill/>
            </a:ln>
          </p:spPr>
        </p:pic>
        <p:sp>
          <p:nvSpPr>
            <p:cNvPr id="242" name="Rectangle 1"/>
            <p:cNvSpPr/>
            <p:nvPr/>
          </p:nvSpPr>
          <p:spPr>
            <a:xfrm>
              <a:off x="4181400" y="1676520"/>
              <a:ext cx="4429080" cy="4502160"/>
            </a:xfrm>
            <a:prstGeom prst="rect">
              <a:avLst/>
            </a:prstGeom>
            <a:noFill/>
            <a:ln w="2844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network geometries can be specified stochastically</a:t>
            </a:r>
            <a:endParaRPr b="1" lang="en-US" sz="3200" spc="-1" strike="noStrike">
              <a:solidFill>
                <a:srgbClr val="000000"/>
              </a:solidFill>
              <a:latin typeface="Times New Roman"/>
            </a:endParaRPr>
          </a:p>
        </p:txBody>
      </p:sp>
      <p:sp>
        <p:nvSpPr>
          <p:cNvPr id="24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domly place devices from each network in a given region with a specified densit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cement of Base Stations or Access Points depend on how those devices are deployed (by operator or consu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coexistence metrics as function of the density of the two networks, which may have different densities</a:t>
            </a:r>
            <a:endParaRPr b="1" lang="en-US" sz="2400" spc="-1" strike="noStrike">
              <a:solidFill>
                <a:srgbClr val="000000"/>
              </a:solidFill>
              <a:latin typeface="Times New Roman"/>
            </a:endParaRPr>
          </a:p>
        </p:txBody>
      </p:sp>
      <p:sp>
        <p:nvSpPr>
          <p:cNvPr id="2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B0B976-BF82-4261-9B83-1A09D14DEC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4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Standards and Working Group Documents</a:t>
            </a:r>
            <a:endParaRPr b="1" lang="en-US" sz="32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 are made to both IEEE 802 standards and 802 working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standards are available for free, 6 months after publication, under the IEEE Get program at:</a:t>
            </a:r>
            <a:endParaRPr b="1"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alibri"/>
                <a:hlinkClick r:id="rId1"/>
              </a:rPr>
              <a:t>http://standards.ieee.org/about/get/</a:t>
            </a:r>
            <a:r>
              <a:rPr b="0" lang="en-US" sz="2000" spc="-1" strike="noStrike">
                <a:solidFill>
                  <a:srgbClr val="000000"/>
                </a:solidFill>
                <a:latin typeface="Calibri"/>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working documents (except draft standards) are available on the IEEE 802 Mentor web site</a:t>
            </a:r>
            <a:endParaRPr b="1"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alibri"/>
                <a:hlinkClick r:id="rId2"/>
              </a:rPr>
              <a:t>https://mentor.ieee.org/802/bp/StartPage</a:t>
            </a:r>
            <a:r>
              <a:rPr b="0" lang="en-US" sz="2000" spc="-1" strike="noStrike">
                <a:solidFill>
                  <a:srgbClr val="000000"/>
                </a:solidFill>
                <a:latin typeface="Calibri"/>
              </a:rPr>
              <a:t>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5F746B-5AF1-4046-8B77-48523216D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1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Metrics</a:t>
            </a:r>
            <a:endParaRPr b="1" lang="en-US" sz="3200" spc="-1" strike="noStrike">
              <a:solidFill>
                <a:srgbClr val="000000"/>
              </a:solidFill>
              <a:latin typeface="Times New Roman"/>
            </a:endParaRPr>
          </a:p>
        </p:txBody>
      </p:sp>
      <p:sp>
        <p:nvSpPr>
          <p:cNvPr id="249" name=""/>
          <p:cNvSpPr txBox="1"/>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a number of coexistence metrics that can be studied when evaluating the coexistence of two networks.  Typically these are network performance metrics.  Examples include,</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twork Throughput (e.g. median and 10</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percent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twork Latency (e.g. median and 90</a:t>
            </a:r>
            <a:r>
              <a:rPr b="0" lang="en-US" sz="2200" spc="-1" strike="noStrike" baseline="30000">
                <a:solidFill>
                  <a:srgbClr val="000000"/>
                </a:solidFill>
                <a:latin typeface="Times New Roman"/>
              </a:rPr>
              <a:t>th</a:t>
            </a:r>
            <a:r>
              <a:rPr b="0" lang="en-US" sz="2200" spc="-1" strike="noStrike">
                <a:solidFill>
                  <a:srgbClr val="000000"/>
                </a:solidFill>
                <a:latin typeface="Times New Roman"/>
              </a:rPr>
              <a:t> percent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cket Error Rat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5ED7F4-1C17-4A2F-B9A8-7980FBBBD2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5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from Coexistence Assurance Documents </a:t>
            </a:r>
            <a:endParaRPr b="1" lang="en-US" sz="3200" spc="-1" strike="noStrike">
              <a:solidFill>
                <a:srgbClr val="000000"/>
              </a:solidFill>
              <a:latin typeface="Times New Roman"/>
            </a:endParaRPr>
          </a:p>
        </p:txBody>
      </p:sp>
      <p:sp>
        <p:nvSpPr>
          <p:cNvPr id="25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ound 20 coexistence assurance documents have been developed in IEEE 802 to show how well new standards coexist with current standar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documents are available on the web a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grouper.ieee.org/groups/802/19/pub/ca.ht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nice example is the CA document for 802.15.4k which specifies several PHYs for Low Energy, Critical Infrastructure Monitoring Networks (LEC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49C93B6-85B2-43AD-8352-BECC6123A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5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76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CA Document: 802.15.4k CA Doc</a:t>
            </a:r>
            <a:endParaRPr b="1" lang="en-US" sz="3200" spc="-1" strike="noStrike">
              <a:solidFill>
                <a:srgbClr val="000000"/>
              </a:solidFill>
              <a:latin typeface="Times New Roman"/>
            </a:endParaRPr>
          </a:p>
        </p:txBody>
      </p:sp>
      <p:sp>
        <p:nvSpPr>
          <p:cNvPr id="259"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4k supports multiple frequency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 document summarizes which other systems operate in these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A document specifies a fixed geometry of the victim network and varies the interference level, based on distance between interferer and victim node and path loss mode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s of co-channel interference are performe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ted bit error rate (BER) and Frame error rate (FER) versus distance between interferer and victi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ed both 802.15.4k interference on other systems and interference of other systems on 802.15.4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38E264-4BF5-4891-981F-C9440F120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6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Coexistence Mechanisms</a:t>
            </a:r>
            <a:endParaRPr b="1" lang="en-US" sz="3200" spc="-1" strike="noStrike">
              <a:solidFill>
                <a:srgbClr val="000000"/>
              </a:solidFill>
              <a:latin typeface="Times New Roman"/>
            </a:endParaRPr>
          </a:p>
        </p:txBody>
      </p:sp>
      <p:sp>
        <p:nvSpPr>
          <p:cNvPr id="264" name=""/>
          <p:cNvSpPr txBox="1"/>
          <p:nvPr/>
        </p:nvSpPr>
        <p:spPr>
          <a:xfrm>
            <a:off x="685800" y="1371240"/>
            <a:ext cx="7858080" cy="33526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11 MAC is based on a carrier sense multiple access (CSMA) technology</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CSMA include two sensing techniques:</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Sense for 802.11 Fram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Detection for other system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threshold for energy detection is typically set at a higher power level than 802.11 Frame detection since energy detection at very low power levels is typically unreliable</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use 18 of the 802.11 standard [1] specifies the energy detection threshold limits for the OFDM PHY</a:t>
            </a:r>
            <a:endParaRPr b="1" lang="en-US" sz="2000" spc="-1" strike="noStrike">
              <a:solidFill>
                <a:srgbClr val="000000"/>
              </a:solidFill>
              <a:latin typeface="Times New Roman"/>
            </a:endParaRPr>
          </a:p>
        </p:txBody>
      </p:sp>
      <p:sp>
        <p:nvSpPr>
          <p:cNvPr id="2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ADEAD3-B7A4-4D35-BAF0-BF2565D93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66" name=""/>
          <p:cNvGraphicFramePr/>
          <p:nvPr/>
        </p:nvGraphicFramePr>
        <p:xfrm>
          <a:off x="1143000" y="4800600"/>
          <a:ext cx="7162920" cy="1482840"/>
        </p:xfrm>
        <a:graphic>
          <a:graphicData uri="http://schemas.openxmlformats.org/drawingml/2006/table">
            <a:tbl>
              <a:tblPr/>
              <a:tblGrid>
                <a:gridCol w="2286000"/>
                <a:gridCol w="2438280"/>
                <a:gridCol w="243864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nel Bandwid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D Threshold Lim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S Threshold Lim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2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S_Thresh ≤ -82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5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S_Thresh ≤ -85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8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S_Thresh ≤ -88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26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6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sp>
        <p:nvSpPr>
          <p:cNvPr id="270"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2 was developed to address the coexistence of IEEE 802.11 and 802.15.1 (Bluetoot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coexistence mechanism are included in the standard.  A table is provides on the next few slid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primary mechanisms, adaptive frequency hopping (AFH), was later adopted in the Bluetooth specific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information about coexistence mechanisms including simulation results available in [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7E28E8-272C-4A78-96B0-0686F70D8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7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graphicFrame>
        <p:nvGraphicFramePr>
          <p:cNvPr id="275" name=""/>
          <p:cNvGraphicFramePr/>
          <p:nvPr/>
        </p:nvGraphicFramePr>
        <p:xfrm>
          <a:off x="380880" y="1523880"/>
          <a:ext cx="8382240" cy="4759560"/>
        </p:xfrm>
        <a:graphic>
          <a:graphicData uri="http://schemas.openxmlformats.org/drawingml/2006/table">
            <a:tbl>
              <a:tblPr/>
              <a:tblGrid>
                <a:gridCol w="2743200"/>
                <a:gridCol w="563904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existence Mechanis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scri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ive Wireless Medium Access (AWM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ime division multiplexing scheme to be used when 802.15.1 master is collocated in the same devices as one of the 802.11 STAs.  Since 802.15.1 slaves transmissions are set by 802.15.1 master no changes are required in the 802.15.1 slav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Traffic Arbitration (P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s a packet traffic arbitration unit in a device that contains both a 802.11 STA and an 802.15.1 node.  Based on priorities when there is a potential TX scheduling overlap 802.11 or 802.15.1 packets are transmitted, under the control of the PTA un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62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stic interference suppre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ough a collocated 802.11 STA and 802.15.1 node, the 802.11 STA can know the frequency hopping sequence.  The 802.11 STA receiver introduces a dynamic notch filter to suppress the interfering 802.15.1 transmi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2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ADBDDE-709D-4CB4-86F3-5EFCCEA8C0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7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sp>
        <p:nvSpPr>
          <p:cNvPr id="2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C17AB0-50A1-42BB-8F2C-C45F52B0C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81" name=""/>
          <p:cNvGraphicFramePr/>
          <p:nvPr/>
        </p:nvGraphicFramePr>
        <p:xfrm>
          <a:off x="380880" y="1523880"/>
          <a:ext cx="8382240" cy="4577040"/>
        </p:xfrm>
        <a:graphic>
          <a:graphicData uri="http://schemas.openxmlformats.org/drawingml/2006/table">
            <a:tbl>
              <a:tblPr/>
              <a:tblGrid>
                <a:gridCol w="2743200"/>
                <a:gridCol w="5639040"/>
              </a:tblGrid>
              <a:tr h="36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existence Mechanis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scri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interference suppre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ike deterministic interference suppression, this approach does not require knowledge of the frequency hopping sequence.  This technique estimates the narrowband interference and subtracts the interferer.  This technique requires some delay to estimate and subtract the narrowband interfer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Packet Selec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ligent scheduling of 802.15.1 SCO and ACL packet transmissions to optimize network throughput and as a result minimize channel occupancy, hence improving coexist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scheduling for ACL link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ing of ACL packets to occur on channel frequencies which do not cause interference to 802.11 S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Frequency Hopping (AF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y the frequency hopping sequence by eliminating channels which cause interference to 802.11 S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8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8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3160" y="609120"/>
            <a:ext cx="8010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6h Coexistence Mechanisms</a:t>
            </a:r>
            <a:endParaRPr b="1" lang="en-US" sz="3200" spc="-1" strike="noStrike">
              <a:solidFill>
                <a:srgbClr val="000000"/>
              </a:solidFill>
              <a:latin typeface="Times New Roman"/>
            </a:endParaRPr>
          </a:p>
        </p:txBody>
      </p:sp>
      <p:sp>
        <p:nvSpPr>
          <p:cNvPr id="285" name=""/>
          <p:cNvSpPr txBox="1"/>
          <p:nvPr/>
        </p:nvSpPr>
        <p:spPr>
          <a:xfrm>
            <a:off x="685800" y="1295280"/>
            <a:ext cx="7772400" cy="3353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6h base station collects information from the subscriber stations about interferenc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didate Channel and Master Frame Assessment (CCMFA) is used to evaluate candidate channels, based on passive scanning, which is non-interfering</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existence frame (CX-Frame) is introduced which is based on two time intervals</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ordinated Coexistence Schedule Based Interval (CXXBI)</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ordinated Coexistence Contention Based Interval (CXCBI)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BCDDBF-4CCE-49DB-A724-ACF52CC70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287" name="Picture 6" descr=""/>
          <p:cNvPicPr/>
          <p:nvPr/>
        </p:nvPicPr>
        <p:blipFill>
          <a:blip r:embed="rId1"/>
          <a:stretch/>
        </p:blipFill>
        <p:spPr>
          <a:xfrm>
            <a:off x="2332080" y="4309920"/>
            <a:ext cx="4133880" cy="1710000"/>
          </a:xfrm>
          <a:prstGeom prst="rect">
            <a:avLst/>
          </a:prstGeom>
          <a:ln w="0">
            <a:noFill/>
          </a:ln>
        </p:spPr>
      </p:pic>
      <p:sp>
        <p:nvSpPr>
          <p:cNvPr id="28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8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
        <p:nvSpPr>
          <p:cNvPr id="290" name="Content Placeholder 2"/>
          <p:cNvSpPr/>
          <p:nvPr/>
        </p:nvSpPr>
        <p:spPr>
          <a:xfrm>
            <a:off x="771480" y="5943600"/>
            <a:ext cx="7772400" cy="457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 simulation coexistence analysis see documents [5] and [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2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DD7662-77C8-40C3-8F03-3205B8E60A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Rectangle 5"/>
          <p:cNvSpPr/>
          <p:nvPr/>
        </p:nvSpPr>
        <p:spPr>
          <a:xfrm>
            <a:off x="838080" y="5985000"/>
            <a:ext cx="7405920" cy="492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Slides on 802.22 from [8]</a:t>
            </a:r>
            <a:endParaRPr b="0" lang="en-US" sz="2100" spc="-1" strike="noStrike">
              <a:solidFill>
                <a:srgbClr val="000000"/>
              </a:solidFill>
              <a:latin typeface="Times New Roman"/>
            </a:endParaRPr>
          </a:p>
        </p:txBody>
      </p:sp>
      <p:graphicFrame>
        <p:nvGraphicFramePr>
          <p:cNvPr id="294" name="Object 2"/>
          <p:cNvGraphicFramePr/>
          <p:nvPr/>
        </p:nvGraphicFramePr>
        <p:xfrm>
          <a:off x="3059280" y="3773520"/>
          <a:ext cx="2714400" cy="1865160"/>
        </p:xfrm>
        <a:graphic>
          <a:graphicData uri="http://schemas.openxmlformats.org/presentationml/2006/ole">
            <p:oleObj r:id="rId1" spid="">
              <p:embed/>
              <p:pic>
                <p:nvPicPr>
                  <p:cNvPr id="295" name="Object 2" descr=""/>
                  <p:cNvPicPr/>
                  <p:nvPr/>
                </p:nvPicPr>
                <p:blipFill>
                  <a:blip r:embed="rId2"/>
                  <a:stretch/>
                </p:blipFill>
                <p:spPr>
                  <a:xfrm>
                    <a:off x="3059280" y="3773520"/>
                    <a:ext cx="2714400" cy="1865160"/>
                  </a:xfrm>
                  <a:prstGeom prst="rect">
                    <a:avLst/>
                  </a:prstGeom>
                  <a:ln w="0">
                    <a:noFill/>
                  </a:ln>
                </p:spPr>
              </p:pic>
            </p:oleObj>
          </a:graphicData>
        </a:graphic>
      </p:graphicFrame>
      <p:sp>
        <p:nvSpPr>
          <p:cNvPr id="296" name="Freeform 11"/>
          <p:cNvSpPr/>
          <p:nvPr/>
        </p:nvSpPr>
        <p:spPr>
          <a:xfrm>
            <a:off x="3909960" y="1895400"/>
            <a:ext cx="2651040" cy="800280"/>
          </a:xfrm>
          <a:custGeom>
            <a:avLst/>
            <a:gdLst>
              <a:gd name="textAreaLeft" fmla="*/ 0 w 2651040"/>
              <a:gd name="textAreaRight" fmla="*/ 2651400 w 2651040"/>
              <a:gd name="textAreaTop" fmla="*/ 0 h 800280"/>
              <a:gd name="textAreaBottom" fmla="*/ 800640 h 800280"/>
            </a:gdLst>
            <a:ahLst/>
            <a:rect l="textAreaLeft" t="textAreaTop" r="textAreaRight" b="textAreaBottom"/>
            <a:pathLst>
              <a:path w="4322" h="863">
                <a:moveTo>
                  <a:pt x="4106" y="863"/>
                </a:moveTo>
                <a:lnTo>
                  <a:pt x="4141" y="860"/>
                </a:lnTo>
                <a:lnTo>
                  <a:pt x="4174" y="851"/>
                </a:lnTo>
                <a:lnTo>
                  <a:pt x="4204" y="838"/>
                </a:lnTo>
                <a:lnTo>
                  <a:pt x="4233" y="821"/>
                </a:lnTo>
                <a:lnTo>
                  <a:pt x="4259" y="800"/>
                </a:lnTo>
                <a:lnTo>
                  <a:pt x="4282" y="774"/>
                </a:lnTo>
                <a:lnTo>
                  <a:pt x="4299" y="745"/>
                </a:lnTo>
                <a:lnTo>
                  <a:pt x="4312" y="713"/>
                </a:lnTo>
                <a:lnTo>
                  <a:pt x="4319" y="680"/>
                </a:lnTo>
                <a:lnTo>
                  <a:pt x="4322" y="647"/>
                </a:lnTo>
                <a:lnTo>
                  <a:pt x="4322" y="216"/>
                </a:lnTo>
                <a:lnTo>
                  <a:pt x="4319" y="181"/>
                </a:lnTo>
                <a:lnTo>
                  <a:pt x="4312" y="148"/>
                </a:lnTo>
                <a:lnTo>
                  <a:pt x="4299" y="118"/>
                </a:lnTo>
                <a:lnTo>
                  <a:pt x="4282" y="89"/>
                </a:lnTo>
                <a:lnTo>
                  <a:pt x="4259" y="63"/>
                </a:lnTo>
                <a:lnTo>
                  <a:pt x="4233" y="40"/>
                </a:lnTo>
                <a:lnTo>
                  <a:pt x="4204" y="23"/>
                </a:lnTo>
                <a:lnTo>
                  <a:pt x="4174" y="10"/>
                </a:lnTo>
                <a:lnTo>
                  <a:pt x="4141" y="3"/>
                </a:lnTo>
                <a:lnTo>
                  <a:pt x="4106" y="0"/>
                </a:lnTo>
                <a:lnTo>
                  <a:pt x="216" y="0"/>
                </a:lnTo>
                <a:lnTo>
                  <a:pt x="183" y="3"/>
                </a:lnTo>
                <a:lnTo>
                  <a:pt x="150" y="10"/>
                </a:lnTo>
                <a:lnTo>
                  <a:pt x="118" y="23"/>
                </a:lnTo>
                <a:lnTo>
                  <a:pt x="89" y="40"/>
                </a:lnTo>
                <a:lnTo>
                  <a:pt x="64" y="63"/>
                </a:lnTo>
                <a:lnTo>
                  <a:pt x="42" y="89"/>
                </a:lnTo>
                <a:lnTo>
                  <a:pt x="23" y="118"/>
                </a:lnTo>
                <a:lnTo>
                  <a:pt x="10" y="148"/>
                </a:lnTo>
                <a:lnTo>
                  <a:pt x="3" y="181"/>
                </a:lnTo>
                <a:lnTo>
                  <a:pt x="0" y="216"/>
                </a:lnTo>
                <a:lnTo>
                  <a:pt x="0" y="647"/>
                </a:lnTo>
                <a:lnTo>
                  <a:pt x="3" y="680"/>
                </a:lnTo>
                <a:lnTo>
                  <a:pt x="10" y="713"/>
                </a:lnTo>
                <a:lnTo>
                  <a:pt x="23" y="745"/>
                </a:lnTo>
                <a:lnTo>
                  <a:pt x="42" y="774"/>
                </a:lnTo>
                <a:lnTo>
                  <a:pt x="64" y="800"/>
                </a:lnTo>
                <a:lnTo>
                  <a:pt x="89" y="821"/>
                </a:lnTo>
                <a:lnTo>
                  <a:pt x="118" y="838"/>
                </a:lnTo>
                <a:lnTo>
                  <a:pt x="150" y="851"/>
                </a:lnTo>
                <a:lnTo>
                  <a:pt x="183" y="860"/>
                </a:lnTo>
                <a:lnTo>
                  <a:pt x="216" y="863"/>
                </a:lnTo>
                <a:lnTo>
                  <a:pt x="4106" y="86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7" name="Rectangle 12"/>
          <p:cNvSpPr/>
          <p:nvPr/>
        </p:nvSpPr>
        <p:spPr>
          <a:xfrm>
            <a:off x="4092480" y="2019240"/>
            <a:ext cx="22860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맑은 고딕"/>
                <a:ea typeface="맑은 고딕"/>
              </a:rPr>
              <a:t>Orthogonal channel selection for operating channel and first backup channel</a:t>
            </a:r>
            <a:endParaRPr b="0" lang="en-US" sz="1200" spc="-1" strike="noStrike">
              <a:solidFill>
                <a:srgbClr val="000000"/>
              </a:solidFill>
              <a:latin typeface="Times New Roman"/>
            </a:endParaRPr>
          </a:p>
        </p:txBody>
      </p:sp>
      <p:sp>
        <p:nvSpPr>
          <p:cNvPr id="298" name="Freeform 13"/>
          <p:cNvSpPr/>
          <p:nvPr/>
        </p:nvSpPr>
        <p:spPr>
          <a:xfrm>
            <a:off x="3911760" y="2874960"/>
            <a:ext cx="2666880" cy="836640"/>
          </a:xfrm>
          <a:custGeom>
            <a:avLst/>
            <a:gdLst>
              <a:gd name="textAreaLeft" fmla="*/ 0 w 2666880"/>
              <a:gd name="textAreaRight" fmla="*/ 2667240 w 2666880"/>
              <a:gd name="textAreaTop" fmla="*/ 0 h 836640"/>
              <a:gd name="textAreaBottom" fmla="*/ 837000 h 836640"/>
            </a:gdLst>
            <a:ahLst/>
            <a:rect l="textAreaLeft" t="textAreaTop" r="textAreaRight" b="textAreaBottom"/>
            <a:pathLst>
              <a:path w="5187" h="1295">
                <a:moveTo>
                  <a:pt x="4970" y="1295"/>
                </a:moveTo>
                <a:lnTo>
                  <a:pt x="5005" y="1292"/>
                </a:lnTo>
                <a:lnTo>
                  <a:pt x="5038" y="1285"/>
                </a:lnTo>
                <a:lnTo>
                  <a:pt x="5068" y="1270"/>
                </a:lnTo>
                <a:lnTo>
                  <a:pt x="5097" y="1253"/>
                </a:lnTo>
                <a:lnTo>
                  <a:pt x="5123" y="1231"/>
                </a:lnTo>
                <a:lnTo>
                  <a:pt x="5146" y="1205"/>
                </a:lnTo>
                <a:lnTo>
                  <a:pt x="5164" y="1177"/>
                </a:lnTo>
                <a:lnTo>
                  <a:pt x="5176" y="1145"/>
                </a:lnTo>
                <a:lnTo>
                  <a:pt x="5184" y="1112"/>
                </a:lnTo>
                <a:lnTo>
                  <a:pt x="5187" y="1079"/>
                </a:lnTo>
                <a:lnTo>
                  <a:pt x="5187" y="216"/>
                </a:lnTo>
                <a:lnTo>
                  <a:pt x="5184" y="181"/>
                </a:lnTo>
                <a:lnTo>
                  <a:pt x="5176" y="148"/>
                </a:lnTo>
                <a:lnTo>
                  <a:pt x="5164" y="118"/>
                </a:lnTo>
                <a:lnTo>
                  <a:pt x="5146" y="89"/>
                </a:lnTo>
                <a:lnTo>
                  <a:pt x="5123" y="63"/>
                </a:lnTo>
                <a:lnTo>
                  <a:pt x="5097" y="40"/>
                </a:lnTo>
                <a:lnTo>
                  <a:pt x="5068" y="23"/>
                </a:lnTo>
                <a:lnTo>
                  <a:pt x="5038" y="10"/>
                </a:lnTo>
                <a:lnTo>
                  <a:pt x="5005" y="3"/>
                </a:lnTo>
                <a:lnTo>
                  <a:pt x="4970" y="0"/>
                </a:lnTo>
                <a:lnTo>
                  <a:pt x="216" y="0"/>
                </a:lnTo>
                <a:lnTo>
                  <a:pt x="183" y="3"/>
                </a:lnTo>
                <a:lnTo>
                  <a:pt x="150" y="10"/>
                </a:lnTo>
                <a:lnTo>
                  <a:pt x="118" y="23"/>
                </a:lnTo>
                <a:lnTo>
                  <a:pt x="89" y="40"/>
                </a:lnTo>
                <a:lnTo>
                  <a:pt x="63" y="63"/>
                </a:lnTo>
                <a:lnTo>
                  <a:pt x="42" y="89"/>
                </a:lnTo>
                <a:lnTo>
                  <a:pt x="23" y="118"/>
                </a:lnTo>
                <a:lnTo>
                  <a:pt x="10" y="148"/>
                </a:lnTo>
                <a:lnTo>
                  <a:pt x="3" y="181"/>
                </a:lnTo>
                <a:lnTo>
                  <a:pt x="0" y="216"/>
                </a:lnTo>
                <a:lnTo>
                  <a:pt x="0" y="1079"/>
                </a:lnTo>
                <a:lnTo>
                  <a:pt x="3" y="1112"/>
                </a:lnTo>
                <a:lnTo>
                  <a:pt x="10" y="1145"/>
                </a:lnTo>
                <a:lnTo>
                  <a:pt x="23" y="1177"/>
                </a:lnTo>
                <a:lnTo>
                  <a:pt x="42" y="1205"/>
                </a:lnTo>
                <a:lnTo>
                  <a:pt x="63" y="1231"/>
                </a:lnTo>
                <a:lnTo>
                  <a:pt x="89" y="1253"/>
                </a:lnTo>
                <a:lnTo>
                  <a:pt x="118" y="1270"/>
                </a:lnTo>
                <a:lnTo>
                  <a:pt x="150" y="1285"/>
                </a:lnTo>
                <a:lnTo>
                  <a:pt x="183" y="1292"/>
                </a:lnTo>
                <a:lnTo>
                  <a:pt x="216" y="1295"/>
                </a:lnTo>
                <a:lnTo>
                  <a:pt x="4970" y="129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9" name="Rectangle 14"/>
          <p:cNvSpPr/>
          <p:nvPr/>
        </p:nvSpPr>
        <p:spPr>
          <a:xfrm>
            <a:off x="4178160" y="3016080"/>
            <a:ext cx="21337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맑은 고딕"/>
                <a:ea typeface="맑은 고딕"/>
              </a:rPr>
              <a:t>Frame allocation signalled</a:t>
            </a:r>
            <a:br>
              <a:rPr sz="1200"/>
            </a:br>
            <a:r>
              <a:rPr b="0" lang="en-CA" sz="1200" spc="-1" strike="noStrike">
                <a:solidFill>
                  <a:srgbClr val="000000"/>
                </a:solidFill>
                <a:latin typeface="맑은 고딕"/>
                <a:ea typeface="맑은 고딕"/>
              </a:rPr>
              <a:t>by the super-frame control header (SCH)</a:t>
            </a:r>
            <a:endParaRPr b="0" lang="en-US" sz="1200" spc="-1" strike="noStrike">
              <a:solidFill>
                <a:srgbClr val="000000"/>
              </a:solidFill>
              <a:latin typeface="Times New Roman"/>
            </a:endParaRPr>
          </a:p>
        </p:txBody>
      </p:sp>
      <p:sp>
        <p:nvSpPr>
          <p:cNvPr id="300" name="Rectangle 19"/>
          <p:cNvSpPr/>
          <p:nvPr/>
        </p:nvSpPr>
        <p:spPr>
          <a:xfrm>
            <a:off x="503280" y="1481040"/>
            <a:ext cx="26794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0000"/>
                </a:solidFill>
                <a:uFillTx/>
                <a:latin typeface="맑은 고딕"/>
                <a:ea typeface="맑은 고딕"/>
              </a:rPr>
              <a:t>MAC self-coexistence schemes</a:t>
            </a:r>
            <a:endParaRPr b="0" lang="en-US" sz="1400" spc="-1" strike="noStrike">
              <a:solidFill>
                <a:srgbClr val="000000"/>
              </a:solidFill>
              <a:latin typeface="Times New Roman"/>
            </a:endParaRPr>
          </a:p>
        </p:txBody>
      </p:sp>
      <p:sp>
        <p:nvSpPr>
          <p:cNvPr id="301" name="Rectangle 20"/>
          <p:cNvSpPr/>
          <p:nvPr/>
        </p:nvSpPr>
        <p:spPr>
          <a:xfrm>
            <a:off x="3955320" y="14810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0000"/>
                </a:solidFill>
                <a:uFillTx/>
                <a:latin typeface="맑은 고딕"/>
                <a:ea typeface="맑은 고딕"/>
              </a:rPr>
              <a:t>PHY coexistence mechanisms</a:t>
            </a:r>
            <a:endParaRPr b="0" lang="en-US" sz="1400" spc="-1" strike="noStrike">
              <a:solidFill>
                <a:srgbClr val="000000"/>
              </a:solidFill>
              <a:latin typeface="Times New Roman"/>
            </a:endParaRPr>
          </a:p>
        </p:txBody>
      </p:sp>
      <p:graphicFrame>
        <p:nvGraphicFramePr>
          <p:cNvPr id="302" name="Object 3"/>
          <p:cNvGraphicFramePr/>
          <p:nvPr/>
        </p:nvGraphicFramePr>
        <p:xfrm>
          <a:off x="417600" y="1854360"/>
          <a:ext cx="2873160" cy="1860480"/>
        </p:xfrm>
        <a:graphic>
          <a:graphicData uri="http://schemas.openxmlformats.org/presentationml/2006/ole">
            <p:oleObj r:id="rId3" spid="">
              <p:embed/>
              <p:pic>
                <p:nvPicPr>
                  <p:cNvPr id="303" name="Object 3" descr=""/>
                  <p:cNvPicPr/>
                  <p:nvPr/>
                </p:nvPicPr>
                <p:blipFill>
                  <a:blip r:embed="rId4"/>
                  <a:stretch/>
                </p:blipFill>
                <p:spPr>
                  <a:xfrm>
                    <a:off x="417600" y="1854360"/>
                    <a:ext cx="2873160" cy="1860480"/>
                  </a:xfrm>
                  <a:prstGeom prst="rect">
                    <a:avLst/>
                  </a:prstGeom>
                  <a:ln w="0">
                    <a:noFill/>
                  </a:ln>
                </p:spPr>
              </p:pic>
            </p:oleObj>
          </a:graphicData>
        </a:graphic>
      </p:graphicFrame>
      <p:sp>
        <p:nvSpPr>
          <p:cNvPr id="304" name="오른쪽 화살표 25"/>
          <p:cNvSpPr/>
          <p:nvPr/>
        </p:nvSpPr>
        <p:spPr>
          <a:xfrm>
            <a:off x="3417840" y="2187720"/>
            <a:ext cx="328680" cy="314280"/>
          </a:xfrm>
          <a:prstGeom prst="rightArrow">
            <a:avLst>
              <a:gd name="adj1" fmla="val 50000"/>
              <a:gd name="adj2" fmla="val 50015"/>
            </a:avLst>
          </a:prstGeom>
          <a:solidFill>
            <a:srgbClr val="ffff00"/>
          </a:solid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오른쪽 화살표 26"/>
          <p:cNvSpPr/>
          <p:nvPr/>
        </p:nvSpPr>
        <p:spPr>
          <a:xfrm>
            <a:off x="3400560" y="3016080"/>
            <a:ext cx="328320" cy="314640"/>
          </a:xfrm>
          <a:prstGeom prst="rightArrow">
            <a:avLst>
              <a:gd name="adj1" fmla="val 50000"/>
              <a:gd name="adj2" fmla="val 49903"/>
            </a:avLst>
          </a:prstGeom>
          <a:solidFill>
            <a:srgbClr val="ffff00"/>
          </a:solid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폭발 1 27"/>
          <p:cNvSpPr/>
          <p:nvPr/>
        </p:nvSpPr>
        <p:spPr>
          <a:xfrm>
            <a:off x="6378480" y="1690560"/>
            <a:ext cx="2681280" cy="1177920"/>
          </a:xfrm>
          <a:prstGeom prst="irregularSeal1">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맑은 고딕"/>
              </a:rPr>
              <a:t>Enough channels available</a:t>
            </a:r>
            <a:endParaRPr b="0" lang="en-US" sz="1100" spc="-1" strike="noStrike">
              <a:solidFill>
                <a:srgbClr val="000000"/>
              </a:solidFill>
              <a:latin typeface="Times New Roman"/>
            </a:endParaRPr>
          </a:p>
        </p:txBody>
      </p:sp>
      <p:sp>
        <p:nvSpPr>
          <p:cNvPr id="307" name="폭발 1 29"/>
          <p:cNvSpPr/>
          <p:nvPr/>
        </p:nvSpPr>
        <p:spPr>
          <a:xfrm>
            <a:off x="6311880" y="2749680"/>
            <a:ext cx="2887560" cy="1171440"/>
          </a:xfrm>
          <a:prstGeom prst="irregularSeal1">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맑은 고딕"/>
              </a:rPr>
              <a:t>Two or more cells need to coexist on the same channel</a:t>
            </a:r>
            <a:endParaRPr b="0" lang="en-US" sz="1100" spc="-1" strike="noStrike">
              <a:solidFill>
                <a:srgbClr val="000000"/>
              </a:solidFill>
              <a:latin typeface="Times New Roman"/>
            </a:endParaRPr>
          </a:p>
        </p:txBody>
      </p:sp>
      <p:sp>
        <p:nvSpPr>
          <p:cNvPr id="30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0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85440"/>
            <a:ext cx="7772400" cy="76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3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B1D946-273E-4CA4-A119-4FA4102E1E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모서리가 둥근 직사각형 28"/>
          <p:cNvSpPr/>
          <p:nvPr/>
        </p:nvSpPr>
        <p:spPr>
          <a:xfrm>
            <a:off x="1042920" y="2662200"/>
            <a:ext cx="4578480" cy="415800"/>
          </a:xfrm>
          <a:prstGeom prst="roundRect">
            <a:avLst>
              <a:gd name="adj" fmla="val 16667"/>
            </a:avLst>
          </a:prstGeom>
          <a:solidFill>
            <a:srgbClr val="92d050"/>
          </a:solidFill>
          <a:ln w="28440">
            <a:solidFill>
              <a:srgbClr val="000000"/>
            </a:solidFill>
            <a:miter/>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직선 연결선 10"/>
          <p:cNvSpPr/>
          <p:nvPr/>
        </p:nvSpPr>
        <p:spPr>
          <a:xfrm flipH="1" flipV="1">
            <a:off x="323640" y="1564920"/>
            <a:ext cx="144360" cy="14436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4" name="Rectangle 5"/>
          <p:cNvSpPr/>
          <p:nvPr/>
        </p:nvSpPr>
        <p:spPr>
          <a:xfrm>
            <a:off x="838080" y="1521000"/>
            <a:ext cx="7405920" cy="1069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Spectrum Etiquette</a:t>
            </a:r>
            <a:endParaRPr b="0" lang="en-US" sz="2100" spc="-1" strike="noStrike">
              <a:solidFill>
                <a:srgbClr val="000000"/>
              </a:solidFill>
              <a:latin typeface="Times New Roman"/>
            </a:endParaRPr>
          </a:p>
          <a:p>
            <a:pPr lvl="1" marL="800280" indent="-34308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Orthogonal channel assignment scheme between adjacent cells</a:t>
            </a:r>
            <a:endParaRPr b="0" lang="en-US" sz="1400" spc="-1" strike="noStrike">
              <a:solidFill>
                <a:srgbClr val="000000"/>
              </a:solidFill>
              <a:latin typeface="Times New Roman"/>
            </a:endParaRPr>
          </a:p>
          <a:p>
            <a:pPr lvl="2" marL="1200240" indent="-285840">
              <a:lnSpc>
                <a:spcPct val="9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different operating channel for overlapping or adjacent cells</a:t>
            </a:r>
            <a:endParaRPr b="0" lang="en-US" sz="1400" spc="-1" strike="noStrike">
              <a:solidFill>
                <a:srgbClr val="000000"/>
              </a:solidFill>
              <a:latin typeface="Times New Roman"/>
            </a:endParaRPr>
          </a:p>
          <a:p>
            <a:pPr lvl="2" marL="1200240" indent="-285840">
              <a:lnSpc>
                <a:spcPct val="9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different first backup channel</a:t>
            </a:r>
            <a:endParaRPr b="0" lang="en-US" sz="1400" spc="-1" strike="noStrike">
              <a:solidFill>
                <a:srgbClr val="000000"/>
              </a:solidFill>
              <a:latin typeface="Times New Roman"/>
            </a:endParaRPr>
          </a:p>
        </p:txBody>
      </p:sp>
      <p:graphicFrame>
        <p:nvGraphicFramePr>
          <p:cNvPr id="315" name="Object 2"/>
          <p:cNvGraphicFramePr/>
          <p:nvPr/>
        </p:nvGraphicFramePr>
        <p:xfrm>
          <a:off x="1208160" y="2365200"/>
          <a:ext cx="6665760" cy="4111920"/>
        </p:xfrm>
        <a:graphic>
          <a:graphicData uri="http://schemas.openxmlformats.org/presentationml/2006/ole">
            <p:oleObj r:id="rId1" spid="">
              <p:embed/>
              <p:pic>
                <p:nvPicPr>
                  <p:cNvPr id="316" name="Object 2" descr=""/>
                  <p:cNvPicPr/>
                  <p:nvPr/>
                </p:nvPicPr>
                <p:blipFill>
                  <a:blip r:embed="rId2"/>
                  <a:stretch/>
                </p:blipFill>
                <p:spPr>
                  <a:xfrm>
                    <a:off x="1208160" y="2365200"/>
                    <a:ext cx="6665760" cy="4111920"/>
                  </a:xfrm>
                  <a:prstGeom prst="rect">
                    <a:avLst/>
                  </a:prstGeom>
                  <a:ln w="0">
                    <a:noFill/>
                  </a:ln>
                </p:spPr>
              </p:pic>
            </p:oleObj>
          </a:graphicData>
        </a:graphic>
      </p:graphicFrame>
      <p:sp>
        <p:nvSpPr>
          <p:cNvPr id="317" name="TextBox 10"/>
          <p:cNvSpPr/>
          <p:nvPr/>
        </p:nvSpPr>
        <p:spPr>
          <a:xfrm>
            <a:off x="1042920" y="2662200"/>
            <a:ext cx="4578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s that information on operating, backup and candidate channe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each cell is shared amongst WRAN cells: exchanged by CBP packets [5] </a:t>
            </a:r>
            <a:endParaRPr b="0" lang="en-US" sz="1000" spc="-1" strike="noStrike">
              <a:solidFill>
                <a:srgbClr val="000000"/>
              </a:solidFill>
              <a:latin typeface="Times New Roman"/>
            </a:endParaRPr>
          </a:p>
        </p:txBody>
      </p:sp>
      <p:sp>
        <p:nvSpPr>
          <p:cNvPr id="318" name="오른쪽 화살표 15"/>
          <p:cNvSpPr/>
          <p:nvPr/>
        </p:nvSpPr>
        <p:spPr>
          <a:xfrm>
            <a:off x="4067280" y="3301920"/>
            <a:ext cx="649080" cy="360360"/>
          </a:xfrm>
          <a:prstGeom prst="rightArrow">
            <a:avLst>
              <a:gd name="adj1" fmla="val 50000"/>
              <a:gd name="adj2" fmla="val 50033"/>
            </a:avLst>
          </a:prstGeom>
          <a:solidFill>
            <a:srgbClr val="ffff00"/>
          </a:solidFill>
          <a:ln w="28440">
            <a:solidFill>
              <a:srgbClr val="000000"/>
            </a:solidFill>
            <a:round/>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319" name="직선 화살표 연결선 30"/>
          <p:cNvCxnSpPr/>
          <p:nvPr/>
        </p:nvCxnSpPr>
        <p:spPr>
          <a:xfrm>
            <a:off x="4066920" y="3077640"/>
            <a:ext cx="144720" cy="296280"/>
          </a:xfrm>
          <a:prstGeom prst="straightConnector1">
            <a:avLst/>
          </a:prstGeom>
          <a:ln w="28440">
            <a:solidFill>
              <a:srgbClr val="000000"/>
            </a:solidFill>
            <a:miter/>
            <a:tailEnd len="med" type="stealth" w="med"/>
          </a:ln>
        </p:spPr>
      </p:cxnSp>
      <p:sp>
        <p:nvSpPr>
          <p:cNvPr id="32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2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 Outline</a:t>
            </a:r>
            <a:endParaRPr b="1" lang="en-US" sz="3200" spc="-1" strike="noStrike">
              <a:solidFill>
                <a:srgbClr val="000000"/>
              </a:solidFill>
              <a:latin typeface="Times New Roman"/>
            </a:endParaRPr>
          </a:p>
        </p:txBody>
      </p:sp>
      <p:sp>
        <p:nvSpPr>
          <p:cNvPr id="119" name=""/>
          <p:cNvSpPr txBox="1"/>
          <p:nvPr/>
        </p:nvSpPr>
        <p:spPr>
          <a:xfrm>
            <a:off x="685800" y="1295280"/>
            <a:ext cx="7772400" cy="50292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1 – Let’s Work Together</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2 – Lessons Learned </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5.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6h</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9.1</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3 – Backup</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History in IEEE 80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Scenarios and Metric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Coexistence Assurance Documen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Mechanisms: IEEE 802.11, 802.15.2, 802.16h, and 802.2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view of 802.19.1 Standard for TVWS Coexistenc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 Coexistence Proces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s</a:t>
            </a:r>
            <a:endParaRPr b="0" lang="en-US" sz="18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7920" indent="-280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843BFE-5DF3-44C1-9178-3C869B534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2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3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C703F6-3087-4098-BFDA-3DD862F7B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직선 연결선 10"/>
          <p:cNvSpPr/>
          <p:nvPr/>
        </p:nvSpPr>
        <p:spPr>
          <a:xfrm flipH="1" flipV="1">
            <a:off x="323640" y="1412640"/>
            <a:ext cx="144360" cy="14436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5" name="Rectangle 5"/>
          <p:cNvSpPr/>
          <p:nvPr/>
        </p:nvSpPr>
        <p:spPr>
          <a:xfrm>
            <a:off x="838080" y="1371600"/>
            <a:ext cx="740592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On-demand Frame Contention</a:t>
            </a:r>
            <a:endParaRPr b="0" lang="en-US" sz="2100" spc="-1" strike="noStrike">
              <a:solidFill>
                <a:srgbClr val="000000"/>
              </a:solidFill>
              <a:latin typeface="Times New Roman"/>
            </a:endParaRPr>
          </a:p>
          <a:p>
            <a:pPr lvl="1" marL="800280" indent="-34308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Two or more cells need to co-exist on the same channel</a:t>
            </a:r>
            <a:endParaRPr b="0" lang="en-US" sz="1400" spc="-1" strike="noStrike">
              <a:solidFill>
                <a:srgbClr val="000000"/>
              </a:solidFill>
              <a:latin typeface="Times New Roman"/>
            </a:endParaRPr>
          </a:p>
        </p:txBody>
      </p:sp>
      <p:graphicFrame>
        <p:nvGraphicFramePr>
          <p:cNvPr id="326" name="Object 2"/>
          <p:cNvGraphicFramePr/>
          <p:nvPr/>
        </p:nvGraphicFramePr>
        <p:xfrm>
          <a:off x="406440" y="2133720"/>
          <a:ext cx="8602560" cy="3122640"/>
        </p:xfrm>
        <a:graphic>
          <a:graphicData uri="http://schemas.openxmlformats.org/presentationml/2006/ole">
            <p:oleObj r:id="rId1" spid="">
              <p:embed/>
              <p:pic>
                <p:nvPicPr>
                  <p:cNvPr id="327" name="Object 2" descr=""/>
                  <p:cNvPicPr/>
                  <p:nvPr/>
                </p:nvPicPr>
                <p:blipFill>
                  <a:blip r:embed="rId2"/>
                  <a:stretch/>
                </p:blipFill>
                <p:spPr>
                  <a:xfrm>
                    <a:off x="406440" y="2133720"/>
                    <a:ext cx="8602560" cy="3122640"/>
                  </a:xfrm>
                  <a:prstGeom prst="rect">
                    <a:avLst/>
                  </a:prstGeom>
                  <a:ln w="0">
                    <a:noFill/>
                  </a:ln>
                </p:spPr>
              </p:pic>
            </p:oleObj>
          </a:graphicData>
        </a:graphic>
      </p:graphicFrame>
      <p:graphicFrame>
        <p:nvGraphicFramePr>
          <p:cNvPr id="328" name="Object 3"/>
          <p:cNvGraphicFramePr/>
          <p:nvPr/>
        </p:nvGraphicFramePr>
        <p:xfrm>
          <a:off x="366840" y="5186520"/>
          <a:ext cx="8458200" cy="1392120"/>
        </p:xfrm>
        <a:graphic>
          <a:graphicData uri="http://schemas.openxmlformats.org/presentationml/2006/ole">
            <p:oleObj r:id="rId3" spid="">
              <p:embed/>
              <p:pic>
                <p:nvPicPr>
                  <p:cNvPr id="329" name="Object 3" descr=""/>
                  <p:cNvPicPr/>
                  <p:nvPr/>
                </p:nvPicPr>
                <p:blipFill>
                  <a:blip r:embed="rId4"/>
                  <a:stretch/>
                </p:blipFill>
                <p:spPr>
                  <a:xfrm>
                    <a:off x="366840" y="5186520"/>
                    <a:ext cx="8458200" cy="1392120"/>
                  </a:xfrm>
                  <a:prstGeom prst="rect">
                    <a:avLst/>
                  </a:prstGeom>
                  <a:ln w="0">
                    <a:noFill/>
                  </a:ln>
                </p:spPr>
              </p:pic>
            </p:oleObj>
          </a:graphicData>
        </a:graphic>
      </p:graphicFrame>
      <p:sp>
        <p:nvSpPr>
          <p:cNvPr id="33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3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Background</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3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C74873-4FFB-4565-AB6C-723C3BCDF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685800" y="1981080"/>
            <a:ext cx="78580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o regulations in some countries allow secondary radio systems to operate in TV white spac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e spaces are not exclusively assigned to a particular radio system, any system that fulfils the requirements of the radio regulation can operat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spondingly, there is a need for coexistence mechanisms between different white space radio syste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7] has addressed this need by developing standard for TV white space coexistence methods</a:t>
            </a:r>
            <a:endParaRPr b="1" lang="en-US" sz="2400" spc="-1" strike="noStrike">
              <a:solidFill>
                <a:srgbClr val="000000"/>
              </a:solidFill>
              <a:latin typeface="Times New Roman"/>
            </a:endParaRPr>
          </a:p>
        </p:txBody>
      </p:sp>
      <p:sp>
        <p:nvSpPr>
          <p:cNvPr id="33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3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System architecture</a:t>
            </a:r>
            <a:endParaRPr b="1" lang="en-US" sz="2800" spc="-1" strike="noStrike">
              <a:solidFill>
                <a:srgbClr val="000000"/>
              </a:solidFill>
              <a:latin typeface="Times New Roman"/>
            </a:endParaRPr>
          </a:p>
        </p:txBody>
      </p:sp>
      <p:sp>
        <p:nvSpPr>
          <p:cNvPr id="3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EE97C2-0A7B-44EB-A7FA-30DF850B2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39" name="Object 8"/>
          <p:cNvGraphicFramePr/>
          <p:nvPr/>
        </p:nvGraphicFramePr>
        <p:xfrm>
          <a:off x="1295280" y="1758960"/>
          <a:ext cx="6591600" cy="4718160"/>
        </p:xfrm>
        <a:graphic>
          <a:graphicData uri="http://schemas.openxmlformats.org/presentationml/2006/ole">
            <p:oleObj r:id="rId1" spid="">
              <p:embed/>
              <p:pic>
                <p:nvPicPr>
                  <p:cNvPr id="340" name="Object 8" descr=""/>
                  <p:cNvPicPr/>
                  <p:nvPr/>
                </p:nvPicPr>
                <p:blipFill>
                  <a:blip r:embed="rId2"/>
                  <a:stretch/>
                </p:blipFill>
                <p:spPr>
                  <a:xfrm>
                    <a:off x="1295280" y="1758960"/>
                    <a:ext cx="6591600" cy="4718160"/>
                  </a:xfrm>
                  <a:prstGeom prst="rect">
                    <a:avLst/>
                  </a:prstGeom>
                  <a:ln w="0">
                    <a:noFill/>
                  </a:ln>
                </p:spPr>
              </p:pic>
            </p:oleObj>
          </a:graphicData>
        </a:graphic>
      </p:graphicFrame>
      <p:sp>
        <p:nvSpPr>
          <p:cNvPr id="34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4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Coexistence discovery</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344" name=""/>
          <p:cNvSpPr txBox="1"/>
          <p:nvPr/>
        </p:nvSpPr>
        <p:spPr>
          <a:xfrm>
            <a:off x="685800" y="1981080"/>
            <a:ext cx="78580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Discovery and Information Server (CDIS) supports discovery of the neighboring white space radio system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white space radio systems are neighbors if they are likely to cause one-way or mutual harmful interference to one another if they operate on the same frequency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discovery information serves as an input to coexistence decisions making</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809777-79DF-4799-A83A-51CFF4B86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4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Coexistence decision making</a:t>
            </a:r>
            <a:endParaRPr b="1" lang="en-US" sz="2800" spc="-1" strike="noStrike">
              <a:solidFill>
                <a:srgbClr val="000000"/>
              </a:solidFill>
              <a:latin typeface="Times New Roman"/>
            </a:endParaRPr>
          </a:p>
        </p:txBody>
      </p:sp>
      <p:sp>
        <p:nvSpPr>
          <p:cNvPr id="34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standard 802.19.1 provides two ways to select parameters of a radio system</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ervice – coexistence system provides neighbor discovery information to a white space radio system and the white space radio system autonomously updates its operating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service – coexistence system manages the operating parameters of a white space radio system using Coexistence Manager (C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services are provided by the IEEE 802.19.1 coexistence system to subscribed white space radio systems</a:t>
            </a:r>
            <a:endParaRPr b="1" lang="en-US" sz="2400" spc="-1" strike="noStrike">
              <a:solidFill>
                <a:srgbClr val="000000"/>
              </a:solidFill>
              <a:latin typeface="Times New Roman"/>
            </a:endParaRPr>
          </a:p>
        </p:txBody>
      </p:sp>
      <p:sp>
        <p:nvSpPr>
          <p:cNvPr id="3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A5EF82-82BF-4E90-A059-113CB78E3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5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91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endParaRPr b="1" lang="en-US" sz="3200" spc="-1" strike="noStrike">
              <a:solidFill>
                <a:srgbClr val="000000"/>
              </a:solidFill>
              <a:latin typeface="Times New Roman"/>
            </a:endParaRPr>
          </a:p>
        </p:txBody>
      </p:sp>
      <p:sp>
        <p:nvSpPr>
          <p:cNvPr id="3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30B883-4A1D-4F09-9F0E-47DADCF7BF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55" name="Object 6"/>
          <p:cNvGraphicFramePr/>
          <p:nvPr/>
        </p:nvGraphicFramePr>
        <p:xfrm>
          <a:off x="2500200" y="1460520"/>
          <a:ext cx="4129200" cy="4711680"/>
        </p:xfrm>
        <a:graphic>
          <a:graphicData uri="http://schemas.openxmlformats.org/presentationml/2006/ole">
            <p:oleObj r:id="rId1" spid="">
              <p:embed/>
              <p:pic>
                <p:nvPicPr>
                  <p:cNvPr id="356" name="Object 6" descr=""/>
                  <p:cNvPicPr/>
                  <p:nvPr/>
                </p:nvPicPr>
                <p:blipFill>
                  <a:blip r:embed="rId2"/>
                  <a:stretch/>
                </p:blipFill>
                <p:spPr>
                  <a:xfrm>
                    <a:off x="2500200" y="1460520"/>
                    <a:ext cx="4129200" cy="4711680"/>
                  </a:xfrm>
                  <a:prstGeom prst="rect">
                    <a:avLst/>
                  </a:prstGeom>
                  <a:ln w="0">
                    <a:noFill/>
                  </a:ln>
                </p:spPr>
              </p:pic>
            </p:oleObj>
          </a:graphicData>
        </a:graphic>
      </p:graphicFrame>
      <p:sp>
        <p:nvSpPr>
          <p:cNvPr id="35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5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Performance improvement</a:t>
            </a:r>
            <a:endParaRPr b="1" lang="en-US" sz="2800" spc="-1" strike="noStrike">
              <a:solidFill>
                <a:srgbClr val="000000"/>
              </a:solidFill>
              <a:latin typeface="Times New Roman"/>
            </a:endParaRPr>
          </a:p>
        </p:txBody>
      </p:sp>
      <p:sp>
        <p:nvSpPr>
          <p:cNvPr id="3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5784B2-386E-4B5C-8231-2D282E1BF7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1143000" y="5562720"/>
            <a:ext cx="7315200" cy="7617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in throughput is 17% for 3 TV channels</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in throughput is 21% for 5 TV channels</a:t>
            </a:r>
            <a:endParaRPr b="1" lang="en-US" sz="2000" spc="-1" strike="noStrike">
              <a:solidFill>
                <a:srgbClr val="000000"/>
              </a:solidFill>
              <a:latin typeface="Times New Roman"/>
            </a:endParaRPr>
          </a:p>
        </p:txBody>
      </p:sp>
      <p:pic>
        <p:nvPicPr>
          <p:cNvPr id="362" name="Chart 7" descr=""/>
          <p:cNvPicPr/>
          <p:nvPr/>
        </p:nvPicPr>
        <p:blipFill>
          <a:blip r:embed="rId1"/>
          <a:stretch/>
        </p:blipFill>
        <p:spPr>
          <a:xfrm>
            <a:off x="1139760" y="1676520"/>
            <a:ext cx="6894720" cy="3803400"/>
          </a:xfrm>
          <a:prstGeom prst="rect">
            <a:avLst/>
          </a:prstGeom>
          <a:ln w="0">
            <a:noFill/>
          </a:ln>
        </p:spPr>
      </p:pic>
      <p:sp>
        <p:nvSpPr>
          <p:cNvPr id="36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6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Summary</a:t>
            </a:r>
            <a:endParaRPr b="1" lang="en-US" sz="2800" spc="-1" strike="noStrike">
              <a:solidFill>
                <a:srgbClr val="000000"/>
              </a:solidFill>
              <a:latin typeface="Times New Roman"/>
            </a:endParaRPr>
          </a:p>
        </p:txBody>
      </p:sp>
      <p:sp>
        <p:nvSpPr>
          <p:cNvPr id="366" name=""/>
          <p:cNvSpPr txBox="1"/>
          <p:nvPr/>
        </p:nvSpPr>
        <p:spPr>
          <a:xfrm>
            <a:off x="685800" y="1828440"/>
            <a:ext cx="7772400" cy="441972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is standard that defines coexistence system for radio systems operating in TV whitespace</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coexistence system can provide different level of services to the users based on their subscription</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profiles are defined to support various deployment scenarios and use case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 shows performance improvement from using IEEE 802.19.1 coexistence system</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of the IEEE 802.19.1 coexistence system was done for feasibility study of the developed protocol (see IEEE 802.19-12/138r0 for more details)</a:t>
            </a:r>
            <a:endParaRPr b="1" lang="en-US" sz="2400" spc="-1" strike="noStrike">
              <a:solidFill>
                <a:srgbClr val="000000"/>
              </a:solidFill>
              <a:latin typeface="Times New Roman"/>
            </a:endParaRPr>
          </a:p>
        </p:txBody>
      </p:sp>
      <p:sp>
        <p:nvSpPr>
          <p:cNvPr id="3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3064D1-77E6-430B-BB10-512E0BE6C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6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8380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Coexistence Process (1 of 2)</a:t>
            </a:r>
            <a:endParaRPr b="1" lang="en-US" sz="3200" spc="-1" strike="noStrike">
              <a:solidFill>
                <a:srgbClr val="000000"/>
              </a:solidFill>
              <a:latin typeface="Times New Roman"/>
            </a:endParaRPr>
          </a:p>
        </p:txBody>
      </p:sp>
      <p:sp>
        <p:nvSpPr>
          <p:cNvPr id="371" name=""/>
          <p:cNvSpPr txBox="1"/>
          <p:nvPr/>
        </p:nvSpPr>
        <p:spPr>
          <a:xfrm>
            <a:off x="533160" y="1601280"/>
            <a:ext cx="8305560" cy="4418280"/>
          </a:xfrm>
          <a:prstGeom prst="rect">
            <a:avLst/>
          </a:prstGeom>
          <a:noFill/>
          <a:ln w="0">
            <a:noFill/>
          </a:ln>
        </p:spPr>
        <p:txBody>
          <a:bodyPr lIns="92160" rIns="92160" tIns="46080" bIns="46080" anchor="t">
            <a:normAutofit/>
          </a:bodyPr>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IEEE 802 Operations Manual includes a procedure on Coexistence Assurance</a:t>
            </a:r>
            <a:endParaRPr b="1" lang="en-US" sz="2200" spc="-1" strike="noStrike">
              <a:solidFill>
                <a:srgbClr val="000000"/>
              </a:solidFill>
              <a:latin typeface="Times New Roman"/>
            </a:endParaRPr>
          </a:p>
          <a:p>
            <a:pPr lvl="1" marL="743040" indent="-28584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Times New Roman"/>
                <a:hlinkClick r:id="rId1"/>
              </a:rPr>
              <a:t>http://www.ieee802.org/PNP/approved/IEEE_802_OM_v15.pdf</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93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 Procedure for coexistence assurance</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f indicated in the five criteria, the wireless WG shall produce a coexistence assurance (CA)  document in the process of preparing for WG letter ballot and Sponsor ballot. The CA document shall accompany the draft on all wireless WG letter ballots.</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CA document shall address coexistence with all relevant approved IEEE 802 LMSC wireless standards specifying devices for unlicensed operation. The WG should consider other specifications in their identified target band(s) in the CA document.</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3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B8F7A3-0333-4553-9DD6-D375DB646A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7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Coexistence Process (2 of 2)</a:t>
            </a:r>
            <a:endParaRPr b="1" lang="en-US" sz="3200" spc="-1" strike="noStrike">
              <a:solidFill>
                <a:srgbClr val="000000"/>
              </a:solidFill>
              <a:latin typeface="Times New Roman"/>
            </a:endParaRPr>
          </a:p>
        </p:txBody>
      </p:sp>
      <p:sp>
        <p:nvSpPr>
          <p:cNvPr id="376" name=""/>
          <p:cNvSpPr txBox="1"/>
          <p:nvPr/>
        </p:nvSpPr>
        <p:spPr>
          <a:xfrm>
            <a:off x="685800" y="1600200"/>
            <a:ext cx="7858080" cy="4495680"/>
          </a:xfrm>
          <a:prstGeom prst="rect">
            <a:avLst/>
          </a:prstGeom>
          <a:noFill/>
          <a:ln w="0">
            <a:noFill/>
          </a:ln>
        </p:spPr>
        <p:txBody>
          <a:bodyPr lIns="92160" rIns="92160" tIns="46080" bIns="4608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 Procedure for coexistence assurance (cont.)</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IEEE 802.19 WG shall have one vote in WG letter ballots that include CA documents. As part of its ballot comments, the IEEE 802.19 WG will verify the CA methodology was applied appropriately and reported correctly.</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ballot group makes the determination on whether the coexistence necessary for the standard or amendment has been met.</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representative of the IEEE 802.19 WG should vote in all wireless Sponsor ballots that are in the scope of the IEEE 802.19 coexistence WG.</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AB776C-BBB0-44D8-A492-586FDF6F1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79"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1 – Let’s Work Together</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C965D3-DA6F-4FDB-B9E8-92EE6A855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2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381" name=""/>
          <p:cNvSpPr txBox="1"/>
          <p:nvPr/>
        </p:nvSpPr>
        <p:spPr>
          <a:xfrm>
            <a:off x="685440" y="1676160"/>
            <a:ext cx="7924680" cy="4724280"/>
          </a:xfrm>
          <a:prstGeom prst="rect">
            <a:avLst/>
          </a:prstGeom>
          <a:noFill/>
          <a:ln w="0">
            <a:noFill/>
          </a:ln>
        </p:spPr>
        <p:txBody>
          <a:bodyPr lIns="92160" rIns="92160" tIns="46080" bIns="46080" anchor="t">
            <a:normAutofit/>
          </a:bodyPr>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2, “Wireless LAN Medium Access Control (MAC) and Physical Layer (PHY) Specifications,” March 29, 2012</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5.2-2003,  “Coexistence of Wireless Personal Area Networks with Other Wireless Devices Operating in Unlicensed Frequency Bands,” August 28, 2003</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da Golmie, “Coexistence in Wireless Networks: Challenges and System-Level Solutions in the Unlicensed Bands,” Cambridge University Press, 2006</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6h, “Air Interface for Broadband Wireless Access: Amendment 2 Improved Coexistence Mechanisms for License-Exempt Operation,” July 30, 2010</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har Hauzner and Mariana Goldhamer, “Coexistence Assurance Document for 802.16h CX-CBP,”  IEEE 802.19-09/7r0, March 9, 2009</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John Sydor, “Messaging and Spectrum Sharing between ad-hoc Cognitive Radio Networks,”  IEEE Symposium on Circuits and Systems, 2006</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9.1-2014, “TV White Space Coexistence Methods,”  May 16, 2014</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urva Mody, et. al., “Introduction to IEEE Std. 802.22-2011 and its Amendment PAR for P802.22b: Broadband Extension and Monitoring,” IEEE 802.22-11/132r3, November 2011</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BAFE26-F409-4908-8138-03F534823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84"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480"/>
            <a:ext cx="87631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wants to work with 3GPP on fair sharing mechanisms, based on a shared view of their importance</a:t>
            </a:r>
            <a:endParaRPr b="1" lang="en-US" sz="2800" spc="-1" strike="noStrike">
              <a:solidFill>
                <a:srgbClr val="000000"/>
              </a:solidFill>
              <a:latin typeface="Times New Roman"/>
            </a:endParaRPr>
          </a:p>
        </p:txBody>
      </p:sp>
      <p:sp>
        <p:nvSpPr>
          <p:cNvPr id="128" name=""/>
          <p:cNvSpPr txBox="1"/>
          <p:nvPr/>
        </p:nvSpPr>
        <p:spPr>
          <a:xfrm>
            <a:off x="685800" y="1828800"/>
            <a:ext cx="7772400" cy="449568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air sharing mechanisms are vital to anyone making use of 802.11 systems</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air sharing mechanisms are also vital for many operators making use of 3GPP technology</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GPP has identified fair sharing with 802.11 systems as the key challenge for  LAA development</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GPP has identified a reasonable initial definition of fair sharing</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sten Before Talk (LBT) provides a useful starting point for fair sharing discussions between 3GPP and IEEE 802</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EEE 802 wants to work with 3GPP to achieve consensus on fair sharing mechanisms for 802.11 and LAA</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12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BA1BD6-0A77-43AA-ACDD-7F34736611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800"/>
            <a:ext cx="7772400" cy="915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 sharing mechanisms are vital to anyone making use of 802.11 systems</a:t>
            </a:r>
            <a:endParaRPr b="1" lang="en-US" sz="3200" spc="-1" strike="noStrike">
              <a:solidFill>
                <a:srgbClr val="000000"/>
              </a:solidFill>
              <a:latin typeface="Times New Roman"/>
            </a:endParaRPr>
          </a:p>
        </p:txBody>
      </p:sp>
      <p:sp>
        <p:nvSpPr>
          <p:cNvPr id="133" name=""/>
          <p:cNvSpPr txBox="1"/>
          <p:nvPr/>
        </p:nvSpPr>
        <p:spPr>
          <a:xfrm>
            <a:off x="304920" y="1752480"/>
            <a:ext cx="8534160" cy="464832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ccess of unlicensed spectrum (2.4 and 5 GHz) has been underpinned by the use of fair sharing mechanisms</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coexistence mechanism make use of energy detect (ED) at high thresholds and carrier sense (CS) at lower thresholds</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billions of 802.11 devices that make use of these mechanism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11 devices are increasingly being deployed in 5 GHz spectrum to satisfy a wide variety of important use case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802.11 devices will be adversely affected by another system that does not support fair sharing mechanism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lly, other systems would be adversely affected if 802.11 devices stopped using fair sharing mechanism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91ED2C9-3991-4B2B-9EC0-41B5945D8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685440"/>
            <a:ext cx="85345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 sharing mechanisms are also vital for many operators making use of 3GPP technology</a:t>
            </a:r>
            <a:endParaRPr b="1" lang="en-US" sz="3200" spc="-1" strike="noStrike">
              <a:solidFill>
                <a:srgbClr val="000000"/>
              </a:solidFill>
              <a:latin typeface="Times New Roman"/>
            </a:endParaRPr>
          </a:p>
        </p:txBody>
      </p:sp>
      <p:sp>
        <p:nvSpPr>
          <p:cNvPr id="138" name=""/>
          <p:cNvSpPr txBox="1"/>
          <p:nvPr/>
        </p:nvSpPr>
        <p:spPr>
          <a:xfrm>
            <a:off x="457200" y="1981080"/>
            <a:ext cx="8305920" cy="4267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3GPP operators today currently leverage the benefits of 802.11 and want to continue to do so in the fut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rket and regulators have an expectation of fair sharing between LAA and 802.11, and will expect that LAA will not diminish the ongoing and expanded use of 802.11 in the 5 GHz b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ed, 3GPP’s doc. RP-141664 recognizes that, </a:t>
            </a:r>
            <a:r>
              <a:rPr b="1" i="1" lang="en-US" sz="2400" spc="-1" strike="noStrike">
                <a:solidFill>
                  <a:srgbClr val="000000"/>
                </a:solidFill>
                <a:latin typeface="Times New Roman"/>
              </a:rPr>
              <a:t>… it is not enough to minimize interference simply for regulatory aspects. It is also essential to insure that a deployed system will operate as a “good neighbor”</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D49403-3F8A-4244-A25A-83B8CD4D1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685440"/>
            <a:ext cx="82296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GPP has identified fair sharing with 802.11 systems as the key challenge for LAA development</a:t>
            </a:r>
            <a:endParaRPr b="1" lang="en-US" sz="2800" spc="-1" strike="noStrike">
              <a:solidFill>
                <a:srgbClr val="000000"/>
              </a:solidFill>
              <a:latin typeface="Times New Roman"/>
            </a:endParaRPr>
          </a:p>
        </p:txBody>
      </p:sp>
      <p:sp>
        <p:nvSpPr>
          <p:cNvPr id="143" name=""/>
          <p:cNvSpPr txBox="1"/>
          <p:nvPr/>
        </p:nvSpPr>
        <p:spPr>
          <a:xfrm>
            <a:off x="304920" y="1902960"/>
            <a:ext cx="8534160" cy="4421160"/>
          </a:xfrm>
          <a:prstGeom prst="rect">
            <a:avLst/>
          </a:prstGeom>
          <a:noFill/>
          <a:ln w="0">
            <a:noFill/>
          </a:ln>
        </p:spPr>
        <p:txBody>
          <a:bodyPr lIns="92160" rIns="92160" tIns="46080" bIns="46080" anchor="t">
            <a:normAutofit fontScale="98000"/>
          </a:bodyPr>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GPP doc. RP-141664  has identified the importance of fairness and defined fairness in the context of LAA and 802.11 as follows:</a:t>
            </a:r>
            <a:endParaRPr b="1" lang="en-US" sz="2400" spc="-1" strike="noStrike">
              <a:solidFill>
                <a:srgbClr val="000000"/>
              </a:solidFill>
              <a:latin typeface="Times New Roman"/>
            </a:endParaRPr>
          </a:p>
          <a:p>
            <a:pPr lvl="1" marL="727920" indent="-280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dentify and define design targets for coexistence with other unlicensed spectrum deployments, including fairness with respect to Wi-Fi and other LAA services</a:t>
            </a:r>
            <a:endParaRPr b="0" lang="en-US" sz="22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agrees that fairness is vital for successful sharing of unlicensed spectrum between LAA and 802.11</a:t>
            </a:r>
            <a:endParaRPr b="1" lang="en-US" sz="24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ness is in “the eye of the beholder” and so the challenge for 3GPP and IEEE 802 is to agree on a definition of fairness</a:t>
            </a:r>
            <a:endParaRPr b="1" lang="en-US" sz="24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 notes this challenge could also be applied to sharing between LAA and other systems</a:t>
            </a:r>
            <a:endParaRPr b="1" lang="en-US" sz="2400" spc="-1" strike="noStrike">
              <a:solidFill>
                <a:srgbClr val="000000"/>
              </a:solidFill>
              <a:latin typeface="Times New Roman"/>
            </a:endParaRPr>
          </a:p>
          <a:p>
            <a:pPr marL="335880" indent="-3358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4E576E8-3B01-4099-BFA7-D7DA12C74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Shellhammer, Steve</cp:lastModifiedBy>
  <cp:lastPrinted>1998-02-10T13:28:06Z</cp:lastPrinted>
  <dcterms:modified xsi:type="dcterms:W3CDTF">2014-11-08T23:30:37Z</dcterms:modified>
  <cp:revision>783</cp:revision>
  <dc:subject/>
  <dc:title>TAG Overview</dc:title>
</cp:coreProperties>
</file>