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굴림"/>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9165D398-FC1C-420D-8BE6-7C1E7338BC87}"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B60979A9-8E82-480A-BBE1-08DA47EBA03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54160" y="701640"/>
            <a:ext cx="4626000" cy="3468600"/>
          </a:xfrm>
          <a:prstGeom prst="rect">
            <a:avLst/>
          </a:prstGeom>
          <a:ln w="0">
            <a:noFill/>
          </a:ln>
        </p:spPr>
      </p:sp>
      <p:sp>
        <p:nvSpPr>
          <p:cNvPr id="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764B6-D752-4A2C-BC12-AB1DCD283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F30D-FF86-4897-B70D-9DE53F80F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BEA95-2DF0-408A-8AD8-8F09BAABD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CB977-9998-4C5E-9242-1DDAAF63D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ECBAD-AB52-4758-B190-CCD86417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D2CB-CC16-4ED8-B1D4-73F5AA91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27EF2-9BD3-4128-8C04-07D37B2F5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B51C2-D77F-4D29-AB03-374D1D600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E131-64C9-4430-8BF6-8180A9428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9F07-C814-4991-B0D6-69714F3E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8FCD-AAFC-48F5-ADF3-0681120B5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9090-646A-4066-A861-A6A82ED54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18260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180200" y="6475320"/>
            <a:ext cx="136368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unduk Kang, ETR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226010B-B438-453C-9275-07E944E8150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4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56"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857DBB7-A852-4120-8DE3-787037627AF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all for Contribution to IG CUB</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Notic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Releas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Patent Policy and Procedures:</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is familiar with the IEEE 802 Patent Policy and Procedures &lt;</a:t>
            </a:r>
            <a:r>
              <a:rPr b="0" lang="en-US" sz="800" spc="-1" strike="noStrike" u="sng">
                <a:solidFill>
                  <a:srgbClr val="0066ff"/>
                </a:solidFill>
                <a:uFillTx/>
                <a:latin typeface="Times New Roman"/>
                <a:ea typeface="굴림"/>
              </a:rPr>
              <a:t>http:// ieee802.org/guides/bylaws/sb-bylaws.pdf</a:t>
            </a:r>
            <a:r>
              <a:rPr b="0" lang="en-US" sz="800" spc="-1" strike="noStrike">
                <a:solidFill>
                  <a:srgbClr val="000000"/>
                </a:solidFill>
                <a:latin typeface="Times New Roman"/>
                <a:ea typeface="굴림"/>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ea typeface="굴림"/>
              </a:rPr>
              <a:t>If you have questions, contact the IEEE Patent Committee Administrator at &lt;patcom@ieee.org&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e:</a:t>
            </a:r>
            <a:r>
              <a:rPr b="0" lang="en-US" sz="2000" spc="-1" strike="noStrike">
                <a:solidFill>
                  <a:srgbClr val="000000"/>
                </a:solidFill>
                <a:latin typeface="Times New Roman"/>
                <a:ea typeface="굴림"/>
              </a:rPr>
              <a:t> 2014-07-03</a:t>
            </a:r>
            <a:endParaRPr b="1" lang="en-US" sz="2000" spc="-1" strike="noStrike">
              <a:solidFill>
                <a:srgbClr val="000000"/>
              </a:solidFill>
              <a:latin typeface="Times New Roman"/>
            </a:endParaRPr>
          </a:p>
        </p:txBody>
      </p:sp>
      <p:graphicFrame>
        <p:nvGraphicFramePr>
          <p:cNvPr id="61" name="Object 11"/>
          <p:cNvGraphicFramePr/>
          <p:nvPr/>
        </p:nvGraphicFramePr>
        <p:xfrm>
          <a:off x="517680" y="2270160"/>
          <a:ext cx="8108640" cy="1433520"/>
        </p:xfrm>
        <a:graphic>
          <a:graphicData uri="http://schemas.openxmlformats.org/presentationml/2006/ole">
            <p:oleObj progId="Word.Document.12" r:id="rId1" spid="">
              <p:embed/>
              <p:pic>
                <p:nvPicPr>
                  <p:cNvPr id="62" name="Object 11" descr=""/>
                  <p:cNvPicPr/>
                  <p:nvPr/>
                </p:nvPicPr>
                <p:blipFill>
                  <a:blip r:embed="rId2"/>
                  <a:stretch/>
                </p:blipFill>
                <p:spPr>
                  <a:xfrm>
                    <a:off x="517680" y="2270160"/>
                    <a:ext cx="8108640" cy="143352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Abstract</a:t>
            </a:r>
            <a:endParaRPr b="1" lang="en-US" sz="3200" spc="-1" strike="noStrike">
              <a:solidFill>
                <a:srgbClr val="000000"/>
              </a:solidFill>
              <a:latin typeface="Times New Roman"/>
            </a:endParaRPr>
          </a:p>
        </p:txBody>
      </p:sp>
      <p:sp>
        <p:nvSpPr>
          <p:cNvPr id="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This is the call for contributions in regards to solve coexistence problems in unlicensed frequency bands</a:t>
            </a: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67"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870AF769-1ABF-4AB2-9307-4BE4A8BCAFB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Purpose of IG CUB</a:t>
            </a:r>
            <a:endParaRPr b="1" lang="en-US" sz="32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To explore coexistence issues in unlicensed frequency band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urrent situ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otential proble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To discuss possible solutions to solve coexistence problem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 possible common coexistence solution which could be adopted to all</a:t>
            </a:r>
            <a:endParaRPr b="0" lang="en-US" sz="2000" spc="-1" strike="noStrike">
              <a:solidFill>
                <a:srgbClr val="000000"/>
              </a:solidFill>
              <a:latin typeface="Times New Roman"/>
            </a:endParaRPr>
          </a:p>
          <a:p>
            <a:pPr marL="343080" indent="-3430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See related documents</a:t>
            </a:r>
            <a:endParaRPr b="1" lang="en-US" sz="2400" spc="-1" strike="noStrike">
              <a:solidFill>
                <a:srgbClr val="000000"/>
              </a:solidFill>
              <a:latin typeface="Times New Roman"/>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https://mentor.ieee.org/802.19/dcn/14/19-14-0027-00-0001-discussion-on-future-802-19-works.ppt</a:t>
            </a:r>
            <a:endParaRPr b="0" lang="en-US" sz="2000" spc="-1" strike="noStrike">
              <a:solidFill>
                <a:srgbClr val="000000"/>
              </a:solidFill>
              <a:latin typeface="Times New Roman"/>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https://mentor.ieee.org/802.19/dcn/14/19-14-0032-00-0000-march-2014-wg-minutes.docx</a:t>
            </a:r>
            <a:endParaRPr b="0" lang="en-US" sz="2000" spc="-1" strike="noStrike">
              <a:solidFill>
                <a:srgbClr val="000000"/>
              </a:solidFill>
              <a:latin typeface="Times New Roman"/>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72"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6518EB4B-9E1B-487E-B87D-3D09137A809B}"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all for contribution (1/2)</a:t>
            </a:r>
            <a:endParaRPr b="1" lang="en-US" sz="3200" spc="-1" strike="noStrike">
              <a:solidFill>
                <a:srgbClr val="000000"/>
              </a:solidFill>
              <a:latin typeface="Times New Roman"/>
            </a:endParaRPr>
          </a:p>
        </p:txBody>
      </p:sp>
      <p:sp>
        <p:nvSpPr>
          <p:cNvPr id="75"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ntributions are requested for the IEEE802.19 IG CUB (Coexistence in Unlicensed Frequency Bands)  in the area of solving coexistence problems.  Of particular interest are contributions discussing any of the following (or similar) topic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urrent situations in unlicensed frequency band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otential coexistence problem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e cas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echnologies suitable for solving coexistence problem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cenarios or roadma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ther issues related to coexistenc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77"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F1EA2F1E-D3C2-455F-88E4-42B6DDF15BC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all for contribution (2/2)</a:t>
            </a:r>
            <a:endParaRPr b="1" lang="en-US" sz="3200" spc="-1" strike="noStrike">
              <a:solidFill>
                <a:srgbClr val="00000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All submission should be written in MS Words or MS PowerPoint like other IEEE802.19 document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Please obtain a valid IG CUB document number and upload your contribution to the document server at https://mentor.ieee.org/802.11/documents.</a:t>
            </a:r>
            <a:endParaRPr b="1" lang="en-US" sz="2400" spc="-1" strike="noStrike">
              <a:solidFill>
                <a:srgbClr val="000000"/>
              </a:solidFill>
              <a:latin typeface="Times New Roman"/>
            </a:endParaRPr>
          </a:p>
        </p:txBody>
      </p:sp>
      <p:sp>
        <p:nvSpPr>
          <p:cNvPr id="8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82"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7C1C7CD-8E77-4509-A71E-14AF513AB0C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user</cp:lastModifiedBy>
  <cp:lastPrinted>1998-02-10T13:28:06Z</cp:lastPrinted>
  <dcterms:modified xsi:type="dcterms:W3CDTF">2014-07-03T08:41:38Z</dcterms:modified>
  <cp:revision>573</cp:revision>
  <dc:subject/>
  <dc:title>TAG Overview</dc:title>
</cp:coreProperties>
</file>