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29FDF1F-85C7-4EE1-BD28-0A2C2510D19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82DB973-CC0C-4470-957E-D648292F2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54160" y="701640"/>
            <a:ext cx="4626000" cy="3468600"/>
          </a:xfrm>
          <a:prstGeom prst="rect">
            <a:avLst/>
          </a:prstGeom>
          <a:ln w="0">
            <a:noFill/>
          </a:ln>
        </p:spPr>
      </p:sp>
      <p:sp>
        <p:nvSpPr>
          <p:cNvPr id="1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24D36-E646-4A01-B69B-4CB4D168F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40B1-D562-4CF3-AB25-9C603CB0F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55877A-A4E0-4ADB-81CA-A465B48AF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B1C2B-5C7B-4FBA-9E92-8B71E73AF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83518-BA50-4B94-9216-33F173D3E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DF892-029B-405B-B35E-FCF8ECD65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98D9A-7045-4EAB-93B5-2EBB9638A9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793C1-0C8E-4006-A2C8-7914C72CB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0EFB7F-7905-4DDE-B99C-AAD3146F1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E9937-3C6B-491A-BE77-4B4FAA114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AAF56-DD5B-49C9-82CA-325CEDEAA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72EBA-AB67-4D79-8A91-583A35F03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08670-C38E-450C-8C1B-1AE714463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F8485-5407-4B6F-A22D-3E3585D20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CA884-A3EA-486B-842C-112499EBB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6DEA2-519B-4036-8727-D1634607DB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2E3DBA-F12B-4BD6-A6EE-F8C1772BA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5733C6-8526-414F-B909-71336DD078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AD35F1-119A-405E-B397-F5DD7151C9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C8A55C-2BEC-4299-BF26-2D0A997439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F3B698-68F6-4A63-8444-2C36C03D07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9065B8-9200-4F5C-A572-D80AD32169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A0EF5-18AB-4DD6-816D-9AA6750BA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798937-F49B-4B6C-AEFA-17A40A97A2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20A488-1FC5-4C18-B19E-AC25055A9C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5A0DB3-9207-447B-ADFB-368AAFD67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0C2DA4-B307-41B5-A00D-C18D4943FC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CE660-C4B6-4D64-8C7D-A37411383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C18DF5-2339-4807-BFAF-A6168264CC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27780D-3533-4B1A-B2EB-8375A5826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EB57A-FD64-43FE-9570-0472D99B0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35449-8D90-4E47-9A37-718DE9595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79B46-2976-40ED-99AE-27EC38F80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AFE61-8750-48F3-B547-9767AE437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F5EE3-FC4D-46CF-B6B1-EC7EFA70F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1E43C-3524-4854-A1D3-57DB94FC7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4FB448E-4C16-4937-8876-46955FC39A2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3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30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C20FA1B-B800-44A2-89F7-74A926EF01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30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E930B1-823C-4656-BD43-3BB6464EF07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4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0FDA8F-CD9D-4AE9-AD28-C0D0D69D6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4 Election Results</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1"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3-20</a:t>
            </a:r>
            <a:endParaRPr b="1" lang="en-US" sz="2000" spc="-1" strike="noStrike">
              <a:solidFill>
                <a:srgbClr val="000000"/>
              </a:solidFill>
              <a:latin typeface="Times New Roman"/>
            </a:endParaRPr>
          </a:p>
        </p:txBody>
      </p:sp>
      <p:graphicFrame>
        <p:nvGraphicFramePr>
          <p:cNvPr id="151" name="Object 11"/>
          <p:cNvGraphicFramePr/>
          <p:nvPr/>
        </p:nvGraphicFramePr>
        <p:xfrm>
          <a:off x="515880" y="2266920"/>
          <a:ext cx="8139240" cy="1133640"/>
        </p:xfrm>
        <a:graphic>
          <a:graphicData uri="http://schemas.openxmlformats.org/presentationml/2006/ole">
            <p:oleObj progId="Word.Document.12" r:id="rId2" spid="">
              <p:embed/>
              <p:pic>
                <p:nvPicPr>
                  <p:cNvPr id="15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Chair and Vice Chair Election Results</a:t>
            </a:r>
            <a:endParaRPr b="1" lang="en-US" sz="3200" spc="-1" strike="noStrike">
              <a:solidFill>
                <a:srgbClr val="0000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firm Steve Shellhammer as WG Chair</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r>
              <a:rPr b="0" lang="en-US" sz="2400" spc="-1" strike="noStrike">
                <a:solidFill>
                  <a:srgbClr val="000000"/>
                </a:solidFill>
                <a:latin typeface="Times New Roman"/>
              </a:rPr>
              <a:t>	</a:t>
            </a:r>
            <a:r>
              <a:rPr b="0" lang="en-US" sz="2400" spc="-1" strike="noStrike">
                <a:solidFill>
                  <a:srgbClr val="000000"/>
                </a:solidFill>
                <a:latin typeface="Times New Roman"/>
              </a:rPr>
              <a:t>9</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ain:</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firm Ivan Reede as WG Vice Chair</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r>
              <a:rPr b="0" lang="en-US" sz="2400" spc="-1" strike="noStrike">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ain:</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5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47383D-7D6E-407C-B5DF-ADEE88C8C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 User</cp:lastModifiedBy>
  <cp:lastPrinted>1998-02-10T13:28:06Z</cp:lastPrinted>
  <dcterms:modified xsi:type="dcterms:W3CDTF">2014-03-20T08:17:11Z</dcterms:modified>
  <cp:revision>553</cp:revision>
  <dc:subject/>
  <dc:title>TAG Overview</dc:title>
</cp:coreProperties>
</file>