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ea typeface="굴림"/>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ea typeface="굴림"/>
              </a:rPr>
              <a:t>Page </a:t>
            </a:r>
            <a:fld id="{27A26CD6-9F11-47FD-888B-37C4823B003A}"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3FFCD055-5F61-436E-8089-D9745418E84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54160" y="701640"/>
            <a:ext cx="4626000" cy="3468600"/>
          </a:xfrm>
          <a:prstGeom prst="rect">
            <a:avLst/>
          </a:prstGeom>
          <a:ln w="0">
            <a:noFill/>
          </a:ln>
        </p:spPr>
      </p:sp>
      <p:sp>
        <p:nvSpPr>
          <p:cNvPr id="1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0743C-FF9A-472F-BDFB-A7469E35F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CFEDA-9B32-4966-B72A-6D5A04B5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4EE3D-6C76-44D1-BE33-B10270E26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4F80F6-F4E0-4955-9CBA-1047C8D0A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DE832F-F62B-46B4-84C0-023EC4C34A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B98B9-C0A1-4454-81AA-BB088252F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C097B-C356-4EA4-BC3E-8FEDC623E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D946E-52AF-40A6-A1A2-8B9BB9A1C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B669-8D67-4054-9CF6-65AC32EFC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C61B0-6AA8-4ECC-8196-7CF36B0B9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0C228-6E4E-4CA2-8399-2EE54F035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DD0D7-84F6-453A-A875-797472AD9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5677F-5B79-4A47-82A4-CF420A8F0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99AAF-875B-43E8-906E-F3AEA1A32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1B768-1D5F-480B-AFD8-9D2841A62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F6D5B9-79D0-49A4-BC27-E86FB9228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0C7A2E-80CB-4C15-8E86-CE6C1A2EBA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28363A-88F8-44BD-80B8-3CA5F6C98C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6E0CC4-C799-4E38-BDA7-C41364AED7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5E08BA-F448-40B6-91B7-38151AE4A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089FDF-BD90-4F37-9AF8-4862FBE498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17A09F-5883-4F02-9B73-2FC91603A3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05CC-3645-42F3-AC98-65083738C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C11CA9-EFC6-4BF6-97E0-1BAA258459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5C7176-8B35-46A2-978E-F38D75C74D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38678B-3F84-4BD2-944E-F60F3AF5B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E636BD-C0B2-4902-8C53-669B5AF43F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475C09-6124-484D-A6FC-773E1ACBC1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050791-2623-42EB-BF65-9FBC511CA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63DDC1-C285-4AFC-A146-3D2894843A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28339-2C5B-414B-9AD3-FBF433510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6123F-D8BC-44D5-A82F-5C26CC4D0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EC98-859C-4713-BBB8-23913632D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C4A77-3B31-448B-813E-C448F9D82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90587-921B-4195-8B94-010A77052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E806-FF65-4125-A2A8-065077C28B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091CB6F7-1DED-4AAE-B57C-091C08261216}"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3/0097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3/0097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80B7171D-45C9-4B63-A1CC-B2179CF22CB3}"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doc.: IEEE 802.19-13/0097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E8327D7E-B320-4424-8ED2-D154A7AE853C}"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3</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0A7FE55-1B30-4A80-BA36-160C2C78EBD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IEEE P802.19.1 PAR Extension Request</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Notic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Release:</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굴림"/>
              </a:rPr>
              <a:t>Patent Policy and Procedures:</a:t>
            </a:r>
            <a:r>
              <a:rPr b="0" lang="en-US" sz="900" spc="-1" strike="noStrike">
                <a:solidFill>
                  <a:srgbClr val="000000"/>
                </a:solidFill>
                <a:latin typeface="Times New Roman"/>
                <a:ea typeface="굴림"/>
              </a:rPr>
              <a:t> </a:t>
            </a:r>
            <a:r>
              <a:rPr b="0" lang="en-US" sz="800" spc="-1" strike="noStrike">
                <a:solidFill>
                  <a:srgbClr val="000000"/>
                </a:solidFill>
                <a:latin typeface="Times New Roman"/>
                <a:ea typeface="굴림"/>
              </a:rPr>
              <a:t>The contributor is familiar with the IEEE 802 Patent Policy and Procedures &lt;</a:t>
            </a:r>
            <a:r>
              <a:rPr b="0" lang="en-US" sz="800" spc="-1" strike="noStrike" u="sng">
                <a:solidFill>
                  <a:srgbClr val="0066ff"/>
                </a:solidFill>
                <a:uFillTx/>
                <a:latin typeface="Times New Roman"/>
                <a:ea typeface="굴림"/>
              </a:rPr>
              <a:t>http:// ieee802.org/guides/bylaws/sb-bylaws.pdf</a:t>
            </a:r>
            <a:r>
              <a:rPr b="0" lang="en-US" sz="800" spc="-1" strike="noStrike">
                <a:solidFill>
                  <a:srgbClr val="000000"/>
                </a:solidFill>
                <a:latin typeface="Times New Roman"/>
                <a:ea typeface="굴림"/>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ea typeface="굴림"/>
              </a:rPr>
              <a:t>If you have questions, contact the IEEE Patent Committee Administrator at &lt;</a:t>
            </a:r>
            <a:r>
              <a:rPr b="0" lang="en-US" sz="800" spc="-1" strike="noStrike" u="sng">
                <a:solidFill>
                  <a:srgbClr val="0066ff"/>
                </a:solidFill>
                <a:uFillTx/>
                <a:latin typeface="Times New Roman"/>
                <a:ea typeface="굴림"/>
                <a:hlinkClick r:id="rId1"/>
              </a:rPr>
              <a:t>patcom@ieee.org</a:t>
            </a:r>
            <a:r>
              <a:rPr b="1" lang="en-US" sz="800" spc="-1" strike="noStrike">
                <a:solidFill>
                  <a:srgbClr val="003399"/>
                </a:solidFill>
                <a:latin typeface="Times New Roman"/>
                <a:ea typeface="굴림"/>
              </a:rPr>
              <a:t>&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Date:</a:t>
            </a:r>
            <a:r>
              <a:rPr b="0" lang="en-US" sz="2000" spc="-1" strike="noStrike">
                <a:solidFill>
                  <a:srgbClr val="000000"/>
                </a:solidFill>
                <a:latin typeface="Times New Roman"/>
                <a:ea typeface="굴림"/>
              </a:rPr>
              <a:t> 2013-07-19</a:t>
            </a:r>
            <a:endParaRPr b="1" lang="en-US" sz="2000" spc="-1" strike="noStrike">
              <a:solidFill>
                <a:srgbClr val="000000"/>
              </a:solidFill>
              <a:latin typeface="Times New Roman"/>
            </a:endParaRPr>
          </a:p>
        </p:txBody>
      </p:sp>
      <p:graphicFrame>
        <p:nvGraphicFramePr>
          <p:cNvPr id="151" name="Object 11"/>
          <p:cNvGraphicFramePr/>
          <p:nvPr/>
        </p:nvGraphicFramePr>
        <p:xfrm>
          <a:off x="515880" y="2266920"/>
          <a:ext cx="8139240" cy="1133640"/>
        </p:xfrm>
        <a:graphic>
          <a:graphicData uri="http://schemas.openxmlformats.org/presentationml/2006/ole">
            <p:oleObj progId="Word.Document.12" r:id="rId2" spid="">
              <p:embed/>
              <p:pic>
                <p:nvPicPr>
                  <p:cNvPr id="15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Draft Status</a:t>
            </a:r>
            <a:endParaRPr b="1" lang="en-US" sz="3200" spc="-1" strike="noStrike">
              <a:solidFill>
                <a:srgbClr val="000000"/>
              </a:solidFill>
              <a:latin typeface="Times New Roman"/>
            </a:endParaRPr>
          </a:p>
        </p:txBody>
      </p:sp>
      <p:sp>
        <p:nvSpPr>
          <p:cNvPr id="155" name=""/>
          <p:cNvSpPr txBox="1"/>
          <p:nvPr/>
        </p:nvSpPr>
        <p:spPr>
          <a:xfrm>
            <a:off x="685800" y="1371240"/>
            <a:ext cx="7848720" cy="4876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Title: </a:t>
            </a:r>
            <a:r>
              <a:rPr b="1" i="1" lang="en-US" sz="2000" spc="-1" strike="noStrike">
                <a:solidFill>
                  <a:srgbClr val="000000"/>
                </a:solidFill>
                <a:latin typeface="Times New Roman"/>
                <a:ea typeface="굴림"/>
              </a:rPr>
              <a:t>Draft Standard for TV White Space Coexistence Method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First WG Letter Ballot: April 2012</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allot Failed</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Second WG Letter Ballot: November 2012</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allot Pool of 40 voter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allot Passed</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197 comment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First WG Recirculation: May 2013</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raft 240 pag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82 comment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omment resolution completed at the July 2013 Plenary</a:t>
            </a:r>
            <a:endParaRPr b="0" lang="en-US" sz="1800" spc="-1" strike="noStrike">
              <a:solidFill>
                <a:srgbClr val="000000"/>
              </a:solidFill>
              <a:latin typeface="Times New Roman"/>
            </a:endParaRPr>
          </a:p>
          <a:p>
            <a:pPr marL="339480" indent="-33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굴림"/>
              </a:rPr>
              <a:t>Draft 3.05 on Private Area</a:t>
            </a:r>
            <a:endParaRPr b="1" lang="en-US" sz="22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raft 310 pag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Second WG Recirculation will begin next week</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5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3</a:t>
            </a:r>
            <a:endParaRPr b="0" lang="en-US" sz="1800" spc="-1" strike="noStrike">
              <a:solidFill>
                <a:srgbClr val="000000"/>
              </a:solidFill>
              <a:latin typeface="Times New Roman"/>
            </a:endParaRPr>
          </a:p>
        </p:txBody>
      </p:sp>
      <p:sp>
        <p:nvSpPr>
          <p:cNvPr id="1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C59A97D7-FD90-4285-B668-3AACCB379BD5}"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Plan</a:t>
            </a:r>
            <a:endParaRPr b="1" lang="en-US" sz="3200" spc="-1" strike="noStrike">
              <a:solidFill>
                <a:srgbClr val="000000"/>
              </a:solidFill>
              <a:latin typeface="Times New Roman"/>
            </a:endParaRPr>
          </a:p>
        </p:txBody>
      </p:sp>
      <p:sp>
        <p:nvSpPr>
          <p:cNvPr id="160" name=""/>
          <p:cNvSpPr txBox="1"/>
          <p:nvPr/>
        </p:nvSpPr>
        <p:spPr>
          <a:xfrm>
            <a:off x="685800" y="1218960"/>
            <a:ext cx="8229600" cy="51814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Request PAR extension from EC: July 2013</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Forward to NesCom after approv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Current PAR runs out December 2013</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Finish comment resolutions: July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Second WG Recirculation: August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Form Sponsor Ballot Pool: August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Finish comment resolutions: September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Third WG Recirculation (if needed): October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Finish comment resolutions (if needed): November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Initial Sponsor Ballot: November 2013</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Recirculation Sponsor Ballot: March 2014</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Final WG/EC Approval: July 2014</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RevCom/Standards Board Approval: September 2014</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July 2013</a:t>
            </a:r>
            <a:endParaRPr b="0" lang="en-US" sz="1800" spc="-1" strike="noStrike">
              <a:solidFill>
                <a:srgbClr val="000000"/>
              </a:solidFill>
              <a:latin typeface="Times New Roman"/>
            </a:endParaRPr>
          </a:p>
        </p:txBody>
      </p:sp>
      <p:sp>
        <p:nvSpPr>
          <p:cNvPr id="16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teve Shellhammer, Qualcomm</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DFCCA2F-B449-49F4-B522-46B5005350C5}"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s from 802.11</a:t>
            </a:r>
            <a:endParaRPr b="1" lang="en-US" sz="3200" spc="-1" strike="noStrike">
              <a:solidFill>
                <a:srgbClr val="000000"/>
              </a:solidFill>
              <a:latin typeface="Times New Roman"/>
            </a:endParaRPr>
          </a:p>
        </p:txBody>
      </p:sp>
      <p:sp>
        <p:nvSpPr>
          <p:cNvPr id="165" name=""/>
          <p:cNvSpPr txBox="1"/>
          <p:nvPr/>
        </p:nvSpPr>
        <p:spPr>
          <a:xfrm>
            <a:off x="533160" y="1752120"/>
            <a:ext cx="830556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2 delete “and therefore an extension of the PAR is required”</a:t>
            </a:r>
            <a:endParaRPr b="1"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cce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sert in 2 an explanation of expected project timeline to justify a two year extension.</a:t>
            </a:r>
            <a:endParaRPr b="1"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ccep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x  3.5.   What percentage of the Draft is stable: % (blank)</a:t>
            </a:r>
            <a:endParaRPr b="1"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ccept</a:t>
            </a:r>
            <a:endParaRPr b="0" lang="en-US" sz="24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6"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5B70943-0139-4F23-9CEE-1B056A36101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1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forwarding the IEEE 802.19.1 PAR extension request to Nes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1" name="Date Placeholder 3"/>
          <p:cNvSpPr/>
          <p:nvPr/>
        </p:nvSpPr>
        <p:spPr>
          <a:xfrm>
            <a:off x="700920" y="3366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3</a:t>
            </a:r>
            <a:endParaRPr b="0" lang="en-US" sz="1800" spc="-1" strike="noStrike">
              <a:solidFill>
                <a:srgbClr val="000000"/>
              </a:solidFill>
              <a:latin typeface="Times New Roman"/>
            </a:endParaRPr>
          </a:p>
        </p:txBody>
      </p:sp>
      <p:sp>
        <p:nvSpPr>
          <p:cNvPr id="17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5388B64-1E36-494C-A5C0-4E84A9C37CF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13-07-19T09:33:56Z</dcterms:modified>
  <cp:revision>535</cp:revision>
  <dc:subject/>
  <dc:title>TAG Overview</dc:title>
</cp:coreProperties>
</file>