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767ED80-A8F6-4C3A-B46C-C23E48291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11"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00A0CA8-FD6A-42BA-AF83-CCB3DA4E1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54160" y="701640"/>
            <a:ext cx="4626000" cy="3468600"/>
          </a:xfrm>
          <a:prstGeom prst="rect">
            <a:avLst/>
          </a:prstGeom>
          <a:ln w="0">
            <a:noFill/>
          </a:ln>
        </p:spPr>
      </p:sp>
      <p:sp>
        <p:nvSpPr>
          <p:cNvPr id="413"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80F59-6DEF-415D-B104-791B1B1CA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B6A42-665C-4E62-84E8-BA9BDA363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523AA-0518-4837-8137-E605EC2A6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BE92D-59EE-4B29-850B-DC8A42856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C29C4-353D-4B71-A935-F3AADFAAB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2DB07-CB75-45A7-BB90-78A3F0A5D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C1140-4B82-4A67-B8C6-070779F32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A1230-EA69-45C5-9419-C1DC47D21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04D58-128C-4409-9534-C431FD664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10B22-3921-4AF4-AD52-8AFB638B7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06B79-E00B-4FF6-A5F0-751049850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05B19-87B9-4218-BF37-CC03CC909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4800"/>
            <a:ext cx="1541520" cy="276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B1C34F-77B2-4BA4-B293-38D5BBC6DB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09/0096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mentor.ieee.org/802.11/dcn/09/11-09-1107-00-tvws-some-802-11-comments-on-802-19-par-and-5c.pdf"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ieee802.org/PNP/2008-11/LMSC_OM_approved_081114.pdf"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eee802.org/PARs/2009-11/TVWS-PAR.pdf" TargetMode="External"/><Relationship Id="rId2" Type="http://schemas.openxmlformats.org/officeDocument/2006/relationships/hyperlink" Target="http://ieee802.org/PARs/2009-11/19-09-0081-01-tvws-5cs-with-text-agreed-on-by-the-sg.doc" TargetMode="Externa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5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72EECAA-E4EB-4975-93FB-1A3A4BB14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ses to Comments on 802.19.1 PAR</a:t>
            </a:r>
            <a:endParaRPr b="1" lang="en-US" sz="3200" spc="-1" strike="noStrike">
              <a:solidFill>
                <a:srgbClr val="000000"/>
              </a:solidFill>
              <a:latin typeface="Times New Roman"/>
            </a:endParaRPr>
          </a:p>
        </p:txBody>
      </p:sp>
      <p:sp>
        <p:nvSpPr>
          <p:cNvPr id="59" name="Text Box 5"/>
          <p:cNvSpPr/>
          <p:nvPr/>
        </p:nvSpPr>
        <p:spPr>
          <a:xfrm>
            <a:off x="609480" y="4495680"/>
            <a:ext cx="8001000" cy="17532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9.</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lt;</a:t>
            </a:r>
            <a:r>
              <a:rPr b="0" lang="en-US" sz="800" spc="-1" strike="noStrike" u="sng">
                <a:solidFill>
                  <a:srgbClr val="0066ff"/>
                </a:solidFill>
                <a:uFillTx/>
                <a:latin typeface="Times New Roman"/>
              </a:rPr>
              <a:t>http:// ieee802.org/guides/bylaws/sb-bylaws.pdf</a:t>
            </a:r>
            <a:r>
              <a:rPr b="0" lang="en-US" sz="800" spc="-1" strike="noStrike">
                <a:solidFill>
                  <a:srgbClr val="000000"/>
                </a:solidFill>
                <a:latin typeface="Times New Roman"/>
              </a:rPr>
              <a:t>&g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TAG of patent information that might be relevant to the standard is essential to reduce the possibility for delays in the development process and increase the likelihood that the draft publication will be approved for publication. Please notify the Chair &lt;shellhammer@ieee.org&gt; as early as possible, in written or electronic form, if patented technology (or technology under patent application) might be incorporated into a draft standard being developed within the IEEE 802.19 TAG. </a:t>
            </a:r>
            <a:r>
              <a:rPr b="1" lang="en-US" sz="800" spc="-1" strike="noStrike">
                <a:solidFill>
                  <a:srgbClr val="003399"/>
                </a:solidFill>
                <a:latin typeface="Times New Roman"/>
              </a:rPr>
              <a:t>If you have questions, contact the IEEE Patent Committee Administrator at &lt;</a:t>
            </a:r>
            <a:r>
              <a:rPr b="0" lang="en-US" sz="800" spc="-1" strike="noStrike" u="sng">
                <a:solidFill>
                  <a:srgbClr val="0066ff"/>
                </a:solidFill>
                <a:uFillTx/>
                <a:latin typeface="Times New Roman"/>
                <a:hlinkClick r:id="rId1"/>
              </a:rPr>
              <a:t>patcom@ieee.org</a:t>
            </a:r>
            <a:r>
              <a:rPr b="1" lang="en-US" sz="800" spc="-1" strike="noStrike">
                <a:solidFill>
                  <a:srgbClr val="003399"/>
                </a:solidFill>
                <a:latin typeface="Times New Roman"/>
              </a:rPr>
              <a:t>&gt;.</a:t>
            </a:r>
            <a:endParaRPr b="0" lang="en-US" sz="800" spc="-1" strike="noStrike">
              <a:solidFill>
                <a:srgbClr val="000000"/>
              </a:solidFill>
              <a:latin typeface="Times New Roman"/>
            </a:endParaRPr>
          </a:p>
        </p:txBody>
      </p:sp>
      <p:sp>
        <p:nvSpPr>
          <p:cNvPr id="60"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9-11-18</a:t>
            </a:r>
            <a:endParaRPr b="1" lang="en-US" sz="2000" spc="-1" strike="noStrike">
              <a:solidFill>
                <a:srgbClr val="000000"/>
              </a:solidFill>
              <a:latin typeface="Times New Roman"/>
            </a:endParaRPr>
          </a:p>
        </p:txBody>
      </p:sp>
      <p:graphicFrame>
        <p:nvGraphicFramePr>
          <p:cNvPr id="61" name="Object 11"/>
          <p:cNvGraphicFramePr/>
          <p:nvPr/>
        </p:nvGraphicFramePr>
        <p:xfrm>
          <a:off x="515880" y="2266920"/>
          <a:ext cx="8139240" cy="1133640"/>
        </p:xfrm>
        <a:graphic>
          <a:graphicData uri="http://schemas.openxmlformats.org/presentationml/2006/ole">
            <p:oleObj progId="Word.Document.12" r:id="rId2" spid="">
              <p:embed/>
              <p:pic>
                <p:nvPicPr>
                  <p:cNvPr id="62" name="Object 11" descr=""/>
                  <p:cNvPicPr/>
                  <p:nvPr/>
                </p:nvPicPr>
                <p:blipFill>
                  <a:blip r:embed="rId3"/>
                  <a:stretch/>
                </p:blipFill>
                <p:spPr>
                  <a:xfrm>
                    <a:off x="515880" y="2266920"/>
                    <a:ext cx="8139240" cy="1133640"/>
                  </a:xfrm>
                  <a:prstGeom prst="rect">
                    <a:avLst/>
                  </a:prstGeom>
                  <a:ln w="0">
                    <a:noFill/>
                  </a:ln>
                </p:spPr>
              </p:pic>
            </p:oleObj>
          </a:graphicData>
        </a:graphic>
      </p:graphicFrame>
      <p:sp>
        <p:nvSpPr>
          <p:cNvPr id="63" name="Rectangle 12"/>
          <p:cNvSpPr/>
          <p:nvPr/>
        </p:nvSpPr>
        <p:spPr>
          <a:xfrm>
            <a:off x="533520" y="190512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9 disagrees that the 5C does not match the PA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9 acknowledges that the 5C needs additional text on technical feasibilit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add additional material on technical feasibility in the 5C</a:t>
            </a:r>
            <a:endParaRPr b="0" lang="en-US" sz="2000" spc="-1" strike="noStrike">
              <a:solidFill>
                <a:srgbClr val="000000"/>
              </a:solidFill>
              <a:latin typeface="Times New Roman"/>
            </a:endParaRPr>
          </a:p>
        </p:txBody>
      </p:sp>
      <p:sp>
        <p:nvSpPr>
          <p:cNvPr id="10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0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293BEC-E5BE-464A-9B68-B15D970A2A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09" name="Footer Placeholder 4"/>
          <p:cNvSpPr/>
          <p:nvPr/>
        </p:nvSpPr>
        <p:spPr>
          <a:xfrm>
            <a:off x="7721280" y="6475320"/>
            <a:ext cx="117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1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06E94A-AEBD-4828-AF1C-3C97BBE745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3)</a:t>
            </a:r>
            <a:endParaRPr b="1" lang="en-US" sz="3200" spc="-1" strike="noStrike">
              <a:solidFill>
                <a:srgbClr val="000000"/>
              </a:solidFill>
              <a:latin typeface="Times New Roman"/>
            </a:endParaRPr>
          </a:p>
        </p:txBody>
      </p:sp>
      <p:sp>
        <p:nvSpPr>
          <p:cNvPr id="112" name="PlaceHolder 2"/>
          <p:cNvSpPr>
            <a:spLocks noGrp="1"/>
          </p:cNvSpPr>
          <p:nvPr>
            <p:ph/>
          </p:nvPr>
        </p:nvSpPr>
        <p:spPr>
          <a:xfrm>
            <a:off x="685800" y="2057400"/>
            <a:ext cx="7772400" cy="40384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5C - Technical Feasibilit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ponses to the 3 points are non responsive.  The technical details are not given, or shown by example.</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09/1107r0 (</a:t>
            </a:r>
            <a:r>
              <a:rPr b="0" lang="en-US" sz="1800" spc="-1" strike="noStrike" u="sng">
                <a:solidFill>
                  <a:srgbClr val="0066ff"/>
                </a:solidFill>
                <a:uFillTx/>
                <a:latin typeface="Times New Roman"/>
                <a:hlinkClick r:id="rId1"/>
              </a:rPr>
              <a:t>https://mentor.ieee.org/802.11/dcn/09/11-09-1107-00-tvws-some-802-11-comments-on-802-19-par-and-5c.pdf</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11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9 acknowledges that the 5C needs additional text on technical feasibil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add additional material on technical feasibility in the 5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1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3552C8-E94A-402D-BE99-BB3E75E63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19" name="Footer Placeholder 4"/>
          <p:cNvSpPr/>
          <p:nvPr/>
        </p:nvSpPr>
        <p:spPr>
          <a:xfrm>
            <a:off x="7721280" y="6475320"/>
            <a:ext cx="117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2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B405E1-C544-4B79-A9B5-5A7F3CC54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3)</a:t>
            </a:r>
            <a:endParaRPr b="1" lang="en-US" sz="3200" spc="-1" strike="noStrike">
              <a:solidFill>
                <a:srgbClr val="000000"/>
              </a:solidFill>
              <a:latin typeface="Times New Roman"/>
            </a:endParaRPr>
          </a:p>
        </p:txBody>
      </p:sp>
      <p:sp>
        <p:nvSpPr>
          <p:cNvPr id="122" name="PlaceHolder 2"/>
          <p:cNvSpPr>
            <a:spLocks noGrp="1"/>
          </p:cNvSpPr>
          <p:nvPr>
            <p:ph/>
          </p:nvPr>
        </p:nvSpPr>
        <p:spPr>
          <a:xfrm>
            <a:off x="685800" y="2133720"/>
            <a:ext cx="7772400" cy="39621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5C – Economic Feasibilit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ponse does not address what the cost factors are nor if there is economic feasibility that has been demonstrat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12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9 acknowledges that additional text needs to be added to the economic feasibility section of the 5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ed text to economic feasibility section of 5C</a:t>
            </a:r>
            <a:endParaRPr b="0" lang="en-US" sz="2000" spc="-1" strike="noStrike">
              <a:solidFill>
                <a:srgbClr val="000000"/>
              </a:solidFill>
              <a:latin typeface="Times New Roman"/>
            </a:endParaRPr>
          </a:p>
        </p:txBody>
      </p:sp>
      <p:sp>
        <p:nvSpPr>
          <p:cNvPr id="12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2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7B98DF-9944-4ED0-A6FD-6D28E5CCA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29" name="Footer Placeholder 4"/>
          <p:cNvSpPr/>
          <p:nvPr/>
        </p:nvSpPr>
        <p:spPr>
          <a:xfrm>
            <a:off x="7721280" y="6475320"/>
            <a:ext cx="117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06B4C2-2EBB-4833-8106-B2400DD15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3)</a:t>
            </a:r>
            <a:endParaRPr b="1" lang="en-US" sz="3200" spc="-1" strike="noStrike">
              <a:solidFill>
                <a:srgbClr val="000000"/>
              </a:solidFill>
              <a:latin typeface="Times New Roman"/>
            </a:endParaRPr>
          </a:p>
        </p:txBody>
      </p:sp>
      <p:sp>
        <p:nvSpPr>
          <p:cNvPr id="132" name="PlaceHolder 2"/>
          <p:cNvSpPr>
            <a:spLocks noGrp="1"/>
          </p:cNvSpPr>
          <p:nvPr>
            <p:ph/>
          </p:nvPr>
        </p:nvSpPr>
        <p:spPr>
          <a:xfrm>
            <a:off x="685800" y="2057400"/>
            <a:ext cx="7772400" cy="40384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8.1 – 5.5 need explan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laim is made in the PAR that Quality of Service is improved for all participants.  In unlicensed bands, that is not technically feasible.  There is not enough bandwidth to provide independent control of Q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1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cknowledge that QoS may not be improved for all participants, though QoS for most participants may be improv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believe that the coexistence mechanisms will improve QoS for the majority of participan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change “all” to “most”</a:t>
            </a:r>
            <a:endParaRPr b="0" lang="en-US" sz="2000" spc="-1" strike="noStrike">
              <a:solidFill>
                <a:srgbClr val="000000"/>
              </a:solidFill>
              <a:latin typeface="Times New Roman"/>
            </a:endParaRPr>
          </a:p>
        </p:txBody>
      </p:sp>
      <p:sp>
        <p:nvSpPr>
          <p:cNvPr id="13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3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BE7C4F-047B-4D9C-B2CF-01305AC1E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39" name="Footer Placeholder 4"/>
          <p:cNvSpPr/>
          <p:nvPr/>
        </p:nvSpPr>
        <p:spPr>
          <a:xfrm>
            <a:off x="7721280" y="6475320"/>
            <a:ext cx="117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105DA1-B052-40C3-AD68-89ED819A4E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4)</a:t>
            </a:r>
            <a:endParaRPr b="1" lang="en-US" sz="3200" spc="-1" strike="noStrike">
              <a:solidFill>
                <a:srgbClr val="000000"/>
              </a:solidFill>
              <a:latin typeface="Times New Roman"/>
            </a:endParaRPr>
          </a:p>
        </p:txBody>
      </p:sp>
      <p:sp>
        <p:nvSpPr>
          <p:cNvPr id="142" name="PlaceHolder 2"/>
          <p:cNvSpPr>
            <a:spLocks noGrp="1"/>
          </p:cNvSpPr>
          <p:nvPr>
            <p:ph/>
          </p:nvPr>
        </p:nvSpPr>
        <p:spPr>
          <a:xfrm>
            <a:off x="685800" y="1981080"/>
            <a:ext cx="7772400" cy="426744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The PAR does not justify the need for a Standard.</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ggesting a Messaging system rather than a physical syste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consumption considera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lane system that does not change the MAC/PHYs, so the relative rates that are needed to match for communication between the disparate systems is not show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144" name=""/>
          <p:cNvSpPr txBox="1"/>
          <p:nvPr/>
        </p:nvSpPr>
        <p:spPr>
          <a:xfrm>
            <a:off x="685800" y="1828440"/>
            <a:ext cx="7772400" cy="42670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disagree that the PAR does not justify the need for the standard, even if it is only a messaging system. A messaging system requires standardization so that all devices can interoperat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olset provided by the standard to the market will allow device manufacturers and network operators to select the right tradeoffs (e.g. power consumption) for their system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changes to PAR required</a:t>
            </a:r>
            <a:endParaRPr b="0" lang="en-US" sz="2000" spc="-1" strike="noStrike">
              <a:solidFill>
                <a:srgbClr val="000000"/>
              </a:solidFill>
              <a:latin typeface="Times New Roman"/>
            </a:endParaRPr>
          </a:p>
        </p:txBody>
      </p:sp>
      <p:sp>
        <p:nvSpPr>
          <p:cNvPr id="14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4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175906-F778-44E2-A4E8-1656A65F2B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49" name="Footer Placeholder 4"/>
          <p:cNvSpPr/>
          <p:nvPr/>
        </p:nvSpPr>
        <p:spPr>
          <a:xfrm>
            <a:off x="7721280" y="6475320"/>
            <a:ext cx="117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9E059BF-DB30-45D8-9837-A9EA5E3FD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4)</a:t>
            </a:r>
            <a:endParaRPr b="1" lang="en-US" sz="3200" spc="-1" strike="noStrike">
              <a:solidFill>
                <a:srgbClr val="000000"/>
              </a:solidFill>
              <a:latin typeface="Times New Roman"/>
            </a:endParaRPr>
          </a:p>
        </p:txBody>
      </p:sp>
      <p:sp>
        <p:nvSpPr>
          <p:cNvPr id="152" name="PlaceHolder 2"/>
          <p:cNvSpPr>
            <a:spLocks noGrp="1"/>
          </p:cNvSpPr>
          <p:nvPr>
            <p:ph/>
          </p:nvPr>
        </p:nvSpPr>
        <p:spPr>
          <a:xfrm>
            <a:off x="685800" y="2057400"/>
            <a:ext cx="7772400" cy="41911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Confusion on what the proposed PAR will actually change?</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not clear if 802.19 is going to propose another MAC/PHY or just provide a layer-3 and above specificat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line</a:t>
            </a:r>
            <a:endParaRPr b="1" lang="en-US" sz="3200" spc="-1" strike="noStrike">
              <a:solidFill>
                <a:srgbClr val="000000"/>
              </a:solidFill>
              <a:latin typeface="Times New Roman"/>
            </a:endParaRPr>
          </a:p>
        </p:txBody>
      </p:sp>
      <p:sp>
        <p:nvSpPr>
          <p:cNvPr id="65" name=""/>
          <p:cNvSpPr txBox="1"/>
          <p:nvPr/>
        </p:nvSpPr>
        <p:spPr>
          <a:xfrm>
            <a:off x="685440" y="1676520"/>
            <a:ext cx="7924680" cy="44193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 from and responses to 802.11</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 from and responses to 802.16</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 from and responses to 802.21</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 from and responses to 802.22</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 from and responses to Paul Nikolich</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 from and responses to James Gilb</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 from and responses to Bob Grow</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 from and responses to Wendong Hu</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 from and responses to Richard Kennedy</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 from and responses to T. Olson</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6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6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0F2A6C-7BB0-4CD7-A4AA-982DADCD8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154" name=""/>
          <p:cNvSpPr txBox="1"/>
          <p:nvPr/>
        </p:nvSpPr>
        <p:spPr>
          <a:xfrm>
            <a:off x="685800" y="1600200"/>
            <a:ext cx="7772400" cy="45720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essaging system above the MAC layer will be provided in the standard</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upport sensing only devices, which do not have backhaul connectivity, coexistence methods may be included in the standard</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specific MAC/PHY capabilities (e.g. DFS) may be required in the individual MAC/PHY standard in order for the devices to adapt so as to reduce interference between systems</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ndard is not a new MAC/PHY standard</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the phase in the title “coexistence mechanisms” to “coexistence methods”</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ed language to Explanatory Notes expanding on the scope</a:t>
            </a:r>
            <a:endParaRPr b="0" lang="en-US" sz="2000" spc="-1" strike="noStrike">
              <a:solidFill>
                <a:srgbClr val="000000"/>
              </a:solidFill>
              <a:latin typeface="Times New Roman"/>
            </a:endParaRPr>
          </a:p>
        </p:txBody>
      </p:sp>
      <p:sp>
        <p:nvSpPr>
          <p:cNvPr id="15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5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55B4BA0-470C-4C82-B166-10BE538FD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59" name="Footer Placeholder 4"/>
          <p:cNvSpPr/>
          <p:nvPr/>
        </p:nvSpPr>
        <p:spPr>
          <a:xfrm>
            <a:off x="7721280" y="6475320"/>
            <a:ext cx="117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6B7D50-DE2D-4ECA-85AD-0673D51B5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4)</a:t>
            </a: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7772400" cy="426744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 Title is very ambiguous as to what the “Coexistence Mechanism” really are?</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this requiring a new MAC/PHY or changes to existing 802 WG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16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cknowledge that the term is not precise enough and additional material is need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title the term “coexistence mechanisms” has been replaced by “coexistence metho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tional detail on the coexistence methods is provided in the explanatory notes section</a:t>
            </a:r>
            <a:endParaRPr b="0" lang="en-US" sz="2000" spc="-1" strike="noStrike">
              <a:solidFill>
                <a:srgbClr val="000000"/>
              </a:solidFill>
              <a:latin typeface="Times New Roman"/>
            </a:endParaRPr>
          </a:p>
        </p:txBody>
      </p:sp>
      <p:sp>
        <p:nvSpPr>
          <p:cNvPr id="16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6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B5A7D2-0DAA-4133-B692-75B734453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69" name="Footer Placeholder 4"/>
          <p:cNvSpPr/>
          <p:nvPr/>
        </p:nvSpPr>
        <p:spPr>
          <a:xfrm>
            <a:off x="7721280" y="6475320"/>
            <a:ext cx="117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DE48AA-7E8C-4926-AD3B-A37A3218B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5)</a:t>
            </a:r>
            <a:endParaRPr b="1" lang="en-US" sz="32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From the 5C the following statement needs to be clarified as to what changes to the 802 WGs are going to be targeted.</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is standard will not require changes to any existing 802 MAC SAP definitions, ensuring that all LLC and MAC interfaces are compatible to and in conformance with the IEEE 802.1 architecture, management and internetworking standar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17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ection of the 5C is on compatibility with higher lay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plan to be compatible with higher lay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ndard will provide a toolset that will leverage MAC/PHY capabilities at defined in the respective MAC/PHY standard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change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7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C97EB1-B3EF-48CD-9795-00ED8CDCC1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79" name="Footer Placeholder 4"/>
          <p:cNvSpPr/>
          <p:nvPr/>
        </p:nvSpPr>
        <p:spPr>
          <a:xfrm>
            <a:off x="7721280" y="6475320"/>
            <a:ext cx="117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7711F27-6135-4D43-A4C6-7A2A0A4135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5)</a:t>
            </a:r>
            <a:endParaRPr b="1" lang="en-US" sz="3200" spc="-1" strike="noStrike">
              <a:solidFill>
                <a:srgbClr val="000000"/>
              </a:solidFill>
              <a:latin typeface="Times New Roman"/>
            </a:endParaRPr>
          </a:p>
        </p:txBody>
      </p:sp>
      <p:sp>
        <p:nvSpPr>
          <p:cNvPr id="182" name="PlaceHolder 2"/>
          <p:cNvSpPr>
            <a:spLocks noGrp="1"/>
          </p:cNvSpPr>
          <p:nvPr>
            <p:ph/>
          </p:nvPr>
        </p:nvSpPr>
        <p:spPr>
          <a:xfrm>
            <a:off x="685800" y="2133720"/>
            <a:ext cx="7772400" cy="39621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 – It is implied that a Standard will be imposed on all the 802 WG after ratification, and what changes may be required is unknown.</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more detail on what the expectation is that justifies this being a Standard rather than a Recommended Practi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18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thing in the PAR/5C that implies this standard would be mandated on any of the 802 working grou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produces standards, standards are not mandated on any group or individual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change required </a:t>
            </a:r>
            <a:endParaRPr b="0" lang="en-US" sz="2000" spc="-1" strike="noStrike">
              <a:solidFill>
                <a:srgbClr val="000000"/>
              </a:solidFill>
              <a:latin typeface="Times New Roman"/>
            </a:endParaRPr>
          </a:p>
        </p:txBody>
      </p:sp>
      <p:sp>
        <p:nvSpPr>
          <p:cNvPr id="18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8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3CA6BE-31F7-462E-B17F-FF8EC8438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2856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ments from 802.16</a:t>
            </a:r>
            <a:endParaRPr b="1" lang="en-US" sz="3600" spc="-1" strike="noStrike">
              <a:solidFill>
                <a:srgbClr val="000000"/>
              </a:solidFill>
              <a:latin typeface="Times New Roman"/>
            </a:endParaRPr>
          </a:p>
        </p:txBody>
      </p:sp>
      <p:sp>
        <p:nvSpPr>
          <p:cNvPr id="18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90"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31E906F-23E3-44FC-A242-3F594CC17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 Comment #1</a:t>
            </a:r>
            <a:endParaRPr b="1" lang="en-US" sz="3200" spc="-1" strike="noStrike">
              <a:solidFill>
                <a:srgbClr val="000000"/>
              </a:solidFill>
              <a:latin typeface="Times New Roman"/>
            </a:endParaRPr>
          </a:p>
        </p:txBody>
      </p:sp>
      <p:sp>
        <p:nvSpPr>
          <p:cNvPr id="193" name=""/>
          <p:cNvSpPr txBox="1"/>
          <p:nvPr/>
        </p:nvSpPr>
        <p:spPr>
          <a:xfrm>
            <a:off x="685800" y="1752120"/>
            <a:ext cx="777240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 1: In sections “Type of Project: New IEEE Standard” and “3.1 Working Group: Coexistence TAG (C/LM/WG802.19)”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re could be potentially a conflict of interest between this new 802.19.1 Project for a new standard and the 802.19 TAG’s advisory role, which is mandated by Clause 14 of the IEEE 802 Operations Manual (</a:t>
            </a:r>
            <a:r>
              <a:rPr b="1" lang="en-US" sz="2000" spc="-1" strike="noStrike" u="sng">
                <a:solidFill>
                  <a:srgbClr val="0066ff"/>
                </a:solidFill>
                <a:uFillTx/>
                <a:latin typeface="Times New Roman"/>
                <a:hlinkClick r:id="rId1"/>
              </a:rPr>
              <a:t>http://www.ieee802.org/PNP/2008-11/LMSC_OM_approved_081114.pdf</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ssible Remedy:</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on 1: Separate this new standard effort from the 802.19 TAG and create a new Working Group for this PA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ion 2: Delete Clause 14 from the 802 Operations manual and allow this group to define coexistence standards that are not mandatory on other Working Group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9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95"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9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C2AE9A9-12BC-466A-97F0-85F1F43D9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19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802.19 WG would not develop MAC/PHY standards and so the potential conflict of interest would not ari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 can place this project in any WG it chooses and can start a new WG if it so choos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recommendation is that the work be done 802.19</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change required to the PAR</a:t>
            </a:r>
            <a:endParaRPr b="0" lang="en-US" sz="2000" spc="-1" strike="noStrike">
              <a:solidFill>
                <a:srgbClr val="000000"/>
              </a:solidFill>
              <a:latin typeface="Times New Roman"/>
            </a:endParaRPr>
          </a:p>
        </p:txBody>
      </p:sp>
      <p:sp>
        <p:nvSpPr>
          <p:cNvPr id="19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200"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0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39453A-A76A-41F1-8445-6B8047BC72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70" name=""/>
          <p:cNvSpPr txBox="1"/>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s document provides responses to comments received on the 802.19.1 PAR/5C</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72"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72F61C-6B59-45BB-82F8-A0171AA7C0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R Comment #2</a:t>
            </a:r>
            <a:endParaRPr b="1" lang="en-US" sz="3200" spc="-1" strike="noStrike">
              <a:solidFill>
                <a:srgbClr val="000000"/>
              </a:solidFill>
              <a:latin typeface="Times New Roman"/>
            </a:endParaRPr>
          </a:p>
        </p:txBody>
      </p:sp>
      <p:sp>
        <p:nvSpPr>
          <p:cNvPr id="203" name=""/>
          <p:cNvSpPr txBox="1"/>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mment 2: In Section 5.2 (Scope):</a:t>
            </a:r>
            <a:r>
              <a:rPr b="1" i="1" lang="en-US"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re is concern that this standard would address coexistence with a new PHY and MAC that would be incompatible with other IEEE 802 standards. We would like this project to define mechanisms that (as described in the explanatory notes) are radio technology independent and can be applied in conjunction with existing wireless standards.</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ggested Remedy: </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lease modify the Scope statement “</a:t>
            </a:r>
            <a:r>
              <a:rPr b="1" i="1" lang="en-US" sz="1800" spc="-1" strike="noStrike">
                <a:solidFill>
                  <a:srgbClr val="000000"/>
                </a:solidFill>
                <a:latin typeface="Times New Roman"/>
              </a:rPr>
              <a:t>5.2 Scope: The standard specifies </a:t>
            </a:r>
            <a:r>
              <a:rPr b="1" i="1" lang="en-US" sz="1800" spc="-1" strike="noStrike" u="sng">
                <a:solidFill>
                  <a:srgbClr val="000000"/>
                </a:solidFill>
                <a:uFillTx/>
                <a:latin typeface="Times New Roman"/>
              </a:rPr>
              <a:t>radio technology independent</a:t>
            </a:r>
            <a:r>
              <a:rPr b="1" i="1" lang="en-US" sz="1800" spc="-1" strike="noStrike">
                <a:solidFill>
                  <a:srgbClr val="000000"/>
                </a:solidFill>
                <a:latin typeface="Times New Roman"/>
              </a:rPr>
              <a:t> mechanisms for coexistence among dissimilar or independently operated TV Band Device</a:t>
            </a:r>
            <a:r>
              <a:rPr b="1" i="1" lang="en-US" sz="1800" spc="-1" strike="noStrike" u="sng">
                <a:solidFill>
                  <a:srgbClr val="000000"/>
                </a:solidFill>
                <a:uFillTx/>
                <a:latin typeface="Times New Roman"/>
              </a:rPr>
              <a:t>s</a:t>
            </a:r>
            <a:r>
              <a:rPr b="1" i="1" lang="en-US" sz="1800" spc="-1" strike="noStrike">
                <a:solidFill>
                  <a:srgbClr val="000000"/>
                </a:solidFill>
                <a:latin typeface="Times New Roman"/>
              </a:rPr>
              <a:t> (TVBD</a:t>
            </a:r>
            <a:r>
              <a:rPr b="1" i="1" lang="en-US" sz="1800" spc="-1" strike="noStrike" u="sng">
                <a:solidFill>
                  <a:srgbClr val="000000"/>
                </a:solidFill>
                <a:uFillTx/>
                <a:latin typeface="Times New Roman"/>
              </a:rPr>
              <a:t>s</a:t>
            </a:r>
            <a:r>
              <a:rPr b="1" i="1" lang="en-US" sz="1800" spc="-1" strike="noStrike">
                <a:solidFill>
                  <a:srgbClr val="000000"/>
                </a:solidFill>
                <a:latin typeface="Times New Roman"/>
              </a:rPr>
              <a:t>). </a:t>
            </a:r>
            <a:r>
              <a:rPr b="1" i="1" lang="en-US" sz="1800" spc="-1" strike="noStrike" u="sng">
                <a:solidFill>
                  <a:srgbClr val="000000"/>
                </a:solidFill>
                <a:uFillTx/>
                <a:latin typeface="Times New Roman"/>
              </a:rPr>
              <a:t>These mechanisms are applicable to existing IEEE 802 wireless standards.</a:t>
            </a:r>
            <a:r>
              <a:rPr b="1" lang="en-US" sz="1800" spc="-1" strike="noStrike" u="sng">
                <a:solidFill>
                  <a:srgbClr val="000000"/>
                </a:solidFill>
                <a:uFillTx/>
                <a:latin typeface="Times New Roman"/>
              </a:rPr>
              <a:t>”</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0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205"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0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400D46C-AA48-4364-A83F-78136DFC2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20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ccept in principl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accept some of the recommended changes</a:t>
            </a:r>
            <a:endParaRPr b="0" lang="en-US" sz="2000" spc="-1" strike="noStrike">
              <a:solidFill>
                <a:srgbClr val="000000"/>
              </a:solidFill>
              <a:latin typeface="Times New Roman"/>
            </a:endParaRPr>
          </a:p>
        </p:txBody>
      </p:sp>
      <p:sp>
        <p:nvSpPr>
          <p:cNvPr id="20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210"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C248F2-9801-4EB9-9150-6D325AEFB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5C Comment #1</a:t>
            </a:r>
            <a:endParaRPr b="1" lang="en-US" sz="3200" spc="-1" strike="noStrike">
              <a:solidFill>
                <a:srgbClr val="000000"/>
              </a:solidFill>
              <a:latin typeface="Times New Roman"/>
            </a:endParaRPr>
          </a:p>
        </p:txBody>
      </p:sp>
      <p:sp>
        <p:nvSpPr>
          <p:cNvPr id="213" name=""/>
          <p:cNvSpPr txBox="1"/>
          <p:nvPr/>
        </p:nvSpPr>
        <p:spPr>
          <a:xfrm>
            <a:off x="685800" y="1676520"/>
            <a:ext cx="7772400" cy="4572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garding </a:t>
            </a:r>
            <a:r>
              <a:rPr b="1" i="1" lang="en-US" sz="1800" spc="-1" strike="noStrike">
                <a:solidFill>
                  <a:srgbClr val="000000"/>
                </a:solidFill>
                <a:latin typeface="Times New Roman"/>
              </a:rPr>
              <a:t>“Coexistence of 802 wireless standards specifying devices for unlicensed operation”</a:t>
            </a:r>
            <a:r>
              <a:rPr b="1" lang="en-US" sz="1800" spc="-1" strike="noStrike">
                <a:solidFill>
                  <a:srgbClr val="000000"/>
                </a:solidFill>
                <a:latin typeface="Times New Roman"/>
              </a:rPr>
              <a:t> in the 5C, the following modifications would be appropriate (see text in blue):  </a:t>
            </a:r>
            <a:endParaRPr b="1"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A working group proposing a wireless project is required to demonstrate coexistence through the preparation of a Coexistence Assurance (CA) document unless it is not applicable.  The Working Group will create a CA document as part of the WG balloting process.  If the Working Group elects not to create a CA document, it will explain to the EC the reason the CA document is not applicable. </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standard will enhance coexistence in the TVWS.  Evaluation of the effectiveness of coexistence will be done during standard development. </a:t>
            </a:r>
            <a:r>
              <a:rPr b="1" lang="en-US" sz="1800" spc="-1" strike="noStrike" u="sng">
                <a:solidFill>
                  <a:srgbClr val="000000"/>
                </a:solidFill>
                <a:uFillTx/>
                <a:latin typeface="Times New Roman"/>
              </a:rPr>
              <a:t>The working group will create a CA document as part of the WG balloting process. This document will demonstrate that 802.19.1 coexists with 802.16h and other unlicensed wireless standards.”</a:t>
            </a: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215"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2047A5-860E-49F2-B0DA-9D682EEDF8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21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ndard will not be a wireless MAC/PHY standard and hence will not produce a CA docu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tatement will be added to the 5C saying that a CA document will not be produced since this is not a wireless MAC/PHY standar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220"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9AE68B-FAD1-46F7-BB29-297D5CBD32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762120" y="22856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ments from IEEE 802.21</a:t>
            </a:r>
            <a:endParaRPr b="1" lang="en-US" sz="3600" spc="-1" strike="noStrike">
              <a:solidFill>
                <a:srgbClr val="000000"/>
              </a:solidFill>
              <a:latin typeface="Times New Roman"/>
            </a:endParaRPr>
          </a:p>
        </p:txBody>
      </p:sp>
      <p:sp>
        <p:nvSpPr>
          <p:cNvPr id="223"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224"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3D8762-976E-44E8-AF5B-D9BB007FA3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on Scope</a:t>
            </a:r>
            <a:endParaRPr b="1" lang="en-US" sz="3200" spc="-1" strike="noStrike">
              <a:solidFill>
                <a:srgbClr val="000000"/>
              </a:solidFill>
              <a:latin typeface="Times New Roman"/>
            </a:endParaRPr>
          </a:p>
        </p:txBody>
      </p:sp>
      <p:sp>
        <p:nvSpPr>
          <p:cNvPr id="227" name=""/>
          <p:cNvSpPr txBox="1"/>
          <p:nvPr/>
        </p:nvSpPr>
        <p:spPr>
          <a:xfrm>
            <a:off x="685800" y="1828440"/>
            <a:ext cx="7772400" cy="426708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ope:</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Does this PAR propose changes to MAC/PHY to address co-existence </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sues or does this PAR propose media independent mechanisms for co-existence?</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Please note that 802.21 MIIS (Media Independent Information </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ice) is a protocol/mechanism for signaling or control channel access </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Does this Project consider developing specific signaling mechanisms </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tween devices for resolving co-existence issues or does it just rely on the </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gulatory TVWS database to discover available frequencies in any given area?</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Can the mechanisms proposed in this specification apply to other </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licensed bands as well?</a:t>
            </a:r>
            <a:endParaRPr b="1" lang="en-US" sz="1800" spc="-1" strike="noStrike">
              <a:solidFill>
                <a:srgbClr val="000000"/>
              </a:solidFill>
              <a:latin typeface="Times New Roman"/>
            </a:endParaRPr>
          </a:p>
        </p:txBody>
      </p:sp>
      <p:sp>
        <p:nvSpPr>
          <p:cNvPr id="22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229"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83E91A-1817-4C21-9F80-CA9F98788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23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ain MAC/PHY capabilities may be described in the standard.  Such capabilities may included things like DFS and TP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course of standard development the WG will consider use of access to the TVWS database as well as other metho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expected that the coexistence methods developed in the standard may be useful in other band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s were made to the explanatory no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3"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234"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53574A8-D58D-4EBB-B9A0-63AD9F697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on Purpose</a:t>
            </a:r>
            <a:endParaRPr b="1" lang="en-US" sz="3200" spc="-1" strike="noStrike">
              <a:solidFill>
                <a:srgbClr val="000000"/>
              </a:solidFill>
              <a:latin typeface="Times New Roman"/>
            </a:endParaRPr>
          </a:p>
        </p:txBody>
      </p:sp>
      <p:sp>
        <p:nvSpPr>
          <p:cNvPr id="237" name=""/>
          <p:cNvSpPr txBox="1"/>
          <p:nvPr/>
        </p:nvSpPr>
        <p:spPr>
          <a:xfrm>
            <a:off x="685800" y="1828440"/>
            <a:ext cx="7772400" cy="4267080"/>
          </a:xfrm>
          <a:prstGeom prst="rect">
            <a:avLst/>
          </a:prstGeom>
          <a:noFill/>
          <a:ln w="0">
            <a:noFill/>
          </a:ln>
        </p:spPr>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pos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The purpose of the standard is to enable the family of IEEE 802 Wireless Standards to most effectively use TV White Space by providing  standard coexistence mechanisms among dissimilar or independently operated  TVBD networks and dissimilar TVBD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arify what is meant by "most effectively" in above sentence? Is there any quantitative criteria/metrics for measuring this?</a:t>
            </a:r>
            <a:endParaRPr b="1" lang="en-US" sz="2000" spc="-1" strike="noStrike">
              <a:solidFill>
                <a:srgbClr val="000000"/>
              </a:solidFill>
              <a:latin typeface="Times New Roman"/>
            </a:endParaRPr>
          </a:p>
        </p:txBody>
      </p:sp>
      <p:sp>
        <p:nvSpPr>
          <p:cNvPr id="23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239"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BA0EA2-C58F-4273-980D-046182BD7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24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gree that the wording can be improv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 metrics will be developed and used during the development of the standar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eted the word “mo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3"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244"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3398F0-0986-4B16-9072-124F7DA3BD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22856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ments from IEEE 802.22</a:t>
            </a:r>
            <a:endParaRPr b="1" lang="en-US" sz="3600" spc="-1" strike="noStrike">
              <a:solidFill>
                <a:srgbClr val="000000"/>
              </a:solidFill>
              <a:latin typeface="Times New Roman"/>
            </a:endParaRPr>
          </a:p>
        </p:txBody>
      </p:sp>
      <p:sp>
        <p:nvSpPr>
          <p:cNvPr id="247"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248"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2A11988-99E2-413C-A8F6-8E5BBDB12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56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ments from 802.11</a:t>
            </a:r>
            <a:endParaRPr b="1" lang="en-US" sz="3600" spc="-1" strike="noStrike">
              <a:solidFill>
                <a:srgbClr val="000000"/>
              </a:solidFill>
              <a:latin typeface="Times New Roman"/>
            </a:endParaRPr>
          </a:p>
        </p:txBody>
      </p:sp>
      <p:sp>
        <p:nvSpPr>
          <p:cNvPr id="7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7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1D5E62-E85E-4E8C-AFB7-5BE61A468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1</a:t>
            </a:r>
            <a:endParaRPr b="1" lang="en-US" sz="3200" spc="-1" strike="noStrike">
              <a:solidFill>
                <a:srgbClr val="000000"/>
              </a:solidFill>
              <a:latin typeface="Times New Roman"/>
            </a:endParaRPr>
          </a:p>
        </p:txBody>
      </p:sp>
      <p:sp>
        <p:nvSpPr>
          <p:cNvPr id="25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2 Scope of Proposed Standar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Comment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larify what layers the to-be-specified coexistence mechanisms will reside in, and whether they will be in the MAC/PHY layers or higher layers or cross-layer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2"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253"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A8F04D-389D-4CE0-950C-6EF2E6E4E6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25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gree that new material needs to be add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ndard will specify methods above layer two and will reference existing MAC/PHY mechanisms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ed additional material to the explanatory notes section of the PAR</a:t>
            </a:r>
            <a:endParaRPr b="0" lang="en-US" sz="2000" spc="-1" strike="noStrike">
              <a:solidFill>
                <a:srgbClr val="000000"/>
              </a:solidFill>
              <a:latin typeface="Times New Roman"/>
            </a:endParaRPr>
          </a:p>
        </p:txBody>
      </p:sp>
      <p:sp>
        <p:nvSpPr>
          <p:cNvPr id="257"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258"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A7BFE2-32E0-4003-82E7-4C5D1A8DB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2</a:t>
            </a:r>
            <a:endParaRPr b="1" lang="en-US" sz="3200" spc="-1" strike="noStrike">
              <a:solidFill>
                <a:srgbClr val="000000"/>
              </a:solidFill>
              <a:latin typeface="Times New Roman"/>
            </a:endParaRPr>
          </a:p>
        </p:txBody>
      </p:sp>
      <p:sp>
        <p:nvSpPr>
          <p:cNvPr id="26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5.3 Is the completion of this standard is dependent upon the completion of another standard</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mment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proposed project is intended to develop cross-technologies coexistence mechanisms. At this point, there is no existing technology that has completed its development or in operation in the TVWS. Please clarify how the mechanisms to be developed in this project can be applicable to TVWS coexistence without having any knowledge of or compatibility with any known TVWS radio technologies. We suggest changing the answer to “YE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62"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263"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CA50DB7-9225-4F21-8AA6-60F7BAD44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26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9 believe that now is the time to start developing a coexistence standard and it we wait until the MAC/PHY standards are complete we can have little impact on those standar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ny case this standard is not dependent on the MAC/PHY standards in the TVW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change</a:t>
            </a:r>
            <a:endParaRPr b="0" lang="en-US" sz="2000" spc="-1" strike="noStrike">
              <a:solidFill>
                <a:srgbClr val="000000"/>
              </a:solidFill>
              <a:latin typeface="Times New Roman"/>
            </a:endParaRPr>
          </a:p>
        </p:txBody>
      </p:sp>
      <p:sp>
        <p:nvSpPr>
          <p:cNvPr id="267"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268"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8BA9CE3-9D30-4354-9B28-3A97AD8D3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3</a:t>
            </a:r>
            <a:endParaRPr b="1" lang="en-US" sz="3200" spc="-1" strike="noStrike">
              <a:solidFill>
                <a:srgbClr val="000000"/>
              </a:solidFill>
              <a:latin typeface="Times New Roman"/>
            </a:endParaRPr>
          </a:p>
        </p:txBody>
      </p:sp>
      <p:sp>
        <p:nvSpPr>
          <p:cNvPr id="27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8.1 Additional Explanatory Note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mments on Section 5.2 (Scop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re are two types of TVBDs: 1) lower power personal/portable devices at up to 100mW EIRP and 2) fixed device at up to 1W output power and 4W EIRP. Please clarify whether they are all considered as "low power" transmitters in indicated in this section?</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72"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273"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99CACBD-CF5A-4D29-94AA-DC6296C7C9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27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 the term low-power in the Explanatory Notes section refers to both fixed and personal/portable  TV band devices as specified by the FC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change</a:t>
            </a:r>
            <a:endParaRPr b="0" lang="en-US" sz="2000" spc="-1" strike="noStrike">
              <a:solidFill>
                <a:srgbClr val="000000"/>
              </a:solidFill>
              <a:latin typeface="Times New Roman"/>
            </a:endParaRPr>
          </a:p>
        </p:txBody>
      </p:sp>
      <p:sp>
        <p:nvSpPr>
          <p:cNvPr id="277"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278"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28BFC82-C0AC-49A5-9155-B1A0FBC539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4</a:t>
            </a:r>
            <a:endParaRPr b="1" lang="en-US" sz="3200" spc="-1" strike="noStrike">
              <a:solidFill>
                <a:srgbClr val="000000"/>
              </a:solidFill>
              <a:latin typeface="Times New Roman"/>
            </a:endParaRPr>
          </a:p>
        </p:txBody>
      </p:sp>
      <p:sp>
        <p:nvSpPr>
          <p:cNvPr id="28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8.1 Additional Explanatory Note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mments on Sec. 5.5 (Need):</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gain, please clarify how the technology-independent coexistence mechanisms could address operations such as "discovery", "connectivity" and "QoS maximization" for different technologies without having had any knowledge of and compatibility with those technologies. Note that the answer to item 5.3 is "NO". We suggest changing the answer to question in 5.3 to “YE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2"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283"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B28457-9B53-411E-B6E2-A24929BD3F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28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802.19 WG will work closely with 802.11 and 802.22 to have detailed knowledge of their MAC/PHY draf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of the 802.19 members are also active members of other wireless working groups and very aware of the details of the specific standards and draf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change required</a:t>
            </a:r>
            <a:endParaRPr b="0" lang="en-US" sz="2000" spc="-1" strike="noStrike">
              <a:solidFill>
                <a:srgbClr val="000000"/>
              </a:solidFill>
              <a:latin typeface="Times New Roman"/>
            </a:endParaRPr>
          </a:p>
        </p:txBody>
      </p:sp>
      <p:sp>
        <p:nvSpPr>
          <p:cNvPr id="287"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288"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85B534-E8CF-4070-AE20-48A016510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22856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ments from Paul Nikolich</a:t>
            </a:r>
            <a:endParaRPr b="1" lang="en-US" sz="3600" spc="-1" strike="noStrike">
              <a:solidFill>
                <a:srgbClr val="000000"/>
              </a:solidFill>
              <a:latin typeface="Times New Roman"/>
            </a:endParaRPr>
          </a:p>
        </p:txBody>
      </p:sp>
      <p:sp>
        <p:nvSpPr>
          <p:cNvPr id="29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292"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74B6E0C-E216-40C9-8E11-F360388D9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1 (1)</a:t>
            </a:r>
            <a:endParaRPr b="1" lang="en-US" sz="3200" spc="-1" strike="noStrike">
              <a:solidFill>
                <a:srgbClr val="000000"/>
              </a:solidFill>
              <a:latin typeface="Times New Roman"/>
            </a:endParaRPr>
          </a:p>
        </p:txBody>
      </p:sp>
      <p:sp>
        <p:nvSpPr>
          <p:cNvPr id="295" name=""/>
          <p:cNvSpPr txBox="1"/>
          <p:nvPr/>
        </p:nvSpPr>
        <p:spPr>
          <a:xfrm>
            <a:off x="304920" y="1295280"/>
            <a:ext cx="8534160" cy="5029200"/>
          </a:xfrm>
          <a:prstGeom prst="rect">
            <a:avLst/>
          </a:prstGeom>
          <a:noFill/>
          <a:ln w="0">
            <a:noFill/>
          </a:ln>
        </p:spPr>
        <p:txBody>
          <a:bodyPr lIns="92160" rIns="92160" tIns="46080" bIns="4608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eve, Bruce, Wendong, </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ease circulate the following comments to your respective WGs regarding the draft PARs on TV Whitespac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The proposed 802.11 TV Whitespace PAR contains coexistence language "It is in the best interest of users and the industry to strive for a level of coexistence between wireless systems in the TVWS bands.  WG11 TVWS provides mechanisms for coexistence with other systems.  One approach is a common coexistence mechanism that may be used by other TVWS systems; other approaches are also possibl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he proposed 802.22 modified PAR also contains coexistence language "It is in the best interest of users and the industry to strive for a level of coexistence between wireless systems. The IEEE 802.22 WG provides mechanisms for coexistence with other systems in the TVWS band. One approach is a common coexistence mechanism that may be used by other TVWS systems; other approaches are also possibl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The proposed 802.19 TV Whitespace Coexistence Mechanisms PAR contains coexistence language</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ope: "The standard specifies mechanisms for coexistence among dissimilar or independently operated TV Band Device (TVBD) networks and dissimilar TV Band Devices." and</a:t>
            </a:r>
            <a:endParaRPr b="1"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 "The purpose of the standard is to enable the family of IEEE 802 Wireless Standards to most effectively use TV White Space by providing standard coexistence mechanisms among dissimilar or independently operated TVBD networks and dissimilar TVBDs. This standard addresses coexistence for IEEE 802 networks and devices and will also be useful for non IEEE 802 networks and TVBDs."</a:t>
            </a:r>
            <a:endParaRPr b="1" lang="en-US" sz="1400" spc="-1" strike="noStrike">
              <a:solidFill>
                <a:srgbClr val="000000"/>
              </a:solidFill>
              <a:latin typeface="Times New Roman"/>
            </a:endParaRPr>
          </a:p>
        </p:txBody>
      </p:sp>
      <p:sp>
        <p:nvSpPr>
          <p:cNvPr id="29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29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29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C064C6-D0E1-44C8-BEF4-3688F92BDA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79" name="Footer Placeholder 4"/>
          <p:cNvSpPr/>
          <p:nvPr/>
        </p:nvSpPr>
        <p:spPr>
          <a:xfrm>
            <a:off x="7721280" y="6475320"/>
            <a:ext cx="117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068D74-2C86-4F81-8596-1799D39E6E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02.19 new standard for TV white space coexistence mechanisms, </a:t>
            </a:r>
            <a:r>
              <a:rPr b="1" lang="en-US" sz="2800" spc="-1" strike="noStrike" u="sng">
                <a:solidFill>
                  <a:srgbClr val="0066ff"/>
                </a:solidFill>
                <a:uFillTx/>
                <a:latin typeface="Times New Roman"/>
                <a:hlinkClick r:id="rId1"/>
              </a:rPr>
              <a:t>PAR</a:t>
            </a:r>
            <a:r>
              <a:rPr b="1" lang="en-US" sz="2800" spc="-1" strike="noStrike">
                <a:solidFill>
                  <a:srgbClr val="000000"/>
                </a:solidFill>
                <a:latin typeface="Times New Roman"/>
              </a:rPr>
              <a:t> and </a:t>
            </a:r>
            <a:r>
              <a:rPr b="1" lang="en-US" sz="2800" spc="-1" strike="noStrike" u="sng">
                <a:solidFill>
                  <a:srgbClr val="0066ff"/>
                </a:solidFill>
                <a:uFillTx/>
                <a:latin typeface="Times New Roman"/>
                <a:hlinkClick r:id="rId2"/>
              </a:rPr>
              <a:t>5 C</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8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 Issues to 802.19</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 Title: </a:t>
            </a:r>
            <a:r>
              <a:rPr b="0" lang="en-US" sz="2400" spc="-1" strike="noStrike">
                <a:solidFill>
                  <a:srgbClr val="000000"/>
                </a:solidFill>
                <a:latin typeface="Times New Roman"/>
              </a:rPr>
              <a:t>Standard for Information Technology - Telecommunications and Information Exchange Between Systems - Local and Metropolitan Area Networks - Specific Requirements - Part 19: TV White Space Coexistence Mechanism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tuation #1: </a:t>
            </a:r>
            <a:r>
              <a:rPr b="0" lang="en-US" sz="2000" spc="-1" strike="noStrike">
                <a:solidFill>
                  <a:srgbClr val="000000"/>
                </a:solidFill>
                <a:latin typeface="Times New Roman"/>
              </a:rPr>
              <a:t>Title includes “Coexistence Mechanism”,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 </a:t>
            </a:r>
            <a:r>
              <a:rPr b="0" lang="en-US" sz="2000" spc="-1" strike="noStrike">
                <a:solidFill>
                  <a:srgbClr val="000000"/>
                </a:solidFill>
                <a:latin typeface="Times New Roman"/>
              </a:rPr>
              <a:t>The PAR and 5C does not define what “Coexistence Mechanism” is</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ggested Fix: </a:t>
            </a:r>
            <a:r>
              <a:rPr b="0" lang="en-US" sz="2000" spc="-1" strike="noStrike">
                <a:solidFill>
                  <a:srgbClr val="000000"/>
                </a:solidFill>
                <a:latin typeface="Times New Roman"/>
              </a:rPr>
              <a:t>In the PAR and 5C define what “Coexistence Mechanism” really is.</a:t>
            </a:r>
            <a:endParaRPr b="0" lang="en-US" sz="2000" spc="-1" strike="noStrike">
              <a:solidFill>
                <a:srgbClr val="000000"/>
              </a:solidFill>
              <a:latin typeface="Times New Roman"/>
            </a:endParaRPr>
          </a:p>
          <a:p>
            <a:pPr lvl="4" marL="17715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aw Poll: Submit to .19: 14 yes, 2 no, 11 absta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1 (2)</a:t>
            </a:r>
            <a:endParaRPr b="1" lang="en-US" sz="3200" spc="-1" strike="noStrike">
              <a:solidFill>
                <a:srgbClr val="000000"/>
              </a:solidFill>
              <a:latin typeface="Times New Roman"/>
            </a:endParaRPr>
          </a:p>
        </p:txBody>
      </p:sp>
      <p:sp>
        <p:nvSpPr>
          <p:cNvPr id="300" name=""/>
          <p:cNvSpPr txBox="1"/>
          <p:nvPr/>
        </p:nvSpPr>
        <p:spPr>
          <a:xfrm>
            <a:off x="762120" y="1523880"/>
            <a:ext cx="7772400" cy="4572000"/>
          </a:xfrm>
          <a:prstGeom prst="rect">
            <a:avLst/>
          </a:prstGeom>
          <a:noFill/>
          <a:ln w="0">
            <a:noFill/>
          </a:ln>
        </p:spPr>
        <p:txBody>
          <a:bodyPr lIns="92160" rIns="92160" tIns="46080" bIns="46080" anchor="t">
            <a:normAutofit fontScale="98000"/>
          </a:bodyPr>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y comment:</a:t>
            </a:r>
            <a:endParaRPr b="1"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re is a fair degree of common language in the coexistence language taken from the above 3 draft PARs addressing the TV Whitespace bands.</a:t>
            </a:r>
            <a:endParaRPr b="1"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nce the 3 draft PARs  (dot 19, dot11 and dot22) are being proposed simultaneously the groups haven't had much time to work on coordinating their activities on the draft PAR language.  However it will be useful for EC members to better understand how the groups are thinking about coordinating their coexistence specifications going forward.</a:t>
            </a:r>
            <a:endParaRPr b="1"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 understand the groups have begun general discussion on coordinating their activities--this is good.  I believe any specifics that each of you can provide regarding future coordination mechanisms among the 3 projects would be useful to the EC members.</a:t>
            </a:r>
            <a:endParaRPr b="1"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gards, </a:t>
            </a:r>
            <a:endParaRPr b="1"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ul </a:t>
            </a:r>
            <a:endParaRPr b="1" lang="en-US" sz="1600" spc="-1" strike="noStrike">
              <a:solidFill>
                <a:srgbClr val="000000"/>
              </a:solidFill>
              <a:latin typeface="Times New Roman"/>
            </a:endParaRPr>
          </a:p>
          <a:p>
            <a:pPr marL="335880" indent="-3358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0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302"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0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5A54BF-271A-48D3-804E-1F24CFD8B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30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recommend the following methods of coordination  between W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Gs hold a joint meeting at each Plenary and Interim session</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aisons be established between WGs specifically tasked with coordinating on these three project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G liaisons vote on WG ballots and provide comments from any and all WG members on the drafts from the other WGs</a:t>
            </a:r>
            <a:endParaRPr b="0" lang="en-US" sz="1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change to PAR/5C required </a:t>
            </a:r>
            <a:endParaRPr b="0" lang="en-US" sz="2000" spc="-1" strike="noStrike">
              <a:solidFill>
                <a:srgbClr val="000000"/>
              </a:solidFill>
              <a:latin typeface="Times New Roman"/>
            </a:endParaRPr>
          </a:p>
        </p:txBody>
      </p:sp>
      <p:sp>
        <p:nvSpPr>
          <p:cNvPr id="30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30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3D2065-4FBF-4A14-A538-1DD5B5C073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22856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ments from James Gilb</a:t>
            </a:r>
            <a:endParaRPr b="1" lang="en-US" sz="3600" spc="-1" strike="noStrike">
              <a:solidFill>
                <a:srgbClr val="000000"/>
              </a:solidFill>
              <a:latin typeface="Times New Roman"/>
            </a:endParaRPr>
          </a:p>
        </p:txBody>
      </p:sp>
      <p:sp>
        <p:nvSpPr>
          <p:cNvPr id="31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311"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F4681DF-99A1-4131-9598-3EE1CE4C94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1 (1)</a:t>
            </a:r>
            <a:endParaRPr b="1" lang="en-US" sz="3200" spc="-1" strike="noStrike">
              <a:solidFill>
                <a:srgbClr val="000000"/>
              </a:solidFill>
              <a:latin typeface="Times New Roman"/>
            </a:endParaRPr>
          </a:p>
        </p:txBody>
      </p:sp>
      <p:sp>
        <p:nvSpPr>
          <p:cNvPr id="31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ar EC members</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appears that we have multiple PARs that potentially deal with the same problem but leading to different solutions to the same problem.</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re can be reasons to do this, but I think we would benefit by working together in some of these areas.</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r example, the systems in these bands will need to access a database of incumbents.  The access to this database should be the same in any standard we develop.</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1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31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B22CD81-FF47-4D7A-BFE8-45C4A8620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1 (2)</a:t>
            </a:r>
            <a:endParaRPr b="1" lang="en-US" sz="3200" spc="-1" strike="noStrike">
              <a:solidFill>
                <a:srgbClr val="000000"/>
              </a:solidFill>
              <a:latin typeface="Times New Roman"/>
            </a:endParaRPr>
          </a:p>
        </p:txBody>
      </p:sp>
      <p:sp>
        <p:nvSpPr>
          <p:cNvPr id="319" name=""/>
          <p:cNvSpPr txBox="1"/>
          <p:nvPr/>
        </p:nvSpPr>
        <p:spPr>
          <a:xfrm>
            <a:off x="685800" y="1523520"/>
            <a:ext cx="8153280" cy="4800600"/>
          </a:xfrm>
          <a:prstGeom prst="rect">
            <a:avLst/>
          </a:prstGeom>
          <a:noFill/>
          <a:ln w="0">
            <a:noFill/>
          </a:ln>
        </p:spPr>
        <p:txBody>
          <a:bodyPr lIns="92160" rIns="92160" tIns="46080" bIns="4608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existence:</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e have proposal for a project to define coexistence between these systems, but neither PAR references this.</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would hope that we can find some language that strongly encourages the TVWS MAC/PHY groups to adopt the work of the coexistence group.</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wever, I would not be happy with the case where the groups were held up waiting for completion of the coexistence standard.</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 would encourage the 802.11 TVWS and 802.22.3 to find agreement on language that requires support of the 802.19 methods, if they are completed in a timely manner.</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mes Gilb</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 Recording Secretary</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2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321"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92A5DAF-5EC3-4705-BBA5-3D6E601CE6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32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gre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change required</a:t>
            </a:r>
            <a:endParaRPr b="0" lang="en-US" sz="2000" spc="-1" strike="noStrike">
              <a:solidFill>
                <a:srgbClr val="000000"/>
              </a:solidFill>
              <a:latin typeface="Times New Roman"/>
            </a:endParaRPr>
          </a:p>
        </p:txBody>
      </p:sp>
      <p:sp>
        <p:nvSpPr>
          <p:cNvPr id="32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32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8B62E6-09AF-4BFB-9691-4ED22E0B86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b Grow (Email to James Gilb)</a:t>
            </a:r>
            <a:endParaRPr b="1" lang="en-US" sz="3200" spc="-1" strike="noStrike">
              <a:solidFill>
                <a:srgbClr val="000000"/>
              </a:solidFill>
              <a:latin typeface="Times New Roman"/>
            </a:endParaRPr>
          </a:p>
        </p:txBody>
      </p:sp>
      <p:sp>
        <p:nvSpPr>
          <p:cNvPr id="32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me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support your comment, on the need for the different projects to relate with each other. But, I also was disappointed in the failure to address the work of SCC 41 and its relationship to the various white space draft PAR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ob Grow</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3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331"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2C7B883-C5F3-448C-9741-29AD6143A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33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air of SCC41 has been an active participant  in the TVWS Coexistence S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air of P1900.5 use case ad hoc is a voting member of 802.19 and an active participant in the TVWS Coexistence S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ral other members of SCC41 have also participated in the 802.19 TVWS Coexistence S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AR recognizes the SCC41 project 1900.4a as  a related projec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change</a:t>
            </a:r>
            <a:endParaRPr b="0" lang="en-US" sz="2000" spc="-1" strike="noStrike">
              <a:solidFill>
                <a:srgbClr val="000000"/>
              </a:solidFill>
              <a:latin typeface="Times New Roman"/>
            </a:endParaRPr>
          </a:p>
        </p:txBody>
      </p:sp>
      <p:sp>
        <p:nvSpPr>
          <p:cNvPr id="33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33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14EDBB-9C6A-4D5F-94AE-63CF42923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62120" y="22856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ments from Wendong Hu</a:t>
            </a:r>
            <a:endParaRPr b="1" lang="en-US" sz="3600" spc="-1" strike="noStrike">
              <a:solidFill>
                <a:srgbClr val="000000"/>
              </a:solidFill>
              <a:latin typeface="Times New Roman"/>
            </a:endParaRPr>
          </a:p>
        </p:txBody>
      </p:sp>
      <p:sp>
        <p:nvSpPr>
          <p:cNvPr id="33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340"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4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0D2E9F-589B-4D3C-8468-4AD8C8480F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1</a:t>
            </a:r>
            <a:endParaRPr b="1" lang="en-US" sz="3200" spc="-1" strike="noStrike">
              <a:solidFill>
                <a:srgbClr val="000000"/>
              </a:solidFill>
              <a:latin typeface="Times New Roman"/>
            </a:endParaRPr>
          </a:p>
        </p:txBody>
      </p:sp>
      <p:sp>
        <p:nvSpPr>
          <p:cNvPr id="34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op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layers will the to-be-specified coexistence mechanisms be resided in? Will they be in the MAC/PHY layers or higher layers or across all layers?</a:t>
            </a:r>
            <a:endParaRPr b="1" lang="en-US" sz="2400" spc="-1" strike="noStrike">
              <a:solidFill>
                <a:srgbClr val="000000"/>
              </a:solidFill>
              <a:latin typeface="Times New Roman"/>
            </a:endParaRPr>
          </a:p>
        </p:txBody>
      </p:sp>
      <p:sp>
        <p:nvSpPr>
          <p:cNvPr id="34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345"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4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277EE5-9D60-4115-AC19-DBF07EE361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9 Response</a:t>
            </a:r>
            <a:endParaRPr b="1" lang="en-US" sz="3200" spc="-1" strike="noStrike">
              <a:solidFill>
                <a:srgbClr val="000000"/>
              </a:solidFill>
              <a:latin typeface="Times New Roman"/>
            </a:endParaRPr>
          </a:p>
        </p:txBody>
      </p:sp>
      <p:sp>
        <p:nvSpPr>
          <p:cNvPr id="84" name=""/>
          <p:cNvSpPr txBox="1"/>
          <p:nvPr/>
        </p:nvSpPr>
        <p:spPr>
          <a:xfrm>
            <a:off x="685800" y="175248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gree that a definition of “Coexistence Mechanism” is lacking in the PAR.  We will add such a definition in the Explanatory Notes section. Additional detail is provided in response to the Technical Feasibility comment.  We have changed the term “coexistence mechanisms” to “coexistence method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8.1 Explanatory Notes we added a definition of coexistence methods.</a:t>
            </a: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8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4C1DE10-6DFD-433D-BF46-477A81C406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34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omment matches Comment #1 from 802.2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response to that com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350"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5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7DE114-377B-4116-9E73-6505EAF9D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2</a:t>
            </a:r>
            <a:endParaRPr b="1" lang="en-US" sz="3200" spc="-1" strike="noStrike">
              <a:solidFill>
                <a:srgbClr val="000000"/>
              </a:solidFill>
              <a:latin typeface="Times New Roman"/>
            </a:endParaRPr>
          </a:p>
        </p:txBody>
      </p:sp>
      <p:sp>
        <p:nvSpPr>
          <p:cNvPr id="35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etion of another standar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ject is intended to develop cross-technologies coexistence mechanisms. At this point, there is no existing technology that has completed its development or in operation in the TVWS. How can the mechanisms developed in this project be applicable to TVWS coexistence without having any knowledge of or compatibility with known TVWS radio technologies? </a:t>
            </a:r>
            <a:endParaRPr b="1" lang="en-US" sz="2400" spc="-1" strike="noStrike">
              <a:solidFill>
                <a:srgbClr val="000000"/>
              </a:solidFill>
              <a:latin typeface="Times New Roman"/>
            </a:endParaRPr>
          </a:p>
        </p:txBody>
      </p:sp>
      <p:sp>
        <p:nvSpPr>
          <p:cNvPr id="35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355"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E988DF7-74C1-44A6-A25E-582243DD7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35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omment matches Comment #2 from 802.2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response to that com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360"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3855122-0297-487A-B938-FD8FE07DE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3</a:t>
            </a:r>
            <a:endParaRPr b="1" lang="en-US" sz="3200" spc="-1" strike="noStrike">
              <a:solidFill>
                <a:srgbClr val="000000"/>
              </a:solidFill>
              <a:latin typeface="Times New Roman"/>
            </a:endParaRPr>
          </a:p>
        </p:txBody>
      </p:sp>
      <p:sp>
        <p:nvSpPr>
          <p:cNvPr id="36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lanatory Not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 are two types of TVBDs: 1) lower power personal/portable devices at up to 100mW EIRP and 2) fixed device at up to 1W output power and 4W EIRP. Are they all considered "low power" transmitter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365"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DF4E36-C96D-4792-835C-0ADEB16838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36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omment matches Comment #3 from 802.2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response to that com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370"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8EE4673-D2F6-4706-9F96-C017F2F294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4</a:t>
            </a:r>
            <a:endParaRPr b="1" lang="en-US" sz="3200" spc="-1" strike="noStrike">
              <a:solidFill>
                <a:srgbClr val="000000"/>
              </a:solidFill>
              <a:latin typeface="Times New Roman"/>
            </a:endParaRPr>
          </a:p>
        </p:txBody>
      </p:sp>
      <p:sp>
        <p:nvSpPr>
          <p:cNvPr id="37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ain, how could the technology-independent coexistence mechanisms address operations such as "discovery", "connectivity" and "QoS maximization" for different technologies without having knowledge of and  compatibility with those technologies? Note that the answer to item 5.3 is "NO". </a:t>
            </a:r>
            <a:endParaRPr b="1" lang="en-US" sz="2400" spc="-1" strike="noStrike">
              <a:solidFill>
                <a:srgbClr val="000000"/>
              </a:solidFill>
              <a:latin typeface="Times New Roman"/>
            </a:endParaRPr>
          </a:p>
        </p:txBody>
      </p:sp>
      <p:sp>
        <p:nvSpPr>
          <p:cNvPr id="37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375"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0F3644-3DDE-4003-8472-65ED4F53F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37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omment matches Comment #4 from 802.22</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 response to that commen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380"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81DCDB-3FB1-4806-83F1-975E42E314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762120" y="22856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ments from Richard Kennedy</a:t>
            </a:r>
            <a:endParaRPr b="1" lang="en-US" sz="3600" spc="-1" strike="noStrike">
              <a:solidFill>
                <a:srgbClr val="000000"/>
              </a:solidFill>
              <a:latin typeface="Times New Roman"/>
            </a:endParaRPr>
          </a:p>
        </p:txBody>
      </p:sp>
      <p:sp>
        <p:nvSpPr>
          <p:cNvPr id="383"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384"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8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A24E9F3-7575-46EF-B6BD-BC77FF49C2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1</a:t>
            </a:r>
            <a:endParaRPr b="1" lang="en-US" sz="3200" spc="-1" strike="noStrike">
              <a:solidFill>
                <a:srgbClr val="000000"/>
              </a:solidFill>
              <a:latin typeface="Times New Roman"/>
            </a:endParaRPr>
          </a:p>
        </p:txBody>
      </p:sp>
      <p:sp>
        <p:nvSpPr>
          <p:cNvPr id="387" name=""/>
          <p:cNvSpPr txBox="1"/>
          <p:nvPr/>
        </p:nvSpPr>
        <p:spPr>
          <a:xfrm>
            <a:off x="685800" y="1752120"/>
            <a:ext cx="7772400" cy="43434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eve:</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e are adding the following to our 5 Criteria document and request that you do the same, changing “802.19” to “802.11”:</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5 Criteria (17.5.4.1 ) will be modified to say “The working group will create a CA document as part of the WG balloting process.  The WG will maintain liaisons with the other WGs regarding coexistence in the TVWS. IEEE 802.11 will provide WG drafts with CA documents to 802.19 and 802.22 members for review and WG balloting.”</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ch Kennedy</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38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389"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C8A7149-F105-45BC-9205-307E682FD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392" name=""/>
          <p:cNvSpPr txBox="1"/>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 </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gree with the intent of the commen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9 will not produce a CA document since it is not a wireless MAC/PHY standar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recommend the following methods of coordination  between WGs</a:t>
            </a:r>
            <a:endParaRPr b="0" lang="en-US" sz="18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WGs hold a joint meeting at each Plenary and Interim sessions</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aisons are established between WGs specifically tasked with coordinating on these three projects</a:t>
            </a:r>
            <a:endParaRPr b="0" lang="en-US" sz="1600" spc="-1" strike="noStrike">
              <a:solidFill>
                <a:srgbClr val="000000"/>
              </a:solidFill>
              <a:latin typeface="Times New Roman"/>
            </a:endParaRPr>
          </a:p>
          <a:p>
            <a:pPr lvl="2" marL="10857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iaisons vote on WG ballots and provide comments from any and all WG members on the drafts from the other WGs</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nge</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change required</a:t>
            </a:r>
            <a:endParaRPr b="0" lang="en-US" sz="1600" spc="-1" strike="noStrike">
              <a:solidFill>
                <a:srgbClr val="000000"/>
              </a:solidFill>
              <a:latin typeface="Times New Roman"/>
            </a:endParaRPr>
          </a:p>
        </p:txBody>
      </p:sp>
      <p:sp>
        <p:nvSpPr>
          <p:cNvPr id="393"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394"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9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CC6D378-60D8-4EE4-BA1A-4A6BA96071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89" name="Footer Placeholder 4"/>
          <p:cNvSpPr/>
          <p:nvPr/>
        </p:nvSpPr>
        <p:spPr>
          <a:xfrm>
            <a:off x="7721280" y="6475320"/>
            <a:ext cx="117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CC3023A-C76B-4DD2-A1B0-B92792FBB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2)  </a:t>
            </a:r>
            <a:endParaRPr b="1" lang="en-US" sz="3200" spc="-1" strike="noStrike">
              <a:solidFill>
                <a:srgbClr val="000000"/>
              </a:solidFill>
              <a:latin typeface="Times New Roman"/>
            </a:endParaRPr>
          </a:p>
        </p:txBody>
      </p:sp>
      <p:sp>
        <p:nvSpPr>
          <p:cNvPr id="92" name="PlaceHolder 2"/>
          <p:cNvSpPr>
            <a:spLocks noGrp="1"/>
          </p:cNvSpPr>
          <p:nvPr>
            <p:ph/>
          </p:nvPr>
        </p:nvSpPr>
        <p:spPr>
          <a:xfrm>
            <a:off x="685800" y="1523520"/>
            <a:ext cx="7772400" cy="48769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 Titl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tuation #2: The title specifies that this a Standar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 </a:t>
            </a:r>
            <a:r>
              <a:rPr b="0" lang="en-US" sz="2000" spc="-1" strike="noStrike">
                <a:solidFill>
                  <a:srgbClr val="000000"/>
                </a:solidFill>
                <a:latin typeface="Times New Roman"/>
              </a:rPr>
              <a:t>We do not believe it should be Standard.  The level of evidence provided for Feasibility in the 5C does not justify a Standard</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5C does not identify any existing proven similar “coexistence mechanisms” in any unlicensed band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ggested Fix. </a:t>
            </a:r>
            <a:r>
              <a:rPr b="0" lang="en-US" sz="2000" spc="-1" strike="noStrike">
                <a:solidFill>
                  <a:srgbClr val="000000"/>
                </a:solidFill>
                <a:latin typeface="Times New Roman"/>
              </a:rPr>
              <a:t>Make this PAR for a Recommended Practice to provide 802.19 group an opportunity to demonstrate the feasibility</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commended Practice has a trial use aspect that should be addressed.</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ically the technical rigor that is employed in creating documents increases as you go from Guides -&gt; Recommended Practices -&gt; Standards.</a:t>
            </a:r>
            <a:endParaRPr b="0" lang="en-US" sz="1800" spc="-1" strike="noStrike">
              <a:solidFill>
                <a:srgbClr val="000000"/>
              </a:solidFill>
              <a:latin typeface="Times New Roman"/>
            </a:endParaRPr>
          </a:p>
          <a:p>
            <a:pPr lvl="4" marL="177156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awpoll: submit to .19 – 9 yes 6 no 13 abstai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62120" y="22856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mments from T. Olson</a:t>
            </a:r>
            <a:endParaRPr b="1" lang="en-US" sz="3600" spc="-1" strike="noStrike">
              <a:solidFill>
                <a:srgbClr val="000000"/>
              </a:solidFill>
              <a:latin typeface="Times New Roman"/>
            </a:endParaRPr>
          </a:p>
        </p:txBody>
      </p:sp>
      <p:sp>
        <p:nvSpPr>
          <p:cNvPr id="397"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398"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6C196C-1D9E-4956-AB8C-6535E44E6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 #1</a:t>
            </a:r>
            <a:endParaRPr b="1" lang="en-US" sz="3200" spc="-1" strike="noStrike">
              <a:solidFill>
                <a:srgbClr val="000000"/>
              </a:solidFill>
              <a:latin typeface="Times New Roman"/>
            </a:endParaRPr>
          </a:p>
        </p:txBody>
      </p:sp>
      <p:sp>
        <p:nvSpPr>
          <p:cNvPr id="401" name=""/>
          <p:cNvSpPr txBox="1"/>
          <p:nvPr/>
        </p:nvSpPr>
        <p:spPr>
          <a:xfrm>
            <a:off x="685800" y="1447920"/>
            <a:ext cx="8229600" cy="495288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M/WG802.19/802.19.1</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802.19.1 Standard for Information Technology - Telecommunications and Information Exchange Between Systems - Local and Metropolitan Area Networks - Specific Requirements - Part 19: TV White Space Coexistence Mechanisms</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 Comment from T Olsen</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rove, but only for four-year validity. Schedule shows completion in over 5 years</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2013 is really 2014). Accelerate schedule to complete balloting no later than</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 2013 with submittal to RevCom in early October, 2013 for consideration at the</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cember 2013 meeting.</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re is no dialog for this comment.</a:t>
            </a:r>
            <a:endParaRPr b="1" lang="en-US" sz="1800" spc="-1" strike="noStrike">
              <a:solidFill>
                <a:srgbClr val="000000"/>
              </a:solidFill>
              <a:latin typeface="Times New Roman"/>
            </a:endParaRPr>
          </a:p>
        </p:txBody>
      </p:sp>
      <p:sp>
        <p:nvSpPr>
          <p:cNvPr id="402"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403"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8D5E93-D80C-44F6-95F1-7D66B8095A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40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meeting of the WG is January 2010</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ion of the project by 12/2013 is within 4 yea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change required</a:t>
            </a:r>
            <a:endParaRPr b="0" lang="en-US" sz="2000" spc="-1" strike="noStrike">
              <a:solidFill>
                <a:srgbClr val="000000"/>
              </a:solidFill>
              <a:latin typeface="Times New Roman"/>
            </a:endParaRPr>
          </a:p>
        </p:txBody>
      </p:sp>
      <p:sp>
        <p:nvSpPr>
          <p:cNvPr id="407"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408"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0EED898-4F24-45FA-954C-F0E2D783D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a:t>
            </a:r>
            <a:endParaRPr b="1" lang="en-US" sz="3200" spc="-1" strike="noStrike">
              <a:solidFill>
                <a:srgbClr val="000000"/>
              </a:solidFill>
              <a:latin typeface="Times New Roman"/>
            </a:endParaRPr>
          </a:p>
        </p:txBody>
      </p:sp>
      <p:sp>
        <p:nvSpPr>
          <p:cNvPr id="94" name=""/>
          <p:cNvSpPr txBox="1"/>
          <p:nvPr/>
        </p:nvSpPr>
        <p:spPr>
          <a:xfrm>
            <a:off x="685800" y="1447560"/>
            <a:ext cx="777240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disagree that this should be Recommended Practice.  We believe that a Recommended Practice will do little to promote coexistence in the TV band.  An 802 Standard for coexistence will provide the market a toolset for enabling coexistence among their system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gree that additional material could be added to the Technical Feasibility section of the 5C</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802.11 TVWS PAR it states in the Explanatory Notes that 802.11 will coexist with other networks and hence it seems that 802.11 believes that coexistence is feasibl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nge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Technical Feasibility section of the 5C additional detail has been add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9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417A07-8A2C-444A-96D8-1A960D4201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99" name="Footer Placeholder 4"/>
          <p:cNvSpPr/>
          <p:nvPr/>
        </p:nvSpPr>
        <p:spPr>
          <a:xfrm>
            <a:off x="7721280" y="6475320"/>
            <a:ext cx="117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DEFF251-A4B9-464C-865A-24D887B1C7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3)</a:t>
            </a:r>
            <a:endParaRPr b="1" lang="en-US" sz="3200" spc="-1" strike="noStrike">
              <a:solidFill>
                <a:srgbClr val="000000"/>
              </a:solidFill>
              <a:latin typeface="Times New Roman"/>
            </a:endParaRPr>
          </a:p>
        </p:txBody>
      </p:sp>
      <p:sp>
        <p:nvSpPr>
          <p:cNvPr id="102"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The PAR and 5C subject matter do not match.</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tent of the 5C do not relate to the P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Qualcomm</cp:lastModifiedBy>
  <cp:lastPrinted>1998-02-10T13:28:06Z</cp:lastPrinted>
  <dcterms:modified xsi:type="dcterms:W3CDTF">2009-11-18T20:23:20Z</dcterms:modified>
  <cp:revision>417</cp:revision>
  <dc:subject/>
  <dc:title>TAG Overview</dc:title>
</cp:coreProperties>
</file>