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58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9-09/xxxxr0</a:t>
            </a:r>
            <a:endParaRPr b="0" lang="en-US" sz="1400" spc="-1" strike="noStrike">
              <a:solidFill>
                <a:srgbClr val="000000"/>
              </a:solidFill>
              <a:latin typeface="Times New Roman"/>
            </a:endParaRPr>
          </a:p>
        </p:txBody>
      </p:sp>
      <p:sp>
        <p:nvSpPr>
          <p:cNvPr id="587" name="PlaceHolder 2"/>
          <p:cNvSpPr>
            <a:spLocks noGrp="1"/>
          </p:cNvSpPr>
          <p:nvPr>
            <p:ph type="dt" idx="40"/>
          </p:nvPr>
        </p:nvSpPr>
        <p:spPr>
          <a:xfrm>
            <a:off x="653760" y="-115920"/>
            <a:ext cx="826920" cy="426600"/>
          </a:xfrm>
          <a:prstGeom prst="rect">
            <a:avLst/>
          </a:prstGeom>
          <a:noFill/>
          <a:ln w="0">
            <a:noFill/>
          </a:ln>
        </p:spPr>
        <p:txBody>
          <a:bodyPr lIns="0" rIns="0" tIns="0" bIns="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October 2009</a:t>
            </a:r>
            <a:endParaRPr b="0" lang="en-US" sz="1400" spc="-1" strike="noStrike">
              <a:solidFill>
                <a:srgbClr val="000000"/>
              </a:solidFill>
              <a:latin typeface="Times New Roman"/>
            </a:endParaRPr>
          </a:p>
        </p:txBody>
      </p:sp>
      <p:sp>
        <p:nvSpPr>
          <p:cNvPr id="58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58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90" name="PlaceHolder 5"/>
          <p:cNvSpPr>
            <a:spLocks noGrp="1"/>
          </p:cNvSpPr>
          <p:nvPr>
            <p:ph type="ftr" idx="41"/>
          </p:nvPr>
        </p:nvSpPr>
        <p:spPr>
          <a:xfrm>
            <a:off x="5357880" y="8984880"/>
            <a:ext cx="923760" cy="73044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k Cummings, SWIM</a:t>
            </a:r>
            <a:endParaRPr b="0" lang="en-US" sz="1200" spc="-1" strike="noStrike">
              <a:solidFill>
                <a:srgbClr val="000000"/>
              </a:solidFill>
              <a:latin typeface="Times New Roman"/>
            </a:endParaRPr>
          </a:p>
        </p:txBody>
      </p:sp>
      <p:sp>
        <p:nvSpPr>
          <p:cNvPr id="591" name="PlaceHolder 6"/>
          <p:cNvSpPr>
            <a:spLocks noGrp="1"/>
          </p:cNvSpPr>
          <p:nvPr>
            <p:ph type="sldNum" idx="42"/>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E99E91C2-453D-475F-A84C-924E125342D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9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9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9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9-09/xxxxr0</a:t>
            </a:r>
            <a:endParaRPr b="0" lang="en-US" sz="1400" spc="-1" strike="noStrike">
              <a:solidFill>
                <a:srgbClr val="000000"/>
              </a:solidFill>
              <a:latin typeface="Times New Roman"/>
            </a:endParaRPr>
          </a:p>
        </p:txBody>
      </p:sp>
      <p:sp>
        <p:nvSpPr>
          <p:cNvPr id="676" name="Rectangle 3"/>
          <p:cNvSpPr/>
          <p:nvPr/>
        </p:nvSpPr>
        <p:spPr>
          <a:xfrm>
            <a:off x="552960" y="97560"/>
            <a:ext cx="10296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October 2009</a:t>
            </a:r>
            <a:endParaRPr b="0" lang="en-US" sz="1400" spc="-1" strike="noStrike">
              <a:solidFill>
                <a:srgbClr val="000000"/>
              </a:solidFill>
              <a:latin typeface="Times New Roman"/>
            </a:endParaRPr>
          </a:p>
        </p:txBody>
      </p:sp>
      <p:sp>
        <p:nvSpPr>
          <p:cNvPr id="677" name="Rectangle 6"/>
          <p:cNvSpPr/>
          <p:nvPr/>
        </p:nvSpPr>
        <p:spPr>
          <a:xfrm>
            <a:off x="4826520" y="8985240"/>
            <a:ext cx="198648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k Cummings, SWIM</a:t>
            </a:r>
            <a:endParaRPr b="0" lang="en-US" sz="1200" spc="-1" strike="noStrike">
              <a:solidFill>
                <a:srgbClr val="000000"/>
              </a:solidFill>
              <a:latin typeface="Times New Roman"/>
            </a:endParaRPr>
          </a:p>
        </p:txBody>
      </p:sp>
      <p:sp>
        <p:nvSpPr>
          <p:cNvPr id="67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9BDA168-8132-4EA4-981B-C1EE3F930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9" name="PlaceHolder 1"/>
          <p:cNvSpPr>
            <a:spLocks noGrp="1"/>
          </p:cNvSpPr>
          <p:nvPr>
            <p:ph type="sldImg"/>
          </p:nvPr>
        </p:nvSpPr>
        <p:spPr>
          <a:xfrm>
            <a:off x="1154160" y="701640"/>
            <a:ext cx="4626000" cy="3468600"/>
          </a:xfrm>
          <a:prstGeom prst="rect">
            <a:avLst/>
          </a:prstGeom>
          <a:ln w="0">
            <a:noFill/>
          </a:ln>
        </p:spPr>
      </p:sp>
      <p:sp>
        <p:nvSpPr>
          <p:cNvPr id="68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9-09/xxxxr0</a:t>
            </a:r>
            <a:endParaRPr b="0" lang="en-US" sz="1400" spc="-1" strike="noStrike">
              <a:solidFill>
                <a:srgbClr val="000000"/>
              </a:solidFill>
              <a:latin typeface="Times New Roman"/>
            </a:endParaRPr>
          </a:p>
        </p:txBody>
      </p:sp>
      <p:sp>
        <p:nvSpPr>
          <p:cNvPr id="682" name="Rectangle 3"/>
          <p:cNvSpPr/>
          <p:nvPr/>
        </p:nvSpPr>
        <p:spPr>
          <a:xfrm>
            <a:off x="552960" y="97560"/>
            <a:ext cx="10296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October 2009</a:t>
            </a:r>
            <a:endParaRPr b="0" lang="en-US" sz="1400" spc="-1" strike="noStrike">
              <a:solidFill>
                <a:srgbClr val="000000"/>
              </a:solidFill>
              <a:latin typeface="Times New Roman"/>
            </a:endParaRPr>
          </a:p>
        </p:txBody>
      </p:sp>
      <p:sp>
        <p:nvSpPr>
          <p:cNvPr id="683" name="Rectangle 6"/>
          <p:cNvSpPr/>
          <p:nvPr/>
        </p:nvSpPr>
        <p:spPr>
          <a:xfrm>
            <a:off x="4826520" y="8985240"/>
            <a:ext cx="198648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Mark Cummings, SWIM</a:t>
            </a:r>
            <a:endParaRPr b="0" lang="en-US" sz="1200" spc="-1" strike="noStrike">
              <a:solidFill>
                <a:srgbClr val="000000"/>
              </a:solidFill>
              <a:latin typeface="Times New Roman"/>
            </a:endParaRPr>
          </a:p>
        </p:txBody>
      </p:sp>
      <p:sp>
        <p:nvSpPr>
          <p:cNvPr id="68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64EDD99-3515-46B9-B1DD-C94045551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5" name="PlaceHolder 1"/>
          <p:cNvSpPr>
            <a:spLocks noGrp="1"/>
          </p:cNvSpPr>
          <p:nvPr>
            <p:ph type="sldImg"/>
          </p:nvPr>
        </p:nvSpPr>
        <p:spPr>
          <a:xfrm>
            <a:off x="1154160" y="701640"/>
            <a:ext cx="4626000" cy="3468600"/>
          </a:xfrm>
          <a:prstGeom prst="rect">
            <a:avLst/>
          </a:prstGeom>
          <a:ln w="0">
            <a:noFill/>
          </a:ln>
        </p:spPr>
      </p:sp>
      <p:sp>
        <p:nvSpPr>
          <p:cNvPr id="68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E9C08-F2BA-493A-8123-C0C3E64EA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3E0A1-0B96-4FE6-9E36-CB5135656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B59D1B-F386-4E81-9213-9252716B3F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48FF28-901A-4398-B18D-DD96EDB1A0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DD8E94-F854-41C5-B9E0-9447800833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10465E-7780-4580-BC6F-D6B1019F6D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A6CE34-BABF-484E-B6E6-AF55B3C1CD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FF6DFF-FEC4-47FA-8525-B19EA7519F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73D0F5-DAB5-4C7B-A03F-01009AE010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D5645C-A2BD-49F7-A00A-9D02416835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129196-94D4-4108-8B2C-39045F7DC6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BE30C84-1751-4E66-9273-6EB4C8BE060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B07BB-BE16-4EF2-8E53-C16E44A76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561FE1D-F84B-4CC7-B0F6-4B1AB8115A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E2F426F-3463-492A-A761-A6BB498D8E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B88DE8D-CBA2-4239-96CF-90F42DAFEBE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21D3AA-66B1-4822-AF09-8345567CF94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8A5ED2D-B17E-4344-AA32-8286618EAD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56C441-6930-4FB1-AB21-95486FBCC4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0D2D28-5DAF-4098-A82D-BFE2B4B1E9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64BAEE-3963-4BCF-965F-183FA189AF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958760-5EA4-44F0-B88B-541BFEA0D2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59F90AB-F441-4681-B50A-1635F9890BF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2BD1A-1FEE-49CE-8512-42DD78BE7F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29C3C47-3D1A-48B8-9D8C-48F469DDA44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8F3D223-29CF-40EA-AD0F-A90521181E3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FC5A8D6-386F-415A-AB4B-4248BB6FC5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84900AA-C774-42E9-9E1E-77A4D8D867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4B246BF-B9CC-48FD-B871-714F61BD2B8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172AAF9-7C4A-4412-AC42-B3568C9A208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EA2CAF1-9508-4C09-BE07-EB076176B97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97082D-5C8B-4712-8B18-F4E536C9A6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D0E865-4CD6-4D10-B6FF-B263154459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C2D32AF-6967-4177-850F-4764E429CE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A1823B-DFF5-46AC-ACF1-64101C4D35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5787E5C-50E6-4A7A-87BF-EC40C4587F1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E072A8B-1A13-4F81-BC49-100CD4224FA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B7154B8-CE4A-4F14-8379-B5F2CBDE465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6B75F1B-2829-4B4E-BD76-CE326ABCA3F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38CD8C9-94BA-433A-AF44-A9F73DAFBCC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7897B3F-E3DA-473B-9718-61B1706D7D6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F8480C8-DF9C-4A1B-95E6-D1D255C09C7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726987E-877F-42FD-9E40-A909BCBB4CC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5C9884C-92B2-4CBD-82CA-6BBE972E062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CECDF3-818B-4FE2-9E0A-131587546D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622B4-E94A-4506-A70A-B8C5599859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C5F447-F7A5-48BD-B437-D6AB85ECAF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CC4E0C-42F6-4907-BEC4-42D8F7502C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3F4DD2A-E0B0-402A-927A-1154D437ACA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AB48035-B3CF-4B8F-8496-49076F075EB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AEC1B9E-2DFB-4398-BA73-95540AF08D4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8AF8117-E2B1-4168-AC4B-ADFD583B765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25BE130-464A-4C04-A0C8-8478F28ECAD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74A9050-85C7-4C89-AFDF-36AA860BA87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E35E109-DAC3-48C1-9599-425D399F403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7AA4BC0-5BA8-47AB-9DE2-553E4DE1670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668ED-BCBD-4D02-A884-9C47F63D1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D15A07D-4627-4FB3-A09B-58B91D45655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F30F46-70C6-426C-A75E-BB428CC30D2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471D032-C8D7-4831-9BE0-8253AF81180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3C14E9-97C4-4E0E-8B1D-081859ABFD5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30F9FC3-5D94-4319-A3F4-393821D26BF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118662C-7CEA-48C3-B61A-7E4B6288495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9EF36F6-861D-48E7-804C-79E229B98C4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01D51-D0DF-4785-9C2E-D3B820004D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17DB4-4D14-4EA3-B781-B917FA379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EECB8-04CF-431D-A6F9-70F97FF178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FA412-BC65-4E7E-AE2A-BA0EBC679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0F4D5-5FD7-467E-8DB8-7D88DD4C35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3FC2E-FB14-4177-B2E9-397006C38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CAFE1-A088-4FDC-90F2-87F7CB5CB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D9683-F398-4D16-9547-7F43137B5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437982-49D4-45C6-8DC1-E36288E409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858C89-770D-4981-8989-8807BB79D9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AAE324-FD91-46C0-82E3-3FC7F9BB9E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41EA3E-7B58-40C3-AB15-FE0642B819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0DC1C6-14C1-4EFA-B755-4F2F706F63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4AA3F0-FB91-4B77-85A3-E96A6BE9FF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CBEE77-AAFD-436F-93CD-54D75026A3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646A1-A58B-49FF-9500-1D804B493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586BA3-9348-4883-88BE-8B825DB213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65810C-29DA-4086-BBCF-F73BBDD7C9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A067B0-99BA-4D2C-864C-B408EE551B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7620AD-24A4-4AF4-817C-9DB28E5C33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B8FF37-D3DF-4F88-BF08-72DFD902F2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304616-9A5B-4EAE-A977-5EEC24A0D3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011A97-D3DC-4803-B7CD-886C3C208C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554361-496A-46C1-90DA-116B2C5E9A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308F41-FB08-467B-8C49-6067927DEB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6BC3AE-1A19-488D-8024-E31F6EB456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BA959-95BF-40C2-BD0D-41D258234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651CA8-D8F9-448A-BFA2-19D802DC81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83C39B-7182-4445-BE68-E10E67AE49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BF16AA-3358-446C-B8D5-D3365A4891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C0FC0E-E7CE-4C25-943F-0200922BF0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366764-7F8E-4B3F-9899-92CA813978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481597-6F03-4003-A736-2FC6A6AB9D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0D967B-364C-4F6B-B84A-2D270F361B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3101FA5-61CC-43DA-95EC-CCA9710926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87F0AA-3013-4215-8191-8EBF920BF6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8F39DA-A6BA-4B7D-A6F7-3CF8036817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DB0A3-F9D2-4587-AA1A-1F4415A62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2EA87C-B2F5-424B-916A-8E72CB7151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2BCE02-D9CB-47E7-9A4C-61FF35F8F1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C9C27C-EF1C-4C99-9BB3-7B6193FFA5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8B8589-C239-445F-AF58-6F2B339A48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B33DAC-CAB6-4BA1-A6DE-331E34D4DC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B5D354-3C14-44F5-A711-15937238C5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644CAA-9522-4EF6-83DF-94138B205F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3FC564-6F13-44EA-822F-D2F24DF300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87CC49-79F2-449F-91A4-1D3BDD4FC7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EC6A36-4D62-47ED-B4DF-095BA8335C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B02C9-73D9-48C6-BF70-4250AC864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BA7353B-721C-4379-BC36-F0699F1F38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B6AD80-92B9-4591-98F4-C97507A13B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601C82-81EC-4A5F-8442-C8970DBF79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BA3B5B-9D03-44A7-AB68-DD534F7333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19E5EA-757A-4708-A6BB-1640F31D8F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28732D-A1D3-47F7-9E0A-F2191B4925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9CF2E0-2203-4E0B-95A5-4820C74155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E01B38-9F1B-4E85-A5DF-DA68B21F30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B3EBB6-8C70-440B-8812-E7531C8D31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DF2E5E-F802-490B-8AFB-E4EF23B2BE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D9221-D8CF-4967-B20D-EF401122E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69CABB-118F-40D8-8B94-A8D60F696E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55A581-1C3D-411B-89C3-006489E695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E2EC62-4BC5-423E-8C72-2C47381A82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20AC6C-CAD0-47D1-9256-9A0F17D638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090284-52C4-408A-BE9B-53746B3570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ABEEA6-364B-460E-9518-933F97D9F9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CFDFA4-133B-4D2F-8A45-34D1E4FBE7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5658D1-A529-46B4-A11A-AD97E5010C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723650-427D-4B19-8AB7-BF517854D7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E514D6-A98F-4E7A-89FA-0DC4B4075B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FDF44-0F53-4CBD-B09B-F72BF95AD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B53516-8A3E-4869-9C4E-F725B48412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D32AC6-5998-4C5D-9D83-1E094BB0C7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4399F2-DF1D-48D3-8A26-015E768976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BE8567-48AD-4F25-BDB4-DA068851B3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44CC83-8576-4E7C-A57B-754F5DEEB16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1CFEC2-D8D8-4A47-AFDC-9AAB14F9EF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290441-0886-4E7D-96EB-862B6BCC80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7C3506-390C-4E5B-9570-5048D59901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54E302-B253-4032-9712-CDED8F26E3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D30D37-4F9F-4E58-85A6-6D7A6FD943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5A062-CFFA-4FB3-BAD4-342BA40E7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037515-9FFF-49A5-84B2-13B301ECC8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327304-A8BA-453C-A0AC-01B654674E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B99059-7F4C-4C0F-A80B-AF5158490B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6CD7CD-A738-48CB-BCE6-EFA4A7C683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004BCE-8E78-42F9-9A9D-1F24DB3CDC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5919D2-8D71-439E-8604-A2E4A98FEDA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D2E010-8413-46DB-B3B7-8987F45334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DFE8482-2DC3-427E-A073-5FE2D74AA3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AC89F2-FCBD-43C1-A66A-FE6D4ACF82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F23C3C3-916E-4C47-A1A5-1ED9492797A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73044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 Cummings, SWIM</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D666763-F7E4-4C3D-AFF1-128E130733E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408280" y="334800"/>
            <a:ext cx="30394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89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408280" y="334800"/>
            <a:ext cx="30394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89r0</a:t>
            </a:r>
            <a:endParaRPr b="0"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09</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8077320" y="6474960"/>
            <a:ext cx="466560" cy="73044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 Cummings, SWIM</a:t>
            </a:r>
            <a:endParaRPr b="0" lang="en-US" sz="24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A21C55C-1C9A-4BDB-9531-FF0E8988446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408280" y="334800"/>
            <a:ext cx="30394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89r0</a:t>
            </a:r>
            <a:endParaRPr b="0"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09</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8077320" y="6474960"/>
            <a:ext cx="466560" cy="73044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 Cummings, SWIM</a:t>
            </a:r>
            <a:endParaRPr b="0" lang="en-US" sz="24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0BF7931-8395-4543-A1B7-D3169B0E7E3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408280" y="334800"/>
            <a:ext cx="30394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89r0</a:t>
            </a:r>
            <a:endParaRPr b="0"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09</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8077320" y="6474960"/>
            <a:ext cx="466560" cy="73044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 Cummings, SWIM</a:t>
            </a:r>
            <a:endParaRPr b="0" lang="en-US" sz="24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5426C4F2-D704-495F-B483-F9E32BCE91A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Rectangle 7"/>
          <p:cNvSpPr/>
          <p:nvPr/>
        </p:nvSpPr>
        <p:spPr>
          <a:xfrm>
            <a:off x="5408280" y="334800"/>
            <a:ext cx="30394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89r0</a:t>
            </a:r>
            <a:endParaRPr b="0" lang="en-US" sz="1800" spc="-1" strike="noStrike">
              <a:solidFill>
                <a:srgbClr val="000000"/>
              </a:solidFill>
              <a:latin typeface="Times New Roman"/>
            </a:endParaRPr>
          </a:p>
        </p:txBody>
      </p:sp>
      <p:sp>
        <p:nvSpPr>
          <p:cNvPr id="54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4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4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46" name="PlaceHolder 3"/>
          <p:cNvSpPr>
            <a:spLocks noGrp="1"/>
          </p:cNvSpPr>
          <p:nvPr>
            <p:ph type="dt" idx="37"/>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09</a:t>
            </a:r>
            <a:endParaRPr b="0" lang="en-US" sz="1800" spc="-1" strike="noStrike">
              <a:solidFill>
                <a:srgbClr val="000000"/>
              </a:solidFill>
              <a:latin typeface="Times New Roman"/>
            </a:endParaRPr>
          </a:p>
        </p:txBody>
      </p:sp>
      <p:sp>
        <p:nvSpPr>
          <p:cNvPr id="547" name="PlaceHolder 4"/>
          <p:cNvSpPr>
            <a:spLocks noGrp="1"/>
          </p:cNvSpPr>
          <p:nvPr>
            <p:ph type="ftr" idx="38"/>
          </p:nvPr>
        </p:nvSpPr>
        <p:spPr>
          <a:xfrm>
            <a:off x="8077320" y="6474960"/>
            <a:ext cx="466560" cy="73044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 Cummings, SWIM</a:t>
            </a:r>
            <a:endParaRPr b="0" lang="en-US" sz="2400" spc="-1" strike="noStrike">
              <a:solidFill>
                <a:srgbClr val="000000"/>
              </a:solidFill>
              <a:latin typeface="Times New Roman"/>
            </a:endParaRPr>
          </a:p>
        </p:txBody>
      </p:sp>
      <p:sp>
        <p:nvSpPr>
          <p:cNvPr id="548" name="PlaceHolder 5"/>
          <p:cNvSpPr>
            <a:spLocks noGrp="1"/>
          </p:cNvSpPr>
          <p:nvPr>
            <p:ph type="sldNum" idx="3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21FE9A3C-7315-4516-977D-A02E812D4F6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408280" y="334800"/>
            <a:ext cx="30394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89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09</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8077320" y="6474960"/>
            <a:ext cx="466560" cy="73044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 Cummings, SWIM</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704ECEA-A954-4983-AF44-E2C9F61F078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408280" y="334800"/>
            <a:ext cx="30394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89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09</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8077320" y="6474960"/>
            <a:ext cx="466560" cy="73044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 Cummings, SWIM</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0F006818-1021-49E6-A419-559E566E55F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408280" y="334800"/>
            <a:ext cx="30394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89r0</a:t>
            </a:r>
            <a:endParaRPr b="0"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09</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8077320" y="6474960"/>
            <a:ext cx="466560" cy="73044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 Cummings, SWIM</a:t>
            </a:r>
            <a:endParaRPr b="0" lang="en-US" sz="24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982C370-2F29-4A1E-8C16-E374093EAB1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408280" y="334800"/>
            <a:ext cx="30394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89r0</a:t>
            </a:r>
            <a:endParaRPr b="0"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09</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8077320" y="6474960"/>
            <a:ext cx="466560" cy="73044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 Cummings, SWIM</a:t>
            </a: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C2B123EE-89B3-4F0F-8663-B41854F7F5D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408280" y="334800"/>
            <a:ext cx="30394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89r0</a:t>
            </a:r>
            <a:endParaRPr b="0"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09</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8077320" y="6474960"/>
            <a:ext cx="466560" cy="73044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 Cummings, SWIM</a:t>
            </a:r>
            <a:endParaRPr b="0" lang="en-US" sz="24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DA25FFC1-6489-43AA-B062-DC995106FC7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408280" y="334800"/>
            <a:ext cx="30394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89r0</a:t>
            </a:r>
            <a:endParaRPr b="0"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09</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8077320" y="6474960"/>
            <a:ext cx="466560" cy="73044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 Cummings, SWIM</a:t>
            </a:r>
            <a:endParaRPr b="0" lang="en-US" sz="24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8B088360-6CB5-47B4-A469-7492665FA84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408280" y="334800"/>
            <a:ext cx="30394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89r0</a:t>
            </a:r>
            <a:endParaRPr b="0"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09</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8077320" y="6474960"/>
            <a:ext cx="466560" cy="73044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 Cummings, SWIM</a:t>
            </a:r>
            <a:endParaRPr b="0" lang="en-US" sz="24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98AF39AC-7856-4500-A442-93DB4F440AA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408280" y="334800"/>
            <a:ext cx="30394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89r0</a:t>
            </a:r>
            <a:endParaRPr b="0"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960" y="333000"/>
            <a:ext cx="15415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09</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8077320" y="6474960"/>
            <a:ext cx="466560" cy="73044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 Cummings, SWIM</a:t>
            </a:r>
            <a:endParaRPr b="0" lang="en-US" sz="24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42C68EC-8F68-474A-BFE9-9C1B0EC04EA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596" name="Footer Placeholder 4"/>
          <p:cNvSpPr/>
          <p:nvPr/>
        </p:nvSpPr>
        <p:spPr>
          <a:xfrm>
            <a:off x="7545960" y="6475320"/>
            <a:ext cx="15292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Cummings, SWIM</a:t>
            </a:r>
            <a:endParaRPr b="0" lang="en-US" sz="1200" spc="-1" strike="noStrike">
              <a:solidFill>
                <a:srgbClr val="000000"/>
              </a:solidFill>
              <a:latin typeface="Times New Roman"/>
            </a:endParaRPr>
          </a:p>
        </p:txBody>
      </p:sp>
      <p:sp>
        <p:nvSpPr>
          <p:cNvPr id="5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A7B84A5-F4C0-4760-926E-F2EC4B7A7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 Presentation</a:t>
            </a:r>
            <a:endParaRPr b="1" lang="en-US" sz="3200" spc="-1" strike="noStrike">
              <a:solidFill>
                <a:srgbClr val="000000"/>
              </a:solidFill>
              <a:latin typeface="Times New Roman"/>
            </a:endParaRPr>
          </a:p>
        </p:txBody>
      </p:sp>
      <p:sp>
        <p:nvSpPr>
          <p:cNvPr id="599" name="Text Box 5"/>
          <p:cNvSpPr/>
          <p:nvPr/>
        </p:nvSpPr>
        <p:spPr>
          <a:xfrm>
            <a:off x="609480" y="5808600"/>
            <a:ext cx="8001000" cy="47448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19.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600"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09-11-10</a:t>
            </a:r>
            <a:endParaRPr b="1" lang="en-US" sz="2000" spc="-1" strike="noStrike">
              <a:solidFill>
                <a:srgbClr val="000000"/>
              </a:solidFill>
              <a:latin typeface="Times New Roman"/>
            </a:endParaRPr>
          </a:p>
        </p:txBody>
      </p:sp>
      <p:graphicFrame>
        <p:nvGraphicFramePr>
          <p:cNvPr id="601" name="Object 11"/>
          <p:cNvGraphicFramePr/>
          <p:nvPr/>
        </p:nvGraphicFramePr>
        <p:xfrm>
          <a:off x="520560" y="2071800"/>
          <a:ext cx="8271000" cy="3938400"/>
        </p:xfrm>
        <a:graphic>
          <a:graphicData uri="http://schemas.openxmlformats.org/presentationml/2006/ole">
            <p:oleObj progId="Word.Document.12" r:id="rId1" spid="">
              <p:embed/>
              <p:pic>
                <p:nvPicPr>
                  <p:cNvPr id="602" name="Object 11" descr=""/>
                  <p:cNvPicPr/>
                  <p:nvPr/>
                </p:nvPicPr>
                <p:blipFill>
                  <a:blip r:embed="rId2"/>
                  <a:stretch/>
                </p:blipFill>
                <p:spPr>
                  <a:xfrm>
                    <a:off x="520560" y="2071800"/>
                    <a:ext cx="8271000" cy="3938400"/>
                  </a:xfrm>
                  <a:prstGeom prst="rect">
                    <a:avLst/>
                  </a:prstGeom>
                  <a:ln w="0">
                    <a:noFill/>
                  </a:ln>
                </p:spPr>
              </p:pic>
            </p:oleObj>
          </a:graphicData>
        </a:graphic>
      </p:graphicFrame>
      <p:sp>
        <p:nvSpPr>
          <p:cNvPr id="603" name="Rectangle 12"/>
          <p:cNvSpPr/>
          <p:nvPr/>
        </p:nvSpPr>
        <p:spPr>
          <a:xfrm>
            <a:off x="533520" y="171468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657" name="Footer Placeholder 4"/>
          <p:cNvSpPr/>
          <p:nvPr/>
        </p:nvSpPr>
        <p:spPr>
          <a:xfrm>
            <a:off x="7545960" y="6475320"/>
            <a:ext cx="15292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Cummings, SWIM</a:t>
            </a:r>
            <a:endParaRPr b="0" lang="en-US" sz="1200" spc="-1" strike="noStrike">
              <a:solidFill>
                <a:srgbClr val="000000"/>
              </a:solidFill>
              <a:latin typeface="Times New Roman"/>
            </a:endParaRPr>
          </a:p>
        </p:txBody>
      </p:sp>
      <p:sp>
        <p:nvSpPr>
          <p:cNvPr id="6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63E9B3-EBA0-4772-87A1-F5418D0A0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lationship To Other Standards Efforts</a:t>
            </a:r>
            <a:endParaRPr b="1" lang="en-US" sz="3200" spc="-1" strike="noStrike">
              <a:solidFill>
                <a:srgbClr val="000000"/>
              </a:solidFill>
              <a:latin typeface="Times New Roman"/>
            </a:endParaRPr>
          </a:p>
        </p:txBody>
      </p:sp>
      <p:sp>
        <p:nvSpPr>
          <p:cNvPr id="660" name="PlaceHolder 2"/>
          <p:cNvSpPr>
            <a:spLocks noGrp="1"/>
          </p:cNvSpPr>
          <p:nvPr>
            <p:ph/>
          </p:nvPr>
        </p:nvSpPr>
        <p:spPr>
          <a:xfrm>
            <a:off x="685800" y="1628280"/>
            <a:ext cx="7772400" cy="446724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ndards Projects May Prove Somewhat Helpful</a:t>
            </a:r>
            <a:endParaRPr b="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1900.4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48-TG1 </a:t>
            </a:r>
            <a:endParaRPr b="0" lang="en-US" sz="20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ne of These Standards Provide The Full Solution To the IEEE 802 Coexistence Problem</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Other Groups Inside 802 Are Working On or Preparing To Work On TV White Space Standards</a:t>
            </a:r>
            <a:endParaRPr b="1" lang="en-US" sz="22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22</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5 &amp; 802.16 May Also at a Future Date</a:t>
            </a:r>
            <a:endParaRPr b="0" lang="en-US" sz="20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r Fundamental Structural Reasons These Efforts Can Not Provide The Full Solution To the IEEE 802 Coexistence Proble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662" name="Footer Placeholder 4"/>
          <p:cNvSpPr/>
          <p:nvPr/>
        </p:nvSpPr>
        <p:spPr>
          <a:xfrm>
            <a:off x="7545960" y="6475320"/>
            <a:ext cx="15292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Cummings, SWIM</a:t>
            </a:r>
            <a:endParaRPr b="0" lang="en-US" sz="1200" spc="-1" strike="noStrike">
              <a:solidFill>
                <a:srgbClr val="000000"/>
              </a:solidFill>
              <a:latin typeface="Times New Roman"/>
            </a:endParaRPr>
          </a:p>
        </p:txBody>
      </p:sp>
      <p:sp>
        <p:nvSpPr>
          <p:cNvPr id="6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70AC21-CC64-4EA7-954A-6073C1F576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4"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k Up Material</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666" name="Footer Placeholder 4"/>
          <p:cNvSpPr/>
          <p:nvPr/>
        </p:nvSpPr>
        <p:spPr>
          <a:xfrm>
            <a:off x="7545960" y="6475320"/>
            <a:ext cx="15292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Cummings, SWIM</a:t>
            </a:r>
            <a:endParaRPr b="0" lang="en-US" sz="1200" spc="-1" strike="noStrike">
              <a:solidFill>
                <a:srgbClr val="000000"/>
              </a:solidFill>
              <a:latin typeface="Times New Roman"/>
            </a:endParaRPr>
          </a:p>
        </p:txBody>
      </p:sp>
      <p:sp>
        <p:nvSpPr>
          <p:cNvPr id="6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F42D71-E0AE-4FAA-AF3E-E1A48C4394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ptember Wireless Interim Attendance</a:t>
            </a:r>
            <a:endParaRPr b="1" lang="en-US" sz="3200" spc="-1" strike="noStrike">
              <a:solidFill>
                <a:srgbClr val="000000"/>
              </a:solidFill>
              <a:latin typeface="Times New Roman"/>
            </a:endParaRPr>
          </a:p>
        </p:txBody>
      </p:sp>
      <p:graphicFrame>
        <p:nvGraphicFramePr>
          <p:cNvPr id="669" name=""/>
          <p:cNvGraphicFramePr/>
          <p:nvPr/>
        </p:nvGraphicFramePr>
        <p:xfrm>
          <a:off x="2050920" y="1773360"/>
          <a:ext cx="5668920" cy="4514760"/>
        </p:xfrm>
        <a:graphic>
          <a:graphicData uri="http://schemas.openxmlformats.org/drawingml/2006/table">
            <a:tbl>
              <a:tblPr/>
              <a:tblGrid>
                <a:gridCol w="586080"/>
                <a:gridCol w="487080"/>
                <a:gridCol w="1484280"/>
                <a:gridCol w="1555920"/>
                <a:gridCol w="1555560"/>
              </a:tblGrid>
              <a:tr h="238680">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Last Name</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First Name</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Email</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Affiliation</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Employer</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r>
              <a:tr h="132120">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Ahtiainen</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Ari</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ari.p.ahtiainen@nokia.com</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Nokia</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Nokia</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r>
              <a:tr h="345240">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Baykas</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Tuncer</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tbaykas@gmail.com</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NICT - National Institute of Information and Communications Technology</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NICT - National Institute of Information and Communications Technology</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r>
              <a:tr h="132120">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Cummings</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Mark</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markcummings@envia.com</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SWIM</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enVia</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r>
              <a:tr h="132120">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Durand</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Roger</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rdurand18@comcast.net</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Research In Motion Limited</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Research In Motion Limited</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r>
              <a:tr h="132120">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Gloger</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Reinhard</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reinhard.gloger@nsn.com</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Nokia Siemens Networks</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Nokia Siemens Networks</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r>
              <a:tr h="238680">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Goldhamer</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Mariana</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mariana.goldhamer@alvarion.com</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Alvarion</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Alvarion</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r>
              <a:tr h="238680">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Golmie</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Nada</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golmie@nist.gov</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NIST - National Institute of Standards and Technology</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NIST - National Institute of Standards and Technology</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r>
              <a:tr h="132120">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Gurley</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Thomas</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tgurley@ieee.org</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IEEE BTS</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IEEE BTS</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r>
              <a:tr h="132120">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Hillman</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Garth</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garth.hillman@sbcglobal.net</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OakTree Wireless</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Advanced Micro Devices - AMD</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r>
              <a:tr h="132120">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Hou</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Victor</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vhou100@aol.com</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Broadcom Corporation</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Broadcom Corporation</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r>
              <a:tr h="345240">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Kang</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Hyunduk</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henry@etri.re.kr</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ETRI - Electronics and Telecommunications Research Institute</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r>
              <a:tr h="132120">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Kasslin</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Mika</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mika.kasslin@nokia.com</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Nokia</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Nokia</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r>
              <a:tr h="345240">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Kim</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Chang</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cjkim@etri.re.kr</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ETRI - Electronics and Telecommunications Research Institute</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r>
              <a:tr h="132120">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Kimyacioglu</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Mehmet</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kkimyacioglu@gmail.com</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IK Cognitive Wireless Consulting</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r>
              <a:tr h="132120">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Kwak</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Joseph</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joekwak@sbcglobal.net</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InterDigital Communications, LLC</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Kwak &amp; Associates</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r>
              <a:tr h="132120">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Lambert</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Paul</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paul@marvell.com</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marvell</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Marvell</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r>
              <a:tr h="132120">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Moorti</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Rajendra</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rtm@broadcom.com</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Broadcom Corporation</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Broadcom Corporation</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r>
              <a:tr h="132120">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Ngo</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Chiu</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chiu.ngo@ieee.org</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Samsung Electronics</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Samsung Electronics</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r>
              <a:tr h="132120">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Reede</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Ivan</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i_reede@amerisys.com</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AmeriSys Inc.</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AmeriSys Inc.</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r>
              <a:tr h="132120">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Reznik</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Alex</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alexr.at.ieee@gmail.com</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InterDigital, Inc.</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InterDigital, Inc.</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r>
              <a:tr h="238680">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Shellhammer</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Stephen</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shellhammer@ieee.org</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Qualcomm Incorporated</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Qualcomm Incorporated</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r>
              <a:tr h="132120">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Tawil</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Victor</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vtawil@mstv.org</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WG802.22</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r>
              <a:tr h="132120">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Um</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Jungsun</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korses@etri.re.kr</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ETRI</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r>
              <a:tr h="132120">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Varshney</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Prabodh</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prabodh.varshney@nokia.com</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Nokia</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Nokia</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r>
              <a:tr h="132120">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Yu</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I-Hsiang</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james.yu@neustar.biz</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Neustar</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r>
              <a:tr h="132120">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Zeng</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Yonghong</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yhzeng@ieee.org</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Institute for Infocomm Research</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c>
                  <a: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Helvetica Neue"/>
                        </a:rPr>
                        <a:t>Institute for Infocomm Research</a:t>
                      </a:r>
                      <a:endParaRPr b="0" lang="en-US" sz="700" spc="-1" strike="noStrike">
                        <a:solidFill>
                          <a:srgbClr val="000000"/>
                        </a:solidFill>
                        <a:latin typeface="Times New Roman"/>
                      </a:endParaRPr>
                    </a:p>
                  </a:txBody>
                  <a:tcPr anchor="t" marL="12600" marR="12600">
                    <a:lnL w="1440">
                      <a:solidFill>
                        <a:srgbClr val="cdcdcd"/>
                      </a:solidFill>
                    </a:lnL>
                    <a:lnR w="1440">
                      <a:solidFill>
                        <a:srgbClr val="cdcdcd"/>
                      </a:solidFill>
                    </a:lnR>
                    <a:lnT w="1440">
                      <a:solidFill>
                        <a:srgbClr val="cdcdcd"/>
                      </a:solidFill>
                    </a:lnT>
                    <a:lnB w="1440">
                      <a:solidFill>
                        <a:srgbClr val="cdcdc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85440"/>
            <a:ext cx="7772400" cy="88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9 WG Timeline</a:t>
            </a:r>
            <a:endParaRPr b="1" lang="en-US" sz="3200" spc="-1" strike="noStrike">
              <a:solidFill>
                <a:srgbClr val="000000"/>
              </a:solidFill>
              <a:latin typeface="Times New Roman"/>
            </a:endParaRPr>
          </a:p>
        </p:txBody>
      </p:sp>
      <p:sp>
        <p:nvSpPr>
          <p:cNvPr id="671" name=""/>
          <p:cNvSpPr txBox="1"/>
          <p:nvPr/>
        </p:nvSpPr>
        <p:spPr>
          <a:xfrm>
            <a:off x="685800" y="1571400"/>
            <a:ext cx="7772400" cy="4786200"/>
          </a:xfrm>
          <a:prstGeom prst="rect">
            <a:avLst/>
          </a:prstGeom>
          <a:noFill/>
          <a:ln w="0">
            <a:noFill/>
          </a:ln>
        </p:spPr>
        <p:txBody>
          <a:bodyPr lIns="92160" rIns="92160" tIns="46080" bIns="46080" anchor="t">
            <a:normAutofit/>
          </a:bodyPr>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Friday EC Meeting</a:t>
            </a:r>
            <a:endParaRPr b="1" lang="en-US" sz="14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EC votes to approve PAR and converting 802.19 from a TAG to a WG</a:t>
            </a:r>
            <a:endParaRPr b="1" lang="en-US" sz="1400" spc="-1" strike="noStrike">
              <a:solidFill>
                <a:srgbClr val="000000"/>
              </a:solidFill>
              <a:latin typeface="Times New Roman"/>
            </a:endParaRPr>
          </a:p>
          <a:p>
            <a:pPr marL="343080" indent="-343080">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cember Standards Board Meeting</a:t>
            </a:r>
            <a:endParaRPr b="1" lang="en-US" sz="14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Standard Board Approves PAR</a:t>
            </a:r>
            <a:endParaRPr b="1" lang="en-US" sz="1400" spc="-1" strike="noStrike">
              <a:solidFill>
                <a:srgbClr val="000000"/>
              </a:solidFill>
              <a:latin typeface="Times New Roman"/>
            </a:endParaRPr>
          </a:p>
          <a:p>
            <a:pPr marL="343080" indent="-343080">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 Interim Session</a:t>
            </a:r>
            <a:endParaRPr b="1" lang="en-US" sz="14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t beginning of January Session 802.19 becomes a WG</a:t>
            </a:r>
            <a:endParaRPr b="1" lang="en-US" sz="1400" spc="-1" strike="noStrike">
              <a:solidFill>
                <a:srgbClr val="000000"/>
              </a:solidFill>
              <a:latin typeface="Times New Roman"/>
            </a:endParaRPr>
          </a:p>
          <a:p>
            <a:pPr marL="343080" indent="-343080">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rrent 802.19 leadership stays the same as original TAG leadership</a:t>
            </a:r>
            <a:endParaRPr b="1" lang="en-US" sz="1400" spc="-1" strike="noStrike">
              <a:solidFill>
                <a:srgbClr val="000000"/>
              </a:solidFill>
              <a:latin typeface="Times New Roman"/>
            </a:endParaRPr>
          </a:p>
          <a:p>
            <a:pPr marL="343080" indent="-343080">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G chair acts at TG1 chair for this session</a:t>
            </a:r>
            <a:endParaRPr b="1" lang="en-US" sz="14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Nominations for WG, Task Group 1 (TG1) and standing committee (SC) officers open</a:t>
            </a:r>
            <a:endParaRPr b="1" lang="en-US" sz="14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WG meets for the week</a:t>
            </a:r>
            <a:endParaRPr b="1" lang="en-US" sz="14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fter the session those who have attended at least 75% of the meetings are added to the original 802.19 voting membership to form new voting membership</a:t>
            </a:r>
            <a:endParaRPr b="1" lang="en-US" sz="1400" spc="-1" strike="noStrike">
              <a:solidFill>
                <a:srgbClr val="000000"/>
              </a:solidFill>
              <a:latin typeface="Times New Roman"/>
            </a:endParaRPr>
          </a:p>
          <a:p>
            <a:pPr marL="343080" indent="-343080">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Plenary Session</a:t>
            </a:r>
            <a:endParaRPr b="1" lang="en-US" sz="14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Close nominations for WG and Task Group 1 (TG1) and standing committee (SC) officers</a:t>
            </a:r>
            <a:endParaRPr b="1" lang="en-US" sz="14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Elections for WG (since March of even year), TG1 and SC officers</a:t>
            </a:r>
            <a:endParaRPr b="1" lang="en-US" sz="14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	</a:t>
            </a:r>
            <a:r>
              <a:rPr b="0" lang="en-US" sz="1400" spc="-1" strike="noStrike">
                <a:solidFill>
                  <a:srgbClr val="000000"/>
                </a:solidFill>
                <a:latin typeface="Times New Roman"/>
              </a:rPr>
              <a:t>At Friday EC meeting WG officers confirmed by EC</a:t>
            </a:r>
            <a:endParaRPr b="1" lang="en-US" sz="1400" spc="-1" strike="noStrike">
              <a:solidFill>
                <a:srgbClr val="000000"/>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672"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673" name="Footer Placeholder 4"/>
          <p:cNvSpPr/>
          <p:nvPr/>
        </p:nvSpPr>
        <p:spPr>
          <a:xfrm>
            <a:off x="7545960" y="6475320"/>
            <a:ext cx="15292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Cummings, SWIM</a:t>
            </a:r>
            <a:endParaRPr b="0" lang="en-US" sz="1200" spc="-1" strike="noStrike">
              <a:solidFill>
                <a:srgbClr val="000000"/>
              </a:solidFill>
              <a:latin typeface="Times New Roman"/>
            </a:endParaRPr>
          </a:p>
        </p:txBody>
      </p:sp>
      <p:sp>
        <p:nvSpPr>
          <p:cNvPr id="6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B4C76F-C648-47C4-9FE8-E5E243F39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605" name="Footer Placeholder 4"/>
          <p:cNvSpPr/>
          <p:nvPr/>
        </p:nvSpPr>
        <p:spPr>
          <a:xfrm>
            <a:off x="7545960" y="6475320"/>
            <a:ext cx="15292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Cummings, SWIM</a:t>
            </a:r>
            <a:endParaRPr b="0" lang="en-US" sz="1200" spc="-1" strike="noStrike">
              <a:solidFill>
                <a:srgbClr val="000000"/>
              </a:solidFill>
              <a:latin typeface="Times New Roman"/>
            </a:endParaRPr>
          </a:p>
        </p:txBody>
      </p:sp>
      <p:sp>
        <p:nvSpPr>
          <p:cNvPr id="6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4EEC6E-A66F-48EE-90DC-00AE243C4D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is is a work in process draft of the presentation supporting the 802.19 TVWS Coexistence PAR at the 802 EC Meeting in November 2009.</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610" name="Footer Placeholder 4"/>
          <p:cNvSpPr/>
          <p:nvPr/>
        </p:nvSpPr>
        <p:spPr>
          <a:xfrm>
            <a:off x="7545960" y="6475320"/>
            <a:ext cx="15292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Cummings, SWIM</a:t>
            </a:r>
            <a:endParaRPr b="0" lang="en-US" sz="1200" spc="-1" strike="noStrike">
              <a:solidFill>
                <a:srgbClr val="000000"/>
              </a:solidFill>
              <a:latin typeface="Times New Roman"/>
            </a:endParaRPr>
          </a:p>
        </p:txBody>
      </p:sp>
      <p:sp>
        <p:nvSpPr>
          <p:cNvPr id="6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00CE632-44DA-4EBE-892F-B01A1CA7FD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V White Space Opportunity</a:t>
            </a:r>
            <a:endParaRPr b="1" lang="en-US" sz="3200" spc="-1" strike="noStrike">
              <a:solidFill>
                <a:srgbClr val="000000"/>
              </a:solidFill>
              <a:latin typeface="Times New Roman"/>
            </a:endParaRPr>
          </a:p>
        </p:txBody>
      </p:sp>
      <p:sp>
        <p:nvSpPr>
          <p:cNvPr id="613" name="PlaceHolder 2"/>
          <p:cNvSpPr>
            <a:spLocks noGrp="1"/>
          </p:cNvSpPr>
          <p:nvPr>
            <p:ph/>
          </p:nvPr>
        </p:nvSpPr>
        <p:spPr>
          <a:xfrm>
            <a:off x="685800" y="1642680"/>
            <a:ext cx="7772400" cy="4452840"/>
          </a:xfrm>
          <a:prstGeom prst="rect">
            <a:avLst/>
          </a:prstGeom>
          <a:noFill/>
          <a:ln w="0">
            <a:noFill/>
          </a:ln>
        </p:spPr>
        <p:txBody>
          <a:bodyPr lIns="92160" rIns="92160" tIns="46080" bIns="46080" anchor="t">
            <a:normAutofit fontScale="98000"/>
          </a:bodyPr>
          <a:p>
            <a:pPr marL="335880" indent="-33588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Regulators Are Opening Up New Spectrum By Allowing Special Access To Unused TV Channels</a:t>
            </a:r>
            <a:endParaRPr b="1" lang="en-US" sz="1900" spc="-1" strike="noStrike">
              <a:solidFill>
                <a:srgbClr val="000000"/>
              </a:solidFill>
              <a:latin typeface="Times New Roman"/>
            </a:endParaRPr>
          </a:p>
          <a:p>
            <a:pPr lvl="1" marL="727920" indent="-280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US FCC Makes This Available Unlicensed</a:t>
            </a:r>
            <a:endParaRPr b="0" lang="en-US" sz="1700" spc="-1" strike="noStrike">
              <a:solidFill>
                <a:srgbClr val="000000"/>
              </a:solidFill>
              <a:latin typeface="Times New Roman"/>
            </a:endParaRPr>
          </a:p>
          <a:p>
            <a:pPr lvl="1" marL="727920" indent="-280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Other Regulators Have Proposed Combinations of Licensed and Unlicensed</a:t>
            </a:r>
            <a:endParaRPr b="0" lang="en-US" sz="1700" spc="-1" strike="noStrike">
              <a:solidFill>
                <a:srgbClr val="000000"/>
              </a:solidFill>
              <a:latin typeface="Times New Roman"/>
            </a:endParaRPr>
          </a:p>
          <a:p>
            <a:pPr lvl="1" marL="727920" indent="-280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dditional Spectrum Is Welcomed By 802</a:t>
            </a:r>
            <a:endParaRPr b="0" lang="en-US" sz="1700" spc="-1" strike="noStrike">
              <a:solidFill>
                <a:srgbClr val="000000"/>
              </a:solidFill>
              <a:latin typeface="Times New Roman"/>
            </a:endParaRPr>
          </a:p>
          <a:p>
            <a:pPr marL="335880" indent="-33588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The Spectrum Is Available to Support All 802 Wireless Standards</a:t>
            </a:r>
            <a:endParaRPr b="1" lang="en-US" sz="1900" spc="-1" strike="noStrike">
              <a:solidFill>
                <a:srgbClr val="000000"/>
              </a:solidFill>
              <a:latin typeface="Times New Roman"/>
            </a:endParaRPr>
          </a:p>
          <a:p>
            <a:pPr lvl="1" marL="727920" indent="-28008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802.22 and 802.11 are Working To Develop Standards To Address:</a:t>
            </a:r>
            <a:endParaRPr b="0" lang="en-US" sz="1900" spc="-1" strike="noStrike">
              <a:solidFill>
                <a:srgbClr val="000000"/>
              </a:solidFill>
              <a:latin typeface="Times New Roman"/>
            </a:endParaRPr>
          </a:p>
          <a:p>
            <a:pPr lvl="2" marL="106380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gulatory Requirements</a:t>
            </a:r>
            <a:endParaRPr b="0" lang="en-US" sz="1600" spc="-1" strike="noStrike">
              <a:solidFill>
                <a:srgbClr val="000000"/>
              </a:solidFill>
              <a:latin typeface="Times New Roman"/>
            </a:endParaRPr>
          </a:p>
          <a:p>
            <a:pPr lvl="2" marL="106380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ceived Use &amp; Business Cases</a:t>
            </a:r>
            <a:endParaRPr b="0" lang="en-US" sz="1600" spc="-1" strike="noStrike">
              <a:solidFill>
                <a:srgbClr val="000000"/>
              </a:solidFill>
              <a:latin typeface="Times New Roman"/>
            </a:endParaRPr>
          </a:p>
          <a:p>
            <a:pPr lvl="1" marL="727920" indent="-28008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Other 802 Groups May Follow</a:t>
            </a:r>
            <a:endParaRPr b="0" lang="en-US" sz="1900" spc="-1" strike="noStrike">
              <a:solidFill>
                <a:srgbClr val="000000"/>
              </a:solidFill>
              <a:latin typeface="Times New Roman"/>
            </a:endParaRPr>
          </a:p>
          <a:p>
            <a:pPr marL="335880" indent="-335880">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imes New Roman"/>
              </a:rPr>
              <a:t>Regulators Specify Means of Protecting “Incumbents” such as:</a:t>
            </a:r>
            <a:endParaRPr b="1" lang="en-US" sz="1900" spc="-1" strike="noStrike">
              <a:solidFill>
                <a:srgbClr val="000000"/>
              </a:solidFill>
              <a:latin typeface="Times New Roman"/>
            </a:endParaRPr>
          </a:p>
          <a:p>
            <a:pPr lvl="1" marL="727920" indent="-280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Broadcasters</a:t>
            </a:r>
            <a:endParaRPr b="0" lang="en-US" sz="1700" spc="-1" strike="noStrike">
              <a:solidFill>
                <a:srgbClr val="000000"/>
              </a:solidFill>
              <a:latin typeface="Times New Roman"/>
            </a:endParaRPr>
          </a:p>
          <a:p>
            <a:pPr lvl="1" marL="727920" indent="-280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Wireless Microphones</a:t>
            </a:r>
            <a:endParaRPr b="0" lang="en-US" sz="1700" spc="-1" strike="noStrike">
              <a:solidFill>
                <a:srgbClr val="000000"/>
              </a:solidFill>
              <a:latin typeface="Times New Roman"/>
            </a:endParaRPr>
          </a:p>
          <a:p>
            <a:pPr lvl="1" marL="727920" indent="-28008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ATV Headend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615" name="Footer Placeholder 4"/>
          <p:cNvSpPr/>
          <p:nvPr/>
        </p:nvSpPr>
        <p:spPr>
          <a:xfrm>
            <a:off x="7545960" y="6475320"/>
            <a:ext cx="15292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Cummings, SWIM</a:t>
            </a:r>
            <a:endParaRPr b="0" lang="en-US" sz="1200" spc="-1" strike="noStrike">
              <a:solidFill>
                <a:srgbClr val="000000"/>
              </a:solidFill>
              <a:latin typeface="Times New Roman"/>
            </a:endParaRPr>
          </a:p>
        </p:txBody>
      </p:sp>
      <p:sp>
        <p:nvSpPr>
          <p:cNvPr id="6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FE825B-D889-4E52-AAA0-310E5B680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7" name="PlaceHolder 1"/>
          <p:cNvSpPr>
            <a:spLocks noGrp="1"/>
          </p:cNvSpPr>
          <p:nvPr>
            <p:ph type="title"/>
          </p:nvPr>
        </p:nvSpPr>
        <p:spPr>
          <a:xfrm>
            <a:off x="685800" y="685440"/>
            <a:ext cx="7772400" cy="88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xistence Problem</a:t>
            </a:r>
            <a:endParaRPr b="1" lang="en-US" sz="3200" spc="-1" strike="noStrike">
              <a:solidFill>
                <a:srgbClr val="000000"/>
              </a:solidFill>
              <a:latin typeface="Times New Roman"/>
            </a:endParaRPr>
          </a:p>
        </p:txBody>
      </p:sp>
      <p:sp>
        <p:nvSpPr>
          <p:cNvPr id="618" name="PlaceHolder 2"/>
          <p:cNvSpPr>
            <a:spLocks noGrp="1"/>
          </p:cNvSpPr>
          <p:nvPr>
            <p:ph/>
          </p:nvPr>
        </p:nvSpPr>
        <p:spPr>
          <a:xfrm>
            <a:off x="685800" y="1571400"/>
            <a:ext cx="7772400" cy="452412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gulators Allow All Users/Standards to Enter White Space</a:t>
            </a:r>
            <a:endParaRPr b="1"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Different Users Employing Different 802 Standards Enter the Same Channel in the Same Location They Will Interfere With Each Other</a:t>
            </a:r>
            <a:endParaRPr b="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xample CSMA/CA &amp; TDMA</a:t>
            </a: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gulators Are Leaving Coexistence Problem to Industry</a:t>
            </a:r>
            <a:endParaRPr b="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ed Deployment</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imize Innovation Over Time</a:t>
            </a: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2 Solution</a:t>
            </a:r>
            <a:endParaRPr b="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itiate Standard Development Effort For Coexistence Mechanisms That Will Provide a Good User Experience For all 802 Standards Users in TV White Space</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ke the 802 Coexistence Mechanisms Available to non-802 Wireless Standards Group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620" name="Footer Placeholder 4"/>
          <p:cNvSpPr/>
          <p:nvPr/>
        </p:nvSpPr>
        <p:spPr>
          <a:xfrm>
            <a:off x="7545960" y="6475320"/>
            <a:ext cx="15292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Cummings, SWIM</a:t>
            </a:r>
            <a:endParaRPr b="0" lang="en-US" sz="1200" spc="-1" strike="noStrike">
              <a:solidFill>
                <a:srgbClr val="000000"/>
              </a:solidFill>
              <a:latin typeface="Times New Roman"/>
            </a:endParaRPr>
          </a:p>
        </p:txBody>
      </p:sp>
      <p:sp>
        <p:nvSpPr>
          <p:cNvPr id="6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D402ED-B940-435E-A418-D94F24C9C6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2" name="PlaceHolder 1"/>
          <p:cNvSpPr>
            <a:spLocks noGrp="1"/>
          </p:cNvSpPr>
          <p:nvPr>
            <p:ph type="title"/>
          </p:nvPr>
        </p:nvSpPr>
        <p:spPr>
          <a:xfrm>
            <a:off x="685800" y="685440"/>
            <a:ext cx="7772400" cy="671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xistence Standard Intent</a:t>
            </a:r>
            <a:endParaRPr b="1" lang="en-US" sz="3200" spc="-1" strike="noStrike">
              <a:solidFill>
                <a:srgbClr val="000000"/>
              </a:solidFill>
              <a:latin typeface="Times New Roman"/>
            </a:endParaRPr>
          </a:p>
        </p:txBody>
      </p:sp>
      <p:sp>
        <p:nvSpPr>
          <p:cNvPr id="623" name="PlaceHolder 2"/>
          <p:cNvSpPr>
            <a:spLocks noGrp="1"/>
          </p:cNvSpPr>
          <p:nvPr>
            <p:ph/>
          </p:nvPr>
        </p:nvSpPr>
        <p:spPr>
          <a:xfrm>
            <a:off x="685800" y="1356840"/>
            <a:ext cx="8029440" cy="50720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802 Standards Groups Such As 802.11, 802.22, etc.</a:t>
            </a:r>
            <a:endParaRPr b="1" lang="en-US" sz="21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Develop Standards For TV White Space that Address:</a:t>
            </a:r>
            <a:endParaRPr b="0" lang="en-US" sz="19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Regulatory Requirements</a:t>
            </a:r>
            <a:endParaRPr b="0" lang="en-US" sz="17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nticipated Use Cases </a:t>
            </a:r>
            <a:endParaRPr b="0" lang="en-US" sz="17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nticipated Business Cases</a:t>
            </a:r>
            <a:endParaRPr b="0" lang="en-US" sz="17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V White Space Coexistence Task Group Develops Coexistence Mechanisms That</a:t>
            </a:r>
            <a:endParaRPr b="1" lang="en-US" sz="21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Enhance coexistence between different TVWS networks when limited spectrum is available</a:t>
            </a:r>
            <a:endParaRPr b="0" lang="en-US" sz="19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re beneficial to those devices, which also implement TVWS MAC/PHY standards (not mandated)</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625" name="Footer Placeholder 4"/>
          <p:cNvSpPr/>
          <p:nvPr/>
        </p:nvSpPr>
        <p:spPr>
          <a:xfrm>
            <a:off x="7545960" y="6475320"/>
            <a:ext cx="15292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Cummings, SWIM</a:t>
            </a:r>
            <a:endParaRPr b="0" lang="en-US" sz="1200" spc="-1" strike="noStrike">
              <a:solidFill>
                <a:srgbClr val="000000"/>
              </a:solidFill>
              <a:latin typeface="Times New Roman"/>
            </a:endParaRPr>
          </a:p>
        </p:txBody>
      </p:sp>
      <p:sp>
        <p:nvSpPr>
          <p:cNvPr id="62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A89DC4-0BAF-4B53-BF7A-E552FE6550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PlaceHolder 1"/>
          <p:cNvSpPr>
            <a:spLocks noGrp="1"/>
          </p:cNvSpPr>
          <p:nvPr>
            <p:ph type="title"/>
          </p:nvPr>
        </p:nvSpPr>
        <p:spPr>
          <a:xfrm>
            <a:off x="685800" y="614160"/>
            <a:ext cx="7772400" cy="74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ustry Support</a:t>
            </a:r>
            <a:endParaRPr b="1" lang="en-US" sz="3200" spc="-1" strike="noStrike">
              <a:solidFill>
                <a:srgbClr val="000000"/>
              </a:solidFill>
              <a:latin typeface="Times New Roman"/>
            </a:endParaRPr>
          </a:p>
        </p:txBody>
      </p:sp>
      <p:sp>
        <p:nvSpPr>
          <p:cNvPr id="628" name="PlaceHolder 2"/>
          <p:cNvSpPr>
            <a:spLocks noGrp="1"/>
          </p:cNvSpPr>
          <p:nvPr>
            <p:ph/>
          </p:nvPr>
        </p:nvSpPr>
        <p:spPr>
          <a:xfrm>
            <a:off x="642600" y="1285560"/>
            <a:ext cx="8172360" cy="5000760"/>
          </a:xfrm>
          <a:prstGeom prst="rect">
            <a:avLst/>
          </a:prstGeom>
          <a:noFill/>
          <a:ln w="0">
            <a:noFill/>
          </a:ln>
        </p:spPr>
        <p:txBody>
          <a:bodyPr lIns="92160" rIns="92160" tIns="46080" bIns="46080" anchor="t">
            <a:normAutofit fontScale="98000"/>
          </a:bodyPr>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PAR Is the Result Of  a Long Process That Has Been Supported By a Broad Cross Section of the 802 Community</a:t>
            </a:r>
            <a:endParaRPr b="1"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V White Space EC Study Group</a:t>
            </a:r>
            <a:endParaRPr b="0" lang="en-US" sz="1800" spc="-1" strike="noStrike">
              <a:solidFill>
                <a:srgbClr val="000000"/>
              </a:solidFill>
              <a:latin typeface="Times New Roman"/>
            </a:endParaRPr>
          </a:p>
          <a:p>
            <a:pPr lvl="2" marL="106380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 + Foil Presentation</a:t>
            </a:r>
            <a:endParaRPr b="0" lang="en-US" sz="16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9 TV White Space Coexistence Study Group</a:t>
            </a:r>
            <a:endParaRPr b="0" lang="en-US" sz="1800" spc="-1" strike="noStrike">
              <a:solidFill>
                <a:srgbClr val="000000"/>
              </a:solidFill>
              <a:latin typeface="Times New Roman"/>
            </a:endParaRPr>
          </a:p>
          <a:p>
            <a:pPr lvl="2" marL="106380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existence Use Cases &amp; Scenarios</a:t>
            </a:r>
            <a:endParaRPr b="0" lang="en-US" sz="16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9 TV White Space Coexistence Study Group Extension &amp; Authorization to Write PAR</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re Has Been Strong Support For the Coexistence Study Group</a:t>
            </a:r>
            <a:endParaRPr b="1"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endance On the Telecons: 78 Attendees from 48 Companie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tendance at SF Plenary: 44 Attendees from 35 Companies</a:t>
            </a:r>
            <a:endParaRPr b="0"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re Has Been Strong Support For the Development of the PAR</a:t>
            </a:r>
            <a:endParaRPr b="1"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 30 Active Participants In PAR Finalization in Hawaii</a:t>
            </a:r>
            <a:endParaRPr b="0" lang="en-US" sz="1800" spc="-1" strike="noStrike">
              <a:solidFill>
                <a:srgbClr val="000000"/>
              </a:solidFill>
              <a:latin typeface="Times New Roman"/>
            </a:endParaRPr>
          </a:p>
          <a:p>
            <a:pPr lvl="2" marL="106380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Major Roles in Value Chain</a:t>
            </a:r>
            <a:endParaRPr b="0" lang="en-US" sz="1600" spc="-1" strike="noStrike">
              <a:solidFill>
                <a:srgbClr val="000000"/>
              </a:solidFill>
              <a:latin typeface="Times New Roman"/>
            </a:endParaRPr>
          </a:p>
          <a:p>
            <a:pPr lvl="2" marL="106380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th America, Asia &amp; Europe</a:t>
            </a:r>
            <a:endParaRPr b="0" lang="en-US" sz="16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rger Numbers of Active Participants Are Expected Once PAR Is Approv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630" name="Footer Placeholder 4"/>
          <p:cNvSpPr/>
          <p:nvPr/>
        </p:nvSpPr>
        <p:spPr>
          <a:xfrm>
            <a:off x="7545960" y="6475320"/>
            <a:ext cx="15292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Cummings, SWIM</a:t>
            </a:r>
            <a:endParaRPr b="0" lang="en-US" sz="1200" spc="-1" strike="noStrike">
              <a:solidFill>
                <a:srgbClr val="000000"/>
              </a:solidFill>
              <a:latin typeface="Times New Roman"/>
            </a:endParaRPr>
          </a:p>
        </p:txBody>
      </p:sp>
      <p:sp>
        <p:nvSpPr>
          <p:cNvPr id="63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946395-FDBF-4477-823F-242D8B0FB0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9 WG Organization</a:t>
            </a:r>
            <a:endParaRPr b="1" lang="en-US" sz="3200" spc="-1" strike="noStrike">
              <a:solidFill>
                <a:srgbClr val="000000"/>
              </a:solidFill>
              <a:latin typeface="Times New Roman"/>
            </a:endParaRPr>
          </a:p>
        </p:txBody>
      </p:sp>
      <p:grpSp>
        <p:nvGrpSpPr>
          <p:cNvPr id="633" name="Group 4"/>
          <p:cNvGrpSpPr/>
          <p:nvPr/>
        </p:nvGrpSpPr>
        <p:grpSpPr>
          <a:xfrm>
            <a:off x="3416400" y="1892160"/>
            <a:ext cx="2514600" cy="1219320"/>
            <a:chOff x="3416400" y="1892160"/>
            <a:chExt cx="2514600" cy="1219320"/>
          </a:xfrm>
        </p:grpSpPr>
        <p:sp>
          <p:nvSpPr>
            <p:cNvPr id="634" name="AutoShape 5"/>
            <p:cNvSpPr/>
            <p:nvPr/>
          </p:nvSpPr>
          <p:spPr>
            <a:xfrm>
              <a:off x="3416400" y="1892160"/>
              <a:ext cx="2514600" cy="1219320"/>
            </a:xfrm>
            <a:prstGeom prst="roundRect">
              <a:avLst>
                <a:gd name="adj" fmla="val 16667"/>
              </a:avLst>
            </a:prstGeom>
            <a:solidFill>
              <a:srgbClr val="bfbfbf"/>
            </a:solidFill>
            <a:ln w="25560">
              <a:solidFill>
                <a:srgbClr val="385d8a"/>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35" name="Rectangle 6"/>
            <p:cNvSpPr/>
            <p:nvPr/>
          </p:nvSpPr>
          <p:spPr>
            <a:xfrm>
              <a:off x="3473640" y="1930320"/>
              <a:ext cx="2400120" cy="1143000"/>
            </a:xfrm>
            <a:prstGeom prst="rect">
              <a:avLst/>
            </a:prstGeom>
            <a:noFill/>
            <a:ln w="0">
              <a:noFill/>
            </a:ln>
          </p:spPr>
          <p:style>
            <a:lnRef idx="0"/>
            <a:fillRef idx="0"/>
            <a:effectRef idx="0"/>
            <a:fontRef idx="minor"/>
          </p:style>
          <p:txBody>
            <a:bodyPr lIns="38160" rIns="89280" tIns="38160" bIns="38160" anchor="ctr">
              <a:noAutofit/>
            </a:bodyPr>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rPr>
                <a:t>802.19 WG</a:t>
              </a:r>
              <a:endParaRPr b="0" lang="en-US" sz="1800" spc="-1" strike="noStrike">
                <a:solidFill>
                  <a:srgbClr val="000000"/>
                </a:solidFill>
                <a:latin typeface="Times New Roman"/>
              </a:endParaRPr>
            </a:p>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WG Chair</a:t>
              </a:r>
              <a:endParaRPr b="0" lang="en-US" sz="1800" spc="-1" strike="noStrike">
                <a:solidFill>
                  <a:srgbClr val="000000"/>
                </a:solidFill>
                <a:latin typeface="Times New Roman"/>
              </a:endParaRPr>
            </a:p>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WG Vice Chair</a:t>
              </a:r>
              <a:endParaRPr b="0" lang="en-US" sz="1800" spc="-1" strike="noStrike">
                <a:solidFill>
                  <a:srgbClr val="000000"/>
                </a:solidFill>
                <a:latin typeface="Times New Roman"/>
              </a:endParaRPr>
            </a:p>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WG Secretary</a:t>
              </a:r>
              <a:endParaRPr b="0" lang="en-US" sz="1800" spc="-1" strike="noStrike">
                <a:solidFill>
                  <a:srgbClr val="000000"/>
                </a:solidFill>
                <a:latin typeface="Times New Roman"/>
              </a:endParaRPr>
            </a:p>
          </p:txBody>
        </p:sp>
      </p:grpSp>
      <p:grpSp>
        <p:nvGrpSpPr>
          <p:cNvPr id="636" name="Group 7"/>
          <p:cNvGrpSpPr/>
          <p:nvPr/>
        </p:nvGrpSpPr>
        <p:grpSpPr>
          <a:xfrm>
            <a:off x="1282680" y="4330800"/>
            <a:ext cx="2514600" cy="1523880"/>
            <a:chOff x="1282680" y="4330800"/>
            <a:chExt cx="2514600" cy="1523880"/>
          </a:xfrm>
        </p:grpSpPr>
        <p:sp>
          <p:nvSpPr>
            <p:cNvPr id="637" name="AutoShape 8"/>
            <p:cNvSpPr/>
            <p:nvPr/>
          </p:nvSpPr>
          <p:spPr>
            <a:xfrm>
              <a:off x="1282680" y="4330800"/>
              <a:ext cx="2514600" cy="1523880"/>
            </a:xfrm>
            <a:prstGeom prst="roundRect">
              <a:avLst>
                <a:gd name="adj" fmla="val 16667"/>
              </a:avLst>
            </a:prstGeom>
            <a:solidFill>
              <a:srgbClr val="bfbfbf"/>
            </a:solidFill>
            <a:ln w="25560">
              <a:solidFill>
                <a:srgbClr val="385d8a"/>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38" name="Rectangle 9"/>
            <p:cNvSpPr/>
            <p:nvPr/>
          </p:nvSpPr>
          <p:spPr>
            <a:xfrm>
              <a:off x="1357200" y="4388040"/>
              <a:ext cx="2363760" cy="1409760"/>
            </a:xfrm>
            <a:prstGeom prst="rect">
              <a:avLst/>
            </a:prstGeom>
            <a:noFill/>
            <a:ln w="0">
              <a:noFill/>
            </a:ln>
          </p:spPr>
          <p:style>
            <a:lnRef idx="0"/>
            <a:fillRef idx="0"/>
            <a:effectRef idx="0"/>
            <a:fontRef idx="minor"/>
          </p:style>
          <p:txBody>
            <a:bodyPr lIns="38160" rIns="88560" tIns="38160" bIns="38160" anchor="ctr">
              <a:noAutofit/>
            </a:bodyPr>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rPr>
                <a:t>Task Group 1</a:t>
              </a:r>
              <a:endParaRPr b="0" lang="en-US" sz="1800" spc="-1" strike="noStrike">
                <a:solidFill>
                  <a:srgbClr val="000000"/>
                </a:solidFill>
                <a:latin typeface="Times New Roman"/>
              </a:endParaRPr>
            </a:p>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rPr>
                <a:t>TVWS Coexistence</a:t>
              </a:r>
              <a:endParaRPr b="0" lang="en-US" sz="1800" spc="-1" strike="noStrike">
                <a:solidFill>
                  <a:srgbClr val="000000"/>
                </a:solidFill>
                <a:latin typeface="Times New Roman"/>
              </a:endParaRPr>
            </a:p>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TG Chair</a:t>
              </a:r>
              <a:endParaRPr b="0" lang="en-US" sz="1800" spc="-1" strike="noStrike">
                <a:solidFill>
                  <a:srgbClr val="000000"/>
                </a:solidFill>
                <a:latin typeface="Times New Roman"/>
              </a:endParaRPr>
            </a:p>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TG Vice Chair</a:t>
              </a:r>
              <a:endParaRPr b="0" lang="en-US" sz="1800" spc="-1" strike="noStrike">
                <a:solidFill>
                  <a:srgbClr val="000000"/>
                </a:solidFill>
                <a:latin typeface="Times New Roman"/>
              </a:endParaRPr>
            </a:p>
            <a:p>
              <a:pPr marL="11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TG Secretary</a:t>
              </a:r>
              <a:endParaRPr b="0" lang="en-US" sz="1800" spc="-1" strike="noStrike">
                <a:solidFill>
                  <a:srgbClr val="000000"/>
                </a:solidFill>
                <a:latin typeface="Times New Roman"/>
              </a:endParaRPr>
            </a:p>
          </p:txBody>
        </p:sp>
      </p:grpSp>
      <p:grpSp>
        <p:nvGrpSpPr>
          <p:cNvPr id="639" name="Group 10"/>
          <p:cNvGrpSpPr/>
          <p:nvPr/>
        </p:nvGrpSpPr>
        <p:grpSpPr>
          <a:xfrm>
            <a:off x="5549760" y="4235400"/>
            <a:ext cx="2514600" cy="1409760"/>
            <a:chOff x="5549760" y="4235400"/>
            <a:chExt cx="2514600" cy="1409760"/>
          </a:xfrm>
        </p:grpSpPr>
        <p:sp>
          <p:nvSpPr>
            <p:cNvPr id="640" name="AutoShape 11"/>
            <p:cNvSpPr/>
            <p:nvPr/>
          </p:nvSpPr>
          <p:spPr>
            <a:xfrm>
              <a:off x="5549760" y="4330800"/>
              <a:ext cx="2514600" cy="1218960"/>
            </a:xfrm>
            <a:prstGeom prst="roundRect">
              <a:avLst>
                <a:gd name="adj" fmla="val 16667"/>
              </a:avLst>
            </a:prstGeom>
            <a:solidFill>
              <a:srgbClr val="bfbfbf"/>
            </a:solidFill>
            <a:ln w="25560">
              <a:solidFill>
                <a:srgbClr val="385d8a"/>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41" name="Rectangle 12"/>
            <p:cNvSpPr/>
            <p:nvPr/>
          </p:nvSpPr>
          <p:spPr>
            <a:xfrm>
              <a:off x="5607000" y="4235400"/>
              <a:ext cx="2400120" cy="1409760"/>
            </a:xfrm>
            <a:prstGeom prst="rect">
              <a:avLst/>
            </a:prstGeom>
            <a:noFill/>
            <a:ln w="0">
              <a:noFill/>
            </a:ln>
          </p:spPr>
          <p:style>
            <a:lnRef idx="0"/>
            <a:fillRef idx="0"/>
            <a:effectRef idx="0"/>
            <a:fontRef idx="minor"/>
          </p:style>
          <p:txBody>
            <a:bodyPr lIns="38160" rIns="89280" tIns="38160" bIns="38160" anchor="ctr">
              <a:noAutofit/>
            </a:bodyPr>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rPr>
                <a:t>Coexistence Assurance  Standing Committee</a:t>
              </a:r>
              <a:endParaRPr b="0" lang="en-US" sz="1800" spc="-1" strike="noStrike">
                <a:solidFill>
                  <a:srgbClr val="000000"/>
                </a:solidFill>
                <a:latin typeface="Times New Roman"/>
              </a:endParaRPr>
            </a:p>
            <a:p>
              <a:pPr marL="12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C Chair</a:t>
              </a:r>
              <a:endParaRPr b="0" lang="en-US" sz="1800" spc="-1" strike="noStrike">
                <a:solidFill>
                  <a:srgbClr val="000000"/>
                </a:solidFill>
                <a:latin typeface="Times New Roman"/>
              </a:endParaRPr>
            </a:p>
          </p:txBody>
        </p:sp>
      </p:grpSp>
      <p:sp>
        <p:nvSpPr>
          <p:cNvPr id="642" name="Line 13"/>
          <p:cNvSpPr/>
          <p:nvPr/>
        </p:nvSpPr>
        <p:spPr>
          <a:xfrm flipH="1">
            <a:off x="4710240" y="3127320"/>
            <a:ext cx="1440" cy="822240"/>
          </a:xfrm>
          <a:prstGeom prst="line">
            <a:avLst/>
          </a:prstGeom>
          <a:ln w="28440">
            <a:solidFill>
              <a:srgbClr val="4a7ebb"/>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43" name="Line 14"/>
          <p:cNvSpPr/>
          <p:nvPr/>
        </p:nvSpPr>
        <p:spPr>
          <a:xfrm flipH="1">
            <a:off x="6843240" y="3949560"/>
            <a:ext cx="1800" cy="365400"/>
          </a:xfrm>
          <a:prstGeom prst="line">
            <a:avLst/>
          </a:prstGeom>
          <a:ln w="28440">
            <a:solidFill>
              <a:srgbClr val="4a7ebb"/>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44" name="Line 15"/>
          <p:cNvSpPr/>
          <p:nvPr/>
        </p:nvSpPr>
        <p:spPr>
          <a:xfrm flipH="1">
            <a:off x="2499840" y="3949560"/>
            <a:ext cx="1800" cy="365400"/>
          </a:xfrm>
          <a:prstGeom prst="line">
            <a:avLst/>
          </a:prstGeom>
          <a:ln w="28440">
            <a:solidFill>
              <a:srgbClr val="4a7ebb"/>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
        <p:nvSpPr>
          <p:cNvPr id="645" name="Line 16"/>
          <p:cNvSpPr/>
          <p:nvPr/>
        </p:nvSpPr>
        <p:spPr>
          <a:xfrm flipH="1">
            <a:off x="2501640" y="3949560"/>
            <a:ext cx="4343400" cy="0"/>
          </a:xfrm>
          <a:prstGeom prst="line">
            <a:avLst/>
          </a:prstGeom>
          <a:ln w="28440">
            <a:solidFill>
              <a:srgbClr val="4a7ebb"/>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Date Placeholder 1"/>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647" name="Footer Placeholder 2"/>
          <p:cNvSpPr/>
          <p:nvPr/>
        </p:nvSpPr>
        <p:spPr>
          <a:xfrm>
            <a:off x="7545960" y="6475320"/>
            <a:ext cx="15292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Cummings, SWIM</a:t>
            </a:r>
            <a:endParaRPr b="0" lang="en-US" sz="1200" spc="-1" strike="noStrike">
              <a:solidFill>
                <a:srgbClr val="000000"/>
              </a:solidFill>
              <a:latin typeface="Times New Roman"/>
            </a:endParaRPr>
          </a:p>
        </p:txBody>
      </p:sp>
      <p:sp>
        <p:nvSpPr>
          <p:cNvPr id="64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DC4C2B-67D5-4C5B-91CF-3D812F6DC2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9" name="PlaceHolder 1"/>
          <p:cNvSpPr>
            <a:spLocks noGrp="1"/>
          </p:cNvSpPr>
          <p:nvPr>
            <p:ph type="title"/>
          </p:nvPr>
        </p:nvSpPr>
        <p:spPr>
          <a:xfrm>
            <a:off x="685800" y="685440"/>
            <a:ext cx="7772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G Organization</a:t>
            </a:r>
            <a:endParaRPr b="1" lang="en-US" sz="3200" spc="-1" strike="noStrike">
              <a:solidFill>
                <a:srgbClr val="000000"/>
              </a:solidFill>
              <a:latin typeface="Times New Roman"/>
            </a:endParaRPr>
          </a:p>
        </p:txBody>
      </p:sp>
      <p:sp>
        <p:nvSpPr>
          <p:cNvPr id="650" name=""/>
          <p:cNvSpPr txBox="1"/>
          <p:nvPr/>
        </p:nvSpPr>
        <p:spPr>
          <a:xfrm>
            <a:off x="457200" y="1447920"/>
            <a:ext cx="8229600" cy="487656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802.19 WG will hold its first meeting in January</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s Board vote in Decembe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nitial WG membership will be the union of the following two groups</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urrent 802.19 member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those people who attend at least 75% of the first WG session as per the 802 Operations Manual Section 3.2.2.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tails of the Timeline of the conversion to a WG are provided in the backup slide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652" name="Footer Placeholder 4"/>
          <p:cNvSpPr/>
          <p:nvPr/>
        </p:nvSpPr>
        <p:spPr>
          <a:xfrm>
            <a:off x="7545960" y="6475320"/>
            <a:ext cx="15292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 Cummings, SWIM</a:t>
            </a:r>
            <a:endParaRPr b="0" lang="en-US" sz="1200" spc="-1" strike="noStrike">
              <a:solidFill>
                <a:srgbClr val="000000"/>
              </a:solidFill>
              <a:latin typeface="Times New Roman"/>
            </a:endParaRPr>
          </a:p>
        </p:txBody>
      </p:sp>
      <p:sp>
        <p:nvSpPr>
          <p:cNvPr id="65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622576-2B15-48BA-BE15-10BF91B55D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adership</a:t>
            </a:r>
            <a:endParaRPr b="1" lang="en-US" sz="3200" spc="-1" strike="noStrike">
              <a:solidFill>
                <a:srgbClr val="000000"/>
              </a:solidFill>
              <a:latin typeface="Times New Roman"/>
            </a:endParaRPr>
          </a:p>
        </p:txBody>
      </p:sp>
      <p:sp>
        <p:nvSpPr>
          <p:cNvPr id="6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here Are Qualified &amp; Capable Individuals Prepared To Run For the Task Group Leadership Positions</a:t>
            </a:r>
            <a:endParaRPr b="1"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15:12:00Z</dcterms:created>
  <dc:creator>Mark Cummings</dc:creator>
  <dc:description/>
  <dc:language>en-US</dc:language>
  <cp:lastModifiedBy>Qualcomm</cp:lastModifiedBy>
  <cp:lastPrinted>1998-02-10T13:28:06Z</cp:lastPrinted>
  <dcterms:modified xsi:type="dcterms:W3CDTF">2009-11-11T03:49:31Z</dcterms:modified>
  <cp:revision>32</cp:revision>
  <dc:subject/>
  <dc:title>802.19 Coexistence PAR</dc:title>
</cp:coreProperties>
</file>