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634D347E-53A2-4BB7-AF6D-262C8E3CDD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3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4516866-BB83-4A29-8727-A9FCBB762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1154160" y="701640"/>
            <a:ext cx="4626000" cy="3468600"/>
          </a:xfrm>
          <a:prstGeom prst="rect">
            <a:avLst/>
          </a:prstGeom>
          <a:ln w="0">
            <a:noFill/>
          </a:ln>
        </p:spPr>
      </p:sp>
      <p:sp>
        <p:nvSpPr>
          <p:cNvPr id="13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3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28719B-719D-417B-9224-9321BD4F0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54160" y="701640"/>
            <a:ext cx="4626000" cy="3468600"/>
          </a:xfrm>
          <a:prstGeom prst="rect">
            <a:avLst/>
          </a:prstGeom>
          <a:ln w="0">
            <a:noFill/>
          </a:ln>
        </p:spPr>
      </p:sp>
      <p:sp>
        <p:nvSpPr>
          <p:cNvPr id="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DB861-2052-45FE-BA49-7F88B0390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3FB23-BE53-4110-9273-4FACA743A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26B8B-E1C3-47BF-8296-A5772B3C0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40010-373B-483E-85BC-A2E3902128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28327-2052-4A88-8CD0-D4355FFC94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86711E-5737-4D9E-BC58-D721AA804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1CF6F-E2D2-4399-83C2-B8969B8E5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93FAAC-78FC-4CF2-9ACB-5EAA9B992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C5AE5-C260-4813-89AE-A8D6FE30A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8A8F83-6124-4513-8B5C-B6742064B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E81F8-2FD5-45E2-B814-AC74F747D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D13CD-153A-4A0E-AC9B-1C175F7E6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F848B-5B39-4786-B643-91440402B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FDB17-3BE4-4001-9552-4A43E0BC9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4758E-B32A-452A-AC48-AEE681491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28F110-602A-4342-9CF2-B2424BA84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B29232-5432-40FA-BF35-2FBE0B5F0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E4044-AA40-4472-847C-D223B0784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197C9-3B1D-415A-AA1C-93E889B65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52C43-9EBF-4434-8067-1E393C9CB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EA08E-2848-447A-AE45-E7DD8D04B5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3EFE6-FB78-4836-BF6E-F76474DAB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99246-A1E1-4DBF-AA2D-B85D21D44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DF481-5D74-4957-9C00-B10E0ACA9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A18110D-FA7A-4A89-BBFE-5787CB0166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3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5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5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94284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788369E-9CBC-433F-9DAE-B24B9323A15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0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B995EA-DF85-40C9-8DFC-FDEEAA00BF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440" y="609480"/>
            <a:ext cx="792468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VWS Coexistence</a:t>
            </a:r>
            <a:br>
              <a:rPr sz="2800"/>
            </a:br>
            <a:r>
              <a:rPr b="1" lang="en-US" sz="2800" spc="-1" strike="noStrike">
                <a:solidFill>
                  <a:srgbClr val="000000"/>
                </a:solidFill>
                <a:latin typeface="Times New Roman"/>
              </a:rPr>
              <a:t>Study Group Extension Request</a:t>
            </a:r>
            <a:endParaRPr b="1" lang="en-US" sz="2800" spc="-1" strike="noStrike">
              <a:solidFill>
                <a:srgbClr val="000000"/>
              </a:solidFill>
              <a:latin typeface="Times New Roman"/>
            </a:endParaRPr>
          </a:p>
        </p:txBody>
      </p:sp>
      <p:sp>
        <p:nvSpPr>
          <p:cNvPr id="104"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105"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7-16</a:t>
            </a:r>
            <a:endParaRPr b="1" lang="en-US" sz="2000" spc="-1" strike="noStrike">
              <a:solidFill>
                <a:srgbClr val="000000"/>
              </a:solidFill>
              <a:latin typeface="Times New Roman"/>
            </a:endParaRPr>
          </a:p>
        </p:txBody>
      </p:sp>
      <p:graphicFrame>
        <p:nvGraphicFramePr>
          <p:cNvPr id="106" name="Object 11"/>
          <p:cNvGraphicFramePr/>
          <p:nvPr/>
        </p:nvGraphicFramePr>
        <p:xfrm>
          <a:off x="515880" y="2266920"/>
          <a:ext cx="8139240" cy="1133640"/>
        </p:xfrm>
        <a:graphic>
          <a:graphicData uri="http://schemas.openxmlformats.org/presentationml/2006/ole">
            <p:oleObj progId="Word.Document.12" r:id="rId2" spid="">
              <p:embed/>
              <p:pic>
                <p:nvPicPr>
                  <p:cNvPr id="107"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108"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1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3B05306-8130-49CF-A787-11F7624D8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V White Space Coexistence SG</a:t>
            </a: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G developed and adopted a document on TV white space Use Cases and Coexistence Scenario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Mo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hat the 802.19 TVWS Coexistence Study Group adopt document IEEE 802.19-09-0026-0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15/0/13</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G Extension Request with intension to Develop a PAR</a:t>
            </a:r>
            <a:endParaRPr b="1" lang="en-US" sz="32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G Mo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o extend the study group to write a PAR for a coexistence standard in the TV white spa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34/1/2</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 Chair was in attendance at the SG meeting and recommended that the SG start to develop a draft PAR title, scope and purpos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clarity on the SG’s intension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1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9D3ED7-D2F6-4491-A045-643870AE7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PAR Title &amp; Scope</a:t>
            </a:r>
            <a:endParaRPr b="1" lang="en-US" sz="3200" spc="-1" strike="noStrike">
              <a:solidFill>
                <a:srgbClr val="000000"/>
              </a:solidFill>
              <a:latin typeface="Times New Roman"/>
            </a:endParaRPr>
          </a:p>
        </p:txBody>
      </p:sp>
      <p:sp>
        <p:nvSpPr>
          <p:cNvPr id="12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Tit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for coexistence of IEEE 802-based devices operating in the white spaces of the TV ban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33/0/4</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Scop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ndard provides a mechanism for IEEE 802-based heterogeneous networks to collaborate in order to coexist in the TV white space when there are a limited and dynamic number of channels. The mechanism will comply with regulatory requirements for the protection of licensed incumbent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2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0AA28F-EC3A-4F93-9AB1-EE33E43D7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PAR Purpose</a:t>
            </a:r>
            <a:endParaRPr b="1" lang="en-US" sz="3200" spc="-1" strike="noStrike">
              <a:solidFill>
                <a:srgbClr val="000000"/>
              </a:solidFill>
              <a:latin typeface="Times New Roman"/>
            </a:endParaRPr>
          </a:p>
        </p:txBody>
      </p:sp>
      <p:sp>
        <p:nvSpPr>
          <p:cNvPr id="12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Purpos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n that a number of regulatory domains have opened up additional spectrum in the TV band for unlicensed devices, known as TV white space, it is important these TV white space devices coexist.  The purpose of this standard is to provide a reasonably equitable mechanism for multiple heterogeneous networks to coexist in the TV white space when there are very few channels available. The mechanism considers: how TV white space devices connect for coexistence related communications, what information the TV white space devices exchange, and algorithms for TV white space devices to achieve coexisten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on Scope and Purpose: 28/0/6</a:t>
            </a:r>
            <a:endParaRPr b="0" lang="en-US" sz="2000" spc="-1" strike="noStrike">
              <a:solidFill>
                <a:srgbClr val="000000"/>
              </a:solidFill>
              <a:latin typeface="Times New Roman"/>
            </a:endParaRPr>
          </a:p>
        </p:txBody>
      </p:sp>
      <p:sp>
        <p:nvSpPr>
          <p:cNvPr id="126"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2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2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AFB6AF-33E8-4EF0-BC32-741037916B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 Motion</a:t>
            </a:r>
            <a:endParaRPr b="1" lang="en-US" sz="3200" spc="-1" strike="noStrike">
              <a:solidFill>
                <a:srgbClr val="000000"/>
              </a:solidFill>
              <a:latin typeface="Times New Roman"/>
            </a:endParaRPr>
          </a:p>
        </p:txBody>
      </p:sp>
      <p:sp>
        <p:nvSpPr>
          <p:cNvPr id="13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extend the 802.19 TV white space coexistence study group with the intension to write a PAR on coexistence in the TV white spa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Steve Shellham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t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1"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3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231946-4F5C-4ADA-833A-D743BB8374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07-17T04:43:26Z</dcterms:modified>
  <cp:revision>290</cp:revision>
  <dc:subject/>
  <dc:title>TAG Overview</dc:title>
</cp:coreProperties>
</file>