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5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PlaceHolder 2"/>
          <p:cNvSpPr>
            <a:spLocks noGrp="1"/>
          </p:cNvSpPr>
          <p:nvPr>
            <p:ph type="dt" idx="31"/>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5" name="PlaceHolder 5"/>
          <p:cNvSpPr>
            <a:spLocks noGrp="1"/>
          </p:cNvSpPr>
          <p:nvPr>
            <p:ph type="ftr" idx="32"/>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56" name="PlaceHolder 6"/>
          <p:cNvSpPr>
            <a:spLocks noGrp="1"/>
          </p:cNvSpPr>
          <p:nvPr>
            <p:ph type="sldNum" idx="33"/>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C0D62BF-99DD-4893-AD6A-722452A4F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ABEEE3-57CC-45E3-BB62-25D9FD9776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4160" y="701640"/>
            <a:ext cx="4626000" cy="3468600"/>
          </a:xfrm>
          <a:prstGeom prst="rect">
            <a:avLst/>
          </a:prstGeom>
          <a:ln w="0">
            <a:noFill/>
          </a:ln>
        </p:spPr>
      </p:sp>
      <p:sp>
        <p:nvSpPr>
          <p:cNvPr id="5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2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47BF3B-BF54-4005-9DDC-00FE1BEC4C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1154160" y="701640"/>
            <a:ext cx="4626000" cy="3468600"/>
          </a:xfrm>
          <a:prstGeom prst="rect">
            <a:avLst/>
          </a:prstGeom>
          <a:ln w="0">
            <a:noFill/>
          </a:ln>
        </p:spPr>
      </p:sp>
      <p:sp>
        <p:nvSpPr>
          <p:cNvPr id="52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7761FC-760C-4F4D-BBD0-A04541FE6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PlaceHolder 1"/>
          <p:cNvSpPr>
            <a:spLocks noGrp="1"/>
          </p:cNvSpPr>
          <p:nvPr>
            <p:ph type="sldImg"/>
          </p:nvPr>
        </p:nvSpPr>
        <p:spPr>
          <a:xfrm>
            <a:off x="1154160" y="701640"/>
            <a:ext cx="4626000" cy="3468600"/>
          </a:xfrm>
          <a:prstGeom prst="rect">
            <a:avLst/>
          </a:prstGeom>
          <a:ln w="0">
            <a:noFill/>
          </a:ln>
        </p:spPr>
      </p:sp>
      <p:sp>
        <p:nvSpPr>
          <p:cNvPr id="5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E8932C3-3ED7-4C92-8E9F-18A10EAB8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54160" y="701640"/>
            <a:ext cx="4626000" cy="3468600"/>
          </a:xfrm>
          <a:prstGeom prst="rect">
            <a:avLst/>
          </a:prstGeom>
          <a:ln w="0">
            <a:noFill/>
          </a:ln>
        </p:spPr>
      </p:sp>
      <p:sp>
        <p:nvSpPr>
          <p:cNvPr id="5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D1ED0-9227-4B8E-A74F-7FCEA77EE5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7266C-5FA1-4C0A-9198-0743C6657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7BCB68-CCD9-4652-9613-7E8E92BCD7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74E744-6081-4D52-8D7B-9E37528FD1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B812A3-0749-4F92-A2E0-5B499D0306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F68A29-4E53-4B4F-BFCE-7EEF06D97F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F627C-1490-4F9B-90B0-C65B487620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B3A9C9-5AFC-44C4-8467-847E705B2F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B1FE65-D73A-4088-BE4D-81A280151D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B4F38B-D7B9-4B49-A7EF-AFDAD712FF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CBCD9F-8500-409E-ADCA-9AF0461286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AD8443C-BEFE-49EF-996E-CB136D0E3B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2FA04-93B9-4EF1-A0AC-4F4405084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036AFE-682F-4ECB-9A27-9AA4E37DE5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8AE698-F717-4BB9-8069-244817BF96C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4D7AF9-F941-44D6-ABC9-618DD926B5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30031C-8B1A-426E-B03A-CA5C346D8E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6F75B2-1181-4EEB-9C5C-65671F16E1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98AF35-D96C-4621-9F32-20C64F1657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4133E9-2A14-407D-ADF8-368540B9DE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63B34E9-01A9-4F53-BDB9-AFFA7BB167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039A32-908B-41F6-91A3-4CCEDEF36C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11B2FA0-FABF-4CD6-9EE8-3A7D580ACD9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CA728-3E64-4716-AEC6-E331EEEF35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1E2E94-CA40-4898-8017-DD1B00A7223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FE1BE-17CC-4293-92F0-810DF4B6CE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A3CE0-1856-4488-9466-D41A3D90B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0F5A5-4093-4D17-A6CC-7AF6A62FC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B28D7-D7C0-409A-9BCA-914E0D272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71771-0617-499C-A80E-B824B0BFE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01733F-9304-4590-81F3-2EB561418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94BB6-FD0C-4910-84B8-FAF315270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3CB15-272C-4D6F-8BC2-1CD167A9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5AB21C-4776-4268-BFCA-F335FE81E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C15C7-7FB7-4B0E-B7EE-36A1F1C585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692FA-F359-4FDB-AC3D-CFE4ABB8B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C1AB35-023C-481F-A294-2215BA77C2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FD85E-A3AB-4055-896D-B94E6C697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BC3971-D43D-4A5F-935C-B339722FDF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362669-4640-4B81-9144-10C5ED541C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67D438-33CF-4638-8085-25BF3F163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8055FE-BF37-41BA-A1A4-14780154C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64BB8-5B27-4799-A9A3-451C6F8C3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72C15-6EEF-4D9A-9137-508132B52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B52C2B-AD34-42DE-A2E8-141CD26794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D89767-61B5-4DFD-B9F2-E36D5C652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72C74-2047-4006-8C10-B1C647F63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40B71-BDC1-4E54-BB0A-08423C515E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E986DF-E9E4-4A3A-B14E-0BE9D4441B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DF8D84-18A3-44BF-82F5-DEDC4DE6F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D32A94-D562-4F4D-84F2-D76958C1E1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927DA7-FECD-482A-8471-9E4C932F6A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084CED-F62A-4128-87C9-7E72CB88D2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2315EE-563C-444B-B00A-5F310A8A38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176E-D1A6-46D5-9D71-8B789BBEA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7599C0-B0EC-4436-A83E-5CA31B9AFD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EAC3D3-84F0-4E2D-A747-84B6139D13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A7A517-9532-4521-AE23-6130296E85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174F2D-9C34-4B20-966F-AD8FAE9E3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363095-A089-4297-9F83-B35EB7C61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8545D7-6AC7-46F7-80DD-355599F62F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F1DB6-F4A9-42E4-A476-5BB2347BCF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EDD37B-D3CF-4895-A0E0-B1DEEA8920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7BE0AB-A4C5-489F-8236-3F59A5FBF2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700152D-8492-4E7F-BE34-B32D796E2E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E5213-98D8-45FE-A954-755C0DF16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F29A34-1B12-44C5-B081-5353CE2AA6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B0EF01-0D7F-4C7F-9D01-02D602FC85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0C277B-BB57-49D0-B407-5223CA6973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8EBD5A-6C1A-4B29-A8B7-71B2542C55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129FF2-6C1C-4225-AC56-C051EDBEF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04328-B088-46EC-9581-6A99632B1C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51A44C-F8EE-401D-8EFC-3F6EE7D59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BEC59-A7E6-4CE1-ACAE-05B0F3FAF7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CD0431-6F61-49B9-BE21-0C119E59FF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F70260-570D-40D2-9D62-3E4403EFDB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03830-8C66-4ED5-B7E0-5B8FD9AEE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504F23-6BC8-4936-B726-0069280B64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084F59-23CC-4277-84AD-EAA394DE93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77B3D5-ACFC-44BE-A8D2-16357534DB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CF8F2D-1902-4A8A-B82F-E1F7CEEFAC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377F3A-B8F8-4A0E-8996-BD5C8406C0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61EE95-0F29-45F3-9B75-56CEB88B6F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737276-0A75-4B19-B95E-7109F43847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FB732-8CA8-42AE-A0C7-6630CEFC0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D65CBA-AE92-4623-BEEA-A86FC74AB6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BCFC04-77F6-4CC7-B0C5-F26601AC3F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8692-7253-4D09-B07C-DA35AEB89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618EF5-8057-465F-B621-19C4649EAE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868FEE-E87A-4677-AF21-40982AFE37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3FC08F-7287-4702-ACF8-A011F99C30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7EE2B7-3C1E-46C8-8D33-8274529C50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0EF83E-E21F-4B00-BDB1-090D5461A5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2B6B1C-AD36-469F-9F95-02C8E418DB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74F399-7B93-421C-9605-306569532C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6403AC-5A75-4727-A483-4EAB5E162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05D34-3BFC-4F2D-A94D-E3800F2B41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110C5-29C6-4746-9141-7E9AE89718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843C0-AD52-4141-93DD-D7D46639B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3FCB73-CF3B-47A5-AC3C-3CD419C004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9CDA2-3828-4F66-9242-5FC4914D70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924DE9-8384-445F-9AA3-01C356FFED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0D7AB1-8242-49BF-8844-F84C0754CB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F7DA9C-B73E-4F27-BDC0-D549003AC6B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D30DDA-D562-4D44-AA82-F57788677E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55183E-BD45-417B-8753-2DD35763E5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DEC59C-5E4E-4F55-BF5F-CEEA29538C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D26DE9-ECA2-4CE2-A79A-90E63879E4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289604-B318-4D3F-99C1-88A6B275D0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52510-8DEE-42FE-8595-C6D06A1AA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D62CFD-90F6-4E2D-B30C-8F4FCC5E7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B1909-5EC2-44F6-A314-390447B101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78F19-1855-47D4-B6AA-713A998706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0F76D6-8F5F-4FF7-ABED-B75DDF947F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7FFC2-7CC2-4722-9622-B5BEA7821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EC9881-2DF9-40AB-A874-FBBF67626D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8B9501-D1DF-4D7C-B95A-073D3E0FCC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8DD9B95-58F7-4139-930D-B1399036FC2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D0CAA2-1E8A-4272-8F83-11E1DE6F76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91D4B9-C332-4DDB-8324-6BB5D6B58F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04436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5A0852-7399-4DC4-8215-958E96DCC3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9D4FCB-3C48-45DB-A78E-0627F13A2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8A8AD1-E7DC-4C91-AC53-1AC6D984E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4526CE-7456-4912-9AA9-A2DC0E2581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AD152BA-FAFF-4346-A2E8-10A181B4C5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3C8355-A231-45B3-BF8C-1AFA0A388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913041-3935-4E42-99EC-8EF2F2760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0F3990-C7F2-4B28-AE31-B4B1E1F5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FF7EC4-3555-4F3C-816E-61C6AAD33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D949AB-10A8-4BD5-85A3-9F6C8574F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6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AB0F58-A024-417D-A7DC-8C4EF46E3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 White Space Coexistence Plan</a:t>
            </a:r>
            <a:endParaRPr b="1" lang="en-US" sz="3200" spc="-1" strike="noStrike">
              <a:solidFill>
                <a:srgbClr val="000000"/>
              </a:solidFill>
              <a:latin typeface="Times New Roman"/>
            </a:endParaRPr>
          </a:p>
        </p:txBody>
      </p:sp>
      <p:sp>
        <p:nvSpPr>
          <p:cNvPr id="464"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465"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5-13</a:t>
            </a:r>
            <a:endParaRPr b="1" lang="en-US" sz="2000" spc="-1" strike="noStrike">
              <a:solidFill>
                <a:srgbClr val="000000"/>
              </a:solidFill>
              <a:latin typeface="Times New Roman"/>
            </a:endParaRPr>
          </a:p>
        </p:txBody>
      </p:sp>
      <p:graphicFrame>
        <p:nvGraphicFramePr>
          <p:cNvPr id="466" name="Object 11"/>
          <p:cNvGraphicFramePr/>
          <p:nvPr/>
        </p:nvGraphicFramePr>
        <p:xfrm>
          <a:off x="515880" y="2266920"/>
          <a:ext cx="8139240" cy="1133640"/>
        </p:xfrm>
        <a:graphic>
          <a:graphicData uri="http://schemas.openxmlformats.org/presentationml/2006/ole">
            <p:oleObj progId="Word.Document.12" r:id="rId2" spid="">
              <p:embed/>
              <p:pic>
                <p:nvPicPr>
                  <p:cNvPr id="467"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468"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ture Work</a:t>
            </a:r>
            <a:endParaRPr b="1" lang="en-US" sz="3200" spc="-1" strike="noStrike">
              <a:solidFill>
                <a:srgbClr val="000000"/>
              </a:solidFill>
              <a:latin typeface="Times New Roman"/>
            </a:endParaRPr>
          </a:p>
        </p:txBody>
      </p:sp>
      <p:sp>
        <p:nvSpPr>
          <p:cNvPr id="516" name=""/>
          <p:cNvSpPr txBox="1"/>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completion of the current tasks the Study Group will consider other tas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future deliverabl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metrics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umbent protection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mendations to the Executive Committe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of a PAR on coexistence in the TV white sp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recommendation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needed the study group will request an extension after the November Plen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plan is to request an extension at the July plenar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51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35B964-F3EB-4EDC-8EBF-0D9DA4491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7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2501A0-D679-4CC2-A8E3-14BAD260CB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473" name="PlaceHolder 2"/>
          <p:cNvSpPr>
            <a:spLocks noGrp="1"/>
          </p:cNvSpPr>
          <p:nvPr>
            <p:ph/>
          </p:nvPr>
        </p:nvSpPr>
        <p:spPr>
          <a:xfrm>
            <a:off x="685440" y="1294920"/>
            <a:ext cx="8001000" cy="4953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March 2009 Plenary the executive committee approved formation of an 802.19 Study Group on TV white space coexiste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EC requested a plan contain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planned deliver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aptures the pla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w Poll on Possible deliver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ables selec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or developing those deliverabl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May Wireless Interim the study group discussed and agreed upon additional tasks (Slides 8 &amp; 9)</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s and Straw Poll</a:t>
            </a:r>
            <a:endParaRPr b="1" lang="en-US" sz="3200" spc="-1" strike="noStrike">
              <a:solidFill>
                <a:srgbClr val="000000"/>
              </a:solidFill>
              <a:latin typeface="Times New Roman"/>
            </a:endParaRPr>
          </a:p>
        </p:txBody>
      </p:sp>
      <p:sp>
        <p:nvSpPr>
          <p:cNvPr id="4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udy Group has been holding weekly conference calls to discuss the pl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udy Group developed a list of four possible deliverab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lectronic straw poll on these possible deliverables was run from April 14 to April 1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 people responded to the straw pol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7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12A49D-4977-4922-BAA0-929E4571F0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Results</a:t>
            </a:r>
            <a:endParaRPr b="1" lang="en-US" sz="3200" spc="-1" strike="noStrike">
              <a:solidFill>
                <a:srgbClr val="000000"/>
              </a:solidFill>
              <a:latin typeface="Times New Roman"/>
            </a:endParaRPr>
          </a:p>
        </p:txBody>
      </p:sp>
      <p:sp>
        <p:nvSpPr>
          <p:cNvPr id="480"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8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6F6DC3-AB40-471A-8150-015B62316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83" name="Picture 6" descr=""/>
          <p:cNvPicPr/>
          <p:nvPr/>
        </p:nvPicPr>
        <p:blipFill>
          <a:blip r:embed="rId1"/>
          <a:stretch/>
        </p:blipFill>
        <p:spPr>
          <a:xfrm>
            <a:off x="519120" y="1738440"/>
            <a:ext cx="8104320" cy="33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ion of Deliverables</a:t>
            </a:r>
            <a:endParaRPr b="1" lang="en-US" sz="3200" spc="-1" strike="noStrike">
              <a:solidFill>
                <a:srgbClr val="000000"/>
              </a:solidFill>
              <a:latin typeface="Times New Roman"/>
            </a:endParaRPr>
          </a:p>
        </p:txBody>
      </p:sp>
      <p:graphicFrame>
        <p:nvGraphicFramePr>
          <p:cNvPr id="485" name=""/>
          <p:cNvGraphicFramePr/>
          <p:nvPr/>
        </p:nvGraphicFramePr>
        <p:xfrm>
          <a:off x="685800" y="1981080"/>
          <a:ext cx="7315200" cy="2057400"/>
        </p:xfrm>
        <a:graphic>
          <a:graphicData uri="http://schemas.openxmlformats.org/drawingml/2006/table">
            <a:tbl>
              <a:tblPr/>
              <a:tblGrid>
                <a:gridCol w="4648320"/>
                <a:gridCol w="2666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live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d2db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y Group Pl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d2db9"/>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Cases and Coexistence Scenari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existence Metric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existence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umbent Pro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6"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8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8ECE87-C7CA-4480-9B20-2B6B9F843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49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CD13F3-61E3-4438-BA17-D5F4FCE7D3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Process</a:t>
            </a:r>
            <a:endParaRPr b="1" lang="en-US" sz="2800" spc="-1" strike="noStrike">
              <a:solidFill>
                <a:srgbClr val="000000"/>
              </a:solidFill>
              <a:latin typeface="Times New Roman"/>
            </a:endParaRPr>
          </a:p>
        </p:txBody>
      </p:sp>
      <p:sp>
        <p:nvSpPr>
          <p:cNvPr id="493" name="Rectangle 4"/>
          <p:cNvSpPr/>
          <p:nvPr/>
        </p:nvSpPr>
        <p:spPr>
          <a:xfrm>
            <a:off x="3200400" y="1752480"/>
            <a:ext cx="2819520" cy="898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Contributions (Present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ext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se Cases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xistence Scenarios</a:t>
            </a:r>
            <a:endParaRPr b="0" lang="en-US" sz="1200" spc="-1" strike="noStrike">
              <a:solidFill>
                <a:srgbClr val="000000"/>
              </a:solidFill>
              <a:latin typeface="Times New Roman"/>
            </a:endParaRPr>
          </a:p>
        </p:txBody>
      </p:sp>
      <p:sp>
        <p:nvSpPr>
          <p:cNvPr id="494" name="Line 12"/>
          <p:cNvSpPr/>
          <p:nvPr/>
        </p:nvSpPr>
        <p:spPr>
          <a:xfrm>
            <a:off x="4572000" y="2651040"/>
            <a:ext cx="0" cy="36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5" name="Rectangle 4"/>
          <p:cNvSpPr/>
          <p:nvPr/>
        </p:nvSpPr>
        <p:spPr>
          <a:xfrm>
            <a:off x="3200400" y="3032280"/>
            <a:ext cx="281952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ntribu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se Cases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xistence Scenarios</a:t>
            </a:r>
            <a:endParaRPr b="0" lang="en-US" sz="1200" spc="-1" strike="noStrike">
              <a:solidFill>
                <a:srgbClr val="000000"/>
              </a:solidFill>
              <a:latin typeface="Times New Roman"/>
            </a:endParaRPr>
          </a:p>
        </p:txBody>
      </p:sp>
      <p:sp>
        <p:nvSpPr>
          <p:cNvPr id="496" name="Line 12"/>
          <p:cNvSpPr/>
          <p:nvPr/>
        </p:nvSpPr>
        <p:spPr>
          <a:xfrm>
            <a:off x="4572000" y="3794040"/>
            <a:ext cx="0" cy="36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Line 12"/>
          <p:cNvSpPr/>
          <p:nvPr/>
        </p:nvSpPr>
        <p:spPr>
          <a:xfrm>
            <a:off x="4572000" y="4876920"/>
            <a:ext cx="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Rectangle 4"/>
          <p:cNvSpPr/>
          <p:nvPr/>
        </p:nvSpPr>
        <p:spPr>
          <a:xfrm>
            <a:off x="3200400" y="4191120"/>
            <a:ext cx="281952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ext contributions into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Document on Use C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existence Scenarios</a:t>
            </a:r>
            <a:endParaRPr b="0" lang="en-US" sz="1200" spc="-1" strike="noStrike">
              <a:solidFill>
                <a:srgbClr val="000000"/>
              </a:solidFill>
              <a:latin typeface="Times New Roman"/>
            </a:endParaRPr>
          </a:p>
        </p:txBody>
      </p:sp>
      <p:sp>
        <p:nvSpPr>
          <p:cNvPr id="499" name="Rectangle 4"/>
          <p:cNvSpPr/>
          <p:nvPr/>
        </p:nvSpPr>
        <p:spPr>
          <a:xfrm>
            <a:off x="3200400" y="5257800"/>
            <a:ext cx="281952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Group Vote to Appro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on Use C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existence Scenar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3"/>
          <p:cNvSpPr/>
          <p:nvPr/>
        </p:nvSpPr>
        <p:spPr>
          <a:xfrm>
            <a:off x="7005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09</a:t>
            </a:r>
            <a:endParaRPr b="0" lang="en-US" sz="1800" spc="-1" strike="noStrike">
              <a:solidFill>
                <a:srgbClr val="000000"/>
              </a:solidFill>
              <a:latin typeface="Times New Roman"/>
            </a:endParaRPr>
          </a:p>
        </p:txBody>
      </p:sp>
      <p:sp>
        <p:nvSpPr>
          <p:cNvPr id="50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25BC30-C357-4D59-819B-07E76A721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a:t>
            </a:r>
            <a:endParaRPr b="1" lang="en-US" sz="3200" spc="-1" strike="noStrike">
              <a:solidFill>
                <a:srgbClr val="000000"/>
              </a:solidFill>
              <a:latin typeface="Times New Roman"/>
            </a:endParaRPr>
          </a:p>
        </p:txBody>
      </p:sp>
      <p:sp>
        <p:nvSpPr>
          <p:cNvPr id="504" name="PlaceHolder 2"/>
          <p:cNvSpPr>
            <a:spLocks noGrp="1"/>
          </p:cNvSpPr>
          <p:nvPr>
            <p:ph/>
          </p:nvPr>
        </p:nvSpPr>
        <p:spPr>
          <a:xfrm>
            <a:off x="609120" y="1447920"/>
            <a:ext cx="80010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amp; May conference calls and May Wireless Interim</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nd Discuss contributions on Use Cases and Coexistence Scenario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between May and Jul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 text contributions into a single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and revise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09 Plen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final edits to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on approval of final document on Use Cases and Coexistence Scenarios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52280" y="685800"/>
            <a:ext cx="88394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Task agreed to at the May 2009 Wireless Interim</a:t>
            </a:r>
            <a:endParaRPr b="1" lang="en-US" sz="2400" spc="-1" strike="noStrike">
              <a:solidFill>
                <a:srgbClr val="000000"/>
              </a:solidFill>
              <a:latin typeface="Times New Roman"/>
            </a:endParaRPr>
          </a:p>
        </p:txBody>
      </p:sp>
      <p:sp>
        <p:nvSpPr>
          <p:cNvPr id="506" name=""/>
          <p:cNvSpPr txBox="1"/>
          <p:nvPr/>
        </p:nvSpPr>
        <p:spPr>
          <a:xfrm>
            <a:off x="380880" y="1218960"/>
            <a:ext cx="8382240" cy="5105160"/>
          </a:xfrm>
          <a:prstGeom prst="rect">
            <a:avLst/>
          </a:prstGeom>
          <a:noFill/>
          <a:ln w="0">
            <a:noFill/>
          </a:ln>
        </p:spPr>
        <p:txBody>
          <a:bodyPr lIns="92160" rIns="92160" tIns="46080" bIns="46080" anchor="t">
            <a:normAutofit/>
          </a:bodyPr>
          <a:p>
            <a:pPr marL="343080" indent="-343080">
              <a:lnSpc>
                <a:spcPts val="20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is recognized value in assessing the feasibility and performance of multiple 802 wireless technologies coexisting in the TV white space and make recommendations to the working groups</a:t>
            </a:r>
            <a:endParaRPr b="1" lang="en-US" sz="2000" spc="-1" strike="noStrike">
              <a:solidFill>
                <a:srgbClr val="000000"/>
              </a:solidFill>
              <a:latin typeface="Times New Roman"/>
            </a:endParaRPr>
          </a:p>
          <a:p>
            <a:pPr marL="343080" indent="-343080">
              <a:lnSpc>
                <a:spcPts val="2098"/>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G plans the following tasks</a:t>
            </a:r>
            <a:endParaRPr b="1" lang="en-US" sz="20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how well the unaltered 802 standards would coexist in TVWS</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 and review contributions on possible coexistence mechanisms for operation in the TV white space</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 and review contributions on the complexity and effectiveness of the various coexistence mechanisms</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procedural recommendations to the EC on coexistence in the TVWS</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e technical recommendations, to the working groups considering MAC/PHY projects in the TV white space, on what features could be supported in the drafts to enable coexistence between 802 wireless standards in the TV white space</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est and review feedback from the WGs on these recommendations</a:t>
            </a:r>
            <a:endParaRPr b="0" lang="en-US" sz="1800" spc="-1" strike="noStrike">
              <a:solidFill>
                <a:srgbClr val="000000"/>
              </a:solidFill>
              <a:latin typeface="Times New Roman"/>
            </a:endParaRPr>
          </a:p>
          <a:p>
            <a:pPr lvl="1" marL="857160" indent="-457200">
              <a:lnSpc>
                <a:spcPts val="2098"/>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 with the WGs on incorporating these coexistence mechanisms into the drafts</a:t>
            </a:r>
            <a:endParaRPr b="0" lang="en-US" sz="1800" spc="-1" strike="noStrike">
              <a:solidFill>
                <a:srgbClr val="000000"/>
              </a:solidFill>
              <a:latin typeface="Times New Roman"/>
            </a:endParaRPr>
          </a:p>
        </p:txBody>
      </p:sp>
      <p:sp>
        <p:nvSpPr>
          <p:cNvPr id="507"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50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5889F3-8D7B-4058-9F83-BA79EABB4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76212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hedule for Additional Deliverables</a:t>
            </a:r>
            <a:endParaRPr b="1" lang="en-US" sz="2800" spc="-1" strike="noStrike">
              <a:solidFill>
                <a:srgbClr val="000000"/>
              </a:solidFill>
              <a:latin typeface="Times New Roman"/>
            </a:endParaRPr>
          </a:p>
        </p:txBody>
      </p:sp>
      <p:sp>
        <p:nvSpPr>
          <p:cNvPr id="511" name=""/>
          <p:cNvSpPr txBox="1"/>
          <p:nvPr/>
        </p:nvSpPr>
        <p:spPr>
          <a:xfrm>
            <a:off x="685800" y="1218960"/>
            <a:ext cx="7772400" cy="5181480"/>
          </a:xfrm>
          <a:prstGeom prst="rect">
            <a:avLst/>
          </a:prstGeom>
          <a:noFill/>
          <a:ln w="0">
            <a:noFill/>
          </a:ln>
        </p:spPr>
        <p:txBody>
          <a:bodyPr lIns="92160" rIns="92160" tIns="46080" bIns="46080" anchor="t">
            <a:normAutofit/>
          </a:bodyPr>
          <a:p>
            <a:pPr marL="343080" indent="-343080">
              <a:lnSpc>
                <a:spcPts val="1698"/>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to July Conference Calls</a:t>
            </a:r>
            <a:endParaRPr b="1" lang="en-US" sz="18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nounce to WGs our plan to develop a document on recommendations to the WGs on coexistence mechanisms in the TV white space</a:t>
            </a:r>
            <a:endParaRPr b="0" lang="en-US" sz="16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 and review contributions on how well unmodified 802 standards would coexist in the TV white space</a:t>
            </a:r>
            <a:endParaRPr b="0" lang="en-US" sz="16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 and review contributions on possible coexistence mechanisms</a:t>
            </a:r>
            <a:endParaRPr b="0" lang="en-US" sz="1600" spc="-1" strike="noStrike">
              <a:solidFill>
                <a:srgbClr val="000000"/>
              </a:solidFill>
              <a:latin typeface="Times New Roman"/>
            </a:endParaRPr>
          </a:p>
          <a:p>
            <a:pPr marL="343080" indent="-343080">
              <a:lnSpc>
                <a:spcPts val="1698"/>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Plenary</a:t>
            </a:r>
            <a:endParaRPr b="1" lang="en-US" sz="18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e and review presentations on the complexity and effectiveness of the various coexistence mechanisms</a:t>
            </a:r>
            <a:endParaRPr b="0" lang="en-US" sz="16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which coexistence mechanisms to recommend to the working groups</a:t>
            </a:r>
            <a:endParaRPr b="0" lang="en-US" sz="16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quest an extension of the study group until November</a:t>
            </a:r>
            <a:endParaRPr b="0" lang="en-US" sz="1600" spc="-1" strike="noStrike">
              <a:solidFill>
                <a:srgbClr val="000000"/>
              </a:solidFill>
              <a:latin typeface="Times New Roman"/>
            </a:endParaRPr>
          </a:p>
          <a:p>
            <a:pPr marL="343080" indent="-343080">
              <a:lnSpc>
                <a:spcPts val="1698"/>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to September Conference Calls</a:t>
            </a:r>
            <a:endParaRPr b="1" lang="en-US" sz="18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pare and review a document with recommendation on features required in the drafts to support the recommended coexistence mechanisms</a:t>
            </a:r>
            <a:endParaRPr b="0" lang="en-US" sz="1600" spc="-1" strike="noStrike">
              <a:solidFill>
                <a:srgbClr val="000000"/>
              </a:solidFill>
              <a:latin typeface="Times New Roman"/>
            </a:endParaRPr>
          </a:p>
          <a:p>
            <a:pPr marL="343080" indent="-343080">
              <a:lnSpc>
                <a:spcPts val="1698"/>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Wireless Interim</a:t>
            </a:r>
            <a:endParaRPr b="1" lang="en-US" sz="18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ew and approve the document with the recommendations for the working groups</a:t>
            </a:r>
            <a:endParaRPr b="0" lang="en-US" sz="1600" spc="-1" strike="noStrike">
              <a:solidFill>
                <a:srgbClr val="000000"/>
              </a:solidFill>
              <a:latin typeface="Times New Roman"/>
            </a:endParaRPr>
          </a:p>
          <a:p>
            <a:pPr lvl="1" marL="743040" indent="-285840">
              <a:lnSpc>
                <a:spcPts val="1698"/>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liver the recommendation document to the working groups</a:t>
            </a:r>
            <a:endParaRPr b="0" lang="en-US" sz="1600" spc="-1" strike="noStrike">
              <a:solidFill>
                <a:srgbClr val="000000"/>
              </a:solidFill>
              <a:latin typeface="Times New Roman"/>
            </a:endParaRPr>
          </a:p>
          <a:p>
            <a:pPr marL="343080" indent="-343080">
              <a:lnSpc>
                <a:spcPts val="1698"/>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Plenary</a:t>
            </a:r>
            <a:endParaRPr b="1" lang="en-US" sz="1800" spc="-1" strike="noStrike">
              <a:solidFill>
                <a:srgbClr val="000000"/>
              </a:solidFill>
              <a:latin typeface="Times New Roman"/>
            </a:endParaRPr>
          </a:p>
          <a:p>
            <a:pPr lvl="1" marL="743040" indent="-285840">
              <a:lnSpc>
                <a:spcPts val="1698"/>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view feedback from the working groups</a:t>
            </a:r>
            <a:endParaRPr b="0" lang="en-US" sz="1400" spc="-1" strike="noStrike">
              <a:solidFill>
                <a:srgbClr val="000000"/>
              </a:solidFill>
              <a:latin typeface="Times New Roman"/>
            </a:endParaRPr>
          </a:p>
          <a:p>
            <a:pPr marL="343080" indent="-343080">
              <a:lnSpc>
                <a:spcPts val="1698"/>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2"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51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B4D3F1-47C3-424F-B02A-614C69413F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05-14T03:22:01Z</dcterms:modified>
  <cp:revision>346</cp:revision>
  <dc:subject/>
  <dc:title>TAG Overview</dc:title>
</cp:coreProperties>
</file>