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5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2" name="PlaceHolder 2"/>
          <p:cNvSpPr>
            <a:spLocks noGrp="1"/>
          </p:cNvSpPr>
          <p:nvPr>
            <p:ph type="dt" idx="31"/>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5" name="PlaceHolder 5"/>
          <p:cNvSpPr>
            <a:spLocks noGrp="1"/>
          </p:cNvSpPr>
          <p:nvPr>
            <p:ph type="ftr" idx="32"/>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56" name="PlaceHolder 6"/>
          <p:cNvSpPr>
            <a:spLocks noGrp="1"/>
          </p:cNvSpPr>
          <p:nvPr>
            <p:ph type="sldNum" idx="33"/>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AC9E85-2838-43CE-A32D-7465A0251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B84F067-9BE2-42A4-A1BE-375B301C6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4160" y="701640"/>
            <a:ext cx="4626000" cy="3468600"/>
          </a:xfrm>
          <a:prstGeom prst="rect">
            <a:avLst/>
          </a:prstGeom>
          <a:ln w="0">
            <a:noFill/>
          </a:ln>
        </p:spPr>
      </p:sp>
      <p:sp>
        <p:nvSpPr>
          <p:cNvPr id="5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5C9C37-6C9B-4745-9C73-1B655823E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54160" y="701640"/>
            <a:ext cx="4626000" cy="3468600"/>
          </a:xfrm>
          <a:prstGeom prst="rect">
            <a:avLst/>
          </a:prstGeom>
          <a:ln w="0">
            <a:noFill/>
          </a:ln>
        </p:spPr>
      </p:sp>
      <p:sp>
        <p:nvSpPr>
          <p:cNvPr id="5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CFF22D-9C02-48FF-A840-C88F6AF12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1154160" y="701640"/>
            <a:ext cx="4626000" cy="3468600"/>
          </a:xfrm>
          <a:prstGeom prst="rect">
            <a:avLst/>
          </a:prstGeom>
          <a:ln w="0">
            <a:noFill/>
          </a:ln>
        </p:spPr>
      </p:sp>
      <p:sp>
        <p:nvSpPr>
          <p:cNvPr id="5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D5FAD2-445C-462D-A9CB-64D0F73312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1154160" y="701640"/>
            <a:ext cx="4626000" cy="3468600"/>
          </a:xfrm>
          <a:prstGeom prst="rect">
            <a:avLst/>
          </a:prstGeom>
          <a:ln w="0">
            <a:noFill/>
          </a:ln>
        </p:spPr>
      </p:sp>
      <p:sp>
        <p:nvSpPr>
          <p:cNvPr id="52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3391F-5B74-44D6-8E66-B4AD19F3AE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36CA18-6B0E-46F3-9BAD-4C1BDD162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1DE9F1-A8FC-4C16-ADC9-ED1FAEF3B3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5A3A42-F0FC-4D94-850E-6D6989BF1A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2BB99A-9828-49F8-B823-E87ED2854A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8763D-C8B5-4832-8D45-51C0140222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E5CD73-63E1-41F9-A211-83BC290075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319F2B-D823-40EB-8A91-98D6B2AF6C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83694D-1EAD-4DDE-9C59-E24119690F8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B48DDBA-ED4D-4906-B5FE-7E22FF16B3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99DDE8D-F45D-4931-952D-8EC726B823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5EF9C3D-C490-4320-8F53-8EE49D5934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6810A-944F-4FC0-B955-0EAD6EB3F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D8EBD53-6CC7-4895-9AE0-E90BB3F5249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E22D10A-00AF-4288-9C5B-D7CD7DAA57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ACA816E-61D2-4BF4-A4C7-85D34C8D383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CED614B-DFEE-475B-AA66-DC47977C74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9EF6742-3DD1-474C-86FF-D90F5489B7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A63DB2-2D2D-474B-BA1B-97D542D9CC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CDE8FAE-53A3-4348-821F-1F2EEBB4B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F89D2F-976E-494D-8A74-14F7BBC651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9553172-EE7E-4448-8E5E-1EE2D90864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EF9F0C-F89F-430B-8B35-78CCD556335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DD3B6-F156-437F-B298-C54C96829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4191A9-C8B3-495C-96B3-E73DA816020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76BD2-1236-40F5-87C0-032BA8DC9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CED263-0B57-454F-BC6B-AA291049E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5A1E4-351D-40F4-8C62-596A9DBB9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3C81D-48B5-421E-9750-93A9F50B0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87A3A-29A5-45D0-A9B7-CC6530A59C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0DBDC-64D0-4BD7-B4C0-B5FA4689A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02098-582F-4D0F-BEE5-4494F6FB0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75B6F-EBED-4ECA-B7D7-30E649897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64A2C-F713-4D6D-ADE6-80761902C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759F8-80C7-4121-A021-DABA02FC5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EFD29-E220-4457-A5FF-90909708D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C0A4B-F6AB-498E-820C-5044EE9B0D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FE5EF-2646-49F3-BCE9-5101B8F62B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EC69FD-0D7A-4B22-A53C-32EEF4BF35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4BCDB3-C140-472B-9FD4-3C487B03C9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61C9F-AB84-4510-BD4C-D882166388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86EC0-8754-41B7-85E8-61C3E7855B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6C4576-7DAD-4107-A80F-80E82A2300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D4324-D22E-45CE-84B7-A268E4E73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7B7BE-C228-4422-B8E2-D96ABFA65A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B04A7-DA60-424F-9FF5-92C3D9FAB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D0D78-BDD2-41A1-B08E-A566CA31F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49491A-C9EC-49AB-88A1-045038C8A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01A235-0DA3-428A-B0DE-1FC1602AD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300E3A-5826-43F1-8CF8-7D5DD2DA8B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97DCF3-174D-4888-8896-155B01E947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BFC6B-0899-47E4-809E-F4CB89ACA2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826669-DCBF-4899-BCE2-B5663700FA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1043F0-E3F9-49A0-9906-65B6B31307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361C5-5351-4469-9690-004299673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7C10B9-B4FA-45F4-839F-2F6C3E44B0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760E01-B283-428C-ABF0-1FF037ABF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60A66-39E2-412C-BBE0-7066584F32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37B841-161D-40C3-8927-17C7679802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8047C2-0C4F-4C1A-BEE7-82E3D740D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8BDD9-7ADB-4D48-9CCE-70048DA087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339B7D-E4DB-4EBA-9909-4CF144B672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919F8E-790E-4EF2-BB4B-A207D73212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15AB6-ABEF-44E0-A719-53BF3323FC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563D9A-3AFB-426C-B02F-3CE22F3AAF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BF93-A67F-4DBD-B8C1-9987C54A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B8A390-575D-43AB-A2C6-2FF167944F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B99E94-A2AE-4E11-AD33-7185F37361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88890-896D-4FD0-BB6D-3EB2108E9D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9C6F7A-D030-433A-9F04-722E278D8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FCADE-EFA3-4CC4-84BE-B387951ECC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085EC7-91EE-4847-8666-FDD453297B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C5D1E-57CB-4F10-980E-35B6F7795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FAC02D-D29E-4E16-87F2-E7871E09AD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7F749-E5AB-4AF6-B68E-4D7EE5FDAB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37A1C1-E717-4171-8467-2B30746682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20E95-169E-49CA-A715-3676D3D9A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C1E6FB-5CA9-4BD7-B178-619F585079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36D406-1DDB-4CAB-A9C2-E6815E0581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FB5D5F-A0E4-4096-BD1E-4B2AB97598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785DF5-8EEB-403C-B352-1EC0299711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B4CBFA-4EAE-4B8A-933E-238CD9DAC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E39FE0-D1FE-4302-B93B-64DBAF0021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407B7-CEC1-46A1-B234-27DCAF0032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DEF50-CB9D-47D5-813F-EE75233CC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565994-2F98-47E9-BFA2-0364570E40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AC236D-72E3-4B96-8AB9-97A125BBC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413AD-ED7B-4D5B-8989-162C8E117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719764-798A-4ED5-AE2B-5816552465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D9826-9326-4D20-9F20-A44D1EC325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CD5681-7236-47AD-9DDA-D248106E5A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2C5D8C-33FD-4934-9EE9-D655D6B7AE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464FD5-62B1-4E87-8435-B9397A7FD0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8D4995-9DB0-471A-9260-B7E44120CC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86210-F0DD-401E-B87A-6C46B6E56C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5FB567-4565-4A6B-AF51-8FA3116ABE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774EF4-0101-4CEB-993E-2264AC1EE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37B9D7-57DB-4F51-A665-3C9517D35F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04FF-F25A-4558-80F6-86D133A0C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1325E9-3465-4E58-AA05-75A1E4DD9C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44E197-2100-4749-921D-3010C572A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71D5C1-9F93-4BAB-80D7-F72CAD4B0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630E2F-0FDF-4C41-927D-7C32A2BCBA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475158-22E1-4693-B319-8CAB4FAFB6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E5E143-1922-4946-A597-765FD6E307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DB153-4D9A-4003-8B40-6B522F7345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881126-D96A-46B4-A4E6-A02A53484C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AD148A-B889-4FE1-961E-1466FFF521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C0DDDF-B2E5-480B-913E-24E906196A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6C77E-7EF9-44E1-896E-6EA033174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58117C-F81B-4E27-8729-E5A1D18C5D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2067C4-E4C2-4B56-976C-7D6CC25813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833C1-D5D5-44BE-BBAC-AFD9B31755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3B843D-1406-4C2A-9688-EC8324D15C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0B1168-9F19-4177-8798-61361259C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5D7921-50B1-4DA3-8FBC-8C4BF7B73A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F2FCCE-7DB3-4206-BF27-DA50CEF569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005D5E-2D3D-47A5-947F-80CAD89EE4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67C95F-888D-495D-91BD-FE4F1ECFE0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F72A0F-FE5A-4243-B1B0-4218C4322E9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04436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980736-D3A7-4AE0-B8BD-A03D6FCE1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AF5BDA-C9CD-4C72-ADFA-2B7E76803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BD5FB1-79E9-4924-82F1-D274D26D4B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7297C0-A376-41D5-B9C2-82B7C7F04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0B4031-66A9-471F-86ED-FED9BBEC30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432897-52EF-434F-9DD8-054AD0FF2D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12A428-A507-4788-AF98-1D7A7D596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C8D716-CA1E-4076-A1F4-606B74CFB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03B5F6-97E8-409A-A1E7-7E3FA65611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10r2</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2280"/>
            <a:ext cx="104436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855386-3111-4B6A-B43F-7DCEB2DD3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46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C29088-63E8-40FC-99DC-E45A8E45CA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3"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V White Space Coexistence Plan</a:t>
            </a:r>
            <a:endParaRPr b="1" lang="en-US" sz="3200" spc="-1" strike="noStrike">
              <a:solidFill>
                <a:srgbClr val="000000"/>
              </a:solidFill>
              <a:latin typeface="Times New Roman"/>
            </a:endParaRPr>
          </a:p>
        </p:txBody>
      </p:sp>
      <p:sp>
        <p:nvSpPr>
          <p:cNvPr id="464"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465"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4-22</a:t>
            </a:r>
            <a:endParaRPr b="1" lang="en-US" sz="2000" spc="-1" strike="noStrike">
              <a:solidFill>
                <a:srgbClr val="000000"/>
              </a:solidFill>
              <a:latin typeface="Times New Roman"/>
            </a:endParaRPr>
          </a:p>
        </p:txBody>
      </p:sp>
      <p:graphicFrame>
        <p:nvGraphicFramePr>
          <p:cNvPr id="466" name="Object 11"/>
          <p:cNvGraphicFramePr/>
          <p:nvPr/>
        </p:nvGraphicFramePr>
        <p:xfrm>
          <a:off x="515880" y="2266920"/>
          <a:ext cx="8139240" cy="1133640"/>
        </p:xfrm>
        <a:graphic>
          <a:graphicData uri="http://schemas.openxmlformats.org/presentationml/2006/ole">
            <p:oleObj progId="Word.Document.12" r:id="rId2" spid="">
              <p:embed/>
              <p:pic>
                <p:nvPicPr>
                  <p:cNvPr id="467"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468"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47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CAD484-9543-4D69-863D-2333CE0420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8288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March 2009 Plenary the executive committee approved formation of an 802.19 Study Group on TV white space coexiste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EC requested a plan contain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 of planned deliver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captures the pla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w Poll on Possible deliverab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iverables select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or developing those deliverab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ference Calls and Straw Poll</a:t>
            </a:r>
            <a:endParaRPr b="1" lang="en-US" sz="3200" spc="-1" strike="noStrike">
              <a:solidFill>
                <a:srgbClr val="000000"/>
              </a:solidFill>
              <a:latin typeface="Times New Roman"/>
            </a:endParaRPr>
          </a:p>
        </p:txBody>
      </p:sp>
      <p:sp>
        <p:nvSpPr>
          <p:cNvPr id="4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udy Group has been holding weekly conference calls to discuss the pl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udy Group developed a list of four possible deliverab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electronic straw poll on these possible deliverables was run from April 14 to April 1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5 people responded to the straw pol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6"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47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30AB4B-4D57-42D4-8769-6841AF051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raw Poll Results</a:t>
            </a:r>
            <a:endParaRPr b="1" lang="en-US" sz="3200" spc="-1" strike="noStrike">
              <a:solidFill>
                <a:srgbClr val="000000"/>
              </a:solidFill>
              <a:latin typeface="Times New Roman"/>
            </a:endParaRPr>
          </a:p>
        </p:txBody>
      </p:sp>
      <p:sp>
        <p:nvSpPr>
          <p:cNvPr id="480"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48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E31625-E97F-4EE9-A179-40390A430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483" name="Picture 6" descr=""/>
          <p:cNvPicPr/>
          <p:nvPr/>
        </p:nvPicPr>
        <p:blipFill>
          <a:blip r:embed="rId1"/>
          <a:stretch/>
        </p:blipFill>
        <p:spPr>
          <a:xfrm>
            <a:off x="519120" y="1738440"/>
            <a:ext cx="8104320" cy="338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ection of Deliverables</a:t>
            </a:r>
            <a:endParaRPr b="1" lang="en-US" sz="3200" spc="-1" strike="noStrike">
              <a:solidFill>
                <a:srgbClr val="000000"/>
              </a:solidFill>
              <a:latin typeface="Times New Roman"/>
            </a:endParaRPr>
          </a:p>
        </p:txBody>
      </p:sp>
      <p:graphicFrame>
        <p:nvGraphicFramePr>
          <p:cNvPr id="485" name=""/>
          <p:cNvGraphicFramePr/>
          <p:nvPr/>
        </p:nvGraphicFramePr>
        <p:xfrm>
          <a:off x="685800" y="1981080"/>
          <a:ext cx="7315200" cy="2057400"/>
        </p:xfrm>
        <a:graphic>
          <a:graphicData uri="http://schemas.openxmlformats.org/drawingml/2006/table">
            <a:tbl>
              <a:tblPr/>
              <a:tblGrid>
                <a:gridCol w="4648320"/>
                <a:gridCol w="2666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eliverable</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d2db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Study Group Pla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2d2db9"/>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 Cases and Coexistence Scenario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velo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existence Metric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existence Mechanism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424080">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cumbent Protect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f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86"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48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DB99AE-122B-431D-AD3F-850F15E14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49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16456E-9532-482E-B68E-6E746D1D0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velopment Process</a:t>
            </a:r>
            <a:endParaRPr b="1" lang="en-US" sz="2800" spc="-1" strike="noStrike">
              <a:solidFill>
                <a:srgbClr val="000000"/>
              </a:solidFill>
              <a:latin typeface="Times New Roman"/>
            </a:endParaRPr>
          </a:p>
        </p:txBody>
      </p:sp>
      <p:sp>
        <p:nvSpPr>
          <p:cNvPr id="493" name="Rectangle 4"/>
          <p:cNvSpPr/>
          <p:nvPr/>
        </p:nvSpPr>
        <p:spPr>
          <a:xfrm>
            <a:off x="3200400" y="1752480"/>
            <a:ext cx="2819520" cy="8985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 Contributions (Present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ext Docu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se Cases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xistence Scenarios</a:t>
            </a:r>
            <a:endParaRPr b="0" lang="en-US" sz="1200" spc="-1" strike="noStrike">
              <a:solidFill>
                <a:srgbClr val="000000"/>
              </a:solidFill>
              <a:latin typeface="Times New Roman"/>
            </a:endParaRPr>
          </a:p>
        </p:txBody>
      </p:sp>
      <p:sp>
        <p:nvSpPr>
          <p:cNvPr id="494" name="Line 12"/>
          <p:cNvSpPr/>
          <p:nvPr/>
        </p:nvSpPr>
        <p:spPr>
          <a:xfrm>
            <a:off x="4572000" y="2651040"/>
            <a:ext cx="0" cy="36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5" name="Rectangle 4"/>
          <p:cNvSpPr/>
          <p:nvPr/>
        </p:nvSpPr>
        <p:spPr>
          <a:xfrm>
            <a:off x="3200400" y="3032280"/>
            <a:ext cx="281952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ontribu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se Cases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xistence Scenarios</a:t>
            </a:r>
            <a:endParaRPr b="0" lang="en-US" sz="1200" spc="-1" strike="noStrike">
              <a:solidFill>
                <a:srgbClr val="000000"/>
              </a:solidFill>
              <a:latin typeface="Times New Roman"/>
            </a:endParaRPr>
          </a:p>
        </p:txBody>
      </p:sp>
      <p:sp>
        <p:nvSpPr>
          <p:cNvPr id="496" name="Line 12"/>
          <p:cNvSpPr/>
          <p:nvPr/>
        </p:nvSpPr>
        <p:spPr>
          <a:xfrm>
            <a:off x="4572000" y="3794040"/>
            <a:ext cx="0" cy="366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Line 12"/>
          <p:cNvSpPr/>
          <p:nvPr/>
        </p:nvSpPr>
        <p:spPr>
          <a:xfrm>
            <a:off x="4572000" y="4876920"/>
            <a:ext cx="0" cy="36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Rectangle 4"/>
          <p:cNvSpPr/>
          <p:nvPr/>
        </p:nvSpPr>
        <p:spPr>
          <a:xfrm>
            <a:off x="3200400" y="4191120"/>
            <a:ext cx="2819520" cy="76176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 text contributions into 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Document on Use C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existence Scenarios</a:t>
            </a:r>
            <a:endParaRPr b="0" lang="en-US" sz="1200" spc="-1" strike="noStrike">
              <a:solidFill>
                <a:srgbClr val="000000"/>
              </a:solidFill>
              <a:latin typeface="Times New Roman"/>
            </a:endParaRPr>
          </a:p>
        </p:txBody>
      </p:sp>
      <p:sp>
        <p:nvSpPr>
          <p:cNvPr id="499" name="Rectangle 4"/>
          <p:cNvSpPr/>
          <p:nvPr/>
        </p:nvSpPr>
        <p:spPr>
          <a:xfrm>
            <a:off x="3200400" y="5257800"/>
            <a:ext cx="281952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y Group Vote to Appro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on Use Cas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oexistence Scenario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50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79A716-227A-4950-B0F3-9F5452CFE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e</a:t>
            </a:r>
            <a:endParaRPr b="1" lang="en-US" sz="3200" spc="-1" strike="noStrike">
              <a:solidFill>
                <a:srgbClr val="000000"/>
              </a:solidFill>
              <a:latin typeface="Times New Roman"/>
            </a:endParaRPr>
          </a:p>
        </p:txBody>
      </p:sp>
      <p:sp>
        <p:nvSpPr>
          <p:cNvPr id="504" name="PlaceHolder 2"/>
          <p:cNvSpPr>
            <a:spLocks noGrp="1"/>
          </p:cNvSpPr>
          <p:nvPr>
            <p:ph/>
          </p:nvPr>
        </p:nvSpPr>
        <p:spPr>
          <a:xfrm>
            <a:off x="609120" y="1447920"/>
            <a:ext cx="80010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amp; May conference calls and May Wireless Interim</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 and Discuss contributions on Use Cases and Coexistence Scenario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erence calls between May and Jul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 text contributions into a single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 and revise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09 Plen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ke final edits to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on approval of final document on Use Cases and Coexistence Scenarios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uture Work</a:t>
            </a:r>
            <a:endParaRPr b="1" lang="en-US" sz="3200" spc="-1" strike="noStrike">
              <a:solidFill>
                <a:srgbClr val="000000"/>
              </a:solidFill>
              <a:latin typeface="Times New Roman"/>
            </a:endParaRPr>
          </a:p>
        </p:txBody>
      </p:sp>
      <p:sp>
        <p:nvSpPr>
          <p:cNvPr id="506" name=""/>
          <p:cNvSpPr txBox="1"/>
          <p:nvPr/>
        </p:nvSpPr>
        <p:spPr>
          <a:xfrm>
            <a:off x="685800" y="1523880"/>
            <a:ext cx="7772400" cy="4724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ter completion of the Use Cases and Coexistence Scenario document the SG will consider other possible deliverab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future deliverabl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metrics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existence mechanisms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umbent protection documen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mmendations to the Executive Committe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ment of a PAR on coexistence in the TV white sp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recommendation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SG decides to address any of these deliverables the SG will request an extension at the July Plen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7" name="Date Placeholder 3"/>
          <p:cNvSpPr/>
          <p:nvPr/>
        </p:nvSpPr>
        <p:spPr>
          <a:xfrm>
            <a:off x="700560" y="336600"/>
            <a:ext cx="10371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ril 2009</a:t>
            </a:r>
            <a:endParaRPr b="0" lang="en-US" sz="1800" spc="-1" strike="noStrike">
              <a:solidFill>
                <a:srgbClr val="000000"/>
              </a:solidFill>
              <a:latin typeface="Times New Roman"/>
            </a:endParaRPr>
          </a:p>
        </p:txBody>
      </p:sp>
      <p:sp>
        <p:nvSpPr>
          <p:cNvPr id="50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A732CB-A91F-4C22-A009-9DCC6C6B33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04-22T21:50:37Z</dcterms:modified>
  <cp:revision>321</cp:revision>
  <dc:subject/>
  <dc:title>TAG Overview</dc:title>
</cp:coreProperties>
</file>