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andards.ieee.org/faqs/affiliationFAQ.html" TargetMode="External"/><Relationship Id="rId2" Type="http://schemas.openxmlformats.org/officeDocument/2006/relationships/hyperlink" Target="http://standards.ieee.org/guides/bylaws/sect6-7.html#Motion 1" TargetMode="External"/><Relationship Id="rId3" Type="http://schemas.openxmlformats.org/officeDocument/2006/relationships/hyperlink" Target="http://standards.ieee.org/guides/bylaws/sect6-7.html#Motion 1" TargetMode="External"/><Relationship Id="rId4" Type="http://schemas.openxmlformats.org/officeDocument/2006/relationships/hyperlink" Target="http://standards.ieee.org/guides/opman/sect6.html#6.3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ext Box 4"/>
          <p:cNvSpPr/>
          <p:nvPr/>
        </p:nvSpPr>
        <p:spPr>
          <a:xfrm>
            <a:off x="0" y="0"/>
            <a:ext cx="9144000" cy="49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Project Planning Committee Closing Report and Minutes- Session #7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IEEE 802.16 Mentor Presentation Template (Rev. 0)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ument Numb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EEE 802.16-12-0270-00-Gc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 Submit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12-03-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 Mark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nsii LLC and WiMAX For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ger@consensii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andards.ieee.org/faqs/affiliationFAQ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 #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Contrib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 to 802.16 WG Closing Plenary meeting, and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This document does not represent the agreed views of the IEEE 802.16 Working Group or any of its subgroups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It represents only the views of the participants listed in the “Source(s)” field above. It is offered as a basis for discussion. It is not binding on the contributor(s), who reserve(s) the right to add, amend or withdraw material contained herein.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contributor is familiar with the IEEE-SA Copyright Policy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IPR/copyrightpolicy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ent Poli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contributor is familiar with the IEEE-SA Patent Policy and Procedure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2006640">
              <a:lnSpc>
                <a:spcPct val="100000"/>
              </a:lnSpc>
              <a:tabLst>
                <a:tab algn="l" pos="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guides/bylaws/sect6-7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ml#6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guides/opman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sect6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.html#6.3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urther information is located at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board/pat/pat-material.html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gt; and &lt;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http://standards.ieee.org/board/pa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&gt;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The Project Planning Committee met during two intervals at Session #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ednesday A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Thursday AM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Approved and following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IEEE 802.16-12-0249-00-G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Review patent policy in both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cuments Discu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Opening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IEEE 802.16-12-0223-00-G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Balloting schedu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IEEE 802.16-12-0119-02-G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Next Directions for IEEE 802.16 Working Group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IEEE 802.16-12-0222-01-G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oposed schedules reviewed on Wedne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http://schedules.wirelessman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Views of TGs returned on Thurs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oposed schedules for P802.16Rev3 and P802.16.1 were acce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oposed schedules for P802.16n and P802.16.1b were accep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oposed schedules for P802.16p and P802.16.1a were modified; plan is for only one recirc prior to Session #7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Next Directions for IEEE 802.16 W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IEEE 802.16-12-0222-01-Gcon proposed formation of two Study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Project Planning Committee supported the two Study Group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initiate the IEEE 802.16 WG Study Group on Broadband Wireless Access Metrolog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on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appr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s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tion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o initiate the IEEE 802.16 WG Study Group on the WirelessMAN radio interface in Heterogeneous Networ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cond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sappro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bsta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12:37Z</dcterms:created>
  <dc:creator>Roger Marks</dc:creator>
  <dc:description/>
  <dc:language>en-US</dc:language>
  <cp:lastModifiedBy>Roger Marks</cp:lastModifiedBy>
  <cp:lastPrinted>1998-02-10T13:28:06Z</cp:lastPrinted>
  <dcterms:modified xsi:type="dcterms:W3CDTF">2012-03-16T01:27:26Z</dcterms:modified>
  <cp:revision>144</cp:revision>
  <dc:subject/>
  <dc:title>No Slide Title</dc:title>
</cp:coreProperties>
</file>