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sldImg"/>
          </p:nvPr>
        </p:nvSpPr>
        <p:spPr>
          <a:xfrm>
            <a:off x="1152000" y="701280"/>
            <a:ext cx="462924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Num" idx="1"/>
          </p:nvPr>
        </p:nvSpPr>
        <p:spPr>
          <a:xfrm>
            <a:off x="3352680" y="8838720"/>
            <a:ext cx="177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44EFFC-774C-4103-A6E4-5BFC74A2F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Line 9"/>
          <p:cNvSpPr/>
          <p:nvPr/>
        </p:nvSpPr>
        <p:spPr>
          <a:xfrm>
            <a:off x="685800" y="8839080"/>
            <a:ext cx="5486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Line 10"/>
          <p:cNvSpPr/>
          <p:nvPr/>
        </p:nvSpPr>
        <p:spPr>
          <a:xfrm>
            <a:off x="647640" y="297000"/>
            <a:ext cx="563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826200" y="879948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2"/>
          <p:cNvSpPr/>
          <p:nvPr/>
        </p:nvSpPr>
        <p:spPr>
          <a:xfrm>
            <a:off x="598320" y="3636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ease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3"/>
          <p:cNvSpPr/>
          <p:nvPr/>
        </p:nvSpPr>
        <p:spPr>
          <a:xfrm>
            <a:off x="4635720" y="36360"/>
            <a:ext cx="159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1.16xx-99/xx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5"/>
          <p:cNvSpPr/>
          <p:nvPr/>
        </p:nvSpPr>
        <p:spPr>
          <a:xfrm>
            <a:off x="4271760" y="8839080"/>
            <a:ext cx="166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name, Affil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123720" y="883908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7CBF80-75ED-4389-B3FC-C017A3CBC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123720" y="883908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9AA398-BAC7-4A08-A7BE-33ED1CF33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123720" y="883908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9D3471-1AE6-40ED-A734-29AC658AFD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123720" y="883908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540642-85A9-4670-93C5-C1951F279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123720" y="883908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FF5C64-46C3-4C04-BD54-043DA301C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123720" y="883908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A4AD61-E7C7-4934-AC1E-7FB07C087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123720" y="883908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58A8AB-75E9-4CCA-9288-A956279A1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123720" y="883908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BF5ED27-0B84-432F-BAA1-AF4B0164A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123720" y="883908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005A6A-CCDB-41FE-89A2-32381F349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123720" y="8839080"/>
            <a:ext cx="63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03A9885-0A3C-4B7B-8093-B0D18A9B1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54160" y="701640"/>
            <a:ext cx="4626000" cy="34686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23400" y="4408560"/>
            <a:ext cx="50864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zhengyanxiu@itri.org.tw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0"/>
            <a:ext cx="914400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ession #78 802.16 Maintenance Task Group Closing Plenary 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IEEE 802.16 Mentor Presentation Template (Rev. 0)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Numb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EEE 802.16-12-0267-01-Gd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 Submit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012-03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Zheng Yan-Xiu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Voi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+886 3 591471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T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-mail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MS PGothic"/>
                <a:hlinkClick r:id="rId1"/>
              </a:rPr>
              <a:t>zhengyanxiu@itri.org.t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Contrib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or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is document does not represent the agreed views of the IEEE 802.16 Working Group or any of its subgroup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. It represents only the views of the participants listed in the “Source(s)” field above. It is offered as a basis for discussion. It is not binding on the contributor(s), who reserve(s) the right to add, amend or withdraw material contained herein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e contributor is familiar with the IEEE-SA Copyright Policy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MS PGothic"/>
              </a:rPr>
              <a:t>http://standards.ieee.org/IPR/copyrightpolicy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he contributor is familiar with the IEEE-SA Patent Policy and Procedur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2006640">
              <a:lnSpc>
                <a:spcPct val="100000"/>
              </a:lnSpc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MS PGothic"/>
              </a:rPr>
              <a:t>http://standards.ieee.org/guides/bylaws/sect6-7.html#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MS PGothic"/>
              </a:rPr>
              <a:t>http://standards.ieee.org/guides/opman/sect6.html#6.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urther information is located at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MS PGothic"/>
              </a:rPr>
              <a:t>http://standards.ieee.org/board/pat/pat-material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  <a:ea typeface="MS PGothic"/>
              </a:rPr>
              <a:t>http://standards.ieee.org/board/p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NewRomanMS"/>
              </a:rPr>
              <a:t>Mot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quest Conditional Approval to forward P802.16Rev3 for Rev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document IEEE 802.16-12-0268-G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by Zheng Yan-X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by Zader Z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(19/0/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NewRomanMS"/>
              </a:rPr>
              <a:t>Motion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nerate WG Draft P802.16.1/D5 based on P802.16.1/D4 and the comment resolutions in "IEEE 802.16-12-0204-01-Gdoc" and to initiate a Sponsor Ballot recirculation on that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by Zheng Yan-X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by Tim Godfr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(20/0/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NewRomanMS"/>
              </a:rPr>
              <a:t>Motion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quest Conditional Approval to forward P802.16.1 for Rev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document IEEE 802.16-12-0269-Gd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by Zheng Yan-X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by Jaesun 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(20/0/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NewRomanMS"/>
              </a:rPr>
              <a:t>Moti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forwar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6-12-0265-00-WGL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to the WiMAX Forum in response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6-12-0218-WGLS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and authorize the WG Chair to make any necessary editorial mod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by Zheng Yan-X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by Nader Z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(21/0/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MS"/>
              </a:rPr>
              <a:t>Session #78 802.16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NewRomanMS"/>
              </a:rPr>
              <a:t>Maintenance Task Group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NewRomanMS"/>
              </a:rPr>
              <a:t>Closing Plenary Report</a:t>
            </a:r>
            <a:r>
              <a:rPr b="0" lang="en-US" sz="3200" spc="-1" strike="noStrike">
                <a:solidFill>
                  <a:srgbClr val="000000"/>
                </a:solidFill>
                <a:latin typeface="TimesNewRomanMS"/>
              </a:rPr>
              <a:t>  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imesNewRomanMS"/>
              </a:rPr>
              <a:t>March 15, 20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: Zheng Yan-Xi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NewRomanMS"/>
              </a:rPr>
              <a:t>Activities of the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6 session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uesday 08:00-10:0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a 1 Ballroom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uesday 13:30-18:0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a 1 Ballroom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dnesday 13:30-18:00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a 1 Ballroom Le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ursday 10:30-12:48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na 1 Ballroom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ttendance: 10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NewRomanMS"/>
              </a:rPr>
              <a:t>Activities of the Week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dministrati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roved agenda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EE 802.16-12-0231-00-Gdoc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pproved minutes from Session #77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EE 802.16-12-0139-00-Gdoc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viewed the IEEE Patent Policy: http://standards.ieee.org/board/pat/pat-slideset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corded minu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EE 802.16-12-0203-01-Gdo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EEE 802.16Rev3/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corded minu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EE 802.16-12-0204-01-Gdo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IEEE 802.16.1/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NewRomanMS"/>
              </a:rPr>
              <a:t>Activities of the Week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viewed comments for IEEE 802.16Rev3/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reviewed comments recorded </a:t>
            </a:r>
            <a:r>
              <a:rPr b="0" lang="en-CA" sz="2000" spc="-1" strike="noStrike">
                <a:solidFill>
                  <a:srgbClr val="ff0000"/>
                </a:solidFill>
                <a:latin typeface="Times New Roman"/>
              </a:rPr>
              <a:t>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EEE 802.16-12-0203-01-G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viewed comments for IEEE 802.16.1/D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The reviewed comments recorded </a:t>
            </a:r>
            <a:r>
              <a:rPr b="0" lang="en-CA" sz="2000" spc="-1" strike="noStrike">
                <a:solidFill>
                  <a:srgbClr val="ff0000"/>
                </a:solidFill>
                <a:latin typeface="Times New Roman"/>
              </a:rPr>
              <a:t>in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EEE 802.16-12-0204-01-Gd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viewed liaison letter from the WiMAX TW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6-12-0218-WG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0640" indent="-579240">
              <a:spcBef>
                <a:spcPts val="3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Adaptive Precoding in Mixed Mode (IOPR TIO_62351 r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0640" indent="-579240">
              <a:spcBef>
                <a:spcPts val="3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mber of ACID in Multicarrier (IOPR TIO- 62357 r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0640" indent="-579240">
              <a:spcBef>
                <a:spcPts val="3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dulation Order Table for Subframe Type-3 (IOPR TIO- 62361 r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0640" indent="-579240">
              <a:spcBef>
                <a:spcPts val="3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ing Cycle Request in AAI-DREG-REQ (IOPR TIO- 62369 r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0640" indent="-579240">
              <a:spcBef>
                <a:spcPts val="3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 Handover between 16e BS and 16m ABS in Idle Mode (IOPR TIO- 62379 r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0640" indent="-579240">
              <a:spcBef>
                <a:spcPts val="300"/>
              </a:spcBef>
              <a:buClr>
                <a:srgbClr val="000000"/>
              </a:buClr>
              <a:buFont typeface="Time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Q Parameters Update for Direct Handover from 16e BS to 16m ABS (IOPR TIO- 62416 r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drafted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EE 802.16-12-0265-d0-WG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iscussions recorded in meeting minutes </a:t>
            </a:r>
            <a:r>
              <a:rPr b="0" lang="en-CA" sz="2800" spc="-1" strike="noStrike">
                <a:solidFill>
                  <a:srgbClr val="ff0000"/>
                </a:solidFill>
                <a:latin typeface="Times New Roman"/>
              </a:rPr>
              <a:t>IEEE 802.16-12-0266-00-G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NewRomanMS"/>
              </a:rPr>
              <a:t>Review of Change Requests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6-12-0203-01-Gdoc for IEEE 802.16Rev3/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chnical: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ditorial: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eneral: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otal: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solution sum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ce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inciple (Revi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j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NewRomanMS"/>
              </a:rPr>
              <a:t>Review of Change Requests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6-12-0204-01-Gdoc for IEEE 802.16.1/D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chnical: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ditorial: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General: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ther: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otal: 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solution summ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ce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ej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inciple (Revi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Superc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NewRomanMS"/>
              </a:rPr>
              <a:t>Actions until Session #7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12/3/30: Start Sponsor Ballot recirculation of IEEE 802.16Rev3/D5 and 802.16.1/D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12/4/14 AOE: Deadline of the recir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12/4/18: Telecom for comment re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C 5:00 April, 18, Wednesd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2012/4/25: Start Sponsor Ballot recirculation of IEEE 802.16Rev3/D6 and 802.16.1/D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12/5/10 AOE: Deadline of the recirc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NewRomanMS"/>
              </a:rPr>
              <a:t>Mo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nerate WG Draft P802.16Rev3/D5 based on P802.16Rev3/D4 and the comment resolutions in "IEEE 802.16-12-0203-01-Gdoc" and to initiate a Sponsor Ballot recirculation on that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 by Zheng Yan-Xi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by Nader Ze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: (20/0/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7:00:55Z</dcterms:created>
  <dc:creator>Roger Marks</dc:creator>
  <dc:description/>
  <dc:language>en-US</dc:language>
  <cp:lastModifiedBy>Zheng Yan-Xiu</cp:lastModifiedBy>
  <cp:lastPrinted>1998-02-10T13:28:06Z</cp:lastPrinted>
  <dcterms:modified xsi:type="dcterms:W3CDTF">2012-03-16T03:00:36Z</dcterms:modified>
  <cp:revision>121</cp:revision>
  <dc:subject/>
  <dc:title>No Slide Title</dc:title>
</cp:coreProperties>
</file>