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scha@etri.re.kr" TargetMode="External"/><Relationship Id="rId2" Type="http://schemas.openxmlformats.org/officeDocument/2006/relationships/hyperlink" Target="http://standards.ieee.org/guides/bylaws/sect6-7.html#Discussion on ASN.1 code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 Box 4"/>
          <p:cNvSpPr/>
          <p:nvPr/>
        </p:nvSpPr>
        <p:spPr>
          <a:xfrm>
            <a:off x="0" y="496800"/>
            <a:ext cx="91440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2M Task Group Closing Report (Session #7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IEEE 802.16 Mentor Presentation Template (Rev. 0)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 Numb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IEEE 802.16-12-0228-01-G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 Submit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012-03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Jaesun Ch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-mail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ＭＳ Ｐゴシック"/>
                <a:hlinkClick r:id="rId1"/>
              </a:rPr>
              <a:t>jscha@etri.re.k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2M TG Acting Chai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802.16 M2M TG Closing Report for Session #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Contrib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document does not represent the agreed views of the IEEE 802.16 Working Group or any of its subgroup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 It represents only the views of the participants listed in the 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urce(s)</a:t>
            </a: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”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field above. It is offered as a basis for discussion. It is not binding on the contributor(s), who reserve(s) the right to add, amend or withdraw material contained herein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Poli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ontributor is familiar with the IEEE-SA Copyright Policy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http://standards.ieee.org/IPR/copyrightpolicy.htm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gt;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 Poli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ontributor is familiar with the IEEE-SA Patent Policy and Procedur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2006640">
              <a:lnSpc>
                <a:spcPct val="100000"/>
              </a:lnSpc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http://standards.ieee.org/guides/bylaws/sect6-7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ea typeface="ＭＳ Ｐゴシック"/>
                <a:hlinkClick r:id="rId2"/>
              </a:rPr>
              <a:t>.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html#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gt; and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http://standards.ieee.org/guides/opman/sect6.html#6.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urther information is located at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http://standards.ieee.org/board/pat/pat-material.htm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gt; and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http://standards.ieee.org/board/p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88840" y="177480"/>
            <a:ext cx="73663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Motion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88840" y="926640"/>
            <a:ext cx="7366320" cy="55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To initiate a SB recirculation on P802.16.1b/D3, based on P802.16.1b/D2 as modified by the comment resolutions contained in IEEE 802.16-12-0224-03-Gdoc, to start no later than April 20,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Moved by Jaesun 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Seconded: Anshuman Nig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Result:  21 / 0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88840" y="177480"/>
            <a:ext cx="73663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Motion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8840" y="926640"/>
            <a:ext cx="7366320" cy="55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To request Conditional Approval from the IEEE 802 Executive Committee to forward the IEEE P802.16.1b Draft to RevCom</a:t>
            </a:r>
            <a:r>
              <a:rPr b="0" lang="ko-KR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Moved by Jaesun 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Seconded: Tim Godf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Result:  20 / 0 /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2M Task Group Closing Repor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Session #7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ng Chair: Jaesun Cha (ETR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TextBox 3"/>
          <p:cNvSpPr/>
          <p:nvPr/>
        </p:nvSpPr>
        <p:spPr>
          <a:xfrm>
            <a:off x="2286000" y="61722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6-12-0228-00-G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88840" y="177480"/>
            <a:ext cx="73663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Activities of the We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88840" y="927000"/>
            <a:ext cx="736632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98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Comment Resolution SB comments (SB000p and SB010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98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Discussion on ASN.1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295280"/>
          <a:ext cx="8915400" cy="4724640"/>
        </p:xfrm>
        <a:graphic>
          <a:graphicData uri="http://schemas.openxmlformats.org/drawingml/2006/table">
            <a:tbl>
              <a:tblPr/>
              <a:tblGrid>
                <a:gridCol w="1782720"/>
                <a:gridCol w="1698840"/>
                <a:gridCol w="5433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Detai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Mon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12 March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Kona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16:00 – 1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Review patent slides, attendance, log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Approve agen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SB comment resolution on 16p/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Tues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13 March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Kona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10:30 – 12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SB comment resolution on 16.1b/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Wednes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14 March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Kona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10:30 – 12: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SB comment resolution on deferred com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Wednes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14 March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Kona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16:00 – 18: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SB comment resolution on deferred com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Discussion on ASN.1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Motions for SB recircul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New business and clos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88840" y="177480"/>
            <a:ext cx="73663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Comment Re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88840" y="927000"/>
            <a:ext cx="736632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8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SB000p (P802.16p/D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98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Resolutions in IEEE 802.16-12-0206-02-G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13 acce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8 accepted-modified (revi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2 rej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98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2 disapprove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1 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1 rejec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88840" y="177480"/>
            <a:ext cx="73663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Comment Res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88840" y="927000"/>
            <a:ext cx="736632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8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LSB010b (P802.16.1b/D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98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Resolutions in IEEE 802.16-12-0224-03-G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11 acce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15 accepted-modified (revi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5 rej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98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7 disapprove com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5 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2 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88840" y="177480"/>
            <a:ext cx="73663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Discussion on ASN.1 co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88840" y="927000"/>
            <a:ext cx="736632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8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IEEE P802.16.1b draft does not contain any ASN.1 codes for MAC control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98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Some volunteers will submit a harmonized contribution which contains ASN.1 codes for MAC control messages in 16.1b draft during next recirc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98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Volunt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14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Hyunjeong Kang, Anshuman Nigam, Jaesun Cha, Giwon Park, Alessand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8840" y="177480"/>
            <a:ext cx="73663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Documents Presented to the W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88840" y="927000"/>
            <a:ext cx="736632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98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IEEE 802.16-12-0212-00-Gdoc: Opening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98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IEEE 802.16-12-0228-01-Gdoc: Closing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984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IEEE 802.16-12-0234-00-Gdoc: Meeting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8840" y="177480"/>
            <a:ext cx="73663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Motion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8840" y="926640"/>
            <a:ext cx="7366320" cy="55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To initiate a SB recirculation on P802.16p/D4, based on P802.16p/D3 as modified by the comment resolutions contained in IEEE 802.16-12-0206-02-Gdoc, to start no later than April 20, 2012</a:t>
            </a:r>
            <a:r>
              <a:rPr b="0" lang="ko-KR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Moved by Jaesun 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Seconded: Zheng Yan-X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Result:  22 / 0 /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8840" y="177480"/>
            <a:ext cx="736632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Motion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8840" y="926640"/>
            <a:ext cx="7366320" cy="558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To request Conditional Approval from the IEEE 802 Executive Committee to forward the IEEE P802.16p Draft to RevCom</a:t>
            </a:r>
            <a:r>
              <a:rPr b="0" lang="ko-KR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Moved by Jaesun 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Seconded: Hyunjeong K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N W3"/>
              </a:rPr>
              <a:t>Result:  21 / 0 /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7:00:55Z</dcterms:created>
  <dc:creator>Roger Marks</dc:creator>
  <dc:description/>
  <dc:language>en-US</dc:language>
  <cp:lastModifiedBy>Jaesun Cha</cp:lastModifiedBy>
  <cp:lastPrinted>1998-02-10T13:28:06Z</cp:lastPrinted>
  <dcterms:modified xsi:type="dcterms:W3CDTF">2012-03-16T03:16:29Z</dcterms:modified>
  <cp:revision>97</cp:revision>
  <dc:subject/>
  <dc:title>No Slide Title</dc:title>
</cp:coreProperties>
</file>