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8214D-9E96-471A-88E0-F26DB96D9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CA3F2-6194-4A9D-A3DD-A9AA459DA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771E3-62AF-4112-AA89-E5FC91DF9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FDE85A-BAEC-49A1-B068-82678C7CF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D892E-EB7C-4DBB-8A58-9044D5359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1337A-477F-4F53-8CF7-B2AF9EF7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893E2A-11D3-4015-9E88-412FD2D1D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BC98-644A-4329-929F-D762683A7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EDADF-A1BB-43D4-B3AC-8E7FD177E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3F77C-FACB-41F4-82A6-B7EAE1A31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9E1BD-FC9B-4B56-B883-CA0F1B8B2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8E4A1-50FD-40CC-B1E2-450175674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02022B-8223-4ED5-AB9D-63C0433EB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8-0547-0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udy Group Agenda Items</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ED496DD3-C3C9-419C-AB23-4CEC2744D327}" type="slidenum">
              <a:t>1</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Reaffirmation to RevCom</a:t>
            </a:r>
            <a:endParaRPr b="0" lang="en-US" sz="3600" spc="-1" strike="noStrike">
              <a:solidFill>
                <a:srgbClr val="000000"/>
              </a:solidFill>
              <a:latin typeface="Times New Roman"/>
            </a:endParaRPr>
          </a:p>
        </p:txBody>
      </p:sp>
      <p:sp>
        <p:nvSpPr>
          <p:cNvPr id="66" name="PlaceHolder 2"/>
          <p:cNvSpPr>
            <a:spLocks noGrp="1"/>
          </p:cNvSpPr>
          <p:nvPr>
            <p:ph/>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ditional Approval granted at March 2008 802 Plen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ded instead to run two recirculations instead and seek unconditional approval at the July 2007 Plenary</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9D434015-60B0-44C1-B699-2BE02930BAA9}" type="slidenum">
              <a:t>10</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8C6205-07E3-409D-B6F5-4F374DBE03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0" name=""/>
          <p:cNvSpPr/>
          <p:nvPr/>
        </p:nvSpPr>
        <p:spPr>
          <a:xfrm>
            <a:off x="533520" y="9144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15.3 Reaffirmation Sponsor Ballot Results</a:t>
            </a:r>
            <a:endParaRPr b="0" lang="en-US" sz="3200" spc="-1" strike="noStrike">
              <a:solidFill>
                <a:srgbClr val="000000"/>
              </a:solidFill>
              <a:latin typeface="Times New Roman"/>
            </a:endParaRPr>
          </a:p>
        </p:txBody>
      </p:sp>
      <p:sp>
        <p:nvSpPr>
          <p:cNvPr id="71" name=""/>
          <p:cNvSpPr/>
          <p:nvPr/>
        </p:nvSpPr>
        <p:spPr>
          <a:xfrm>
            <a:off x="83808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S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Return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ffirmative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0</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out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bstention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Total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 Respons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 Ballo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br>
              <a:rPr sz="1800"/>
            </a:b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cent Returned (70 + 4+ 6) / 106 = 76%</a:t>
            </a:r>
            <a:br>
              <a:rPr sz="1800"/>
            </a:br>
            <a:r>
              <a:rPr b="0" lang="en-US" sz="1800" spc="-1" strike="noStrike">
                <a:solidFill>
                  <a:srgbClr val="000000"/>
                </a:solidFill>
                <a:latin typeface="Times New Roman"/>
                <a:ea typeface="Times New Roman"/>
              </a:rPr>
              <a:t>Percent Affirmative 70 / (70 + 4) = 94%</a:t>
            </a:r>
            <a:br>
              <a:rPr sz="1800"/>
            </a:br>
            <a:r>
              <a:rPr b="0" lang="en-US" sz="1800" spc="-1" strike="noStrike">
                <a:solidFill>
                  <a:srgbClr val="000000"/>
                </a:solidFill>
                <a:latin typeface="Times New Roman"/>
                <a:ea typeface="Times New Roman"/>
              </a:rPr>
              <a:t>Percent Abstentions 6 / 106 = 7%</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closed March 18, 2008</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3 Reaffirmation-Initial Ballot</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5 comments received from the 4 disapproving voters (see next slide and/or Doc 15-08-0193-00-0000).</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basically advocated that 802.15.3 be withdrawn because of failure to achieve “Broad Market Potential” and/or that 802.11 already “does it”, 1 comment objected to a lack of a Coexistence Assurance Docu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were rejected with the following  response or similar</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5.3 provides capabilities that are different from 802.11.  There is an active project, 802.15.3c, which is an amendment to 802.15.3 to add a millimeter wave PHY to the standard.  This group regularly attracts more than 100 attendees to its meetings and is in the process of moving to working group letter ballot.  802.15.3c needs 802.15.3 to complete its work.</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mment was rejected because a coexistence plan is already included in Annex C of the Standar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065BEEA4-D601-4E39-B898-BA991073803A}" type="slidenum">
              <a:t>1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2F24B0-1553-4C43-B290-0B5AA13F7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 name=""/>
          <p:cNvSpPr/>
          <p:nvPr/>
        </p:nvSpPr>
        <p:spPr>
          <a:xfrm>
            <a:off x="533520" y="9144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3 Reaffirmation -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Recirculation</a:t>
            </a:r>
            <a:endParaRPr b="0" lang="en-US" sz="3200" spc="-1" strike="noStrike">
              <a:solidFill>
                <a:srgbClr val="000000"/>
              </a:solidFill>
              <a:latin typeface="Times New Roman"/>
            </a:endParaRPr>
          </a:p>
        </p:txBody>
      </p:sp>
      <p:sp>
        <p:nvSpPr>
          <p:cNvPr id="78" name=""/>
          <p:cNvSpPr/>
          <p:nvPr/>
        </p:nvSpPr>
        <p:spPr>
          <a:xfrm>
            <a:off x="83808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Open Date:       01-Apr-2008</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Close Date:      11-Apr-2008</a:t>
            </a: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SE RAT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ballot has met the 75% returned ballot requireme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6 eligible people in this ballot group.</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3      affirmative vote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negative votes with comment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negative votes without comment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bstention vote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4      votes received =  79 % returned        5 % abstention</a:t>
            </a: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ROVAL RAT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75% affirmation requirement is being me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86BC8E-13F5-4809-A00C-BEA5727F4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
          <p:cNvSpPr/>
          <p:nvPr/>
        </p:nvSpPr>
        <p:spPr>
          <a:xfrm>
            <a:off x="533520" y="9144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3 Reaffirmation –2</a:t>
            </a:r>
            <a:r>
              <a:rPr b="0" lang="en-US" sz="3200" spc="-1" strike="noStrike" baseline="30000">
                <a:solidFill>
                  <a:srgbClr val="000000"/>
                </a:solidFill>
                <a:latin typeface="Times New Roman"/>
              </a:rPr>
              <a:t>nd</a:t>
            </a:r>
            <a:r>
              <a:rPr b="0" lang="en-US" sz="3200" spc="-1" strike="noStrike">
                <a:solidFill>
                  <a:srgbClr val="000000"/>
                </a:solidFill>
                <a:latin typeface="Times New Roman"/>
              </a:rPr>
              <a:t> Recirculation</a:t>
            </a:r>
            <a:endParaRPr b="0" lang="en-US" sz="3200" spc="-1" strike="noStrike">
              <a:solidFill>
                <a:srgbClr val="000000"/>
              </a:solidFill>
              <a:latin typeface="Times New Roman"/>
            </a:endParaRPr>
          </a:p>
        </p:txBody>
      </p:sp>
      <p:sp>
        <p:nvSpPr>
          <p:cNvPr id="83" name=""/>
          <p:cNvSpPr/>
          <p:nvPr/>
        </p:nvSpPr>
        <p:spPr>
          <a:xfrm>
            <a:off x="83808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Open Date:       11-Jun-2008</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Close Date:      21-Jun-2008</a:t>
            </a: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SE RAT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ballot has met the 75% returned ballot requiremen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6 eligible people in this ballot group.</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      affirmative vote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negative votes with comment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       negative votes without comment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abstention vote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6      votes received = 81% returned        5% abstention</a:t>
            </a: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ROVAL RATE</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75% affirmation requirement is being me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6  affirmative votes,  5 negative votes with comments, 81votes = 93% affirma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Reaffirmation to RevCom</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new “NO” votes and no new “NO” Voters were received in 2</a:t>
            </a:r>
            <a:r>
              <a:rPr b="0" lang="en-US" sz="3200" spc="-1" strike="noStrike" baseline="30000">
                <a:solidFill>
                  <a:srgbClr val="000000"/>
                </a:solidFill>
                <a:latin typeface="Arial"/>
              </a:rPr>
              <a:t>nd</a:t>
            </a:r>
            <a:r>
              <a:rPr b="0" lang="en-US" sz="3200" spc="-1" strike="noStrike">
                <a:solidFill>
                  <a:srgbClr val="000000"/>
                </a:solidFill>
                <a:latin typeface="Arial"/>
              </a:rPr>
              <a:t> Recir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 to forward 802.15.3 Reaffirmation to RevCom passed 51/0/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C648B9D1-C9E5-441B-B8C9-3369B530F45B}" type="slidenum">
              <a:t>1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Reaffirmation to RevCom</a:t>
            </a:r>
            <a:endParaRPr b="0" lang="en-US" sz="36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at the EC grant approval to forward 802.15.3 Reaffirmation to Rev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r: He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il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4055575A-636D-4F6C-9878-9AF0A18B8239}" type="slidenum">
              <a:t>1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 Reaffirmtion to RevCom</a:t>
            </a:r>
            <a:endParaRPr b="0" lang="en-US" sz="3600" spc="-1" strike="noStrike">
              <a:solidFill>
                <a:srgbClr val="000000"/>
              </a:solidFill>
              <a:latin typeface="Times New Roman"/>
            </a:endParaRPr>
          </a:p>
        </p:txBody>
      </p:sp>
      <p:sp>
        <p:nvSpPr>
          <p:cNvPr id="89" name="PlaceHolder 2"/>
          <p:cNvSpPr>
            <a:spLocks noGrp="1"/>
          </p:cNvSpPr>
          <p:nvPr>
            <p:ph type="subTitle"/>
          </p:nvPr>
        </p:nvSpPr>
        <p:spPr>
          <a:xfrm>
            <a:off x="1371240" y="3886200"/>
            <a:ext cx="61722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 Slides from March 2008 Conditional Approv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A8C3C714-AC5F-49F1-AEEF-F151B27F911B}" type="slidenum">
              <a:t>1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8AD68B-69BA-489F-AB51-7B967AC11B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
          <p:cNvSpPr/>
          <p:nvPr/>
        </p:nvSpPr>
        <p:spPr>
          <a:xfrm>
            <a:off x="533520" y="9144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94" name=""/>
          <p:cNvSpPr/>
          <p:nvPr/>
        </p:nvSpPr>
        <p:spPr>
          <a:xfrm>
            <a:off x="83808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S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Return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ffirmative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0</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out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bstention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Total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 Respons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 Ballo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br>
              <a:rPr sz="1800"/>
            </a:b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cent Returned (70 + 4+ 6) / 106 = 76%</a:t>
            </a:r>
            <a:br>
              <a:rPr sz="1800"/>
            </a:br>
            <a:r>
              <a:rPr b="0" lang="en-US" sz="1800" spc="-1" strike="noStrike">
                <a:solidFill>
                  <a:srgbClr val="000000"/>
                </a:solidFill>
                <a:latin typeface="Times New Roman"/>
                <a:ea typeface="Times New Roman"/>
              </a:rPr>
              <a:t>Percent Affirmative 70 / (70 + 4) = 94%</a:t>
            </a:r>
            <a:br>
              <a:rPr sz="1800"/>
            </a:br>
            <a:r>
              <a:rPr b="0" lang="en-US" sz="1800" spc="-1" strike="noStrike">
                <a:solidFill>
                  <a:srgbClr val="000000"/>
                </a:solidFill>
                <a:latin typeface="Times New Roman"/>
                <a:ea typeface="Times New Roman"/>
              </a:rPr>
              <a:t>Percent Abstentions 6 / 106 = 7%</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 closed March 18, 2008</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br>
              <a:rPr sz="3200"/>
            </a:br>
            <a:endParaRPr b="0" lang="en-US" sz="3200" spc="-1" strike="noStrike">
              <a:solidFill>
                <a:srgbClr val="000000"/>
              </a:solidFill>
              <a:latin typeface="Times New Roman"/>
            </a:endParaRPr>
          </a:p>
        </p:txBody>
      </p:sp>
      <p:sp>
        <p:nvSpPr>
          <p:cNvPr id="9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5 comments received from the 4 disapproving voters (see next slide and/or Doc 15-08-0193-00-0000).</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basically advocated that 802.15.3 be withdrawn because of failure to achieve “Broad Market Potential” and/or that 802.11 already “does it”, 1 comment objected to a lack of a Coexistence Assurance Docu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were rejected with the following  response or similar</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5.3 provides capabilities that are different from 802.11.  There is an active project, 802.15.3c, which is an amendment to 802.15.3 to add a millimeter wave PHY to the standard.  This group regularly attracts more than 100 attendees to its meetings and is in the process of moving to working group letter ballot.  802.15.3c needs 802.15.3 to complete its work.</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mment was rejected because a coexistence plan is already included in Annex C of the Standar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65CBDD56-41AF-4DCF-B862-37F5F2122A42}" type="slidenum">
              <a:t>19</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ID Study Group –2</a:t>
            </a:r>
            <a:r>
              <a:rPr b="0" lang="en-US" sz="3600" spc="-1" strike="noStrike" baseline="30000">
                <a:solidFill>
                  <a:srgbClr val="000000"/>
                </a:solidFill>
                <a:latin typeface="Times New Roman"/>
              </a:rPr>
              <a:t>nd</a:t>
            </a:r>
            <a:r>
              <a:rPr b="0" lang="en-US" sz="3600" spc="-1" strike="noStrike">
                <a:solidFill>
                  <a:srgbClr val="000000"/>
                </a:solidFill>
                <a:latin typeface="Times New Roman"/>
              </a:rPr>
              <a:t> Extens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1F32DF91-990C-4198-AACE-90019835FA03}" type="slidenum">
              <a:t>2</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br>
              <a:rPr sz="3200"/>
            </a:br>
            <a:endParaRPr b="0" lang="en-US" sz="3200" spc="-1" strike="noStrike">
              <a:solidFill>
                <a:srgbClr val="000000"/>
              </a:solidFill>
              <a:latin typeface="Times New Roman"/>
            </a:endParaRPr>
          </a:p>
        </p:txBody>
      </p:sp>
      <p:pic>
        <p:nvPicPr>
          <p:cNvPr id="98" name="" descr=""/>
          <p:cNvPicPr/>
          <p:nvPr/>
        </p:nvPicPr>
        <p:blipFill>
          <a:blip r:embed="rId1"/>
          <a:stretch/>
        </p:blipFill>
        <p:spPr>
          <a:xfrm>
            <a:off x="404640" y="1577880"/>
            <a:ext cx="8434440" cy="4518000"/>
          </a:xfrm>
          <a:prstGeom prst="rect">
            <a:avLst/>
          </a:prstGeom>
          <a:ln w="0">
            <a:noFill/>
          </a:ln>
        </p:spPr>
      </p:pic>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7F1A9E12-777D-4CF6-A79B-7A1266545A1D}" type="slidenum">
              <a:t>20</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A84730-0C8D-4814-82B1-D1EEC792C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2"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103"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tion in the WG: </a:t>
            </a:r>
            <a:r>
              <a:rPr b="0" i="1" lang="en-US" sz="3200" spc="-1" strike="noStrike">
                <a:solidFill>
                  <a:srgbClr val="000000"/>
                </a:solidFill>
                <a:latin typeface="Arial"/>
                <a:ea typeface="Times New Roman"/>
              </a:rPr>
              <a:t>the 802.15 WG requests the 802 EC grant conditional approval to forward 802.15.3-2003 to RevCom</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Pat Kinne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 Rick Alfvi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86E751-3095-4D14-96E1-1EF0DB11D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5"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6"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
          <p:cNvSpPr/>
          <p:nvPr/>
        </p:nvSpPr>
        <p:spPr>
          <a:xfrm>
            <a:off x="685800" y="91440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108"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ve that 802.15.3-2003 be conditionally approved for forwarding to RevCom</a:t>
            </a:r>
            <a:r>
              <a:rPr b="0" lang="en-US" sz="3200" spc="-1" strike="noStrike">
                <a:solidFill>
                  <a:srgbClr val="000000"/>
                </a:solidFill>
                <a:latin typeface="Arial"/>
                <a:ea typeface="Arial"/>
              </a:rPr>
              <a:t> upon successful completion of the Sponsor recirculation ballo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Bob Hei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 Arnie Greenspa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ote:  15/0/0</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s to Sponsor Ballot</a:t>
            </a:r>
            <a:endParaRPr b="0" lang="en-US" sz="3600" spc="-1" strike="noStrike">
              <a:solidFill>
                <a:srgbClr val="000000"/>
              </a:solidFill>
              <a:latin typeface="Times New Roman"/>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4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4d conditiona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5 conditional</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C0391DF3-D93E-4FD3-A6FF-C84C7C0B9010}" type="slidenum">
              <a:t>23</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c to Sponsor Ballot</a:t>
            </a:r>
            <a:endParaRPr b="0" lang="en-US" sz="3600" spc="-1" strike="noStrike">
              <a:solidFill>
                <a:srgbClr val="000000"/>
              </a:solidFill>
              <a:latin typeface="Times New Roman"/>
            </a:endParaRPr>
          </a:p>
        </p:txBody>
      </p:sp>
      <p:sp>
        <p:nvSpPr>
          <p:cNvPr id="112"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 results of WG Letter Ballot Recirculation:</a:t>
            </a:r>
            <a:endParaRPr b="0" lang="en-US" sz="2400" spc="-1" strike="noStrike">
              <a:solidFill>
                <a:srgbClr val="000000"/>
              </a:solidFill>
              <a:latin typeface="Arial"/>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LIGIBLE VOTERS:</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174</a:t>
            </a:r>
            <a:endParaRPr b="0" lang="en-US" sz="1200" spc="-1" strike="noStrike">
              <a:solidFill>
                <a:srgbClr val="000000"/>
              </a:solidFill>
              <a:latin typeface="Arial"/>
            </a:endParaRPr>
          </a:p>
          <a:p>
            <a:pPr lvl="2" marL="10857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OTED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144 (82.76%)</a:t>
            </a:r>
            <a:endParaRPr b="0" lang="en-US" sz="1200" spc="-1" strike="noStrike">
              <a:solidFill>
                <a:srgbClr val="000000"/>
              </a:solidFill>
              <a:latin typeface="Arial"/>
            </a:endParaRPr>
          </a:p>
          <a:p>
            <a:pPr lvl="4" marL="17715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S </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108 (100.00%)</a:t>
            </a:r>
            <a:endParaRPr b="0" lang="en-US" sz="1200" spc="-1" strike="noStrike">
              <a:solidFill>
                <a:srgbClr val="000000"/>
              </a:solidFill>
              <a:latin typeface="Arial"/>
            </a:endParaRPr>
          </a:p>
          <a:p>
            <a:pPr lvl="4" marL="17715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BSTAIN </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36 (25.00%)</a:t>
            </a:r>
            <a:endParaRPr b="0" lang="en-US" sz="1200" spc="-1" strike="noStrike">
              <a:solidFill>
                <a:srgbClr val="000000"/>
              </a:solidFill>
              <a:latin typeface="Arial"/>
            </a:endParaRPr>
          </a:p>
          <a:p>
            <a:pPr lvl="4" marL="177156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O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0 (0%)</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Motion to request approval to forward to Sponsor Ballot passed 47/0/4</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8D82388B-3549-4F42-97B3-05573191321F}" type="slidenum">
              <a:t>2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c to Sponsor Ballot</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at EC grant approval to start the Sponsor Ballot on </a:t>
            </a:r>
            <a:r>
              <a:rPr b="0" lang="en-US" sz="3200" spc="-1" strike="noStrike">
                <a:solidFill>
                  <a:srgbClr val="000000"/>
                </a:solidFill>
                <a:latin typeface="Arial"/>
                <a:ea typeface="Arial"/>
              </a:rPr>
              <a:t>Draft P802.15.4c/D4</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r:  He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il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6809C8D4-2B45-4DF2-BD61-85B168EE91DC}" type="slidenum">
              <a:t>2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d to Sponsor Ballot-Conditional</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FB721F91-2CEA-4C23-B25A-425D93B3FF02}" type="slidenum">
              <a:t>26</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d to Sponsor Ballot-Conditional</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f Initial WG Letter Ballot</a:t>
            </a:r>
            <a:endParaRPr b="0" lang="en-US" sz="2000" spc="-1" strike="noStrike">
              <a:solidFill>
                <a:srgbClr val="000000"/>
              </a:solidFill>
              <a:latin typeface="Arial"/>
            </a:endParaRPr>
          </a:p>
          <a:p>
            <a:pPr lvl="2" marL="1020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s: 102 (98.08%)</a:t>
            </a:r>
            <a:endParaRPr b="0" lang="en-US" sz="1400" spc="-1" strike="noStrike">
              <a:solidFill>
                <a:srgbClr val="000000"/>
              </a:solidFill>
              <a:latin typeface="Arial"/>
            </a:endParaRPr>
          </a:p>
          <a:p>
            <a:pPr lvl="2" marL="1020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No:  2 (1.92%)</a:t>
            </a:r>
            <a:endParaRPr b="0" lang="en-US" sz="1400" spc="-1" strike="noStrike">
              <a:solidFill>
                <a:srgbClr val="000000"/>
              </a:solidFill>
              <a:latin typeface="Arial"/>
            </a:endParaRPr>
          </a:p>
          <a:p>
            <a:pPr lvl="2" marL="1020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bstain:  36 (25.71%)</a:t>
            </a:r>
            <a:endParaRPr b="0" lang="en-US" sz="1400" spc="-1" strike="noStrike">
              <a:solidFill>
                <a:srgbClr val="000000"/>
              </a:solidFill>
              <a:latin typeface="Arial"/>
            </a:endParaRPr>
          </a:p>
          <a:p>
            <a:pPr lvl="2" marL="1020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 voting=140</a:t>
            </a:r>
            <a:endParaRPr b="0" lang="en-US" sz="1400" spc="-1" strike="noStrike">
              <a:solidFill>
                <a:srgbClr val="000000"/>
              </a:solidFill>
              <a:latin typeface="Arial"/>
            </a:endParaRPr>
          </a:p>
          <a:p>
            <a:pPr lvl="2" marL="10206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return=83.33%</a:t>
            </a:r>
            <a:endParaRPr b="0" lang="en-US" sz="1400" spc="-1" strike="noStrike">
              <a:solidFill>
                <a:srgbClr val="000000"/>
              </a:solidFill>
              <a:latin typeface="Arial"/>
            </a:endParaRPr>
          </a:p>
          <a:p>
            <a:pPr lvl="2" marL="1020600" indent="0" algn="ctr">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Zhongding Lei (I2R) had 1 technical comment which he withdrew after Clint explained the narrow bandwidth available.</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James Gilb (SIBEAM) had 5 technical comments, all of which were accepted.</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ct recirculation to be completed by the Sept 2008 Interim and to be ‘clean’</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ponsor Ballot would be scheduled to start mid September 2008</a:t>
            </a:r>
            <a:endParaRPr b="0" lang="en-US" sz="2000" spc="-1" strike="noStrike">
              <a:solidFill>
                <a:srgbClr val="000000"/>
              </a:solidFill>
              <a:latin typeface="Arial"/>
            </a:endParaRPr>
          </a:p>
          <a:p>
            <a:pPr marL="322200" indent="-322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G motion to request conditional approval passed 43/1/0</a:t>
            </a:r>
            <a:endParaRPr b="0" lang="en-US" sz="2000" spc="-1" strike="noStrike">
              <a:solidFill>
                <a:srgbClr val="000000"/>
              </a:solidFill>
              <a:latin typeface="Arial"/>
            </a:endParaRPr>
          </a:p>
          <a:p>
            <a:pPr marL="32220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4265FC07-77D1-4573-BEAA-E2DCA08BFAFC}" type="slidenum">
              <a:t>2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F04772-7917-4192-AEBD-9BCE624538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
          <p:cNvSpPr/>
          <p:nvPr/>
        </p:nvSpPr>
        <p:spPr>
          <a:xfrm>
            <a:off x="685800" y="9144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4d to Sponsor Ballot-Conditional</a:t>
            </a:r>
            <a:endParaRPr b="0" lang="en-US" sz="3600" spc="-1" strike="noStrike">
              <a:solidFill>
                <a:srgbClr val="000000"/>
              </a:solidFill>
              <a:latin typeface="Times New Roman"/>
            </a:endParaRPr>
          </a:p>
        </p:txBody>
      </p:sp>
      <p:sp>
        <p:nvSpPr>
          <p:cNvPr id="122"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ve that 802.15.4d, Draft 3, be conditionally approved to begin Sponsor Ballot</a:t>
            </a:r>
            <a:r>
              <a:rPr b="0" lang="en-US" sz="3200" spc="-1" strike="noStrike">
                <a:solidFill>
                  <a:srgbClr val="000000"/>
                </a:solidFill>
                <a:latin typeface="Arial"/>
                <a:ea typeface="Arial"/>
              </a:rPr>
              <a:t> upon successful completion of the Working Group recirculation ballo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Hei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 Gilb</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o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to Sponsor Ballot-Conditional</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58E3DBF8-594E-42B1-8E0A-D49FC3236907}" type="slidenum">
              <a:t>29</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73979F-2EEC-4326-AE6B-BD4E0E954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0" name=""/>
          <p:cNvSpPr/>
          <p:nvPr/>
        </p:nvSpPr>
        <p:spPr>
          <a:xfrm>
            <a:off x="838080" y="914400"/>
            <a:ext cx="7239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SG/RFID</a:t>
            </a:r>
            <a:endParaRPr b="0" lang="en-US" sz="3200" spc="-1" strike="noStrike">
              <a:solidFill>
                <a:srgbClr val="000000"/>
              </a:solidFill>
              <a:latin typeface="Times New Roman"/>
            </a:endParaRPr>
          </a:p>
        </p:txBody>
      </p:sp>
      <p:sp>
        <p:nvSpPr>
          <p:cNvPr id="51" name=""/>
          <p:cNvSpPr/>
          <p:nvPr/>
        </p:nvSpPr>
        <p:spPr>
          <a:xfrm>
            <a:off x="685800" y="16002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ess is being made on establishing relationships/participation with other organizations active in RFI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draft PAR and 5C now exists and we may be able to wrap this up by Nov though one more cycle beyond that may be necessar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to extend SG/RFID passed in the WB by 28/0/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to Sponsor Ballot-Conditional</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of Primary WG Ballot</a:t>
            </a:r>
            <a:endParaRPr b="0" lang="en-US" sz="24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es: 81 (95.29%)</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4 (4.71%)</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bstain:  23 (21.30%)</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tal voting=108</a:t>
            </a:r>
            <a:endParaRPr b="0" lang="en-US" sz="2000" spc="-1" strike="noStrike">
              <a:solidFill>
                <a:srgbClr val="000000"/>
              </a:solidFill>
              <a:latin typeface="Arial"/>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return=67.50%</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ents of the 4 ‘NO’ voters were accep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85FFA571-0982-41F6-BBC8-57EEAB081DE6}" type="slidenum">
              <a:t>30</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to Sponsor Ballot-Conditional</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s of First Recirculation</a:t>
            </a:r>
            <a:endParaRPr b="0" lang="en-US" sz="2000" spc="-1" strike="noStrike">
              <a:solidFill>
                <a:srgbClr val="000000"/>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es: 95 (97.94%)</a:t>
            </a:r>
            <a:endParaRPr b="0" lang="en-US" sz="1800" spc="-1" strike="noStrike">
              <a:solidFill>
                <a:srgbClr val="000000"/>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o:  2 (2.06%)</a:t>
            </a:r>
            <a:endParaRPr b="0" lang="en-US" sz="1800" spc="-1" strike="noStrike">
              <a:solidFill>
                <a:srgbClr val="000000"/>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stain:  27 (21.77%)</a:t>
            </a:r>
            <a:endParaRPr b="0" lang="en-US" sz="1800" spc="-1" strike="noStrike">
              <a:solidFill>
                <a:srgbClr val="000000"/>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 voting=124</a:t>
            </a:r>
            <a:endParaRPr b="0" lang="en-US" sz="1800" spc="-1" strike="noStrike">
              <a:solidFill>
                <a:srgbClr val="000000"/>
              </a:solidFill>
              <a:latin typeface="Arial"/>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return=77.50%</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ne “NO” voter was new and one was a repeat with some new com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NO’ voters have accepted the comment resolution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e expect the recirculation in progress to be clean and plan to start Sponsor Ballot Aug 8</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G passed motion to request Conditional Approval 38/0/4</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C8657F4D-EB6C-4397-A65F-18B8E85506C6}" type="slidenum">
              <a:t>3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ECE527-950D-4D78-A64F-115865BD49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
          <p:cNvSpPr/>
          <p:nvPr/>
        </p:nvSpPr>
        <p:spPr>
          <a:xfrm>
            <a:off x="685800" y="914400"/>
            <a:ext cx="7620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to Sponsor Ballot-Conditional</a:t>
            </a:r>
            <a:endParaRPr b="0" lang="en-US" sz="3600" spc="-1" strike="noStrike">
              <a:solidFill>
                <a:srgbClr val="000000"/>
              </a:solidFill>
              <a:latin typeface="Times New Roman"/>
            </a:endParaRPr>
          </a:p>
        </p:txBody>
      </p:sp>
      <p:sp>
        <p:nvSpPr>
          <p:cNvPr id="132"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ve that 802.15.5, Draft 2, be conditionally approved to begin Sponsor Ballot</a:t>
            </a:r>
            <a:r>
              <a:rPr b="0" lang="en-US" sz="3200" spc="-1" strike="noStrike">
                <a:solidFill>
                  <a:srgbClr val="000000"/>
                </a:solidFill>
                <a:latin typeface="Arial"/>
                <a:ea typeface="Arial"/>
              </a:rPr>
              <a:t> upon successful completion of the Working Group recirculation ballo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Hei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 Gilb</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Vo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Rs to NesCom</a:t>
            </a:r>
            <a:endParaRPr b="0" lang="en-US" sz="3600" spc="-1" strike="noStrike">
              <a:solidFill>
                <a:srgbClr val="000000"/>
              </a:solidFill>
              <a:latin typeface="Times New Roman"/>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5 PAR Extens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D2895068-DEDB-4DAD-A3FB-115A4B383ADB}" type="slidenum">
              <a:t>33</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PAR Extension</a:t>
            </a: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 Extension circulated to the 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mments received or changes made to original P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G motion to extend PAR 1 year passed 46/0/0</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1F6A0C8F-72B1-4E5D-BF65-359BE71EC5AE}" type="slidenum">
              <a:t>3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5 PAR Extension</a:t>
            </a:r>
            <a:endParaRPr b="0" lang="en-US" sz="36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at the EC approve forwarding the 802.15.5 PAR Extension to N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d:  He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il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C9A5C5E2-E0A6-4FF1-AEAE-6B069DE31466}" type="slidenum">
              <a:t>3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SG/RFID</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extend RFID/SG through the November 2008 802 Plena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d:  Hei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ilb</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F50E6C3D-3984-48DB-9FA9-111DB8814B65}" type="slidenum">
              <a:t>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2285640"/>
            <a:ext cx="6933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Agenda Item for </a:t>
            </a:r>
            <a:br>
              <a:rPr sz="3600"/>
            </a:br>
            <a:r>
              <a:rPr b="0" lang="en-US" sz="3600" spc="-1" strike="noStrike">
                <a:solidFill>
                  <a:srgbClr val="000000"/>
                </a:solidFill>
                <a:latin typeface="Times New Roman"/>
              </a:rPr>
              <a:t>Neighborhood Area Networking Study Gro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CA13883F-6BDD-4BCF-BBE2-2DDD2C77FF37}" type="slidenum">
              <a:t>5</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a:t>
            </a:r>
            <a:br>
              <a:rPr sz="3200"/>
            </a:br>
            <a:r>
              <a:rPr b="0" lang="en-US" sz="3200" spc="-1" strike="noStrike">
                <a:solidFill>
                  <a:srgbClr val="000000"/>
                </a:solidFill>
                <a:latin typeface="Times New Roman"/>
              </a:rPr>
              <a:t>NAN Study Group</a:t>
            </a:r>
            <a:endParaRPr b="0" lang="en-US" sz="32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By neighborhood area network (NAN), we mean a network suitable for applications that have a low data rate and are latency tolerant, like 802.15.4-2006, but having greater range and increased message reliabilit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exemplary application is the Smart Grid Initiative, which would create a wireless control system for electric utilities.  Other industrial wireless users have also expressed interest.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1EBC78E6-E301-4C9B-9292-0C437D575A97}" type="slidenum">
              <a:t>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a:t>
            </a:r>
            <a:br>
              <a:rPr sz="3200"/>
            </a:br>
            <a:r>
              <a:rPr b="0" lang="en-US" sz="3200" spc="-1" strike="noStrike">
                <a:solidFill>
                  <a:srgbClr val="000000"/>
                </a:solidFill>
                <a:latin typeface="Times New Roman"/>
              </a:rPr>
              <a:t>NAN Study Group</a:t>
            </a:r>
            <a:endParaRPr b="0" lang="en-US" sz="3200" spc="-1" strike="noStrike">
              <a:solidFill>
                <a:srgbClr val="000000"/>
              </a:solidFill>
              <a:latin typeface="Times New Roman"/>
            </a:endParaRPr>
          </a:p>
        </p:txBody>
      </p:sp>
      <p:sp>
        <p:nvSpPr>
          <p:cNvPr id="58"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torial on Monday even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3 people out of 140 or so in attendance expressed interest</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Interest meetings have been attracting ~40 from 20-25 compani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 in WG to form a Study Group passed 32/0/5</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36D52DC3-2476-4F6F-A9C1-FAA7B1965694}" type="slidenum">
              <a:t>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541E5B-3763-402C-B2F4-91AD45486A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 name=""/>
          <p:cNvSpPr/>
          <p:nvPr/>
        </p:nvSpPr>
        <p:spPr>
          <a:xfrm>
            <a:off x="685800" y="762120"/>
            <a:ext cx="78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N Study Group</a:t>
            </a:r>
            <a:endParaRPr b="0" lang="en-US" sz="3200" spc="-1" strike="noStrike">
              <a:solidFill>
                <a:srgbClr val="000000"/>
              </a:solidFill>
              <a:latin typeface="Times New Roman"/>
            </a:endParaRPr>
          </a:p>
        </p:txBody>
      </p:sp>
      <p:sp>
        <p:nvSpPr>
          <p:cNvPr id="63" name=""/>
          <p:cNvSpPr/>
          <p:nvPr/>
        </p:nvSpPr>
        <p:spPr>
          <a:xfrm>
            <a:off x="685800" y="2286000"/>
            <a:ext cx="80773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approve the formation a Study Group in 802.15 to draft a PAR and 5C for Neighborhood Area Networking</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Bob Heil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afts to RevCom</a:t>
            </a:r>
            <a:br>
              <a:rPr sz="3600"/>
            </a:br>
            <a:br>
              <a:rPr sz="3600"/>
            </a:br>
            <a:r>
              <a:rPr b="0" lang="en-US" sz="3600" spc="-1" strike="noStrike">
                <a:solidFill>
                  <a:srgbClr val="000000"/>
                </a:solidFill>
                <a:latin typeface="Times New Roman"/>
              </a:rPr>
              <a:t>802.15.5 Reaffirmation</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5961AF44-D8F3-4BCD-8692-A76529E73CA3}" type="slidenum">
              <a:t>9</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
  <dc:language>en-US</dc:language>
  <cp:lastModifiedBy>bheile</cp:lastModifiedBy>
  <cp:lastPrinted>2000-07-07T01:25:49Z</cp:lastPrinted>
  <dcterms:modified xsi:type="dcterms:W3CDTF">2008-07-18T19:19:32Z</dcterms:modified>
  <cp:revision>338</cp:revision>
  <dc:subject>IEEE 802.15 &lt;subject&gt;</dc:subject>
  <dc:title>WG-Report-to-the-802-Plenary-Mar05</dc:title>
</cp:coreProperties>
</file>