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3549600" y="107640"/>
            <a:ext cx="2882880" cy="2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00/424r1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68160" y="81720"/>
            <a:ext cx="2803680" cy="2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5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0269-1A58-41B7-AE39-A236ACF250C7}" type="datetime5">
              <a:rPr b="1" lang="ja-JP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26年7月28日</a:t>
            </a:fld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003320" y="774360"/>
            <a:ext cx="5097600" cy="382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8640" rIns="986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3862080" y="9909000"/>
            <a:ext cx="2570040" cy="3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9212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4" marL="49212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uart J. Kerry - Philips Semiconductors, Inc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003480" y="9909000"/>
            <a:ext cx="82080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ge </a:t>
            </a:r>
            <a:fld id="{D4F58C73-3A4F-4B87-B1A8-2F55AA1C1E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741240" y="9909000"/>
            <a:ext cx="233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ntative agenda Full WG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>
            <a:off x="762120" y="9907560"/>
            <a:ext cx="559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-48960" bIns="-489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685800" y="326880"/>
            <a:ext cx="574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8280" rIns="98280" tIns="-48960" bIns="-4896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549600" y="114480"/>
            <a:ext cx="288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802.11-00/424r1</a:t>
            </a:r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68160" y="82080"/>
            <a:ext cx="2803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ECC1-81FB-4592-8EDF-10E7AEE32BB4}" type="datetime5">
              <a:rPr b="1" lang="ja-JP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26年7月28日</a:t>
            </a:fld>
            <a:endParaRPr b="1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862440" y="9909000"/>
            <a:ext cx="25700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4" marL="49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uart J. Kerry - Philips Semiconductors, Inc.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003480" y="9909000"/>
            <a:ext cx="820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age </a:t>
            </a:r>
            <a:fld id="{E5C193EE-2264-430F-BAB8-2D07722415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000080" y="774720"/>
            <a:ext cx="5099040" cy="3824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46080" y="4862160"/>
            <a:ext cx="520704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14A9-1387-4C16-BBD1-9B22FCE8E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D9A-3A0E-48FE-B488-4A2343BC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01B1-4AC5-4DCF-9A6B-BD74F01F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DFA3-9462-44E4-BEE9-44B7AF89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392-C5DF-4B89-904F-3E3AF698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0FC-8A34-429E-95D9-E3619BDD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50D-E521-4A72-8483-1C56261E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752-4802-46F1-BA62-BD708BAC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A33-8419-48E8-825D-95C33004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727-40D3-4D2E-820D-2AA11FA7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8FA-8730-47D6-88FE-46FD4CEF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50D-B062-490C-90CA-C19B5EE6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80880"/>
            <a:ext cx="190512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uly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uzo Ka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9560" y="6474960"/>
            <a:ext cx="600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de </a:t>
            </a:r>
            <a:fld id="{4DAD6DEB-8098-4A9A-B95F-83CE019D5A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685800" y="60948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685800" y="6475320"/>
            <a:ext cx="289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G3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706320" y="6477120"/>
            <a:ext cx="782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日付プレースホルダ 1"/>
          <p:cNvSpPr/>
          <p:nvPr/>
        </p:nvSpPr>
        <p:spPr>
          <a:xfrm>
            <a:off x="609480" y="383400"/>
            <a:ext cx="19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uly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フッター プレースホルダ 2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uzo Ka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スライド番号プレースホルダ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de </a:t>
            </a:r>
            <a:fld id="{87DE6A5D-E62D-4B1B-94AD-220BED40EF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76320" y="914400"/>
            <a:ext cx="899136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Project: IEEE P802.15 Working Group for Wireless Personal Area Networks (WPANs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bmission Titl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[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cerns and Suggestions for VHT60  P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ate Submitted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July 2008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[Shuzo Kato]       Company [NICT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ddress [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ice:[], Fax:[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-Mail:[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     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[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bstract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erns and Suggestions for VHT60  P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urpo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[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tice   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document has been prepared to assist the IEEE P802.15. It is offered as a basis 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ussion and is not binding on the contributing individual(s) or organization(s). The material i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document is subject to change in form and content after further study. The contributor(s)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serve(s) the right to add, amend or withdraw material contained herein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leas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tributor acknowledges and accepts that this contribution becomes the property of IEE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may be made publicly available by P802.1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4572000" y="3834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42884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15-08-0498-03-003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0758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523880"/>
            <a:ext cx="8147160" cy="50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1)  In PAR scope, change "Address coexistence with other systems in the band" to be "Address coexistence with 802.15.3c and other systems in the band"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2) Change PAR item 7.1 from "no" to "yes" and list 802.15.3c because it has a similar scope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3) Add to PAR scope "The standard specifies a channel plan that is compatible with 802.15.3c."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4) Add to PAR scope "Compliant STAs and APs shall be able to identify the 802.15.3c common mode for the purpose of detecting and avoiding mutual interference."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5) Add to the PAR scope "The amendment shall support all of the currently approved 802.11 management functions."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4572000" y="3834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42884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15-08-0498-03-003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Date Placeholder 5"/>
          <p:cNvSpPr/>
          <p:nvPr/>
        </p:nvSpPr>
        <p:spPr>
          <a:xfrm>
            <a:off x="609480" y="383400"/>
            <a:ext cx="19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uly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de </a:t>
            </a:r>
            <a:fld id="{B68FC9E5-D37C-4DD4-B565-1017C813E0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7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uzo Ka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07588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ugg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523880"/>
            <a:ext cx="8147160" cy="507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6) Suggest VHT60 adopt the three PHYs developed in TG3c and work on a MAC amend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7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Modify the PAR to show significant differences in scope, in terms of data rate and range from 802.15.3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ＭＳ Ｐゴシック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4572000" y="3834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428840" algn="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15-08-0498-03-003c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Date Placeholder 5"/>
          <p:cNvSpPr/>
          <p:nvPr/>
        </p:nvSpPr>
        <p:spPr>
          <a:xfrm>
            <a:off x="609480" y="383400"/>
            <a:ext cx="1905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uly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de </a:t>
            </a:r>
            <a:fld id="{349DA692-7EDE-4A7B-A5E9-A97A3AAF98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ooter Placeholder 7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uzo Kato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Pat Kinney</dc:creator>
  <dc:description/>
  <dc:language>en-US</dc:language>
  <cp:lastModifiedBy>Tuncer Baykas</cp:lastModifiedBy>
  <cp:lastPrinted>2000-03-07T00:55:37Z</cp:lastPrinted>
  <dcterms:modified xsi:type="dcterms:W3CDTF">2008-07-15T22:45:13Z</dcterms:modified>
  <cp:revision>921</cp:revision>
  <dc:subject/>
  <dc:title>TG4a Opening Report</dc:title>
</cp:coreProperties>
</file>