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A04-BEA2-4BF3-B743-542193D4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F78-BE49-4E60-AF7F-446B26B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66B95-DA06-43B2-82FF-B12DDFBC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1A2E35-CA9F-44AA-BA7A-5238B67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E8ADB-99CD-4A17-8836-4FBBC47D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7F3279-5ADF-4899-B331-DA6B019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E4BE5-6068-4392-B479-47CF9F81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82A430-793E-4C8A-A70E-5787C47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03059-2B68-4CBE-903A-25283A98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413A80-C86F-4E85-BDA4-F34D531A2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2ABB5-D3B8-4037-AC9C-FE9CAA732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C49E4-0FDC-4614-8608-48737E04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B34-C160-4356-A6E3-882C28A1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8F98E4-63EF-43D1-83A3-9B17A0F03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C9586-558A-4C7A-A708-E576FF50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E40D3-A492-4622-B71D-87ADCC44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A5593-F186-40DB-A828-3F0DFA8C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B0872-F915-497A-827C-815035E5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627F6-0716-452C-BE63-177FE00A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C5F1B-15BC-4D39-A094-E1F6AF3F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E281-FCDC-4F29-BE72-7082B560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E7EF7-F360-40E4-8584-6F893230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3474B2-EFEA-479C-9603-D04EBF79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08E-151E-4A82-936A-456B53B6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95948-AD95-4960-B291-7CBBCE5A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21ABE-73F0-415D-9500-3BA0BD01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E7240-6632-4987-8149-43842B0B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0947A-2FBF-4187-8E36-D15D93F4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186F1-6F54-4896-B2AE-904F7CE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E3EEE-B62A-4E0D-A558-23B61496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D99CB-5826-46E8-84E7-1CDF550B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6DEA7-C1A7-4B52-8418-5E8B139D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230EF9-7BE0-4026-A156-4C6EC8DE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019D7-8BE0-47C1-886F-4186EEC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4922-1527-4A9E-889A-368B9A6C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B8EC-BA99-4A92-8FC8-3AD1646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BBA24-4A7B-41DD-9344-C441B5EF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2135A-C6B0-4B97-B9EB-FE734F85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D16A7-2E2C-41D2-9892-DCEEB695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0D86D8-B324-42D1-8F54-0899E24A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77A4D-8F15-4333-84FE-E35438D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5018EA-5EA0-4F72-92AA-33F07B23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A9E8E-EC80-4680-81E5-18EC339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8B0B9-B33D-4066-B4BA-2ACB1F69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E4DD4-39B0-409D-85C1-9B5938B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E81-6A4C-45C7-AAAD-A746AA18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6BD8D-905A-4843-9D1F-920A1CE1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AD9AE-EAC5-4405-8553-3B97AF9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20C90A-7435-4966-83AC-29C0F36D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13D38-6757-4A2E-8396-D9B26108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9869E2-E87F-4DD8-9C38-CCB9FF25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8DA9C-CFCF-4582-A1AB-12A4F2B8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21C1C-7717-43C6-BD54-509BAFFF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1AE43-3A02-4174-A616-B840B994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4FABF-1966-4CC2-9151-D2179FB8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C42E5C-76B1-487B-969E-3E8D9C8F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DF4C-E2CB-41FC-93DC-A32B6964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89003-A94B-4868-B0E5-169A41E1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03977-50E8-4EC7-9905-B357B747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B7439-5B78-495B-8843-E88201A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0AEC3-705F-44AC-A42F-A1A98A3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D22A9-FB2E-4DCD-AF9C-45B8839E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7CAC4-A559-4F17-A2AB-9C7B59BF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9B41AB-1CFC-41C6-958E-764D98E7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7062-DF08-442B-8F2A-88630288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A9E8-ED50-484C-8F40-3BD31E44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B5DC-E80A-4CCB-BB00-E192D428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DDC8-B6DA-417F-B8CA-D4EE6842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4715-D936-45C7-9D79-FD2C6EF3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E2E-4E11-4F1D-AA4C-13DB1D6A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5EE2-FF95-46DF-90E8-04F01E75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F971-DEAC-412A-94A4-0D4AEBDF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336-56BA-4347-B9CE-A13BF62D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B0E2-C07A-48B4-8680-BF57A8BC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443B5-D377-4180-82E9-9FF81B6B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1ABC0-B480-4151-BC16-B80AFC3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C675-C7F3-4584-95CF-1E990921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46502-6A6F-4400-922D-A73E221A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3835-6A25-494A-8682-97BE0018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C4E-BFFC-4FC9-83CA-CC256FCA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0B6F-C6E0-4D2B-B98B-1245B871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3A5A-2D19-4B7F-87A3-3005FDD9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624E-63FB-4ED3-8771-39E861E1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3ED32-53B1-4520-ADEA-3D496C1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7230F-B251-47ED-873B-34C166D9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66FFC-FE72-4A51-9EB6-D13BE2AE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FFF97-BF5F-4E79-86DF-09902126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7E0D2-C0E4-48CB-8504-B998DBE8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700C2-349C-40AA-A63C-34EAE42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C592-D1CA-4241-B87F-9195E154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303E-AF3C-4719-85B7-BE4CEB9D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64BE9-DBD3-4E10-9D16-3AB4739C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CB57B-720D-4265-B900-475429EB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82057-E0D6-4E60-80E3-F57A8B9B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6FC5E-DAF2-4AED-93A3-D6044342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3146-5142-4837-91A2-D49F13D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B81F1-1C63-4898-B1CE-73D456C1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211CA-50D2-415E-A69D-218F2373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E0B9C-8923-4981-B894-F11E67C6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C5B6A-3E2A-424B-8FBE-F541FF5C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5FC4-2A96-461F-8873-9F5B56A7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B76-E0C7-44FA-89EC-2FBC58B1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C8898-C6E5-4836-AC90-D07747A1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A715B-1BFB-4B7B-A5C4-1C68095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5E20C-AE95-402C-A258-ED347520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EE14-8FB2-442B-8369-55F80F34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4751-F84D-4D3A-8198-93947AE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0DC95-3AE1-4296-B27D-207DCE59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AB44-4728-4515-BA8D-4E61CE19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33BD0-E497-4983-B0EB-5DA737E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DF75E-3BE8-4B53-B173-ED8509EC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C56EE-7C84-4E42-B68C-0E3FEDED2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725-6290-417D-BA2E-1447C638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1030-5781-4FAA-B2B4-E8F9F884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A3378-C41C-48D1-99EB-3BFDE520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CC4C9-0B72-448E-A87F-7FF2DEB5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46D79-4C6C-4653-B858-C1A612A7E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93ADE2-24F1-4E3B-A7C5-24600A94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A38D5-4A54-4697-A9AB-5873B4DA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8DECC4-FF0C-412A-9740-C30CC719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41B24-770F-47C1-B4C4-AA01236C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D6783-F44B-4768-8B47-137C98EB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DE113-F302-4729-B4C9-B98486FA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4C36-FC34-40BC-BE41-81434080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038A7-E435-469F-86E4-557B76AE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37B00-D9F0-473D-BEBB-F304ADB2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96965-5567-4A92-97C2-4A1C4E175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DD6E2-B1EE-4F3C-AD5C-8F471196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54E397-71C6-4F79-B2CC-FA247B01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3A057-FD7B-4D87-91B2-9C0361AF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EA0AF-D808-49E4-9D1A-FD5BA375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D53A9-C2A2-43D7-B7F7-764D9D8C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F3AD9-94CB-4B2F-9C06-54A23EE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FDAF4-8E08-4D74-A04C-1348A257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81A6-D32A-45DE-9DAD-0606DC71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514C9-093D-41A8-926E-F7CEDC6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6DC2D-5C88-486F-8251-85DFD79B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54AEF-2D6B-4300-881A-B209A1B5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4FD08-9F08-491A-977A-67254335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345D7-C3AF-48C1-8796-6B460835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30239-804A-4479-9051-B4E37776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FAC68-8234-423A-8FB7-FA190B1D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3147-146F-449F-8532-E53D964B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3606-BA32-4895-916E-42A5E4A7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D981E-548C-4A3B-9175-EA1E03B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F810-099E-41B6-B35B-83C9FB16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A7A4F-9078-4BD0-8A1D-317F10FF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4301-968C-4949-A716-577DDD2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F44A4-85A6-4671-95A0-E690BDC3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A543-49D3-4528-B975-FCB275E2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E089-7B64-494D-AF3E-937D648F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0E678-3B76-4475-A0F8-22B5E77F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F3AF80-4185-4DE3-9828-B7F3ED03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D10BE-84D6-4876-B7BF-7645431A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E36FE-C07A-448E-836A-DAD95F29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60EC5-5499-4EED-88F6-685B261C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6680F6-F011-46C9-ABFD-21D66D3ED8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63415F-F9FD-4978-A38B-F05F6C7EDA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BDE5BA-558F-45B7-91CE-EDF22A0A9B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6FF596C-D6A5-4266-934D-D24B37FA66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CCF8D5-05C0-406D-8DF1-9784718D3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17BEB3-1595-4866-A792-B6AFFE2794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71943D-B5AA-4FE4-9A19-C61553D9E2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9A46125-37F2-4BE9-8D4A-56ACEF0910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0DC57D-F6EA-4370-8C5F-D0C9A7D84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E65F765-7FB4-4943-A119-798F544042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4792218-B592-4450-A3BC-7569F516C4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E7C73E-73D4-47FC-8D88-B5E29886F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4114800" y="396000"/>
            <a:ext cx="434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doc.: IEEE 802.15-16-0717-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85440" y="377640"/>
            <a:ext cx="16002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486400" y="6475320"/>
            <a:ext cx="31240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7299A5A-8992-4A01-82B0-746AB6D020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73200" y="2730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02.15.10 Layer 2 Rou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RevCom (condition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5CA5B91-3AB1-4071-94F3-199439C7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685800" y="65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10 Ballo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57200" y="1472760"/>
            <a:ext cx="822816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Sponsor Ballot (P802.15.10/D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ed: 13-June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: 13-July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results (pool of 111 vo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4 responses (75% response rat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 yes, 3 no (96% approval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abstain (5% abstain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36 comments from 7 comm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3 marked as 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 resolution database workshe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mentor.ieee.org/802.15/dcn/16/15-16-0475-08-0010-consolidated-sponsor-ballot-comments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0">
              <a:spcBef>
                <a:spcPts val="400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D9D32F-7825-4185-AC4B-B61D19112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2"/>
          <p:cNvSpPr/>
          <p:nvPr/>
        </p:nvSpPr>
        <p:spPr>
          <a:xfrm>
            <a:off x="685800" y="65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10 Ballo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7200" y="1472760"/>
            <a:ext cx="822816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sor Ballot Recirc 1: (P802.15.10/D0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ed: 31-Aug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: 10-Sep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results (pool of 111 vo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5 responses (76% response rat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7 yes, 2 no (97% approval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abstain (7% abstain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0600" indent="-29376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6 comments from 5 comm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marked as 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82640" indent="-29376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 resolution database workshe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74680" indent="-26028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mentor.ieee.org/802.15/dcn/16/15-16-0475-16-0010-consolidated-sponsor-ballot-comments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0E9952B-15E5-4FD3-A63B-10FF27280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2"/>
          <p:cNvSpPr/>
          <p:nvPr/>
        </p:nvSpPr>
        <p:spPr>
          <a:xfrm>
            <a:off x="685800" y="65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10 Ballot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472760"/>
            <a:ext cx="8228160" cy="503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86640" indent="-29052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onsor Ballot Recirc 2: (P802.15.10/D0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ed: 23-Sep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sed: 3-Oct-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ote results (pool of 111 vot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8 responses (79% response rat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2800" indent="-257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 yes, 1 no (98% approval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2800" indent="-257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abstain (6% abstain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6640" indent="-290520"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comments from 3 comme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marked as M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oth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4720" indent="-290520">
              <a:spcBef>
                <a:spcPts val="550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ent resolution database workshe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2800" indent="-257400">
              <a:spcBef>
                <a:spcPts val="4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4360"/>
                <a:tab algn="l" pos="828720"/>
                <a:tab algn="l" pos="1243080"/>
                <a:tab algn="l" pos="1657440"/>
                <a:tab algn="l" pos="2073240"/>
                <a:tab algn="l" pos="2487600"/>
                <a:tab algn="l" pos="2901960"/>
                <a:tab algn="l" pos="3316320"/>
                <a:tab algn="l" pos="3732120"/>
                <a:tab algn="l" pos="4146480"/>
                <a:tab algn="l" pos="4560840"/>
                <a:tab algn="l" pos="4975200"/>
                <a:tab algn="l" pos="5391000"/>
                <a:tab algn="l" pos="5805360"/>
                <a:tab algn="l" pos="6219720"/>
                <a:tab algn="l" pos="6634080"/>
                <a:tab algn="l" pos="7050240"/>
                <a:tab algn="l" pos="746460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s://mentor.ieee.org/802.15/dcn/16/15-16-0475-18-0010-consolidated-sponsor-ballot-comments.xls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0D39185-7CE4-4434-ADCB-3E8BDA10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3E2A559-7E1E-4130-B55D-865D3D1B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2"/>
          <p:cNvSpPr/>
          <p:nvPr/>
        </p:nvSpPr>
        <p:spPr>
          <a:xfrm>
            <a:off x="857160" y="6573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s Supporting No V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374400" y="1539360"/>
            <a:ext cx="8569080" cy="490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otal comments from 1 No v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“Must Be Satisfi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bS)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“Must Be Satisfied” (MbS) comments Revised in initial 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on Status: Revised for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S ACCEPTED BY COM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“Must Be Satisfied” (MbS) comment Accepted in SB recirc. 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on Status: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ACCEPTED BY COMM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“Must Be Satisfied” (MbS) comment Accepted in SB recirc. 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on Status: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A5DDC3-89C4-42E2-92C6-B7E21CAB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2"/>
          <p:cNvSpPr/>
          <p:nvPr/>
        </p:nvSpPr>
        <p:spPr>
          <a:xfrm>
            <a:off x="857160" y="657360"/>
            <a:ext cx="7772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of remaining MB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 from “No” voter Pat Tha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374400" y="1905120"/>
            <a:ext cx="8569080" cy="45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-02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: The resolution of comment r01-15 was not fully appl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Change: "64-bit assigned MAC addresses" should be "64-bit local MAC addres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sition Status: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instance of the above change was miss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as been fixed and a Recirc will start prior to Oct.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vCom Submission deadline is Oct 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on: that 802.15 WG has reviewed and approves the CSD [15-13-0232-04] and requests conditional approval from the EC to submit P802.15-10/D09 (or current revision) to RevC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G vote: 28,0,0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:  He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:  Gil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5"/>
          <p:cNvSpPr/>
          <p:nvPr/>
        </p:nvSpPr>
        <p:spPr>
          <a:xfrm>
            <a:off x="7010280" y="6476760"/>
            <a:ext cx="1600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b Heile, Wi-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D1DBABD-3433-4F69-B15B-76803E51D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685800" y="38016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ctober 2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857160" y="6573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to Forward 15.10 to Rev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2T10:05:47Z</dcterms:created>
  <dc:creator>Robert F.  Heile</dc:creator>
  <dc:description>&lt;doc#&gt;</dc:description>
  <dc:language>en-US</dc:language>
  <cp:lastModifiedBy>bheile</cp:lastModifiedBy>
  <cp:lastPrinted>1998-02-10T13:28:06Z</cp:lastPrinted>
  <dcterms:modified xsi:type="dcterms:W3CDTF">2016-10-04T12:38:52Z</dcterms:modified>
  <cp:revision>466</cp:revision>
  <dc:subject>IEEE 802.15 &lt;subject&gt;</dc:subject>
  <dc:title>Sponsor Ballot Packages for TG4e/f/g and TG6</dc:title>
</cp:coreProperties>
</file>