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A60EC-F578-4848-92AD-C64ACA446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65D26-283C-4949-9F8B-63A43828FF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81D95-6C21-4FCD-9B57-53588B18D1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58AF4-FCC1-4690-A867-E83884F6D6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23BEC-B511-47E4-9FC2-3CED348E5F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DB27E-0034-4C89-B696-97431495E2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D328A-7372-4960-AA85-DB3B8B5BC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BDC74-9D0F-41C8-BD2C-BD9125E774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35D9A-5309-4030-A064-F3B20ACD3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25BF4-3460-4E17-8BF4-784FF0EF42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682E2-BCD7-4F74-97BD-427D396E7B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85263-C796-415E-A6D4-D4E21B85C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486400" y="6475320"/>
            <a:ext cx="3124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ZigBe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DFFAF96-6DBF-4B2A-B9EB-C500183D1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3809880" y="396000"/>
            <a:ext cx="464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5-13-0234-00-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Box 1"/>
          <p:cNvSpPr/>
          <p:nvPr/>
        </p:nvSpPr>
        <p:spPr>
          <a:xfrm>
            <a:off x="574920" y="3286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 Motions and Supporting Material Closing EC Meeting Agenda I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day, March 22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ibe Royale, Orlando, Flor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3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ZigBe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edule for upcoming recirculation ballot(s) and resolution meeting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92200" y="2217600"/>
          <a:ext cx="7899480" cy="3348000"/>
        </p:xfrm>
        <a:graphic>
          <a:graphicData uri="http://schemas.openxmlformats.org/drawingml/2006/table">
            <a:tbl>
              <a:tblPr/>
              <a:tblGrid>
                <a:gridCol w="4570200"/>
                <a:gridCol w="1686240"/>
                <a:gridCol w="1643040"/>
              </a:tblGrid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rculation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April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April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 resolu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April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April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C conferenc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Apr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802.15.4k-D06 draf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April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April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irculation 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April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April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C conferenc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y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t 802.15.4k package to RevC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ay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4" name="Footer Placeholder 2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ZigBe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4"/>
          <p:cNvSpPr/>
          <p:nvPr/>
        </p:nvSpPr>
        <p:spPr>
          <a:xfrm>
            <a:off x="3760200" y="6475320"/>
            <a:ext cx="169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ZigBe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 motion for 802.15.4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45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5 requests conditional approval from the EC to submit the P802.15.4k draft amendment to RevC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G vote (28, 0,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d Heile, Seconded Gi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: , No:, Abst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6312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5.4p Title Change PAR to Nes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5.4k to RevCom-cond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 Closing EC Agenda I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ZigBe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5.4p Title Change  PAR to Nes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1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ZigBe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4p Title Change  P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comment received from 802.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[PAR Item] 8.1 should only include a statement of what is being changed. i.e. 2.1 Change Title to better communicate what features are in the standard .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 something simi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2.15 Respo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ed--we will add to 8.1 the sentenc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tle is being changed to more clearly reflect and communicate the intended use of the stand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ZigBe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760200" y="6475320"/>
            <a:ext cx="169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ZigBe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 motion for 802.15.4p P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45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5 requests EC approval to submit the P802.15.4p Title change PAR to Nesc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G vote (26, 0,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d Heile, Seconded Gi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: , No:, Abst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02.15.4k to RevCom-condi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ZigBe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4"/>
          <p:cNvSpPr/>
          <p:nvPr/>
        </p:nvSpPr>
        <p:spPr>
          <a:xfrm>
            <a:off x="3760200" y="6475320"/>
            <a:ext cx="169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ZigBe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4k Ballot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24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ponsor Ballot (P802.15.4k-D03) closed 13 January 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te results (pool of 138 vo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1 responses (80% response rat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2 yes, 7 no (92% approval rat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 abstain (10% abstain rati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llot p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60 comments from 9 commen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23 marked as “Must be Satisfied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760200" y="6475320"/>
            <a:ext cx="169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ZigBe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02.15.4k Ballot Hi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7960" y="1806120"/>
            <a:ext cx="8224920" cy="46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ponsor Ballot Recirculation 1 (P802.15.4k-D04) closed 25 February 201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umulative vote results (pool of 138 voters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6 responses (84% response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yes, 3 no (97% approval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abstain (11% abstain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9 comments from 7 comment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arked as “Must be Satisfi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Resulting from comment resolution, two “No” voters have changed their votes to “Yes” leaving only one “No” vo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5.4k Comments supporting no v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2087640"/>
          <a:ext cx="8166240" cy="2917800"/>
        </p:xfrm>
        <a:graphic>
          <a:graphicData uri="http://schemas.openxmlformats.org/drawingml/2006/table">
            <a:tbl>
              <a:tblPr/>
              <a:tblGrid>
                <a:gridCol w="2811600"/>
                <a:gridCol w="3093840"/>
                <a:gridCol w="2260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posed 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tionale for Re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58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table only discusses the minimum number of PCA allocations, not the number that are actually allocate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 "The number of PCA allocations" to be "The minimum number of PCA allocation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 refers to table 00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585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es this transmission occur always at this exact time or it is allowed to start later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e "shall commence phyLECIMDSSSPPDUTxAt" to be "shall commence no earlier than phyLECIMDSSSPPDUTxAt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s is not an exact time since it is defined in symb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5816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s seems to be a useless optimization.  I don't see that it provides any measurable improvemen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lete the paragraph "Devices in a DSME-enabled .. the next higher layer.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optimization is appropriate for large networks as described in slide 13 of 15-12-0141-01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69" name="Rectangle 5"/>
          <p:cNvSpPr/>
          <p:nvPr/>
        </p:nvSpPr>
        <p:spPr>
          <a:xfrm>
            <a:off x="365040" y="1754280"/>
            <a:ext cx="82821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voter (Gilb, 3 unsatisfied Sponsor Ballot comments part of no vote, 0 unsatisfied Recirc-1 comments part of no vote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457200" y="5133960"/>
            <a:ext cx="81662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ed in comment resolution database workshee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ttps://mentor.ieee.org/802.15/dcn/13/15-13-0032-11-004k-sponsor-ballot-comments.xlsx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2"/>
          <p:cNvSpPr/>
          <p:nvPr/>
        </p:nvSpPr>
        <p:spPr>
          <a:xfrm>
            <a:off x="5486400" y="6475320"/>
            <a:ext cx="312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ZigBe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22:43:48Z</dcterms:created>
  <dc:creator>Mike McInnis</dc:creator>
  <dc:description/>
  <dc:language>en-US</dc:language>
  <cp:lastModifiedBy>bheile</cp:lastModifiedBy>
  <dcterms:modified xsi:type="dcterms:W3CDTF">2013-03-22T01:44:33Z</dcterms:modified>
  <cp:revision>289</cp:revision>
  <dc:subject/>
  <dc:title>Slide 1</dc:title>
</cp:coreProperties>
</file>