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7200"/>
            <a:ext cx="826920" cy="21348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ea typeface="Gulim"/>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5357880" y="8984880"/>
            <a:ext cx="923760" cy="5479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Gulim"/>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ea typeface="Gulim"/>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ea typeface="Gulim"/>
              </a:rPr>
              <a:t>Page </a:t>
            </a:r>
            <a:fld id="{2301A7B8-0A2A-4DA1-8909-8AC12F87CE63}"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16"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17"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11B8B0D4-3BA3-4730-914C-8359546CF109}"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54160" y="701640"/>
            <a:ext cx="4626000" cy="3468600"/>
          </a:xfrm>
          <a:prstGeom prst="rect">
            <a:avLst/>
          </a:prstGeom>
          <a:ln w="0">
            <a:noFill/>
          </a:ln>
        </p:spPr>
      </p:sp>
      <p:sp>
        <p:nvSpPr>
          <p:cNvPr id="6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70"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71"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E7299253-D6F4-4B4B-89BB-D3536A8CA2AA}"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76"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77"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DCE42D41-4364-474D-85BC-E7982B8A3B6B}"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82"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83"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E742954C-6788-407F-9341-CD29A347113E}"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88"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89"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56A61EDC-4B07-42E3-8237-E11730F0AFE7}"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94"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95"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DFFE9039-54E3-4B07-9DCD-5F56B903413E}"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22"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23"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B1371F49-771A-4AD6-AE33-16CBE3D731A2}"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54160" y="701640"/>
            <a:ext cx="4626000" cy="3468600"/>
          </a:xfrm>
          <a:prstGeom prst="rect">
            <a:avLst/>
          </a:prstGeom>
          <a:ln w="0">
            <a:noFill/>
          </a:ln>
        </p:spPr>
      </p:sp>
      <p:sp>
        <p:nvSpPr>
          <p:cNvPr id="6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28"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29"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3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8F03B45F-0934-43EB-A4B5-48EA08292E2B}"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31" name="PlaceHolder 1"/>
          <p:cNvSpPr>
            <a:spLocks noGrp="1"/>
          </p:cNvSpPr>
          <p:nvPr>
            <p:ph type="sldImg"/>
          </p:nvPr>
        </p:nvSpPr>
        <p:spPr>
          <a:xfrm>
            <a:off x="1154160" y="701640"/>
            <a:ext cx="4626000" cy="3468600"/>
          </a:xfrm>
          <a:prstGeom prst="rect">
            <a:avLst/>
          </a:prstGeom>
          <a:ln w="0">
            <a:noFill/>
          </a:ln>
        </p:spPr>
      </p:sp>
      <p:sp>
        <p:nvSpPr>
          <p:cNvPr id="6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34"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35"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0623DD2B-293A-40DE-B6E2-7D919B28FEE5}"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37" name="PlaceHolder 1"/>
          <p:cNvSpPr>
            <a:spLocks noGrp="1"/>
          </p:cNvSpPr>
          <p:nvPr>
            <p:ph type="sldImg"/>
          </p:nvPr>
        </p:nvSpPr>
        <p:spPr>
          <a:xfrm>
            <a:off x="1154160" y="701640"/>
            <a:ext cx="4626000" cy="3468600"/>
          </a:xfrm>
          <a:prstGeom prst="rect">
            <a:avLst/>
          </a:prstGeom>
          <a:ln w="0">
            <a:noFill/>
          </a:ln>
        </p:spPr>
      </p:sp>
      <p:sp>
        <p:nvSpPr>
          <p:cNvPr id="6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40"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41"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CA2878E5-B2FC-48E5-A869-EF7332237CD3}"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43" name="PlaceHolder 1"/>
          <p:cNvSpPr>
            <a:spLocks noGrp="1"/>
          </p:cNvSpPr>
          <p:nvPr>
            <p:ph type="sldImg"/>
          </p:nvPr>
        </p:nvSpPr>
        <p:spPr>
          <a:xfrm>
            <a:off x="1154160" y="701640"/>
            <a:ext cx="4626000" cy="3468600"/>
          </a:xfrm>
          <a:prstGeom prst="rect">
            <a:avLst/>
          </a:prstGeom>
          <a:ln w="0">
            <a:noFill/>
          </a:ln>
        </p:spPr>
      </p:sp>
      <p:sp>
        <p:nvSpPr>
          <p:cNvPr id="6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46"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47"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75659565-3FDE-4366-A7E5-D5FE7659599F}"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49" name="PlaceHolder 1"/>
          <p:cNvSpPr>
            <a:spLocks noGrp="1"/>
          </p:cNvSpPr>
          <p:nvPr>
            <p:ph type="sldImg"/>
          </p:nvPr>
        </p:nvSpPr>
        <p:spPr>
          <a:xfrm>
            <a:off x="1154160" y="701640"/>
            <a:ext cx="4626000" cy="3468600"/>
          </a:xfrm>
          <a:prstGeom prst="rect">
            <a:avLst/>
          </a:prstGeom>
          <a:ln w="0">
            <a:noFill/>
          </a:ln>
        </p:spPr>
      </p:sp>
      <p:sp>
        <p:nvSpPr>
          <p:cNvPr id="6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52"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53"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D19843D3-709F-4A89-9197-5881292F2CE5}"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55" name="PlaceHolder 1"/>
          <p:cNvSpPr>
            <a:spLocks noGrp="1"/>
          </p:cNvSpPr>
          <p:nvPr>
            <p:ph type="sldImg"/>
          </p:nvPr>
        </p:nvSpPr>
        <p:spPr>
          <a:xfrm>
            <a:off x="1154160" y="701640"/>
            <a:ext cx="4626000" cy="3468600"/>
          </a:xfrm>
          <a:prstGeom prst="rect">
            <a:avLst/>
          </a:prstGeom>
          <a:ln w="0">
            <a:noFill/>
          </a:ln>
        </p:spPr>
      </p:sp>
      <p:sp>
        <p:nvSpPr>
          <p:cNvPr id="6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58"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59"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FBCCCA70-1697-4C5F-9428-DB1FAA361DBC}"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doc.: IEEE 802.11-11/0997r0</a:t>
            </a:r>
            <a:endParaRPr b="0" lang="en-US" sz="1400" spc="-1" strike="noStrike">
              <a:solidFill>
                <a:srgbClr val="000000"/>
              </a:solidFill>
              <a:latin typeface="Times New Roman"/>
            </a:endParaRPr>
          </a:p>
        </p:txBody>
      </p:sp>
      <p:sp>
        <p:nvSpPr>
          <p:cNvPr id="664"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Gulim"/>
              </a:rPr>
              <a:t>July 20111</a:t>
            </a:r>
            <a:endParaRPr b="0" lang="en-US" sz="1400" spc="-1" strike="noStrike">
              <a:solidFill>
                <a:srgbClr val="000000"/>
              </a:solidFill>
              <a:latin typeface="Times New Roman"/>
            </a:endParaRPr>
          </a:p>
        </p:txBody>
      </p:sp>
      <p:sp>
        <p:nvSpPr>
          <p:cNvPr id="665"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Jon Rosdahl, CSR</a:t>
            </a:r>
            <a:endParaRPr b="0" lang="en-US" sz="1200" spc="-1" strike="noStrike">
              <a:solidFill>
                <a:srgbClr val="000000"/>
              </a:solidFill>
              <a:latin typeface="Times New Roman"/>
            </a:endParaRPr>
          </a:p>
        </p:txBody>
      </p:sp>
      <p:sp>
        <p:nvSpPr>
          <p:cNvPr id="6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Gulim"/>
              </a:rPr>
              <a:t>Page </a:t>
            </a:r>
            <a:fld id="{D7EE8F2E-2422-4AEB-8589-57D67C6896EC}"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67" name="PlaceHolder 1"/>
          <p:cNvSpPr>
            <a:spLocks noGrp="1"/>
          </p:cNvSpPr>
          <p:nvPr>
            <p:ph type="sldImg"/>
          </p:nvPr>
        </p:nvSpPr>
        <p:spPr>
          <a:xfrm>
            <a:off x="1154160" y="701640"/>
            <a:ext cx="4626000" cy="3468600"/>
          </a:xfrm>
          <a:prstGeom prst="rect">
            <a:avLst/>
          </a:prstGeom>
          <a:ln w="0">
            <a:noFill/>
          </a:ln>
        </p:spPr>
      </p:sp>
      <p:sp>
        <p:nvSpPr>
          <p:cNvPr id="6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ko-KR" sz="1200" spc="-1" strike="noStrike">
              <a:solidFill>
                <a:srgbClr val="000000"/>
              </a:solidFill>
              <a:latin typeface="Times New Roman"/>
              <a:ea typeface="Malgun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9804B-4BFB-4BAE-9305-49C580DDB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88B84-6E92-4A99-9131-C9050BC0D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504CDC-02B8-45FB-B591-57E4CFB147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AFD260-D78E-4222-99A3-B8AC7EFAC3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CF2CD5-8598-4E85-9E94-BD9A152A50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AE041C-39D4-4CA2-B97E-79EE8B478A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2C89C-FB11-4D1D-9F97-391A19BF01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D2FF1F-6BE2-4782-82CA-F1F5623EF7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EC1CBC-A5FB-40E5-B49B-369E5FA517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B1C042-F6B3-4AAA-835B-4150DB6CC9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96609A-0C12-4673-B2AE-7382E0ADE3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8CB2A5A-5383-494C-BDA7-2F148B00C9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8D0B7-99F8-471A-8CC8-A7D248BB8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858E3EB-841A-49DB-B96B-9C7B456978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FEF3C-E5A6-4FB0-A49C-2B35FD606B8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8F82A4D-8CE1-4960-98C9-06110F0DAB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F019F4-A982-4D45-A18A-A83A2F82DF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ECD8AF0-4DD6-4DCC-AC0B-27BF2A316B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F38839-CD26-420F-9A66-B88DA2F271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069A79-A6C6-48D5-B16B-29F8F8074A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A6309F-2F5E-4DC0-9D00-8B7BA6EB7F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A2F9A3C-937D-4CB2-B1AC-C9B5A0E72F9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03F80A6-E7B6-423C-8DE4-69F0262A55B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72C5D-338A-40D0-BE11-B3C319EB65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E7EF1FC-ADE6-434C-8432-093AA83D3E5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098273D-72F4-427E-9FD9-3EF303CD66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43E2C2-04AB-4B4A-8462-FB96BC0A59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CE2F0E-E648-4150-AC3B-5AF6D4C26CA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7314812-25A7-4472-A30B-20273DC6D2B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5AF087-5A55-4668-9B1E-973CB60CCE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23AB40-3984-4A69-BD21-685705EA58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5CE809-8736-4353-BBDF-1DBC2FEEB3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A43797-06B4-4CA6-967F-194E21985B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A31A68-22AA-4872-8227-41A94A40D8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EF48A6-1AB4-4BD7-A649-3D1D5B62B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C3FA75D-5B63-43A7-A1BC-D849EBB034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46F7E9-0AD2-4B7D-838A-183FE6A4C5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751669-40A7-42DF-B610-78A0F1226B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A279DD-4FB8-4FF9-9315-6868C12DAD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77DE6A-968F-43CE-96F4-41FB8C5B249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06D61D0-B4DA-4708-87F5-844D3BE88DC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72984C7-BC49-4818-B933-B179314A55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494B415-8727-4F5A-9C4B-FDE6C1CDD8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AF99C30-527C-4276-A5F0-2DD05A9B3F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14CA11-672B-4466-8EFC-09F59CD1212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CE6E52-F36E-4D70-9006-3771FC72D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CE50F8-69B0-4383-AF8E-AB6B6ADDE3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C44B9F-E6B7-40FB-A0E1-E411325DBD0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C6E64E-3CEE-47E3-9A98-4425F5E1F9E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114075-B28E-48C4-986C-1ABF31540DB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1FC2A76-21A8-4204-AC0B-120DDE0BD7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8C44D-08D7-472E-AC8D-D15C9ED4B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A1378C-8D1F-4B64-AD57-940420CAB8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7D8DB-CF8D-4D27-8908-794B73933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4E174-C658-4DE1-9598-2CA2E7DE1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4580C-08F1-4A86-9829-B41FE23E9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26553-56F6-474C-9661-08352909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D8ABC-BDAC-41E7-AA1C-4019AF7C8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E9273-092D-45AD-9EDC-7686F15D9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4AD33-A9FC-4B2E-85D0-A72DD19CA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422EF-9C0A-47DE-9ECF-2A0FDE624F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17EF4C-B808-4440-BA6E-15E8055B04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B38BA5-5C78-46CE-8DAD-3B75219C9A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BF5C3E-B402-43C4-8844-E79AF9E38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053CD-0701-400E-9244-DDCE43B6D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169D29-8A29-43E1-8D24-FDB1DEB66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A96412-0FAB-4B58-AAB9-E28B5E33F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90CC0-1B15-45E9-B687-D119BCA1B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4B584C-F5E9-445E-9A37-AB93F70B54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54A34E-221D-46AA-90F8-FB0125AAC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83C08-1673-4698-ABD0-A9072A12A3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2AEBCE-83FC-4C86-BB8D-82473E10F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5BA94E-5DAF-4941-8E6A-7DE6EE0E9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35ABA8-F0DD-4CAD-B68D-3769619984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99D1F2-DD2E-450E-8702-4B5861183D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ED11A9-43BD-453E-89E7-0B6C41003D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47D4F0-C68A-4631-95E0-CB8934F73E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E7343-5D1B-4824-944A-86D8A7A37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B5644-910C-42C7-A146-D2BA30E5F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C5285D-95C9-4ED6-8217-100C7E3F5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6D3FE-B6E8-49F6-AF5E-97F8EDCD31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577CFA-5D56-4FD5-8A8D-4EFC84DD1D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C06D17-1F90-45EB-B44F-F1126CB6D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A11EB-CB20-45A1-A939-526DE32CC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F00C91-EAF8-4834-B75D-3EC031AB6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C4B46-DF6A-4703-8F26-FCF940C836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A9B82-305F-4D99-9221-260AB48C3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016FF9-2B46-4064-90B7-EA8B444D82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5CAD80-B1F5-41F8-81C6-38DE725352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E362E-9597-4A91-AA43-14256EBE8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DBA70-B489-4AB5-ADAD-3B1DBB565C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5B46A-758C-4595-B9AD-3C23E8ECFC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8CD7B7-CF7B-4104-BECB-D1AEC520CE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407C4-AD13-437A-A615-833219C04F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9B6A22-66B1-4ECB-A4EA-0D3E49CC7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6F9D61-0114-49E7-8E91-FA70E9FEAE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D63D7-C2D8-48E3-83B7-9F5EE0767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505D99-BDD5-4D7F-B7FD-8A67363AD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08903-23C4-4E3C-9443-AE3754576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8557AC-A35D-4178-8D81-5C2BAAFE41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4EFD3-6154-43B0-8FCC-8AB79E3D3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CF7182-72CA-4275-83CA-29848538C6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9D48FD-3447-4C69-8114-73D90E3BF7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903AC1-5409-4191-B11F-EC067B81A9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DAEFD6-0276-4A43-B221-1D8B5F347B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B40F4-B296-44A0-8469-0C903261F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FD0DE-1E08-4EB8-888C-FCEAAEE74E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958BF-0A8F-4A4D-ACB9-614EC80828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1762B0-ACB1-4847-83F6-DF35B00E89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72FBE6-2D60-447A-84DE-684F612AC0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78E86-C67F-4A4B-AD77-6688F48C7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5550B-1354-4C17-8516-9497C387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D25B7C-7D57-47EC-9C2D-FD93F00B2D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4E8887-F293-4DB9-B9D5-B86A5C6A97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973AE4-0088-4667-B1EC-40A1FB05AA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266604-BABF-429C-9242-D02A3692D4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F31C4F-6A87-4644-995F-0AD88D6BF4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2A83D5-2B33-4E15-872E-57C9EAE7C6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D23F0-0489-4157-8F7F-B1DB73D7A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8C5F8-782E-4CD6-9E9E-7AEED87A64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F9DC66-0FF8-405D-9EF3-5CD86A40B3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7FE67A-EC24-4923-ABD1-DB02AA394A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07498-42A7-4BAB-931C-16C9D1836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94A289-137D-4707-9A90-413B13B63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2D78F-4BDE-4671-AEA9-DE1ADF236B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1085F8-EC87-4357-9D52-C7B87EDB81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6FCEB4-3123-4F6D-9FA0-3E8678A7EB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D7E1CA-3267-4B41-8049-D0086B4CC5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955A8B-B460-47AA-8DF7-5A9AB54F05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7C7654-F16F-46BE-BBFE-D3ED3DF8A4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0DD60-961D-4E49-8E74-71C92982F7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A4D11D-22E3-4233-853E-B4E24E45C6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E4424D-AEEC-4558-9405-A45E861359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342C7-53AC-4A75-B93F-BC5AE8FB6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A5438-865F-4902-ADE4-5448AECF56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A5E16E-6072-4258-A602-EA11F1EC4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BBA2F6-9269-4D68-ADE0-D1C6960A8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517CFC-FE41-4128-A482-60328B29E5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79D71F-7210-4CE6-A896-7ED5557C85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DDB4A2-EDE6-448D-B586-25386422D4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B3222C-8835-44AA-96FD-B441542A9FD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A17C40-ACC8-4711-98F4-18260DF4EA2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769659-3007-40FA-9040-887BF86EB2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8E1650-E88D-4C38-A9A6-1FB4EAD4F2D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E4022157-09DD-43D6-83EF-943E73054332}"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2AC86CD8-760D-49CC-A6D1-C8EDBCEE073A}"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701CBE07-F821-4AF8-BF70-4E5B3D767CAB}"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9B50C257-2570-4907-A3A9-57778B6BE0EE}"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63F060D8-BB49-4B81-A85D-706740C4BEF7}"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5307D6B0-FC3E-4C02-A20D-8ADFB51F64CE}"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B9FCC488-3EC8-47EE-A8A5-40205EF69CC7}"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3CF935A8-73E0-4614-AA1C-81AD7F4DCF54}"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EDC4BBE9-6807-4104-854B-C132ACF989C5}"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46FDDE4A-5D70-44AB-B816-D4C4C961CBAF}"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38E52A90-BDDA-4E7F-9066-7337486BAE92}"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doc.: IEEE 802.15-11/0529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4440"/>
            <a:ext cx="1066680" cy="2746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ea typeface="Gulim"/>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angSung Choi(ETRI)</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Gulim"/>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Gulim"/>
              </a:rPr>
              <a:t>Slide </a:t>
            </a:r>
            <a:fld id="{960CB949-8210-4BEB-BAFC-2BCB3FA323C8}" type="slidenum">
              <a:rPr b="0" lang="en-US" sz="2400" spc="-1" strike="noStrike">
                <a:solidFill>
                  <a:srgbClr val="000000"/>
                </a:solidFill>
                <a:latin typeface="Times New Roman"/>
                <a:ea typeface="Gulim"/>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51"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52"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D9B61DC8-88B3-46D5-8018-A0AE0493C325}"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685800" y="1981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802.11 comments on Pending 802 PARs – July 2011</a:t>
            </a:r>
            <a:endParaRPr b="1" lang="en-US" sz="2400" spc="-1" strike="noStrike">
              <a:solidFill>
                <a:srgbClr val="000000"/>
              </a:solidFill>
              <a:latin typeface="Times New Roman"/>
            </a:endParaRPr>
          </a:p>
        </p:txBody>
      </p:sp>
      <p:sp>
        <p:nvSpPr>
          <p:cNvPr id="554" name="PlaceHolder 2"/>
          <p:cNvSpPr>
            <a:spLocks noGrp="1"/>
          </p:cNvSpPr>
          <p:nvPr>
            <p:ph/>
          </p:nvPr>
        </p:nvSpPr>
        <p:spPr>
          <a:xfrm>
            <a:off x="685800" y="3733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Date:</a:t>
            </a:r>
            <a:r>
              <a:rPr b="0" lang="en-US" sz="2000" spc="-1" strike="noStrike">
                <a:solidFill>
                  <a:srgbClr val="000000"/>
                </a:solidFill>
                <a:latin typeface="Times New Roman"/>
                <a:ea typeface="Gulim"/>
              </a:rPr>
              <a:t> 2011-07-19</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91"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92"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82C513CC-EAF2-43D5-9376-C9C2B20FC92D}"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762120" y="1371600"/>
            <a:ext cx="77724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6.  In Section 4b of the 5C please change "technology" to "802.15.4 technology.“</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The use of the word technology was meant to refer to TVWS technology.  Statement has been changed to clarify</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7.  In the Compatibility section of the 5C please include text as to how 802.15.4m will enhance compatibility with the upcoming 802.19.1 standard</a:t>
            </a:r>
            <a:br>
              <a:rPr sz="2000"/>
            </a:b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Not sure what is being requested or how to respond.  802.19 has been asked to provide suggested text for the Study Group to consider</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95"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96"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4EDC870F-E22B-44C8-955B-9B8F4F94F4C6}"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97" name="PlaceHolder 1"/>
          <p:cNvSpPr>
            <a:spLocks noGrp="1"/>
          </p:cNvSpPr>
          <p:nvPr>
            <p:ph type="title"/>
          </p:nvPr>
        </p:nvSpPr>
        <p:spPr>
          <a:xfrm>
            <a:off x="685800" y="1981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802.22 comments on Pending 802 PARs – July 2011</a:t>
            </a:r>
            <a:endParaRPr b="1" lang="en-US" sz="2400" spc="-1" strike="noStrike">
              <a:solidFill>
                <a:srgbClr val="000000"/>
              </a:solidFill>
              <a:latin typeface="Times New Roman"/>
            </a:endParaRPr>
          </a:p>
        </p:txBody>
      </p:sp>
      <p:sp>
        <p:nvSpPr>
          <p:cNvPr id="598" name="PlaceHolder 2"/>
          <p:cNvSpPr>
            <a:spLocks noGrp="1"/>
          </p:cNvSpPr>
          <p:nvPr>
            <p:ph/>
          </p:nvPr>
        </p:nvSpPr>
        <p:spPr>
          <a:xfrm>
            <a:off x="685800" y="3733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Date:</a:t>
            </a:r>
            <a:r>
              <a:rPr b="0" lang="en-US" sz="2000" spc="-1" strike="noStrike">
                <a:solidFill>
                  <a:srgbClr val="000000"/>
                </a:solidFill>
                <a:latin typeface="Times New Roman"/>
                <a:ea typeface="Gulim"/>
              </a:rPr>
              <a:t> 2011-07-19</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600" name="Footer Placeholder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6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B5597CA1-23C1-482F-BD62-4F47CEBC1C38}"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02"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802.15.4m PAR</a:t>
            </a:r>
            <a:endParaRPr b="1" lang="en-US" sz="3200" spc="-1" strike="noStrike">
              <a:solidFill>
                <a:srgbClr val="000000"/>
              </a:solidFill>
              <a:latin typeface="Times New Roman"/>
            </a:endParaRPr>
          </a:p>
        </p:txBody>
      </p:sp>
      <p:sp>
        <p:nvSpPr>
          <p:cNvPr id="603" name="PlaceHolder 2"/>
          <p:cNvSpPr>
            <a:spLocks noGrp="1"/>
          </p:cNvSpPr>
          <p:nvPr>
            <p:ph/>
          </p:nvPr>
        </p:nvSpPr>
        <p:spPr>
          <a:xfrm>
            <a:off x="685800" y="1143000"/>
            <a:ext cx="7772400" cy="4495680"/>
          </a:xfrm>
          <a:prstGeom prst="rect">
            <a:avLst/>
          </a:prstGeom>
          <a:noFill/>
          <a:ln w="0">
            <a:noFill/>
          </a:ln>
        </p:spPr>
        <p:txBody>
          <a:bodyPr lIns="92160" rIns="92160" tIns="46080" bIns="46080" anchor="t">
            <a:normAutofit fontScale="95000"/>
          </a:bodyPr>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2 Scope: </a:t>
            </a:r>
            <a:endParaRPr b="1"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The scope should indicate the extent of the range expected for these devices (e.g., from 802.11ah PAR Scope: “ … support for transmission range up to 1 km.”.</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The TV White Space regulatory requirements are not limited to the PHY layer aspects.  The new PHY layer and the necessary MAC layer changes needed to support this PHY layer might not be sufficient to meet these requirements. For example, the scope should include indications as to how the project will address the way these devices are to access the incumbent database.</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Times New Roman"/>
                <a:ea typeface="Gulim"/>
              </a:rPr>
              <a:t>Response: No change is recommended.  On the range comment, part of the advantage of TVWS is range and we are not seeking to establish a limit as long as the overall needs of command and control application can be met. </a:t>
            </a:r>
            <a:r>
              <a:rPr b="1" lang="en-US" sz="1600" spc="-1" strike="noStrike">
                <a:solidFill>
                  <a:srgbClr val="00b0f0"/>
                </a:solidFill>
                <a:latin typeface="Times New Roman"/>
              </a:rPr>
              <a:t>How connectivity to the incumbent databases is handled is being addressed by other groups such as PAWS in IETF. By definition “meeting regulatory requirements” indicates these issues will be addressed</a:t>
            </a:r>
            <a:endParaRPr b="1"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5800" indent="-3258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4 Purpose: </a:t>
            </a:r>
            <a:endParaRPr b="1"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The sentence should indicate the network topology envisaged to realize the stated “large scale … applications”.</a:t>
            </a:r>
            <a:endParaRPr b="0" lang="en-US" sz="1600" spc="-1" strike="noStrike">
              <a:solidFill>
                <a:srgbClr val="000000"/>
              </a:solidFill>
              <a:latin typeface="Times New Roman"/>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f0"/>
                </a:solidFill>
                <a:latin typeface="Times New Roman"/>
                <a:ea typeface="Gulim"/>
              </a:rPr>
              <a:t>Response: Following a suggestion from 802.11 the Purpose Statement has been removed per current IEEE SA guidance on amendment PARs</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Date Placeholder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605" name="Footer Placeholder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60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0A578539-35B2-4825-BA78-C8C31E5BCC8E}"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802.15.4m 5C</a:t>
            </a:r>
            <a:endParaRPr b="1" lang="en-US" sz="3200" spc="-1" strike="noStrike">
              <a:solidFill>
                <a:srgbClr val="000000"/>
              </a:solidFill>
              <a:latin typeface="Times New Roman"/>
            </a:endParaRPr>
          </a:p>
        </p:txBody>
      </p:sp>
      <p:sp>
        <p:nvSpPr>
          <p:cNvPr id="608" name="PlaceHolder 2"/>
          <p:cNvSpPr>
            <a:spLocks noGrp="1"/>
          </p:cNvSpPr>
          <p:nvPr>
            <p:ph/>
          </p:nvPr>
        </p:nvSpPr>
        <p:spPr>
          <a:xfrm>
            <a:off x="609120" y="1371600"/>
            <a:ext cx="8001000" cy="45720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1. Broad Market Potential:</a:t>
            </a:r>
            <a:endParaRPr b="1"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c) balanced costs</a:t>
            </a:r>
            <a:endParaRPr b="0" lang="en-US" sz="1600" spc="-1" strike="noStrike">
              <a:solidFill>
                <a:srgbClr val="000000"/>
              </a:solidFill>
              <a:latin typeface="Times New Roman"/>
            </a:endParaRPr>
          </a:p>
          <a:p>
            <a:pPr lvl="2" marL="109728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It is premature to refer to “known implementations of other TV White Space devices” since there are no devices that have been certified by regulators and no operational deployment in existence.</a:t>
            </a:r>
            <a:endParaRPr b="0" lang="en-US" sz="1600" spc="-1" strike="noStrike">
              <a:solidFill>
                <a:srgbClr val="000000"/>
              </a:solidFill>
              <a:latin typeface="Times New Roman"/>
            </a:endParaRPr>
          </a:p>
          <a:p>
            <a:pPr lvl="2" marL="1097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Agreed. Statement has been modified to reflect this.</a:t>
            </a:r>
            <a:endParaRPr b="0" lang="en-US" sz="1600" spc="-1" strike="noStrike">
              <a:solidFill>
                <a:srgbClr val="000000"/>
              </a:solidFill>
              <a:latin typeface="Times New Roman"/>
            </a:endParaRPr>
          </a:p>
          <a:p>
            <a:pPr lvl="2" marL="1097280" indent="-21924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Incumbent database access and geolocation requirements to operate in the TV White Space should be taken into account in the cost of the devices.</a:t>
            </a:r>
            <a:endParaRPr b="0" lang="en-US" sz="1600" spc="-1" strike="noStrike">
              <a:solidFill>
                <a:srgbClr val="000000"/>
              </a:solidFill>
              <a:latin typeface="Times New Roman"/>
            </a:endParaRPr>
          </a:p>
          <a:p>
            <a:pPr lvl="2" marL="10972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A reference has been added to the Balanced Cost Statement taking this into account.</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2. Compatibility</a:t>
            </a:r>
            <a:endParaRPr b="1"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Please, refer to comment related to 4a) on next slide.</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3. Distinct Identify</a:t>
            </a:r>
            <a:endParaRPr b="1" lang="en-US" sz="1600" spc="-1" strike="noStrike">
              <a:solidFill>
                <a:srgbClr val="000000"/>
              </a:solidFill>
              <a:latin typeface="Times New Roman"/>
            </a:endParaRPr>
          </a:p>
          <a:p>
            <a:pPr lvl="1" marL="713160" indent="-2743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a) The existing 802.22-2011 can accommodate the same application space in terms of data rate although this standard has not been designed for short range WPAN applications. However the stated applications specific to command and control and low cost and very low power devices are distinct.</a:t>
            </a:r>
            <a:endParaRPr b="0" lang="en-US" sz="1600" spc="-1" strike="noStrike">
              <a:solidFill>
                <a:srgbClr val="000000"/>
              </a:solidFill>
              <a:latin typeface="Times New Roman"/>
            </a:endParaRPr>
          </a:p>
          <a:p>
            <a:pPr lvl="1" marL="713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Yes, we agree. The stated applications specific to command and control and low cost and very low power devices are distin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61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653491BE-275D-4D7A-8199-3222DC83F9F4}"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11" name="PlaceHolder 1"/>
          <p:cNvSpPr>
            <a:spLocks noGrp="1"/>
          </p:cNvSpPr>
          <p:nvPr>
            <p:ph/>
          </p:nvPr>
        </p:nvSpPr>
        <p:spPr>
          <a:xfrm>
            <a:off x="685800" y="761760"/>
            <a:ext cx="7772400" cy="4724280"/>
          </a:xfrm>
          <a:prstGeom prst="rect">
            <a:avLst/>
          </a:prstGeom>
          <a:noFill/>
          <a:ln w="0">
            <a:noFill/>
          </a:ln>
        </p:spPr>
        <p:txBody>
          <a:bodyPr lIns="92160" rIns="92160" tIns="46080" bIns="46080" anchor="t">
            <a:normAutofit fontScale="86000"/>
          </a:bodyPr>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4. Technical Feasibility</a:t>
            </a:r>
            <a:endParaRPr b="1" lang="en-US" sz="1800" spc="-1" strike="noStrike">
              <a:solidFill>
                <a:srgbClr val="000000"/>
              </a:solidFill>
              <a:latin typeface="Times New Roman"/>
            </a:endParaRPr>
          </a:p>
          <a:p>
            <a:pPr lvl="1" marL="639000" indent="-245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 Please refer to the comment under section 1c) on the previous slide. Also, the fact that 802.15 devices use a 64-bit MAC address will increase the complexity for accessing the incumbent database over the Internet which typically uses 48-bit MAC addresses.  There is no known 802.1 routing mechanism to translate between 64-bit and 48-bit address realms.</a:t>
            </a:r>
            <a:endParaRPr b="0" lang="en-US" sz="1800" spc="-1" strike="noStrike">
              <a:solidFill>
                <a:srgbClr val="000000"/>
              </a:solidFill>
              <a:latin typeface="Times New Roman"/>
            </a:endParaRPr>
          </a:p>
          <a:p>
            <a:pPr lvl="1" marL="639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Times New Roman"/>
                <a:ea typeface="Gulim"/>
              </a:rPr>
              <a:t>Response: Disagree. 802.15.4 command and control systems routinely connect to the Internet today without difficulty</a:t>
            </a:r>
            <a:endParaRPr b="0" lang="en-US" sz="1800" spc="-1" strike="noStrike">
              <a:solidFill>
                <a:srgbClr val="000000"/>
              </a:solidFill>
              <a:latin typeface="Times New Roman"/>
            </a:endParaRPr>
          </a:p>
          <a:p>
            <a:pPr lvl="1" marL="639000" indent="-245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b) Should refer to: “The </a:t>
            </a:r>
            <a:r>
              <a:rPr b="1" lang="en-US" sz="1800" spc="-1" strike="noStrike" u="sng">
                <a:solidFill>
                  <a:srgbClr val="000000"/>
                </a:solidFill>
                <a:uFillTx/>
                <a:latin typeface="Times New Roman"/>
                <a:ea typeface="Gulim"/>
              </a:rPr>
              <a:t>802.15</a:t>
            </a:r>
            <a:r>
              <a:rPr b="0" lang="en-US" sz="1800" spc="-1" strike="noStrike">
                <a:solidFill>
                  <a:srgbClr val="000000"/>
                </a:solidFill>
                <a:latin typeface="Times New Roman"/>
                <a:ea typeface="Gulim"/>
              </a:rPr>
              <a:t> technology” </a:t>
            </a:r>
            <a:r>
              <a:rPr b="0" lang="en-US" sz="1800" spc="-1" strike="noStrike">
                <a:solidFill>
                  <a:srgbClr val="00b0f0"/>
                </a:solidFill>
                <a:latin typeface="Times New Roman"/>
                <a:ea typeface="Gulim"/>
              </a:rPr>
              <a:t>Response:  The use of the word technology was meant to refer to TVWS technology.  Statement has been changed to clarify</a:t>
            </a:r>
            <a:endParaRPr b="0" lang="en-US" sz="1800" spc="-1" strike="noStrike">
              <a:solidFill>
                <a:srgbClr val="000000"/>
              </a:solidFill>
              <a:latin typeface="Times New Roman"/>
            </a:endParaRPr>
          </a:p>
          <a:p>
            <a:pPr lvl="1" marL="639000" indent="-245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c) Note that the reliability will be affected by the use of the spectrum by the incumbents.  This may result in different system reliability than previously experienced by 802.15.4 in other bands.</a:t>
            </a:r>
            <a:endParaRPr b="0" lang="en-US" sz="1800" spc="-1" strike="noStrike">
              <a:solidFill>
                <a:srgbClr val="000000"/>
              </a:solidFill>
              <a:latin typeface="Times New Roman"/>
            </a:endParaRPr>
          </a:p>
          <a:p>
            <a:pPr lvl="1" marL="639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Times New Roman"/>
                <a:ea typeface="Gulim"/>
              </a:rPr>
              <a:t>Response: Ok, and noted.</a:t>
            </a:r>
            <a:endParaRPr b="0" lang="en-US" sz="1800" spc="-1" strike="noStrike">
              <a:solidFill>
                <a:srgbClr val="000000"/>
              </a:solidFill>
              <a:latin typeface="Times New Roman"/>
            </a:endParaRPr>
          </a:p>
          <a:p>
            <a:pPr marL="294840" indent="-294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5. Economic feasibility</a:t>
            </a:r>
            <a:endParaRPr b="1" lang="en-US" sz="1800" spc="-1" strike="noStrike">
              <a:solidFill>
                <a:srgbClr val="000000"/>
              </a:solidFill>
              <a:latin typeface="Times New Roman"/>
            </a:endParaRPr>
          </a:p>
          <a:p>
            <a:pPr lvl="1" marL="639000" indent="-2455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b) TV White Space devices will have to accommodate database access and geolocation requirements which will likely imply cost not experienced by the existing 802.15 devices.</a:t>
            </a:r>
            <a:endParaRPr b="0" lang="en-US" sz="1800" spc="-1" strike="noStrike">
              <a:solidFill>
                <a:srgbClr val="000000"/>
              </a:solidFill>
              <a:latin typeface="Times New Roman"/>
            </a:endParaRPr>
          </a:p>
          <a:p>
            <a:pPr lvl="1" marL="639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Times New Roman"/>
                <a:ea typeface="Gulim"/>
              </a:rPr>
              <a:t>Response: Noted. Statement has been updated to reflect.</a:t>
            </a:r>
            <a:endParaRPr b="0" lang="en-US" sz="1800" spc="-1" strike="noStrike">
              <a:solidFill>
                <a:srgbClr val="000000"/>
              </a:solidFill>
              <a:latin typeface="Times New Roman"/>
            </a:endParaRPr>
          </a:p>
        </p:txBody>
      </p:sp>
      <p:sp>
        <p:nvSpPr>
          <p:cNvPr id="612" name="날짜 개체 틀 6"/>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613" name="슬라이드 번호 개체 틀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21D83AC8-F9FF-41C5-9699-755CBE30D834}"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614" name="바닥글 개체 틀 8"/>
          <p:cNvSpPr/>
          <p:nvPr/>
        </p:nvSpPr>
        <p:spPr>
          <a:xfrm>
            <a:off x="7611480" y="64771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56"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57"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9CB52F25-BD86-4DE2-AECC-30466697066B}"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58" name="PlaceHolder 1"/>
          <p:cNvSpPr>
            <a:spLocks noGrp="1"/>
          </p:cNvSpPr>
          <p:nvPr>
            <p:ph/>
          </p:nvPr>
        </p:nvSpPr>
        <p:spPr>
          <a:xfrm>
            <a:off x="762120" y="1447920"/>
            <a:ext cx="7772400" cy="449568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2 Scope: </a:t>
            </a:r>
            <a:endParaRPr b="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Which Regulatory Domains are you planning to address? </a:t>
            </a:r>
            <a:r>
              <a:rPr b="0" lang="en-US" sz="1600" spc="-1" strike="noStrike">
                <a:solidFill>
                  <a:srgbClr val="00b0f0"/>
                </a:solidFill>
                <a:latin typeface="Times New Roman"/>
                <a:ea typeface="Gulim"/>
              </a:rPr>
              <a:t>Response:  As many as is practical. The command and control issues are global in nature so it is desired to serve as many markets as possible. A reference to that is now included in the scope.</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Which coexistence set will you use? </a:t>
            </a:r>
            <a:r>
              <a:rPr b="0" lang="en-US" sz="1600" spc="-1" strike="noStrike">
                <a:solidFill>
                  <a:srgbClr val="00b0f0"/>
                </a:solidFill>
                <a:latin typeface="Times New Roman"/>
                <a:ea typeface="Gulim"/>
              </a:rPr>
              <a:t>Response: Assuming this is referring to Primary v. Secondary that will be determined by what Regulatory domains can be practically addressed</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How will you address which database access will be used?</a:t>
            </a:r>
            <a:r>
              <a:rPr b="0" lang="en-US" sz="1600" spc="-1" strike="noStrike">
                <a:solidFill>
                  <a:srgbClr val="00b0f0"/>
                </a:solidFill>
                <a:latin typeface="Times New Roman"/>
                <a:ea typeface="Gulim"/>
              </a:rPr>
              <a:t> Response: Can not be determined at this stage</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What is the approach that will be used to securely access the Geolocation database? (Note it will be different from country to country). </a:t>
            </a:r>
            <a:r>
              <a:rPr b="0" lang="en-US" sz="1600" spc="-1" strike="noStrike">
                <a:solidFill>
                  <a:srgbClr val="00b0f0"/>
                </a:solidFill>
                <a:latin typeface="Times New Roman"/>
                <a:ea typeface="Gulim"/>
              </a:rPr>
              <a:t>Response: We expect that will be determined during draft development.</a:t>
            </a:r>
            <a:endParaRPr b="0"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Suggested Scope: This amendment specifies a physical layer for 802.15.4 meeting TV white space regulatory requirements in “X”, “Y” and “Z”.  MAC changes required to support this physical layer are also described.  This amendment enables operation in the white spaces of the TV Bands while supporting data rates in the 40 kbits per second to 2000 kbits per second range.  This amendment targets power efficient device command and control applications. </a:t>
            </a:r>
            <a:r>
              <a:rPr b="0" lang="en-US" sz="1600" spc="-1" strike="noStrike">
                <a:solidFill>
                  <a:srgbClr val="00b0f0"/>
                </a:solidFill>
                <a:latin typeface="Times New Roman"/>
                <a:ea typeface="Gulim"/>
              </a:rPr>
              <a:t>Response:  Scope has been modified to reflect something similar. </a:t>
            </a:r>
            <a:endParaRPr b="0" lang="en-US" sz="1600" spc="-1" strike="noStrike">
              <a:solidFill>
                <a:srgbClr val="000000"/>
              </a:solidFill>
              <a:latin typeface="Times New Roman"/>
            </a:endParaRPr>
          </a:p>
        </p:txBody>
      </p:sp>
      <p:sp>
        <p:nvSpPr>
          <p:cNvPr id="559"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802.15.4m PAR</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61"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62"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6E9546D9-1254-4A5D-8811-25DD427F5A19}"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63" name="PlaceHolder 1"/>
          <p:cNvSpPr>
            <a:spLocks noGrp="1"/>
          </p:cNvSpPr>
          <p:nvPr>
            <p:ph/>
          </p:nvPr>
        </p:nvSpPr>
        <p:spPr>
          <a:xfrm>
            <a:off x="685800" y="838080"/>
            <a:ext cx="7772400" cy="5486400"/>
          </a:xfrm>
          <a:prstGeom prst="rect">
            <a:avLst/>
          </a:prstGeom>
          <a:noFill/>
          <a:ln w="0">
            <a:noFill/>
          </a:ln>
        </p:spPr>
        <p:txBody>
          <a:bodyPr lIns="92160" rIns="92160" tIns="46080" bIns="46080" anchor="t">
            <a:normAutofit fontScale="95000"/>
          </a:bodyPr>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3 Other Standard:</a:t>
            </a:r>
            <a:endParaRPr b="1"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Should be yes: “PAWS” or similar database protocol standard.</a:t>
            </a:r>
            <a:endParaRPr b="0" lang="en-US" sz="1600" spc="-1" strike="noStrike">
              <a:solidFill>
                <a:srgbClr val="000000"/>
              </a:solidFill>
              <a:latin typeface="Times New Roman"/>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Accept</a:t>
            </a:r>
            <a:endParaRPr b="0" lang="en-US" sz="16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4 Purpose: </a:t>
            </a:r>
            <a:endParaRPr b="1"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Suggest replace with “This document will not have a purpose clause”.</a:t>
            </a:r>
            <a:endParaRPr b="0"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You should not restate the scope in the purpose statement.</a:t>
            </a:r>
            <a:endParaRPr b="0" lang="en-US" sz="1600" spc="-1" strike="noStrike">
              <a:solidFill>
                <a:srgbClr val="000000"/>
              </a:solidFill>
              <a:latin typeface="Times New Roman"/>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Accept</a:t>
            </a:r>
            <a:endParaRPr b="0" lang="en-US" sz="16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5.6 Stakeholders:</a:t>
            </a:r>
            <a:endParaRPr b="1"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There are more players for large scale command and control applications</a:t>
            </a:r>
            <a:endParaRPr b="0" lang="en-US" sz="1600" spc="-1" strike="noStrike">
              <a:solidFill>
                <a:srgbClr val="000000"/>
              </a:solidFill>
              <a:latin typeface="Times New Roman"/>
            </a:endParaRPr>
          </a:p>
          <a:p>
            <a:pPr lvl="2" marL="1031400" indent="-217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Add the following: Industrial Automation providers, Building Automation providers, Intelligent Traffic System Providers, Large Scale Monitoring for Safety providers.</a:t>
            </a:r>
            <a:endParaRPr b="0" lang="en-US" sz="1600" spc="-1" strike="noStrike">
              <a:solidFill>
                <a:srgbClr val="000000"/>
              </a:solidFill>
              <a:latin typeface="Times New Roman"/>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Accept</a:t>
            </a:r>
            <a:endParaRPr b="0" lang="en-US" sz="1600" spc="-1" strike="noStrike">
              <a:solidFill>
                <a:srgbClr val="000000"/>
              </a:solidFill>
              <a:latin typeface="Times New Roman"/>
            </a:endParaRPr>
          </a:p>
          <a:p>
            <a:pPr marL="325800" indent="-3258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Gulim"/>
              </a:rPr>
              <a:t>8.1 Notes: - </a:t>
            </a:r>
            <a:endParaRPr b="1" lang="en-US" sz="1600" spc="-1" strike="noStrike">
              <a:solidFill>
                <a:srgbClr val="000000"/>
              </a:solidFill>
              <a:latin typeface="Times New Roman"/>
            </a:endParaRPr>
          </a:p>
          <a:p>
            <a:pPr lvl="1" marL="705600" indent="-2714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Instructions require item number and explanation.  What item is the statement trying to support?</a:t>
            </a:r>
            <a:endParaRPr b="0" lang="en-US" sz="1600" spc="-1" strike="noStrike">
              <a:solidFill>
                <a:srgbClr val="000000"/>
              </a:solidFill>
              <a:latin typeface="Times New Roman"/>
            </a:endParaRPr>
          </a:p>
          <a:p>
            <a:pPr lvl="2" marL="1031400" indent="-217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Suggest that this may be included in the scope statement as a final sentence.</a:t>
            </a:r>
            <a:endParaRPr b="0" lang="en-US" sz="1600" spc="-1" strike="noStrike">
              <a:solidFill>
                <a:srgbClr val="000000"/>
              </a:solidFill>
              <a:latin typeface="Times New Roman"/>
            </a:endParaRPr>
          </a:p>
          <a:p>
            <a:pPr lvl="1" marL="705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f0"/>
                </a:solidFill>
                <a:latin typeface="Times New Roman"/>
                <a:ea typeface="Gulim"/>
              </a:rPr>
              <a:t>Response: This sentence has typically been included in 8.1.  Group did not see a compelling reason to break with tradition. Item number supported was already in the original PAR.</a:t>
            </a:r>
            <a:endParaRPr b="0" lang="en-US" sz="1600" spc="-1" strike="noStrike">
              <a:solidFill>
                <a:srgbClr val="000000"/>
              </a:solidFill>
              <a:latin typeface="Times New Roman"/>
            </a:endParaRPr>
          </a:p>
          <a:p>
            <a:pPr lvl="2" marL="10314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 </a:t>
            </a:r>
            <a:endParaRPr b="0" lang="en-US" sz="1600" spc="-1" strike="noStrike">
              <a:solidFill>
                <a:srgbClr val="000000"/>
              </a:solidFill>
              <a:latin typeface="Times New Roman"/>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65"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66"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7295B941-0CFB-41CA-82AC-65296E206C16}"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67" name="PlaceHolder 1"/>
          <p:cNvSpPr>
            <a:spLocks noGrp="1"/>
          </p:cNvSpPr>
          <p:nvPr>
            <p:ph/>
          </p:nvPr>
        </p:nvSpPr>
        <p:spPr>
          <a:xfrm>
            <a:off x="685800" y="1752120"/>
            <a:ext cx="7772400" cy="2971800"/>
          </a:xfrm>
          <a:prstGeom prst="rect">
            <a:avLst/>
          </a:prstGeom>
          <a:noFill/>
          <a:ln w="0">
            <a:noFill/>
          </a:ln>
        </p:spPr>
        <p:txBody>
          <a:bodyPr lIns="92160" rIns="92160" tIns="46080" bIns="46080" anchor="t">
            <a:normAutofit fontScale="75000"/>
          </a:bodyPr>
          <a:p>
            <a:pPr marL="25704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1. Broad Market Potential:</a:t>
            </a:r>
            <a:endParaRPr b="1" lang="en-US" sz="2400" spc="-1" strike="noStrike">
              <a:solidFill>
                <a:srgbClr val="000000"/>
              </a:solidFill>
              <a:latin typeface="Times New Roman"/>
            </a:endParaRPr>
          </a:p>
          <a:p>
            <a:pPr lvl="1" marL="557280" indent="-214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This does not seem to be a personal area network application.</a:t>
            </a:r>
            <a:endParaRPr b="0" lang="en-US" sz="2000" spc="-1" strike="noStrike">
              <a:solidFill>
                <a:srgbClr val="000000"/>
              </a:solidFill>
              <a:latin typeface="Times New Roman"/>
            </a:endParaRPr>
          </a:p>
          <a:p>
            <a:pPr lvl="1" marL="557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Gulim"/>
              </a:rPr>
              <a:t>Response: Much of what 802.15 does, does not fit in that category. 802.15 should consider changing its tagline to reflect reality.</a:t>
            </a:r>
            <a:endParaRPr b="0" lang="en-US" sz="2000" spc="-1" strike="noStrike">
              <a:solidFill>
                <a:srgbClr val="000000"/>
              </a:solidFill>
              <a:latin typeface="Times New Roman"/>
            </a:endParaRPr>
          </a:p>
          <a:p>
            <a:pPr marL="257040" indent="-257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3. Distinct Identify</a:t>
            </a:r>
            <a:endParaRPr b="1" lang="en-US" sz="2400" spc="-1" strike="noStrike">
              <a:solidFill>
                <a:srgbClr val="000000"/>
              </a:solidFill>
              <a:latin typeface="Times New Roman"/>
            </a:endParaRPr>
          </a:p>
          <a:p>
            <a:pPr lvl="1" marL="557280" indent="-214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a) spelling error – “application”  </a:t>
            </a:r>
            <a:r>
              <a:rPr b="0" lang="en-US" sz="2000" spc="-1" strike="noStrike">
                <a:solidFill>
                  <a:srgbClr val="00b0f0"/>
                </a:solidFill>
                <a:latin typeface="Times New Roman"/>
                <a:ea typeface="Gulim"/>
              </a:rPr>
              <a:t>noted</a:t>
            </a:r>
            <a:endParaRPr b="0" lang="en-US" sz="2000" spc="-1" strike="noStrike">
              <a:solidFill>
                <a:srgbClr val="000000"/>
              </a:solidFill>
              <a:latin typeface="Times New Roman"/>
            </a:endParaRPr>
          </a:p>
          <a:p>
            <a:pPr lvl="1" marL="557280" indent="-214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b) this statement seems to be overly vague.  Once 802.11af plus 802.11ah are in the base 802.11 standard, it could in fact provide this same solution set.</a:t>
            </a:r>
            <a:endParaRPr b="0" lang="en-US" sz="2000" spc="-1" strike="noStrike">
              <a:solidFill>
                <a:srgbClr val="000000"/>
              </a:solidFill>
              <a:latin typeface="Times New Roman"/>
            </a:endParaRPr>
          </a:p>
          <a:p>
            <a:pPr lvl="1" marL="557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Gulim"/>
              </a:rPr>
              <a:t>Response: No change has been made. While any broadband solution is capable of providing the data rate, the very nature of achieving the higher data rates adds complexity not needed for command and control applications and increases the link margins needed for assured performance.</a:t>
            </a:r>
            <a:endParaRPr b="0" lang="en-US" sz="2000" spc="-1" strike="noStrike">
              <a:solidFill>
                <a:srgbClr val="000000"/>
              </a:solidFill>
              <a:latin typeface="Times New Roman"/>
            </a:endParaRPr>
          </a:p>
        </p:txBody>
      </p:sp>
      <p:sp>
        <p:nvSpPr>
          <p:cNvPr id="568" name="PlaceHolder 2"/>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Gulim"/>
              </a:rPr>
              <a:t>802.15.4m 5C</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70"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71"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62727C20-E01D-4365-9C0C-8EA668361EA1}"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72" name="PlaceHolder 1"/>
          <p:cNvSpPr>
            <a:spLocks noGrp="1"/>
          </p:cNvSpPr>
          <p:nvPr>
            <p:ph/>
          </p:nvPr>
        </p:nvSpPr>
        <p:spPr>
          <a:xfrm>
            <a:off x="685800" y="914400"/>
            <a:ext cx="7772400" cy="495288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4. Technical Feasibility</a:t>
            </a:r>
            <a:endParaRPr b="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a) The FCC rules are not complete, so compliance cannot be claimed. </a:t>
            </a:r>
            <a:r>
              <a:rPr b="0" lang="en-US" sz="2000" spc="-1" strike="noStrike">
                <a:solidFill>
                  <a:srgbClr val="00b0f0"/>
                </a:solidFill>
                <a:latin typeface="Times New Roman"/>
                <a:ea typeface="Gulim"/>
              </a:rPr>
              <a:t>Response: Clarified the statement to be more accurate</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b) what is the value of “The WPAN application presents no unique challenges”? </a:t>
            </a:r>
            <a:r>
              <a:rPr b="0" lang="en-US" sz="2000" spc="-1" strike="noStrike">
                <a:solidFill>
                  <a:srgbClr val="00b0f0"/>
                </a:solidFill>
                <a:latin typeface="Times New Roman"/>
                <a:ea typeface="Gulim"/>
              </a:rPr>
              <a:t>Response: Modified sentence to make it clearer</a:t>
            </a:r>
            <a:endParaRPr b="0" lang="en-US" sz="2000" spc="-1" strike="noStrike">
              <a:solidFill>
                <a:srgbClr val="000000"/>
              </a:solidFill>
              <a:latin typeface="Times New Roman"/>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5 Economic Feasibility</a:t>
            </a:r>
            <a:endParaRPr b="1"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Gulim"/>
              </a:rPr>
              <a:t>TV White Space devices may not have the same costs as the traditional 15.1.4 devices due implementation details to meet:</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regulatory requirements – </a:t>
            </a:r>
            <a:endParaRPr b="0" lang="en-US" sz="1800" spc="-1" strike="noStrike">
              <a:solidFill>
                <a:srgbClr val="000000"/>
              </a:solidFill>
              <a:latin typeface="Times New Roman"/>
            </a:endParaRPr>
          </a:p>
          <a:p>
            <a:pPr lvl="3" marL="13856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database access method will include additional costs</a:t>
            </a:r>
            <a:endParaRPr b="0" lang="en-US" sz="1600" spc="-1" strike="noStrike">
              <a:solidFill>
                <a:srgbClr val="000000"/>
              </a:solidFill>
              <a:latin typeface="Times New Roman"/>
            </a:endParaRPr>
          </a:p>
          <a:p>
            <a:pPr lvl="3" marL="138564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Spectral mask has been defined more tightly than in the past.</a:t>
            </a:r>
            <a:endParaRPr b="0" lang="en-US" sz="1600" spc="-1" strike="noStrike">
              <a:solidFill>
                <a:srgbClr val="000000"/>
              </a:solidFill>
              <a:latin typeface="Times New Roman"/>
            </a:endParaRPr>
          </a:p>
          <a:p>
            <a:pPr lvl="4" marL="171828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Gulim"/>
              </a:rPr>
              <a:t>The current FCC spectral mask may result in significant cost increases.</a:t>
            </a:r>
            <a:endParaRPr b="0" lang="en-US" sz="16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Gulim"/>
              </a:rPr>
              <a:t>Anntenna size differences</a:t>
            </a:r>
            <a:endParaRPr b="0" lang="en-US" sz="1800" spc="-1" strike="noStrike">
              <a:solidFill>
                <a:srgbClr val="000000"/>
              </a:solidFill>
              <a:latin typeface="Times New Roman"/>
            </a:endParaRPr>
          </a:p>
          <a:p>
            <a:pPr lvl="2" marL="105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Times New Roman"/>
                <a:ea typeface="Gulim"/>
              </a:rPr>
              <a:t>Response:  Acknowledged.  Statement modified to refl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74"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75"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81E56754-F687-4368-949E-CFBFD4D3E293}"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76" name="PlaceHolder 1"/>
          <p:cNvSpPr>
            <a:spLocks noGrp="1"/>
          </p:cNvSpPr>
          <p:nvPr>
            <p:ph type="title"/>
          </p:nvPr>
        </p:nvSpPr>
        <p:spPr>
          <a:xfrm>
            <a:off x="685800" y="1981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Gulim"/>
              </a:rPr>
              <a:t>802.19 comments on Pending 802 PARs – July 2011</a:t>
            </a:r>
            <a:endParaRPr b="1" lang="en-US" sz="2400" spc="-1" strike="noStrike">
              <a:solidFill>
                <a:srgbClr val="000000"/>
              </a:solidFill>
              <a:latin typeface="Times New Roman"/>
            </a:endParaRPr>
          </a:p>
        </p:txBody>
      </p:sp>
      <p:sp>
        <p:nvSpPr>
          <p:cNvPr id="577" name="PlaceHolder 2"/>
          <p:cNvSpPr>
            <a:spLocks noGrp="1"/>
          </p:cNvSpPr>
          <p:nvPr>
            <p:ph/>
          </p:nvPr>
        </p:nvSpPr>
        <p:spPr>
          <a:xfrm>
            <a:off x="685800" y="37339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Date:</a:t>
            </a:r>
            <a:r>
              <a:rPr b="0" lang="en-US" sz="2000" spc="-1" strike="noStrike">
                <a:solidFill>
                  <a:srgbClr val="000000"/>
                </a:solidFill>
                <a:latin typeface="Times New Roman"/>
                <a:ea typeface="Gulim"/>
              </a:rPr>
              <a:t> 2011-07-19</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79"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80"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70FD6D1E-8CCB-4125-9C53-8A1101D07BB8}"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81" name="PlaceHolder 1"/>
          <p:cNvSpPr>
            <a:spLocks noGrp="1"/>
          </p:cNvSpPr>
          <p:nvPr>
            <p:ph/>
          </p:nvPr>
        </p:nvSpPr>
        <p:spPr>
          <a:xfrm>
            <a:off x="762120" y="1371600"/>
            <a:ext cx="7772400" cy="4495680"/>
          </a:xfrm>
          <a:prstGeom prst="rect">
            <a:avLst/>
          </a:prstGeom>
          <a:noFill/>
          <a:ln w="0">
            <a:noFill/>
          </a:ln>
        </p:spPr>
        <p:txBody>
          <a:bodyPr lIns="92160" rIns="92160" tIns="46080" bIns="4608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1.  The scope states that the application of this standard is for  "command and control."  However, TV white space availability is not ensured and may be intermittent. The scope should therefore reflect that this band should not be used for mission critical command and control applications.</a:t>
            </a:r>
            <a:endParaRPr b="1"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No change is recommended. Any unlicensed band presents issues of access and reliability. It is the implementers responsibility to evaluate whether a given approach meets the needs of their application.  The scope can not determine this.</a:t>
            </a:r>
            <a:endParaRPr b="1"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 </a:t>
            </a:r>
            <a:endParaRPr b="1"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2.  The purpose and the need sections use the phrase "large scale deployment." Please clarify if this refers to a large area, a large number of devices, or both.</a:t>
            </a:r>
            <a:endParaRPr b="1"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Following a suggestion from 802.11 the Purpose Statement has been removed per current IEEE SA guidance on amendment PAR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83"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84"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FB51282D-36AB-465D-B16D-85952AE6AB87}"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85" name="PlaceHolder 1"/>
          <p:cNvSpPr>
            <a:spLocks noGrp="1"/>
          </p:cNvSpPr>
          <p:nvPr>
            <p:ph/>
          </p:nvPr>
        </p:nvSpPr>
        <p:spPr>
          <a:xfrm>
            <a:off x="762120" y="1371600"/>
            <a:ext cx="7772400" cy="4495680"/>
          </a:xfrm>
          <a:prstGeom prst="rect">
            <a:avLst/>
          </a:prstGeom>
          <a:noFill/>
          <a:ln w="0">
            <a:noFill/>
          </a:ln>
        </p:spPr>
        <p:txBody>
          <a:bodyPr lIns="92160" rIns="92160" tIns="46080" bIns="460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3.  In Section 7 you may want to list 802.11af as a similar project since it is a local area network that operates in the TV white space. You may also want to consider listing the 802.22 standard as similar. ECMA 392 is a MAC/PHY standard in the TV white space.  IEEE 1900.7 is a new project for a MAC/PHY standard for mobile operation in white space considering such potential applications as utility grid networks and transportation logistics.  You may also want to consider those as similar.</a:t>
            </a:r>
            <a:endParaRPr b="1"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We do not see these as similar. The similarity, if any, is they all use TV White Space unlicensed spectrum.  The similarity ends there.  We have a number of examples in the current 802 standards family of the use of the same band, particularly 2.4 GHz, and we do not call those standard similar, ie 15.4 and 11g.</a:t>
            </a:r>
            <a:endParaRPr b="1" lang="en-US" sz="2000" spc="-1" strike="noStrike">
              <a:solidFill>
                <a:srgbClr val="000000"/>
              </a:solidFill>
              <a:latin typeface="Times New Roman"/>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날짜 개체 틀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Gulim"/>
              </a:rPr>
              <a:t>July 2011</a:t>
            </a:r>
            <a:endParaRPr b="0" lang="en-US" sz="1800" spc="-1" strike="noStrike">
              <a:solidFill>
                <a:srgbClr val="000000"/>
              </a:solidFill>
              <a:latin typeface="Times New Roman"/>
            </a:endParaRPr>
          </a:p>
        </p:txBody>
      </p:sp>
      <p:sp>
        <p:nvSpPr>
          <p:cNvPr id="587" name="바닥글 개체 틀 4"/>
          <p:cNvSpPr/>
          <p:nvPr/>
        </p:nvSpPr>
        <p:spPr>
          <a:xfrm>
            <a:off x="7614000" y="6475320"/>
            <a:ext cx="1393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angSung Choi(ETRI)</a:t>
            </a:r>
            <a:endParaRPr b="0" lang="en-US" sz="1200" spc="-1" strike="noStrike">
              <a:solidFill>
                <a:srgbClr val="000000"/>
              </a:solidFill>
              <a:latin typeface="Times New Roman"/>
            </a:endParaRPr>
          </a:p>
        </p:txBody>
      </p:sp>
      <p:sp>
        <p:nvSpPr>
          <p:cNvPr id="588" name="슬라이드 번호 개체 틀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Gulim"/>
              </a:rPr>
              <a:t>Slide </a:t>
            </a:r>
            <a:fld id="{7ACF5C28-AF47-47A1-8960-799C2214C9D4}"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
        <p:nvSpPr>
          <p:cNvPr id="589" name="PlaceHolder 1"/>
          <p:cNvSpPr>
            <a:spLocks noGrp="1"/>
          </p:cNvSpPr>
          <p:nvPr>
            <p:ph/>
          </p:nvPr>
        </p:nvSpPr>
        <p:spPr>
          <a:xfrm>
            <a:off x="762120" y="990720"/>
            <a:ext cx="7772400" cy="4495680"/>
          </a:xfrm>
          <a:prstGeom prst="rect">
            <a:avLst/>
          </a:prstGeom>
          <a:noFill/>
          <a:ln w="0">
            <a:noFill/>
          </a:ln>
        </p:spPr>
        <p:txBody>
          <a:bodyPr lIns="92160" rIns="92160" tIns="46080" bIns="460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4.  Section 3b of the 5C states that the uniqueness is due to the focus on low data rate applications.  An 802.22 allocation to an individual subchannel is approximately 350 kb/s. The PAR states the data rate spans 40 to 2000 kb/s which overlaps the rates in 802.22.</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Comparing a subchannel to a whole channel is comparing an apple to an orange. 802.22 covers a channel bandwidth ranging from 4.54Mbps to 22.69Mbps with up to 64 subchannels. The 15.4m amendment is proposing channel bandwidths of 40kbps  to 2Mbps, substantially lower permitting a much less demanding implementation</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Gulim"/>
              </a:rPr>
              <a:t>5.  Section 4a of the 5C states that there are many operational TV white space devices, which is incorrect.  There have been some pilot projects however there are no FCC approved TV white space products.</a:t>
            </a:r>
            <a:endParaRPr b="1"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Times New Roman"/>
                <a:ea typeface="Gulim"/>
              </a:rPr>
              <a:t>Response: Agreed. Statement has been clarified to reflect.</a:t>
            </a:r>
            <a:br>
              <a:rPr sz="2000"/>
            </a:br>
            <a:endParaRPr b="1" lang="en-US" sz="2000" spc="-1" strike="noStrike">
              <a:solidFill>
                <a:srgbClr val="000000"/>
              </a:solidFill>
              <a:latin typeface="Times New Roman"/>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2:49:44Z</dcterms:created>
  <dc:creator>Jon Rosdahl</dc:creator>
  <dc:description/>
  <dc:language>en-US</dc:language>
  <cp:lastModifiedBy>bheile</cp:lastModifiedBy>
  <cp:lastPrinted>1998-02-10T13:28:06Z</cp:lastPrinted>
  <dcterms:modified xsi:type="dcterms:W3CDTF">2011-07-20T19:21:29Z</dcterms:modified>
  <cp:revision>43</cp:revision>
  <dc:subject/>
  <dc:title>802.11 comments on Pending 802 PARs – July 2011</dc:title>
</cp:coreProperties>
</file>