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FBE8-C4E9-41CC-BFD5-77E355B1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1CB5-C58F-447E-A784-EEA03A507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382680" y="4338720"/>
            <a:ext cx="609264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788BB-DA59-4DA5-A502-BEFDD8FD2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partment of Energy should work with the Federal Energy Regulatory Commission to determine whether additional security mandates and procedures should be developed for energy-related industrial control sys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564797-2C79-4EAB-8298-8DF65F53E7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43E4-CBAC-4F18-AE47-9C3E5922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517-02F6-42C7-8331-91FB8ADE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C43-0AEC-4131-B3A6-E4DDC8F4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D32-1D4B-483F-94AF-69697C2A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8888-1932-4B12-86CB-354EEC57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5AD9-6E0D-4674-98D5-FEB4A5CD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EA086-261F-4AA4-A8DA-83F9A5AD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EC2A-1BA6-4120-80E9-52DE532E5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22FC-D7D9-4A9B-81FE-EB52D7B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DC773-DAF1-4307-A620-FC8BC454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7D4F-32AB-4BB8-B8D4-68B5DBA6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57E2-9E0D-41FD-90B5-CF80823A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44FF-E035-4A3A-99EF-BC0EEBB9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99CE-7DC6-4D63-B190-90C156B8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DA43-84C5-4888-B56D-9217A7D8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E09D-AFF5-4081-8E60-B6DCE6B2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0CF9E-FC90-437C-902A-6E1B027E5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82600"/>
            <a:ext cx="250236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3DBE-3E3F-448F-AA16-F7C409474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EE2C-8525-4C24-96AD-7B33771A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E31-9D7A-454A-A35A-125FE7D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DB66-42B4-461F-892A-D9ED8F8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228240"/>
            <a:ext cx="71625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FA9-5013-41F5-877D-8D95E73F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E12-B60F-4000-AD85-AD1A4810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8260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10E-CDB4-4650-BEE1-448C245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82600"/>
            <a:ext cx="7772400" cy="23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936-AC12-489D-9DE3-D6325A57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4791-F980-46CD-BB06-9D58B970ADC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1676520" y="990720"/>
            <a:ext cx="6858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8"/>
          <p:cNvSpPr/>
          <p:nvPr/>
        </p:nvSpPr>
        <p:spPr>
          <a:xfrm>
            <a:off x="1752480" y="3429000"/>
            <a:ext cx="6858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12120" y="259092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588240" y="248760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936720" y="29718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Arial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8AF3-5B9B-4605-A2A3-269D7C44F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ist.gov/smartgrid" TargetMode="External"/><Relationship Id="rId2" Type="http://schemas.openxmlformats.org/officeDocument/2006/relationships/hyperlink" Target="http://www.nist.gov/smartgrid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6" descr="pole mounted dist xformer"/>
          <p:cNvPicPr/>
          <p:nvPr/>
        </p:nvPicPr>
        <p:blipFill>
          <a:blip r:embed="rId1"/>
          <a:srcRect l="30000" t="6667" r="20000" b="33333"/>
          <a:stretch/>
        </p:blipFill>
        <p:spPr>
          <a:xfrm>
            <a:off x="4521240" y="5257800"/>
            <a:ext cx="88884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4" descr="coal fired plantp"/>
          <p:cNvPicPr/>
          <p:nvPr/>
        </p:nvPicPr>
        <p:blipFill>
          <a:blip r:embed="rId2"/>
          <a:srcRect l="0" t="0" r="62737" b="7813"/>
          <a:stretch/>
        </p:blipFill>
        <p:spPr>
          <a:xfrm>
            <a:off x="142920" y="5257800"/>
            <a:ext cx="97452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3" descr="wind farm"/>
          <p:cNvPicPr/>
          <p:nvPr/>
        </p:nvPicPr>
        <p:blipFill>
          <a:blip r:embed="rId3"/>
          <a:srcRect l="0" t="23646" r="6400" b="0"/>
          <a:stretch/>
        </p:blipFill>
        <p:spPr>
          <a:xfrm>
            <a:off x="6019920" y="5248440"/>
            <a:ext cx="2914560" cy="16095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>
            <a:off x="457200" y="2590920"/>
            <a:ext cx="8077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606600" y="3430440"/>
            <a:ext cx="2530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457200" y="1143000"/>
            <a:ext cx="845820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mart Grid Interoperability Stand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76320" y="3029040"/>
            <a:ext cx="86868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e W. Arnold, Eng.Sc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Coordinator for Smart Grid 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1713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1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13, 20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9" descr="Electric_meter"/>
          <p:cNvPicPr/>
          <p:nvPr/>
        </p:nvPicPr>
        <p:blipFill>
          <a:blip r:embed="rId4"/>
          <a:stretch/>
        </p:blipFill>
        <p:spPr>
          <a:xfrm>
            <a:off x="5348160" y="5257800"/>
            <a:ext cx="66672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8" descr="t-lines"/>
          <p:cNvPicPr/>
          <p:nvPr/>
        </p:nvPicPr>
        <p:blipFill>
          <a:blip r:embed="rId5"/>
          <a:stretch/>
        </p:blipFill>
        <p:spPr>
          <a:xfrm>
            <a:off x="3505320" y="5257800"/>
            <a:ext cx="106524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5" descr="solar farm"/>
          <p:cNvPicPr/>
          <p:nvPr/>
        </p:nvPicPr>
        <p:blipFill>
          <a:blip r:embed="rId6"/>
          <a:stretch/>
        </p:blipFill>
        <p:spPr>
          <a:xfrm>
            <a:off x="1066680" y="5248440"/>
            <a:ext cx="251460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ership Perspectiv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1426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to move faster – it can be 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lot more low-hanging fruit to be pi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ew standards are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aggressive time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resources to get the job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months, not years to develop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process is a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nsus does not mean unani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ry view can be accommo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some point a decision has to be made and we move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 investments being made now cannot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s are just catching up to 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6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297F-D692-4FBC-8B26-2FF6FD7C874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ership Perspectives (cont’d)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2949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need to allow for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ational standards that would be costly to change are most urgently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-based rather than design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over-specify; allow for new applications and technology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tandards are essen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’s regulatory assumptions may have to ev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ele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need to allow for rapid technology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CB33-FADC-4E09-8DF8-BA93D965803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e Need A Standards Roadmap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440" y="1294920"/>
            <a:ext cx="38098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ease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and Cer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6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788D-5733-405F-B2DD-32FA175D9F10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1"/>
          <a:stretch/>
        </p:blipFill>
        <p:spPr>
          <a:xfrm>
            <a:off x="4253040" y="1981080"/>
            <a:ext cx="489096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admap Focus Area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C-identified priority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-Area Situation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ctric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priority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ced Metering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ion Grid, including Distributed Energy Resource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cutting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ber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93C3-7143-47F0-899F-219FC60DB99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mart Grid Conceptual Model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36"/>
          <p:cNvSpPr/>
          <p:nvPr/>
        </p:nvSpPr>
        <p:spPr>
          <a:xfrm>
            <a:off x="-6120" y="655020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 NIST/EPRI Architecture Tas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8" descr="Conceptual Model"/>
          <p:cNvPicPr/>
          <p:nvPr/>
        </p:nvPicPr>
        <p:blipFill>
          <a:blip r:embed="rId1"/>
          <a:srcRect l="0" t="12182" r="0" b="0"/>
          <a:stretch/>
        </p:blipFill>
        <p:spPr>
          <a:xfrm>
            <a:off x="762120" y="144792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5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5169-1EA1-461E-A01E-DE0731005F0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loud"/>
          <p:cNvPicPr/>
          <p:nvPr/>
        </p:nvPicPr>
        <p:blipFill>
          <a:blip r:embed="rId1"/>
          <a:stretch/>
        </p:blipFill>
        <p:spPr>
          <a:xfrm>
            <a:off x="1859040" y="2550960"/>
            <a:ext cx="5391000" cy="2178360"/>
          </a:xfrm>
          <a:prstGeom prst="rect">
            <a:avLst/>
          </a:prstGeom>
          <a:ln w="0">
            <a:noFill/>
          </a:ln>
        </p:spPr>
      </p:pic>
      <p:sp>
        <p:nvSpPr>
          <p:cNvPr id="158" name="Freeform 3"/>
          <p:cNvSpPr/>
          <p:nvPr/>
        </p:nvSpPr>
        <p:spPr>
          <a:xfrm>
            <a:off x="4602240" y="3073320"/>
            <a:ext cx="2363760" cy="14605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"/>
          <p:cNvSpPr/>
          <p:nvPr/>
        </p:nvSpPr>
        <p:spPr>
          <a:xfrm>
            <a:off x="1859040" y="3187800"/>
            <a:ext cx="2363760" cy="14619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5"/>
          <p:cNvSpPr/>
          <p:nvPr/>
        </p:nvSpPr>
        <p:spPr>
          <a:xfrm>
            <a:off x="3576600" y="3889440"/>
            <a:ext cx="693720" cy="295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6"/>
          <p:cNvSpPr/>
          <p:nvPr/>
        </p:nvSpPr>
        <p:spPr>
          <a:xfrm>
            <a:off x="2057400" y="3654360"/>
            <a:ext cx="566640" cy="3542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2309760" y="3727440"/>
            <a:ext cx="16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8"/>
          <p:cNvSpPr/>
          <p:nvPr/>
        </p:nvSpPr>
        <p:spPr>
          <a:xfrm>
            <a:off x="2462040" y="4008600"/>
            <a:ext cx="560520" cy="3380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9"/>
          <p:cNvSpPr/>
          <p:nvPr/>
        </p:nvSpPr>
        <p:spPr>
          <a:xfrm>
            <a:off x="6505560" y="3889440"/>
            <a:ext cx="460440" cy="295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0"/>
          <p:cNvSpPr/>
          <p:nvPr/>
        </p:nvSpPr>
        <p:spPr>
          <a:xfrm>
            <a:off x="4946760" y="3706920"/>
            <a:ext cx="566640" cy="3538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5199120" y="3780000"/>
            <a:ext cx="163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"/>
          <p:cNvSpPr/>
          <p:nvPr/>
        </p:nvSpPr>
        <p:spPr>
          <a:xfrm>
            <a:off x="5468760" y="3967200"/>
            <a:ext cx="560520" cy="3380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3"/>
          <p:cNvSpPr/>
          <p:nvPr/>
        </p:nvSpPr>
        <p:spPr>
          <a:xfrm>
            <a:off x="3090960" y="4106880"/>
            <a:ext cx="558720" cy="3380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4"/>
          <p:cNvSpPr/>
          <p:nvPr/>
        </p:nvSpPr>
        <p:spPr>
          <a:xfrm>
            <a:off x="6073920" y="4040280"/>
            <a:ext cx="460080" cy="2952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1914480" y="2209680"/>
            <a:ext cx="66204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06560" y="2190600"/>
            <a:ext cx="75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2662200" y="2197080"/>
            <a:ext cx="66348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2757600" y="2198520"/>
            <a:ext cx="60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459240" y="2597040"/>
            <a:ext cx="189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Times New Roman"/>
              </a:rPr>
              <a:t>Nationwide Net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2789280" y="3546360"/>
            <a:ext cx="1116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etwork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484960" y="3546360"/>
            <a:ext cx="1103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Network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3386160" y="2197080"/>
            <a:ext cx="66204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3"/>
          <p:cNvSpPr/>
          <p:nvPr/>
        </p:nvSpPr>
        <p:spPr>
          <a:xfrm>
            <a:off x="3444840" y="2103480"/>
            <a:ext cx="67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5145120" y="2178000"/>
            <a:ext cx="66204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5137200" y="2158920"/>
            <a:ext cx="75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6"/>
          <p:cNvSpPr/>
          <p:nvPr/>
        </p:nvSpPr>
        <p:spPr>
          <a:xfrm>
            <a:off x="2239920" y="2486160"/>
            <a:ext cx="415800" cy="8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7"/>
          <p:cNvSpPr/>
          <p:nvPr/>
        </p:nvSpPr>
        <p:spPr>
          <a:xfrm>
            <a:off x="3002040" y="2457360"/>
            <a:ext cx="27000" cy="85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8"/>
          <p:cNvSpPr/>
          <p:nvPr/>
        </p:nvSpPr>
        <p:spPr>
          <a:xfrm flipH="1">
            <a:off x="3431880" y="2498760"/>
            <a:ext cx="261720" cy="87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421240" y="2409840"/>
            <a:ext cx="416160" cy="8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0"/>
          <p:cNvSpPr/>
          <p:nvPr/>
        </p:nvSpPr>
        <p:spPr>
          <a:xfrm>
            <a:off x="6183360" y="2381400"/>
            <a:ext cx="27000" cy="85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1"/>
          <p:cNvSpPr/>
          <p:nvPr/>
        </p:nvSpPr>
        <p:spPr>
          <a:xfrm flipH="1">
            <a:off x="6613560" y="2422440"/>
            <a:ext cx="262080" cy="8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1975320" y="374328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3"/>
          <p:cNvSpPr/>
          <p:nvPr/>
        </p:nvSpPr>
        <p:spPr>
          <a:xfrm>
            <a:off x="2270160" y="406224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4"/>
          <p:cNvSpPr/>
          <p:nvPr/>
        </p:nvSpPr>
        <p:spPr>
          <a:xfrm>
            <a:off x="2937960" y="417348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5"/>
          <p:cNvSpPr/>
          <p:nvPr/>
        </p:nvSpPr>
        <p:spPr>
          <a:xfrm>
            <a:off x="3549600" y="389736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6"/>
          <p:cNvSpPr/>
          <p:nvPr/>
        </p:nvSpPr>
        <p:spPr>
          <a:xfrm>
            <a:off x="5958000" y="4097160"/>
            <a:ext cx="558720" cy="33840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4842360" y="3733920"/>
            <a:ext cx="74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8"/>
          <p:cNvSpPr/>
          <p:nvPr/>
        </p:nvSpPr>
        <p:spPr>
          <a:xfrm>
            <a:off x="5289480" y="398628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6416640" y="388764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0"/>
          <p:cNvSpPr/>
          <p:nvPr/>
        </p:nvSpPr>
        <p:spPr>
          <a:xfrm>
            <a:off x="5842800" y="411624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41"/>
          <p:cNvSpPr/>
          <p:nvPr/>
        </p:nvSpPr>
        <p:spPr>
          <a:xfrm>
            <a:off x="4173480" y="35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2"/>
          <p:cNvSpPr/>
          <p:nvPr/>
        </p:nvSpPr>
        <p:spPr>
          <a:xfrm>
            <a:off x="2290680" y="4014720"/>
            <a:ext cx="12384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3"/>
          <p:cNvSpPr/>
          <p:nvPr/>
        </p:nvSpPr>
        <p:spPr>
          <a:xfrm>
            <a:off x="2841480" y="4324320"/>
            <a:ext cx="302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4"/>
          <p:cNvSpPr/>
          <p:nvPr/>
        </p:nvSpPr>
        <p:spPr>
          <a:xfrm>
            <a:off x="4030560" y="4172040"/>
            <a:ext cx="39852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5"/>
          <p:cNvSpPr/>
          <p:nvPr/>
        </p:nvSpPr>
        <p:spPr>
          <a:xfrm>
            <a:off x="3519360" y="4386240"/>
            <a:ext cx="9864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6"/>
          <p:cNvSpPr/>
          <p:nvPr/>
        </p:nvSpPr>
        <p:spPr>
          <a:xfrm>
            <a:off x="1987560" y="4211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7"/>
          <p:cNvSpPr/>
          <p:nvPr/>
        </p:nvSpPr>
        <p:spPr>
          <a:xfrm>
            <a:off x="2558880" y="45561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8"/>
          <p:cNvSpPr/>
          <p:nvPr/>
        </p:nvSpPr>
        <p:spPr>
          <a:xfrm>
            <a:off x="3206520" y="439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9"/>
          <p:cNvSpPr/>
          <p:nvPr/>
        </p:nvSpPr>
        <p:spPr>
          <a:xfrm>
            <a:off x="3997080" y="4468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0"/>
          <p:cNvSpPr/>
          <p:nvPr/>
        </p:nvSpPr>
        <p:spPr>
          <a:xfrm>
            <a:off x="1503360" y="4862520"/>
            <a:ext cx="91440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1611360" y="4835520"/>
            <a:ext cx="855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Generation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2"/>
          <p:cNvSpPr/>
          <p:nvPr/>
        </p:nvSpPr>
        <p:spPr>
          <a:xfrm>
            <a:off x="5834160" y="2176560"/>
            <a:ext cx="66204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3"/>
          <p:cNvSpPr/>
          <p:nvPr/>
        </p:nvSpPr>
        <p:spPr>
          <a:xfrm>
            <a:off x="5929200" y="2178000"/>
            <a:ext cx="598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6541920" y="2166840"/>
            <a:ext cx="662040" cy="2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6600960" y="2101680"/>
            <a:ext cx="6667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Service Provi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6"/>
          <p:cNvSpPr/>
          <p:nvPr/>
        </p:nvSpPr>
        <p:spPr>
          <a:xfrm>
            <a:off x="2122560" y="5273640"/>
            <a:ext cx="809640" cy="34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2135160" y="5245200"/>
            <a:ext cx="10270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8"/>
          <p:cNvSpPr/>
          <p:nvPr/>
        </p:nvSpPr>
        <p:spPr>
          <a:xfrm>
            <a:off x="2894040" y="4879800"/>
            <a:ext cx="89064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9"/>
          <p:cNvSpPr/>
          <p:nvPr/>
        </p:nvSpPr>
        <p:spPr>
          <a:xfrm>
            <a:off x="2906640" y="4844880"/>
            <a:ext cx="10270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0"/>
          <p:cNvSpPr/>
          <p:nvPr/>
        </p:nvSpPr>
        <p:spPr>
          <a:xfrm>
            <a:off x="3637080" y="5353200"/>
            <a:ext cx="78732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1"/>
          <p:cNvSpPr/>
          <p:nvPr/>
        </p:nvSpPr>
        <p:spPr>
          <a:xfrm>
            <a:off x="3728880" y="5283360"/>
            <a:ext cx="90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ustomer Pre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2"/>
          <p:cNvSpPr/>
          <p:nvPr/>
        </p:nvSpPr>
        <p:spPr>
          <a:xfrm>
            <a:off x="4684680" y="4815000"/>
            <a:ext cx="771480" cy="24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3"/>
          <p:cNvSpPr/>
          <p:nvPr/>
        </p:nvSpPr>
        <p:spPr>
          <a:xfrm>
            <a:off x="4678200" y="4788000"/>
            <a:ext cx="827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Generation</a:t>
            </a:r>
            <a:r>
              <a:rPr b="1" lang="en-US" sz="1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4"/>
          <p:cNvSpPr/>
          <p:nvPr/>
        </p:nvSpPr>
        <p:spPr>
          <a:xfrm>
            <a:off x="5199120" y="5222880"/>
            <a:ext cx="838080" cy="320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5"/>
          <p:cNvSpPr/>
          <p:nvPr/>
        </p:nvSpPr>
        <p:spPr>
          <a:xfrm>
            <a:off x="5219640" y="5172120"/>
            <a:ext cx="8478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6"/>
          <p:cNvSpPr/>
          <p:nvPr/>
        </p:nvSpPr>
        <p:spPr>
          <a:xfrm>
            <a:off x="5979960" y="4867200"/>
            <a:ext cx="84456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7"/>
          <p:cNvSpPr/>
          <p:nvPr/>
        </p:nvSpPr>
        <p:spPr>
          <a:xfrm>
            <a:off x="5970600" y="4816440"/>
            <a:ext cx="1087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t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68"/>
          <p:cNvSpPr/>
          <p:nvPr/>
        </p:nvSpPr>
        <p:spPr>
          <a:xfrm>
            <a:off x="6675480" y="5307120"/>
            <a:ext cx="797040" cy="31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9"/>
          <p:cNvSpPr/>
          <p:nvPr/>
        </p:nvSpPr>
        <p:spPr>
          <a:xfrm>
            <a:off x="6769080" y="5235480"/>
            <a:ext cx="927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Customer Premi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70"/>
          <p:cNvSpPr/>
          <p:nvPr/>
        </p:nvSpPr>
        <p:spPr>
          <a:xfrm>
            <a:off x="6878520" y="4076640"/>
            <a:ext cx="39852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71"/>
          <p:cNvSpPr/>
          <p:nvPr/>
        </p:nvSpPr>
        <p:spPr>
          <a:xfrm>
            <a:off x="6867360" y="4067280"/>
            <a:ext cx="69840" cy="11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2"/>
          <p:cNvSpPr/>
          <p:nvPr/>
        </p:nvSpPr>
        <p:spPr>
          <a:xfrm>
            <a:off x="6845400" y="4373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3"/>
          <p:cNvSpPr/>
          <p:nvPr/>
        </p:nvSpPr>
        <p:spPr>
          <a:xfrm flipH="1">
            <a:off x="4962600" y="4008600"/>
            <a:ext cx="26352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4"/>
          <p:cNvSpPr/>
          <p:nvPr/>
        </p:nvSpPr>
        <p:spPr>
          <a:xfrm>
            <a:off x="5262480" y="4033800"/>
            <a:ext cx="1238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75"/>
          <p:cNvSpPr/>
          <p:nvPr/>
        </p:nvSpPr>
        <p:spPr>
          <a:xfrm>
            <a:off x="4959360" y="423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6"/>
          <p:cNvSpPr/>
          <p:nvPr/>
        </p:nvSpPr>
        <p:spPr>
          <a:xfrm flipH="1">
            <a:off x="5516640" y="4240080"/>
            <a:ext cx="193680" cy="88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7"/>
          <p:cNvSpPr/>
          <p:nvPr/>
        </p:nvSpPr>
        <p:spPr>
          <a:xfrm>
            <a:off x="5794200" y="4257720"/>
            <a:ext cx="30240" cy="66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8"/>
          <p:cNvSpPr/>
          <p:nvPr/>
        </p:nvSpPr>
        <p:spPr>
          <a:xfrm>
            <a:off x="5511600" y="4489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9"/>
          <p:cNvSpPr/>
          <p:nvPr/>
        </p:nvSpPr>
        <p:spPr>
          <a:xfrm flipH="1">
            <a:off x="6154200" y="4278240"/>
            <a:ext cx="7020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80"/>
          <p:cNvSpPr/>
          <p:nvPr/>
        </p:nvSpPr>
        <p:spPr>
          <a:xfrm>
            <a:off x="6375240" y="4276800"/>
            <a:ext cx="78120" cy="4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1"/>
          <p:cNvSpPr/>
          <p:nvPr/>
        </p:nvSpPr>
        <p:spPr>
          <a:xfrm>
            <a:off x="6102360" y="43275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2"/>
          <p:cNvSpPr/>
          <p:nvPr/>
        </p:nvSpPr>
        <p:spPr>
          <a:xfrm>
            <a:off x="4019400" y="4162320"/>
            <a:ext cx="79560" cy="11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3"/>
          <p:cNvSpPr/>
          <p:nvPr/>
        </p:nvSpPr>
        <p:spPr>
          <a:xfrm flipH="1">
            <a:off x="2553840" y="4307040"/>
            <a:ext cx="203400" cy="87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4"/>
          <p:cNvSpPr/>
          <p:nvPr/>
        </p:nvSpPr>
        <p:spPr>
          <a:xfrm flipH="1">
            <a:off x="1933200" y="3989520"/>
            <a:ext cx="32076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5"/>
          <p:cNvSpPr/>
          <p:nvPr/>
        </p:nvSpPr>
        <p:spPr>
          <a:xfrm flipH="1">
            <a:off x="3218040" y="4357800"/>
            <a:ext cx="13176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Information Network Architectu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PRI Report: Key Gaps and Issue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80 candidate existing standard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 Standards gaps and issue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key action it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 RF interference issues for unlicensed band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Internet Protocol suite profiles for variou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common pricing information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mart meter software upgradeability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open access protocol for energy usag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 interface to grid for energy storage (in IEEE 15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tandard demand response 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481B-693C-45B1-9CB5-FB6EF6B6B4F3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1000" y="152280"/>
            <a:ext cx="810252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resident’s Cyberspace Policy Review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8320" y="1802880"/>
            <a:ext cx="4038480" cy="33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United States deploys new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mart Gr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, the Federal government must ensure that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urity standards are developed and adop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creating unexpected opportunities for adversaries to penetrate these systems or conduct large-scale attack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57200" y="6553080"/>
            <a:ext cx="838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E795C9-BC4B-4B1E-816D-40EF3051167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61880" y="851040"/>
            <a:ext cx="422460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mart Grid Cyber Security Strategy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28680" y="1079640"/>
            <a:ext cx="8650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ber security coordination task group (CSCT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130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established several sub-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ility Class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-Up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Cas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s/requirements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telec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page on the Smart Grid T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57200" y="6553080"/>
            <a:ext cx="838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BCB08-E5C8-46FF-A053-D91887D6C7A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68280" y="952200"/>
            <a:ext cx="8623440" cy="56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teg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use cases with cyber security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of a risk assessment of the Smart Grid, including assessing vulnerabilities, threats and imp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a security architecture linked to the Smart Grid conceptual architectu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cation of cyber security requirements and risk mitigation measures to provide adequate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recommended cyber security require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3480" y="164880"/>
            <a:ext cx="859788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mart Grid Cyber Security Strategy (2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457200" y="6553080"/>
            <a:ext cx="8380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EE497-C123-4C76-B933-1F03A04E6B5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NIST Rol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2971800"/>
            <a:ext cx="8077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ooperation with the DoE, NEMA, IEEE, GWAC, and other stakeholder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“primary responsibilit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e development of a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ncludes protocols and model standards for information managemen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chieve interoperability of smart grid devices and syst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990720" y="1447920"/>
            <a:ext cx="701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ergy Independence and Security Act (EISA) of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tle XIII, Section 130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mart Grid Interoperabi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I Next Step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I report to NIST posted for public comment (June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nist.gov/smartgrid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omments and include in Draft NIST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workshop August 3-4, 2009– will focus on SDO roles/responsibilities to fill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ST Roadmap to be published mid-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into Phas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28F2-EA02-4C0D-B6C1-30CF83D48AF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hase 2 - Standards Pan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Smart Grid Interoperability Standards Panel by Year End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from all stakehold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ered by private sector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P in June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ve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 new/revised standards for inclusion in NIST interoperability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E2952-82CE-4C70-92DB-8D474EAD14F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304920"/>
            <a:ext cx="71625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hase 3 - Smart Grid Conformance Testing Framewor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s Needed but Work Can Be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ormance Testing Framewor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IST to assist in organizing the framework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embers of eco-system are the ones who will be running th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ber security may be more government le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mbrella Organization to Coordinate Conformance Tes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y be part of the Smart Grid Standards Panel or a new grou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lmost 20 initial standard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ny other identified after second smart grid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5 SDOs identified thus fa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y need to prioritize test cases and develop a phased pla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es Industry Want a Product Certification Progra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mework Organization may provide certification coordinati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EEE 802 can help by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ing the development of standards that can be used within the smart grid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guidelines for wireless communications for the smart gr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ing interference issues and developing coexistence guidelines for operation in unlicensed ba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in SDO Workshop in Aug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125E-AEEB-4927-98FF-3C5491CA7149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Once In A Lifetime Opportunity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A3B6-480C-431F-A312-B3391C09641C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94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Need for Standards is Urgen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 Smart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0 - $50 billion dollar deployment nation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way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technology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ence of firm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ongressional Research Servic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8580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A8E2-22AB-4FB4-853B-0E16EF87598E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34797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533520" y="1600200"/>
          <a:ext cx="8229600" cy="4417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lecom 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xt Generation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art G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-world exam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zon FiOS, AT&amp;T Uver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cel Boulder, Colo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dards coordination star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key standards bo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1 standards iss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 2 issu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be issued on rolling b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standards docu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~600 so f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ll be hundr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ure of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ly mix &amp; match of existing stand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x &amp; match of existing standards and many ne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DAB0F-9914-4876-938F-0D638317060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tle 1"/>
          <p:cNvSpPr/>
          <p:nvPr/>
        </p:nvSpPr>
        <p:spPr>
          <a:xfrm>
            <a:off x="685800" y="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mart Grid Standards Development:  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Major Under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nt Developments…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rch 18 – Full time senior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xecutive appoin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nsultations with industry, standards developers, DOE and FERC to develop action pla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ril 2 – $1.3 million contract awarded to EPRI to augment NIST staf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April 13 – Action plan announc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ril 17 – Webcast with 260 stakeholders; positive respon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ril 20 –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Smart Grid Today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ticle reports: “NIST unveils first steps of unnaturally paced standards effort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pril 28-29 – First Standards Workshop; 430 particip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May 8 – NIST announces recognition of first 16 standar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13 – Webcast with 220 state public utility commissio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May 18 – Leadership Meeting with 60 CEOs and business lead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y 19-20 Second Standards Workshop; 700 participa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dentified standards needed to realize six priority smart grid applications (including four identified by FERC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June 18 – EPRI “Report to NIST on the Smart Grid Interoperability Standards Roadmap” released for public com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D1F-6573-48F4-A12E-12C34A353857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71625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NIST developed plan after listening to key industry concerns</a:t>
            </a:r>
            <a:endParaRPr b="0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, participative process – 80% of electric grid is owned and operated by privat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ies recognize need for speed, but want a systematic, not ad ho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should be developed by private sector standards bodies, with NIST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are necessary but not sufficient – testing and certification regime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4139-A8AA-423E-9449-416B92213114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ST Three Phase Plan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6625-2EB3-4E03-B6F5-4DB26D584A3F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609480" y="1400400"/>
            <a:ext cx="3048120" cy="1923480"/>
          </a:xfrm>
          <a:prstGeom prst="rect">
            <a:avLst/>
          </a:prstGeom>
          <a:solidFill>
            <a:srgbClr val="0000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gnize a set of initial existing consensus standards and develop a roadmap to fill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entagon 6"/>
          <p:cNvSpPr/>
          <p:nvPr/>
        </p:nvSpPr>
        <p:spPr>
          <a:xfrm>
            <a:off x="3886200" y="1371600"/>
            <a:ext cx="4267080" cy="1981080"/>
          </a:xfrm>
          <a:custGeom>
            <a:avLst/>
            <a:gdLst>
              <a:gd name="textAreaLeft" fmla="*/ 0 w 4267080"/>
              <a:gd name="textAreaRight" fmla="*/ 4267440 w 426708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86" y="0"/>
                </a:lnTo>
                <a:lnTo>
                  <a:pt x="21600" y="10800"/>
                </a:lnTo>
                <a:lnTo>
                  <a:pt x="1658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 public/private Standards Panel to provide ongoing recommendations for new/revised standards to be recognized by 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tagon 7"/>
          <p:cNvSpPr/>
          <p:nvPr/>
        </p:nvSpPr>
        <p:spPr>
          <a:xfrm>
            <a:off x="5334120" y="3809880"/>
            <a:ext cx="2819160" cy="167652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178" y="0"/>
                </a:lnTo>
                <a:lnTo>
                  <a:pt x="21600" y="10800"/>
                </a:lnTo>
                <a:lnTo>
                  <a:pt x="151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ing and Certific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9"/>
          <p:cNvCxnSpPr/>
          <p:nvPr/>
        </p:nvCxnSpPr>
        <p:spPr>
          <a:xfrm>
            <a:off x="380520" y="5791320"/>
            <a:ext cx="815436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27" name="TextBox 10"/>
          <p:cNvSpPr/>
          <p:nvPr/>
        </p:nvSpPr>
        <p:spPr>
          <a:xfrm>
            <a:off x="386280" y="61722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1"/>
          <p:cNvSpPr/>
          <p:nvPr/>
        </p:nvSpPr>
        <p:spPr>
          <a:xfrm>
            <a:off x="320040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2"/>
          <p:cNvSpPr/>
          <p:nvPr/>
        </p:nvSpPr>
        <p:spPr>
          <a:xfrm>
            <a:off x="1833840" y="586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3"/>
          <p:cNvSpPr/>
          <p:nvPr/>
        </p:nvSpPr>
        <p:spPr>
          <a:xfrm>
            <a:off x="5948640" y="5867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5"/>
          <p:cNvSpPr/>
          <p:nvPr/>
        </p:nvSpPr>
        <p:spPr>
          <a:xfrm flipH="1">
            <a:off x="5331960" y="5792760"/>
            <a:ext cx="3240" cy="3808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0" descr=""/>
          <p:cNvPicPr/>
          <p:nvPr/>
        </p:nvPicPr>
        <p:blipFill>
          <a:blip r:embed="rId1"/>
          <a:stretch/>
        </p:blipFill>
        <p:spPr>
          <a:xfrm>
            <a:off x="-25560" y="0"/>
            <a:ext cx="9169560" cy="1219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3276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lease 1.0 Standards Identified for NIST Interoperability Framework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24465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llowing the April 28-29 Smart Grid Interoperability workshop, NIST deemed that sufficient consensus has been achieved on 16 initi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May 18, NIST announced intention to identify these standards in the interoperability framework following 30 day comment peri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ST’s announcement recognized that some of these standards will require further development and many additional standards will be need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ST will identify additional standards for inclusion on a rolling ba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D2D1-CB8C-4038-AC31-9427830D3A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76720" y="762120"/>
          <a:ext cx="5867280" cy="6089400"/>
        </p:xfrm>
        <a:graphic>
          <a:graphicData uri="http://schemas.openxmlformats.org/drawingml/2006/table">
            <a:tbl>
              <a:tblPr/>
              <a:tblGrid>
                <a:gridCol w="2062080"/>
                <a:gridCol w="3805200"/>
              </a:tblGrid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ndar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li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-SEC System Security Requirem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metering infrastructure (AMI) and Smart Grid end-to-end secur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I C12.19/MC12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enue metering information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net ANSI ASHRAE 135-2008/ISO 16484-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P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tion and feeder device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 60870-6 / TASE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-control center communic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 618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tation automation and prote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 61968/619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level energy management system interfac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C 62351 Parts 1-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 security for power system control oper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C37.1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asor measurement unit (PMU) communicatio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15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and electrical interconnections between utility and distributed generation (DG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EE 1686-20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urity for intelligent electronic devices (IED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RC CIP 002-0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standards for the bulk power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ST Special Publication (SP) 800-53, NIST SP 800-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ber security standards and guidelines for federal information systems, including those for the bulk power syste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 Automated Demand Response (Open ADR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ce responsive and direct load cont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HA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Area Network device communication, measurement, and contro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gBee/HomePlug Smart Energy Profil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Area Network (HAN) Device Communications and Information Mode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adership Meeting May 18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ed by Secretaries Locke and C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35 CEOs and senior executives from utilities,  manufacturers, IT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12 CEOs of standards bodies and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 5 state public utility commiss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RC and F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y Administration 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NIST program and announce init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age CEOs in dialog to elicit industry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CEO commi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4008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39F6-B30D-45D9-A04B-5A8BCB46346A}" type="slidenum">
              <a:rPr b="0" i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22:33:06Z</dcterms:created>
  <dc:creator>Dereck Orr</dc:creator>
  <dc:description/>
  <dc:language>en-US</dc:language>
  <cp:lastModifiedBy>user</cp:lastModifiedBy>
  <dcterms:modified xsi:type="dcterms:W3CDTF">2009-07-13T18:49:33Z</dcterms:modified>
  <cp:revision>322</cp:revision>
  <dc:subject/>
  <dc:title>Initiative Title</dc:title>
</cp:coreProperties>
</file>