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B592-81F5-4C78-BB98-0C9BBC803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17D5-5819-4A6C-AC05-1D101357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446E-E3A5-407E-9C65-215EFAA2A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2A8D-93F6-464A-A83E-3261138C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4026-799A-4F69-9DBC-E03211D6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ACA8-6691-4623-92F9-A89CC6BE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24C-EE53-4703-91A1-50EF4105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DEBC-2709-4E01-8487-D1F07056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E350-D841-4C31-A953-D443279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88B-A224-43EB-834C-A6A3966B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705-8796-4CFC-879D-FAFB73FC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D557-AE97-4010-9E63-1ACED74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EFA182-8621-4769-8439-53964212E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8/143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jrosdahl@ieee.org" TargetMode="External"/><Relationship Id="rId2" Type="http://schemas.openxmlformats.org/officeDocument/2006/relationships/hyperlink" Target="mailto:STDS-802-SEC@LISTSERV.IEEE.ORG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file/08/11-08-0813-03-0vht-ec-report.ppt" TargetMode="External"/><Relationship Id="rId2" Type="http://schemas.openxmlformats.org/officeDocument/2006/relationships/hyperlink" Target="https://mentor.ieee.org/802.11/file/08/11-08-1367-01-0000-feedback-received-on-802-11ad-par.ppt" TargetMode="External"/><Relationship Id="rId3" Type="http://schemas.openxmlformats.org/officeDocument/2006/relationships/hyperlink" Target="https://mentor.ieee.org/802.11/file/08/11-08-0806-07-0vht-60-ghz-par-nescom-form-plus-5cs.doc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kraemer@marvell.com" TargetMode="External"/><Relationship Id="rId2" Type="http://schemas.openxmlformats.org/officeDocument/2006/relationships/hyperlink" Target="mailto:STDS-802-SEC@LISTSERV.IEEE.ORG" TargetMode="External"/><Relationship Id="rId3" Type="http://schemas.openxmlformats.org/officeDocument/2006/relationships/hyperlink" Target="mailto:Adrian.P.Stephens@intel.com" TargetMode="External"/><Relationship Id="rId4" Type="http://schemas.openxmlformats.org/officeDocument/2006/relationships/hyperlink" Target="mailto:jrosdahl@ieee.org" TargetMode="External"/><Relationship Id="rId5" Type="http://schemas.openxmlformats.org/officeDocument/2006/relationships/hyperlink" Target="mailto:sli@sibeam.com" TargetMode="External"/><Relationship Id="rId6" Type="http://schemas.openxmlformats.org/officeDocument/2006/relationships/hyperlink" Target="mailto:sli@sibeam.com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ateri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8-11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09760" y="2286000"/>
          <a:ext cx="8124480" cy="249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2286000"/>
                    <a:ext cx="812448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8975-920E-4492-A44A-DA7075C328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al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on outstanding Comment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s://mentor.ieee.org/802.11/file/08/11-08-1217-02-000n-p802-11n-working-group-letter-ballot-report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raft v7.0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grouper.ieee.org/groups/802/11/private/Draft_Standards/11n/Draft%20P802.11n_D7.0.pd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is of WG LB Repor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s://mentor.ieee.org/802.11/file/08/11-08-1437-00-000n-precis-of-p802-11n-wg-lb-report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6F6-5F88-407E-8D65-CC692B23D8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the material used for the Closing EC Meeting in Dallas November Plenary – November 14, 2008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ECD9-CEC6-4687-A168-242D7D7CF8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 – 5.02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-2007 Revision P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Request that the PAR contained in 11-08/1149r2 as posted to the IEEE 802 Executive Committee (EC) agenda be forwarded to NesCom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Kraemer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uz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48C-D801-4C1F-8929-E606A9EEE2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– 5.0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 New PAR 802.11ad  (VHT 60Ghz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ve to forward the PAR information  from 11-08-0806-07-0vht-60-ghz-par-nescom-form-plus-5cs, in the proper web based form, to Nes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 Vote on the mo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: Y:41, N:0, Abs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G Vote on the motion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: Y:92, N:0, Abs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Kraemer   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:                No:           Abstai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6B5-B102-4F27-99A4-333258742C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ed for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---- Original Message ----- From: "Jon Rosdahl" &lt;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jrosdahl@ieee.or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: &lt;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STDS-802-SEC@LISTSERV.IEEE.OR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t: Wednesday, October 08, 2008 4:53 P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ject: Re: [802SEC] Item 4 from WG11 for SEC Agenda -- Nov 200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Hello SEC member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   Just to clarify the Agenda items WG11 is requesting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Monda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II  Administrative withdrawal of P802.11t and disband of TGT    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Frida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ME  P802.11 revision PAR to NesCom                              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ME  P802.11xx Very High Throughput 60 GHz PAR to NesCom          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ME  P802.11n Higher Throughput to Sponsor ballot (conditional)   5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Regards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gt; Jo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ED8-63CE-4200-9779-6F55FABCC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Package for the VHT60 PA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ckage sent to EC reflecto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C Report: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file/08/11-08-0813-03-0vht-ec-report.ppt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eedback on VHT60 PAR and response: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file/08/11-08-1367-01-0000-feedback-received-on-802-11ad-par.p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HT60 PAR:</a:t>
            </a:r>
            <a:br>
              <a:rPr sz="2000"/>
            </a:br>
            <a:br>
              <a:rPr sz="2000"/>
            </a:br>
            <a:r>
              <a:rPr b="1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https://mentor.ieee.org/802.11/file/08/11-08-0806-07-0vht-60-ghz-par-nescom-form-plus-5cs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CA71-E84C-4505-8393-AEAEFC51D9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ackground for VHT 60 PAR request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PAR and Five Criteria contained in the documents referenced below meet IEEE-SA guidelines, Request that the updated PAR and Five Criteria contained in 11-08/806r7 be sent to IEEE 802 Executive Committee (EC) for EC approval to submit 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G 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ove: Darwin Engwer Second: George Vlant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 Y: 41, N: 0, Abs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G resul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 by Eldad Perahia (Intel) , Second:  Peter Murray (TMG Inc; affiliation Qualcom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:  92: 0: 1 – P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E3A-0967-4976-BF38-9C4480B425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– 5.17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Approval for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t conditional approval, under Clause 19, to forward P802.11n Draft 7.0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802.11n had a 94% approval on the last WG Recirculation Ballot.  There were 17 voters that had voted NO, then one of the NO voters changed to a YES vo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 Group Vote on the Motion Passed: 17 y, 1 n, 0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vote on the Motion Passed: 53 y, 3 n, 6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Kraemer     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             No             Abs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933-ED35-4FF3-ADF8-A415009CEF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ckground for TGn Sponsor Ballot reques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---- Original Message -----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Bruce Kraeme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STDS-802-SEC@LISTSERV.IEEE.OR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c: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Stephens, Adrian P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Jon Rosdah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Sheung</a:t>
            </a:r>
            <a:r>
              <a:rPr b="1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 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t: Wednesday, October 08, 2008 5:27 P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bject: TGn Sponsor Ballot request - Presentation for Novemb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ar EC,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 previously indicated that preparations are being made for WG11 to request conditional approval for TGn to go to sponsor ballot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 explain the history and status of the amendment, the TGn team has composed a presentation which will be the basis for the EC presentation in November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file/08/11-08-1217-02-000n-p802-11n-working-group-letter-ballot-report.doc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ease provide feedback when you have an opportunit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 expect to update the document based upon feedback from the EC, as well as feedback from WG11 and TGn as events progress during the November Plenary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5B16-0C9D-4882-B6C8-3E403DE93AF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9:25:55Z</dcterms:created>
  <dc:creator>Jon Rosdahl</dc:creator>
  <dc:description/>
  <dc:language>en-US</dc:language>
  <cp:lastModifiedBy>Jon Rosdahl</cp:lastModifiedBy>
  <cp:lastPrinted>1998-02-10T13:28:06Z</cp:lastPrinted>
  <dcterms:modified xsi:type="dcterms:W3CDTF">2008-11-14T20:30:44Z</dcterms:modified>
  <cp:revision>2</cp:revision>
  <dc:subject/>
  <dc:title>EC Informatoin Slides</dc:title>
</cp:coreProperties>
</file>