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D237-EB03-4D3F-971E-35C08127E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752F-7310-41BB-9F3F-7D6B7076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264B-DF4A-4272-AC83-791A915F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E82-8E5F-4488-9305-E22A0ADC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D919-2EAC-4F61-AD17-DE845DE6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5A7C-387E-4400-B09D-CE2398FB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655E-2B5D-4150-A660-F8A915B0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47FD-08FC-4781-845C-4CBFEB5B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929E-1093-4046-8D40-1D668D38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C8CD-DF9C-484A-AC83-63FA9E31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315-45B4-4CFE-86BA-12CD7959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767-51FE-4CC4-9E80-48E09562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2FAEA48-6FE6-4CE3-B41B-E789582BD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796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08/1373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edback received on 802.11 Revision PAR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08-11-1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19120" y="2279520"/>
          <a:ext cx="809460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2279520"/>
                    <a:ext cx="809460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FE6-9D03-4E89-86F7-F49944CD5A7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 WG Mo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 as resolution to the feedback from Paul Nikolich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 new sentence in 5.5 need for Project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he approved amendments as of the filing of the revision PAR include IEEE 802.11k-2008, IEEE 802.11r-2008, and IEEE 802.11y-2008 amendment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d: Jon Rosdahl (CS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eter E. (CIS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 y, 0 n, 0 a – Motion Pa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7B10-EC6E-428A-9749-0A8B9E8035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document contains the comments received and the recommended resolutions for the 802.11 Revision PAR submission to 802 EC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BFFE-9033-4D7E-9FB8-8582865DD7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edback Received on 802.11 Revision PAR From Paul Nikolich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ease list the approved amendments that are anticipated to be rolled up into the documents as part of the revision in 5.5 Need for Project part of the PAR form.  A simple list of the numbers would be sufficient (i.e., the entire titles aren't necessary)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2E6-33AB-403A-8495-0E19A2F2CFE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sed Response to Feedbac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a new sentence in 5.5 need for Project clau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he approved amendments as of the filing of the revision PAR include 802.11k, 802.11r, and 802.11y amendment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64BF-7020-48BA-92E2-C0E64096C4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5 Need for the Project: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reason for this project is to incorporate accumulated maintenance changes (editorial and technical corrections) into 802.11-2007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roll up the approved amendments to the standard.  </a:t>
            </a: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The approved amendments as of the filing of the revision PAR include 802.11k, 802.11r, and 802.11y amendments.</a:t>
            </a:r>
            <a:br>
              <a:rPr sz="2400"/>
            </a:b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FC5-2C3F-46B0-BDC5-4EB66A4370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to accept Proposed Respons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b Motion: Accept the proposed response contained in 08/1373r0 slide 4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d:  Jon Rosdah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ike Montumor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08B-D67E-45A8-951A-710416003BD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tion to Amen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802.11k, 802.11r, 802.11y to “ </a:t>
            </a: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P802.11k-2008, P802.11r-2008, and P802.11y-2008”, and change motion to refer to proper slid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</a:rPr>
              <a:t>Accepted without objec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3B9-9C36-44B7-94B1-0854BD519E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mb Approved Proposed Response to Feedbac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 a new sentence in 5.5 need for Project claus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he approved amendments as of the filing of the revision PAR include P802.11k-2008, P802.11r-2008, and P802.11y-2008 amendment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39D-B099-4752-BBD2-C1C6DF3798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mb Motion to approve slide 8 as the response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b Motion: Accept the proposed response contained in 08/1373r0 slide 8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d:  Jon Rosdah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ike Montumor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Gmb: 8-0-0 motion approved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9167-1479-4CB7-8528-8241A3ADA67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6:38:31Z</dcterms:created>
  <dc:creator>Jon Rosdahl</dc:creator>
  <dc:description/>
  <dc:language>en-US</dc:language>
  <cp:lastModifiedBy>Jon Rosdahl</cp:lastModifiedBy>
  <cp:lastPrinted>1998-02-10T13:28:06Z</cp:lastPrinted>
  <dcterms:modified xsi:type="dcterms:W3CDTF">2008-11-12T17:54:48Z</dcterms:modified>
  <cp:revision>6</cp:revision>
  <dc:subject/>
  <dc:title>Feedback received on 802.11 Revision PAR </dc:title>
</cp:coreProperties>
</file>