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E0DC-B4C2-40D1-8FFA-D58E423E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E728-7B2E-4954-8B29-55CD5FB5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5B5D-4F4C-46A8-B3BD-837EA265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B71-5ACE-456D-AC77-154AD1E7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0AF-F04C-4804-B842-C4B3E9E6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2ED-EF32-4411-AC60-F4B318C6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6E9-2D5D-4E99-A080-AE188FAF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7AD-C2B8-4289-8CAD-797C9D52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4B5-442B-4690-86E9-3D729B723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A02D-1691-432B-BC5B-B4D367AB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498-AFBB-4FA2-8B0E-4DDA52C4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5FD-21C8-46AE-A4F2-75080700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4150890-015F-4911-8ABB-96FC9918D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8/1352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21/file/08/21-08-0260-04-bcst-broadcast-handovers-sg-par-5c.doc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s to 802_21  from 802_11 on Pending PARs November Plen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8-11-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2590920"/>
          <a:ext cx="8100720" cy="239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90920"/>
                    <a:ext cx="8100720" cy="23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213372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6599-47D9-416B-A1BF-BCA631F1358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the November 2008 802 Plenary, there are a number of PARs from various Working Groups that are being proposed for 802 EC approval.  This Submission has extracted the comments for 802.21from 08/1310r1 which is contains the discussion and a base location that collected all the comments from 802.11 memb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86B1-B948-49D9-B5CF-B83C196A01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posed PARs 802.21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P802.21 Media Independent Handover Services - Extensions for Supporting Downlink Only Broadcast Technolog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 PAR and 5C [ </a:t>
            </a:r>
            <a:r>
              <a:rPr b="0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21/file/08/21-08-0260-04-bcst-broadcast-handovers-sg-par-5c.doc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B1B9-159C-4840-90B5-1E1F97530E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21 PAR Commen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eived from 802.1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 acronyms need defining on first useage….see 5.2, 5.4, 5.5 et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are handing over from a Broadcast Only to Broadcast Only, how do you send info uplink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5.2 Scope and 5.4 Purpose: “may facilitate handovers between DOB technologies. 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6003-AE40-4831-8D25-4CF2EAB025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01:27:39Z</dcterms:created>
  <dc:creator>Jon Rosdahl</dc:creator>
  <dc:description/>
  <dc:language>en-US</dc:language>
  <cp:lastModifiedBy>Jon Rosdahl</cp:lastModifiedBy>
  <cp:lastPrinted>1998-02-10T13:28:06Z</cp:lastPrinted>
  <dcterms:modified xsi:type="dcterms:W3CDTF">2008-11-11T15:16:38Z</dcterms:modified>
  <cp:revision>17</cp:revision>
  <dc:subject/>
  <dc:title>Comments on 802_21 from 802_11 on Pending PARs November Plenary</dc:title>
</cp:coreProperties>
</file>