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EC0DD-A47E-45B6-8212-CEDAA6B81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15893-4CED-425B-90AA-66276B012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A89E2-0E38-4FBF-85EA-CEB5A3B55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0059D-D50B-472B-9E57-03BCB4055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41B80-EFCA-43C1-8BEE-8EE7E41F1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CBACB-C4FB-4F9B-97F9-75A3973C5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B6A16-51EF-4E55-9367-7459FAE21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1F9C9-FDD0-4562-A2D9-274A1B2F4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42ADC-1E3A-429C-A3A3-9194B030D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BCBD4-A5C2-48E1-B454-583B6DD99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B5942-7A06-4A5D-A9BB-4B3999C94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03337-AFAC-4F14-AD9D-015B8F9D6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187F07C-3076-4048-82D3-9ACE613487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8/1351r1</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mentor.ieee.org/802.15/file/08/15-08-0664-03-rfid-draft-par.pdf" TargetMode="External"/><Relationship Id="rId2" Type="http://schemas.openxmlformats.org/officeDocument/2006/relationships/hyperlink" Target="https://mentor.ieee.org/802.15/file/08/15-08-0665-02-rfid-draft-5c-document.pdf"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entor.ieee.org/802.15/file/08/15-08-0705-03-0nan-wnan-par.pdf" TargetMode="External"/><Relationship Id="rId2" Type="http://schemas.openxmlformats.org/officeDocument/2006/relationships/hyperlink" Target="https://mentor.ieee.org/802.15/file/08/15-08-0706-01-0nan-wnan-5c.pdf"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mentor.ieee.org/802.15/file/08/15-08-0656-01-0vlc-par-document.pdf" TargetMode="External"/><Relationship Id="rId2" Type="http://schemas.openxmlformats.org/officeDocument/2006/relationships/hyperlink" Target="https://mentor.ieee.org/802.15/file/08/15-08-0667-01-0vlc-5c-draft.pdf"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to 802_15 from 802_11 on Pending PARs November Plenary</a:t>
            </a:r>
            <a:endParaRPr b="1" lang="en-US" sz="3200" spc="-1" strike="noStrike">
              <a:solidFill>
                <a:srgbClr val="000000"/>
              </a:solidFill>
              <a:latin typeface="Times New Roman"/>
            </a:endParaRPr>
          </a:p>
        </p:txBody>
      </p:sp>
      <p:sp>
        <p:nvSpPr>
          <p:cNvPr id="46" name="PlaceHolder 2"/>
          <p:cNvSpPr>
            <a:spLocks noGrp="1"/>
          </p:cNvSpPr>
          <p:nvPr>
            <p:ph/>
          </p:nvPr>
        </p:nvSpPr>
        <p:spPr>
          <a:xfrm>
            <a:off x="685800" y="18288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8-11-11</a:t>
            </a:r>
            <a:endParaRPr b="1" lang="en-US" sz="2000" spc="-1" strike="noStrike">
              <a:solidFill>
                <a:srgbClr val="000000"/>
              </a:solidFill>
              <a:latin typeface="Times New Roman"/>
            </a:endParaRPr>
          </a:p>
        </p:txBody>
      </p:sp>
      <p:graphicFrame>
        <p:nvGraphicFramePr>
          <p:cNvPr id="47" name=""/>
          <p:cNvGraphicFramePr/>
          <p:nvPr/>
        </p:nvGraphicFramePr>
        <p:xfrm>
          <a:off x="533520" y="2590920"/>
          <a:ext cx="8100720" cy="2396880"/>
        </p:xfrm>
        <a:graphic>
          <a:graphicData uri="http://schemas.openxmlformats.org/presentationml/2006/ole">
            <p:oleObj progId="Word.Document.12" r:id="rId1" spid="">
              <p:embed/>
              <p:pic>
                <p:nvPicPr>
                  <p:cNvPr id="48" name="" descr=""/>
                  <p:cNvPicPr/>
                  <p:nvPr/>
                </p:nvPicPr>
                <p:blipFill>
                  <a:blip r:embed="rId2"/>
                  <a:stretch/>
                </p:blipFill>
                <p:spPr>
                  <a:xfrm>
                    <a:off x="533520" y="2590920"/>
                    <a:ext cx="8100720" cy="2396880"/>
                  </a:xfrm>
                  <a:prstGeom prst="rect">
                    <a:avLst/>
                  </a:prstGeom>
                  <a:ln w="0">
                    <a:noFill/>
                  </a:ln>
                </p:spPr>
              </p:pic>
            </p:oleObj>
          </a:graphicData>
        </a:graphic>
      </p:graphicFrame>
      <p:sp>
        <p:nvSpPr>
          <p:cNvPr id="49" name=""/>
          <p:cNvSpPr/>
          <p:nvPr/>
        </p:nvSpPr>
        <p:spPr>
          <a:xfrm>
            <a:off x="533520" y="213372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C21E5D4-77D0-4742-88DF-2D332CBF80A0}" type="slidenum">
              <a:t>1</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5.4 RFID PAR and 5C Comments </a:t>
            </a:r>
            <a:r>
              <a:rPr b="1" lang="en-US" sz="3200" spc="-1" strike="noStrike">
                <a:solidFill>
                  <a:srgbClr val="000000"/>
                </a:solidFill>
                <a:latin typeface="Times New Roman"/>
              </a:rPr>
              <a:t>(5)</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802.15.4 RFID 5C &amp; PAR need to provide a better justification of feasibility for a unified standard that addresses the requirements of all market segment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reason that the active RFID market is segmented today is that each market segment has different requiremen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the 5C and PAR assume that a unified standard can achieve the goals of every market segme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ncorrectly bases technical feasibility for the unified standard on an argument that each of the existing standards are technically feasibl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possible that the market requirements for the various segments are contradictor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C and PAR need to demonstrate technical feasibility for the unified standard, not just a subse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1C200FF-A1EC-4900-968E-982CE3CB95CB}" type="slidenum">
              <a:t>10</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5.4 RFID PAR and 5C Comments </a:t>
            </a:r>
            <a:r>
              <a:rPr b="1" lang="en-US" sz="3200" spc="-1" strike="noStrike">
                <a:solidFill>
                  <a:srgbClr val="000000"/>
                </a:solidFill>
                <a:latin typeface="Times New Roman"/>
              </a:rPr>
              <a:t>(6)</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802.15.4 RFID 5C &amp; PAR need to acknowledge the use of 802.11 in this space today and explain why a 802.15.4 based solution will be significantly better</a:t>
            </a:r>
            <a:endParaRPr b="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asserted in the 5C that the proposed active RFID functionality is not addressed in any existing 802 standar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there is a growing opinion among some in the industry that 802.11 based systems could dominate this space</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already several start-ups that are showing Wi-Fi based sensor chips with very low power and cost – and of course with Wi-Fi you don’t require a separate infrastructure.</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mp; 5C needs to be modified to recognize the existing use of 802.11 in the active tag space, and explain why 802.15.4 offers significant benefits over 802.11.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nswer should account for the fact that 802.11 based solutions exist today, whereas 802.15.4 based solutions may not exist for some years (5 year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0391479-EDEA-4060-886D-F5D132CB206D}" type="slidenum">
              <a:t>11</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NAN PAR &amp; 5C Comments Received from 802.11</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This amendment proposes operation within at least the 2.4 GHz band, including ranges of up to 5 km with omni antennas, and simultaneous operation for at least 3 co-location orthogonal networks. Further, at the NAN tutorial proponents advocated a frequency hopping PHY technology. In 8.1, a transmit power up to 1W is indicated.</a:t>
            </a:r>
            <a:endParaRPr b="1"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t 2.4 GHz is a crowded band with dense WLAN deployments and regular Bluetooth usage, each offering tremendous value to their users. We have seen that coexistence with frequency hoppers is difficult as they consume the whole band making frequency planning impossible.</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AE0DC67-AF5A-49BB-A134-81E21CE78239}" type="slidenum">
              <a:t>12</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NAN PAR &amp; 5C Comments (2)</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Page contains comments that are from a member of 802.11, but the broader 802.11 has agreed with the coexistence statement as listed on slide 15.</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ordingly, coexistence is a grave concern: the PAR is for a latecomer to a mature band, the technology's impact will be at high TX power and over a wide area, and the technology's proponents favor a technology with poor coexistence characteristics. In this context, the language in the scope "This amendment also addresses coexistence with other 802 wireless standards operating in the same bands." is inadequately weak.</a:t>
            </a:r>
            <a:endParaRPr b="0" lang="en-US" sz="1800" spc="-1" strike="noStrike">
              <a:solidFill>
                <a:srgbClr val="000000"/>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2.4 GHz band should be removed from the PAR scope, or the PAR language should be strengthened. Proposed substitute language is "Devices complying with this amendment shall minimally impact the operation of 802.11 and 802.15 devices, along with other 802 wireless devices, already operating in the same band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AD725B6-AB6B-4828-A529-E7DE0FAFC51A}" type="slidenum">
              <a:t>13</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NAN PAR &amp; 5C Comments (3)</a:t>
            </a:r>
            <a:endParaRPr b="1" lang="en-US" sz="3200" spc="-1" strike="noStrike">
              <a:solidFill>
                <a:srgbClr val="000000"/>
              </a:solidFill>
              <a:latin typeface="Times New Roman"/>
            </a:endParaRPr>
          </a:p>
        </p:txBody>
      </p:sp>
      <p:sp>
        <p:nvSpPr>
          <p:cNvPr id="75"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The PAR does not acknowledge that either 802.11 or 802.16 is likely a better home for this work than 802.15.</a:t>
            </a:r>
            <a:endParaRPr b="1"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5km range is wildly outside the scope of Personal Area Networking. 802.11 (through 11y) and 802.16 both have far greater expertise in outdoor channel models, and systems for same.</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Contrary to 5.5 "The 802.11 standards have been optimized for high data rates along with support for star network topologies with centralized control.", 802.11 is already providing a mesh amendment that addresses this assertion. 802.16 also has work in this are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7DC2B4B-C8CF-41BF-BD19-4A8F835D60D0}" type="slidenum">
              <a:t>14</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NAN PAR &amp; 5C Comments (4)</a:t>
            </a:r>
            <a:endParaRPr b="1"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ggest that a change to the last sentence of PAR 5.2 similarly to what the EC has requested in the past of other groups indicating that the phrase “it addresses” is not sufficient:</a:t>
            </a: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is amendment also addresses coexistence with other 802 wireless standards operating in the same bands.”</a:t>
            </a:r>
            <a:endParaRPr b="1"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 “This amendment also provides mechanisms that enable coexistence with other systems in the band including IEEE 802 devices operating the the same band.” </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1BBDBDC-AE36-43BB-9F2B-71864AE6B4A2}" type="slidenum">
              <a:t>15</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NAN PAR &amp; 5C Comments (5)</a:t>
            </a:r>
            <a:endParaRPr b="1" lang="en-US" sz="3200" spc="-1" strike="noStrike">
              <a:solidFill>
                <a:srgbClr val="000000"/>
              </a:solidFill>
              <a:latin typeface="Times New Roman"/>
            </a:endParaRPr>
          </a:p>
        </p:txBody>
      </p:sp>
      <p:sp>
        <p:nvSpPr>
          <p:cNvPr id="79" name="PlaceHolder 2"/>
          <p:cNvSpPr>
            <a:spLocks noGrp="1"/>
          </p:cNvSpPr>
          <p:nvPr>
            <p:ph/>
          </p:nvPr>
        </p:nvSpPr>
        <p:spPr>
          <a:xfrm>
            <a:off x="685440" y="1752120"/>
            <a:ext cx="7924680" cy="43434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n the tutorial discussions were held, it seemed that the use of the 700 MHz ( e.g. Whitespaces) to 1GHz bands provided the range/power that seemed most reasonable, but in the 2.4 GHz band, the range/power does not seem practical.  Why not focus the group on the 700 to 900 MHz bands?  </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new devices use the 2.4GHz band, how will they coexist with the existing devices in the band?</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new devices use 2.4GHz, why develop a new MAC and PHY?</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a FH PHY defined in the 802.11 standard, as well as a DSS PHY, so maybe a new 802.11 amendment would be more appropria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32B7A34-3C87-4CBC-835B-02C3BD9D74D4}" type="slidenum">
              <a:t>16</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7 PAR Comments </a:t>
            </a:r>
            <a:br>
              <a:rPr sz="3200"/>
            </a:br>
            <a:r>
              <a:rPr b="1" lang="en-US" sz="3200" spc="-1" strike="noStrike">
                <a:solidFill>
                  <a:srgbClr val="000000"/>
                </a:solidFill>
                <a:latin typeface="Times New Roman"/>
              </a:rPr>
              <a:t>Received from 802.11</a:t>
            </a:r>
            <a:endParaRPr b="1" lang="en-US" sz="3200" spc="-1" strike="noStrike">
              <a:solidFill>
                <a:srgbClr val="000000"/>
              </a:solidFill>
              <a:latin typeface="Times New Roman"/>
            </a:endParaRPr>
          </a:p>
        </p:txBody>
      </p:sp>
      <p:sp>
        <p:nvSpPr>
          <p:cNvPr id="81" name="PlaceHolder 2"/>
          <p:cNvSpPr>
            <a:spLocks noGrp="1"/>
          </p:cNvSpPr>
          <p:nvPr>
            <p:ph/>
          </p:nvPr>
        </p:nvSpPr>
        <p:spPr>
          <a:xfrm>
            <a:off x="685440" y="1905120"/>
            <a:ext cx="7924680" cy="45720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F stands for Radio Frequencies, as an acronym, you should spell it out on first usage in 5.5 purpose.</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call out RF interference when you state that the band in use is outside the RF band?  Visible light is free of non-visible interference, but that should not be used in the definition of the scope and purpose.  The Scope and Purpose should deal specifically with the stated spectrum and not counter examples.</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the semicolons in the scope statement should be commas. </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you considered the Mirror in the Middle attack? </a:t>
            </a:r>
            <a:r>
              <a:rPr b="1" lang="en-US" sz="2400" spc="-1" strike="noStrike">
                <a:solidFill>
                  <a:srgbClr val="000000"/>
                </a:solidFill>
                <a:latin typeface="Wingdings"/>
                <a:ea typeface="Wingdings"/>
              </a:rPr>
              <a: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848A44B-8528-47EA-A888-2EA8180C716D}" type="slidenum">
              <a:t>17</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tract</a:t>
            </a:r>
            <a:endParaRPr b="1" lang="en-US" sz="3600" spc="-1" strike="noStrike">
              <a:solidFill>
                <a:srgbClr val="000000"/>
              </a:solidFill>
              <a:latin typeface="Times New Roman"/>
            </a:endParaRPr>
          </a:p>
        </p:txBody>
      </p:sp>
      <p:sp>
        <p:nvSpPr>
          <p:cNvPr id="51" name="PlaceHolder 2"/>
          <p:cNvSpPr>
            <a:spLocks noGrp="1"/>
          </p:cNvSpPr>
          <p:nvPr>
            <p:ph/>
          </p:nvPr>
        </p:nvSpPr>
        <p:spPr>
          <a:xfrm>
            <a:off x="685800" y="1676160"/>
            <a:ext cx="777240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November 2008 802 Plenary, 802.15 proposed 3 new PARS for 802 EC approval.  This File is extracted from 08-1310r1 that lists those PARs and those from other WGs for discussion.  This submission attempts to provide the comments from 802.11 members regarding the 802.15 proposed PARs.</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should be noted that 802.11 WG authorized a group to collect and provide the feedback on the proposed PARs. </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1 of this file has been corrected to clarify a discrepancy that was noted by 802.15 after the original file was posted.</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DD7A96D-8251-4CAB-830A-EC932712DEB3}" type="slidenum">
              <a:t>2</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posed PARs 802.15 (1)</a:t>
            </a:r>
            <a:endParaRPr b="1" lang="en-US" sz="3600" spc="-1" strike="noStrike">
              <a:solidFill>
                <a:srgbClr val="000000"/>
              </a:solidFill>
              <a:latin typeface="Times New Roman"/>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15.4f Wireless Medium Access Control (MAC) and Physical Layer </a:t>
            </a:r>
            <a:br>
              <a:rPr sz="2800"/>
            </a:br>
            <a:r>
              <a:rPr b="1" lang="en-US" sz="2800" spc="-1" strike="noStrike">
                <a:solidFill>
                  <a:srgbClr val="000000"/>
                </a:solidFill>
                <a:latin typeface="Times New Roman"/>
              </a:rPr>
              <a:t>(PHY) Specifications for Low Rate Wireless Personal Area Networks (WPANs) </a:t>
            </a:r>
            <a:br>
              <a:rPr sz="2800"/>
            </a:br>
            <a:r>
              <a:rPr b="1" lang="en-US" sz="2800" spc="-1" strike="noStrike">
                <a:solidFill>
                  <a:srgbClr val="000000"/>
                </a:solidFill>
                <a:latin typeface="Times New Roman"/>
              </a:rPr>
              <a:t>- Amendment: Active RFID System PHY</a:t>
            </a:r>
            <a:endParaRPr b="1" lang="en-US" sz="28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 PAR [</a:t>
            </a:r>
            <a:r>
              <a:rPr b="0" lang="en-US" sz="2400" spc="-1" strike="noStrike" u="sng">
                <a:solidFill>
                  <a:srgbClr val="0066ff"/>
                </a:solidFill>
                <a:uFillTx/>
                <a:latin typeface="Times New Roman"/>
                <a:hlinkClick r:id="rId1"/>
              </a:rPr>
              <a:t>https://mentor.ieee.org/802.15/file/08/15-08-0664-03-rfid-draft-par.pdf</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 5C [</a:t>
            </a:r>
            <a:r>
              <a:rPr b="0" lang="en-US" sz="2400" spc="-1" strike="noStrike" u="sng">
                <a:solidFill>
                  <a:srgbClr val="0066ff"/>
                </a:solidFill>
                <a:uFillTx/>
                <a:latin typeface="Times New Roman"/>
                <a:hlinkClick r:id="rId2"/>
              </a:rPr>
              <a:t>https://mentor.ieee.org/802.15/file/08/15-08-0665-02-rfid-draft-5c-document.pdf</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5848D95-B604-4068-8624-2B2913DB80D4}" type="slidenum">
              <a:t>3</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posed PARs 802.15 (2)</a:t>
            </a:r>
            <a:endParaRPr b="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5.4f Wireless Medium Access Control (MAC) and Physical Layer (PHY) Specifications for Low Rate Wireless Personal Area Networks (WPANs) </a:t>
            </a:r>
            <a:br>
              <a:rPr sz="2400"/>
            </a:br>
            <a:r>
              <a:rPr b="1" lang="en-US" sz="2400" spc="-1" strike="noStrike">
                <a:solidFill>
                  <a:srgbClr val="000000"/>
                </a:solidFill>
                <a:latin typeface="Times New Roman"/>
              </a:rPr>
              <a:t>- Amendment: Physical Layer (PHY) Specifications for Low Data Rate Wireless Neighborhood Area Networks (WNAN)</a:t>
            </a:r>
            <a:endParaRPr b="1"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PAR [ </a:t>
            </a:r>
            <a:r>
              <a:rPr b="0" lang="en-US" sz="2000" spc="-1" strike="noStrike" u="sng">
                <a:solidFill>
                  <a:srgbClr val="0066ff"/>
                </a:solidFill>
                <a:uFillTx/>
                <a:latin typeface="Times New Roman"/>
                <a:hlinkClick r:id="rId1"/>
              </a:rPr>
              <a:t>https://mentor.ieee.org/802.15/file/08/15-08-0705-03-0nan-wnan-par.pdf</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5C [ </a:t>
            </a:r>
            <a:r>
              <a:rPr b="0" lang="en-US" sz="2000" spc="-1" strike="noStrike" u="sng">
                <a:solidFill>
                  <a:srgbClr val="0066ff"/>
                </a:solidFill>
                <a:uFillTx/>
                <a:latin typeface="Times New Roman"/>
                <a:hlinkClick r:id="rId2"/>
              </a:rPr>
              <a:t>https://mentor.ieee.org/802.15/file/08/15-08-0706-01-0nan-wnan-5c.pdf</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DDB9244-80F2-4522-A878-D4AC1FCC649B}" type="slidenum">
              <a:t>4</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posed PARs 802.15 (3)</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5.7 PHY and MAC standard for short-range wireless optical communication using visible light</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PAR [ </a:t>
            </a:r>
            <a:r>
              <a:rPr b="0" lang="en-US" sz="2000" spc="-1" strike="noStrike" u="sng">
                <a:solidFill>
                  <a:srgbClr val="0066ff"/>
                </a:solidFill>
                <a:uFillTx/>
                <a:latin typeface="Times New Roman"/>
                <a:hlinkClick r:id="rId1"/>
              </a:rPr>
              <a:t>https://mentor.ieee.org/802.15/file/08/15-08-0656-01-0vlc-par-document.pdf</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5C [ </a:t>
            </a:r>
            <a:br>
              <a:rPr sz="2000"/>
            </a:br>
            <a:r>
              <a:rPr b="0" lang="en-US" sz="2000" spc="-1" strike="noStrike" u="sng">
                <a:solidFill>
                  <a:srgbClr val="0066ff"/>
                </a:solidFill>
                <a:uFillTx/>
                <a:latin typeface="Times New Roman"/>
                <a:hlinkClick r:id="rId2"/>
              </a:rPr>
              <a:t>https://mentor.ieee.org/802.15/file/08/15-08-0667-01-0vlc-5c-draft.pdf</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E4A844C-9F89-4EF5-B41A-229AA6F07ED7}" type="slidenum">
              <a:t>5</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5.4 RFID PAR and 5C Comments Received from 802.11</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802.15.4 RFID PAR &amp; 5C are incomplete and should not be approved becau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C &amp; PAR incorrectly claim there is no existing international standar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C &amp; PAR need to include evidence that there is user demand for yet another RFID standar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C &amp; PAR need explain what technical deficiencies of existing systems the proposed standard will addres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C &amp; PAR need to provide a better justification of technical feasibility for a unified standard that addresses the requirements of all market segmen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C &amp; PAR need to acknowledge the use of 802.11 in this space today and explain why a 802.15.4 based solution will be significantly bette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7D9E4FCC-E218-414E-90B5-4918A512778F}" type="slidenum">
              <a:t>6</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5.4 RFID PAR and 5C Comments </a:t>
            </a:r>
            <a:r>
              <a:rPr b="1" lang="en-US" sz="3600" spc="-1" strike="noStrike">
                <a:solidFill>
                  <a:srgbClr val="000000"/>
                </a:solidFill>
                <a:latin typeface="Times New Roman"/>
              </a:rPr>
              <a:t>(2)</a:t>
            </a:r>
            <a:endParaRPr b="1"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15.4 RFID 5C &amp; PAR incorrectly claim there is no existing international standard</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5C asserts that there is a need for an international standard for active RFID, and the PAR asserts that is there in no international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the 5C indicates that an international standard does exist, and even quotes the number of an ISO standar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also other quasi international standards in this space that need to be acknowledged explicitly in the P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5C and PAR need to be modified to correct this err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it the intention to state that there are no suitable international standards? If so, then such a statement needs justification in the PA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56A0762C-6548-4C3C-9440-D706B81CA517}" type="slidenum">
              <a:t>7</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5.4 RFID PAR and 5C Comments </a:t>
            </a:r>
            <a:r>
              <a:rPr b="1" lang="en-US" sz="3600" spc="-1" strike="noStrike">
                <a:solidFill>
                  <a:srgbClr val="000000"/>
                </a:solidFill>
                <a:latin typeface="Times New Roman"/>
              </a:rPr>
              <a:t>(3)</a:t>
            </a:r>
            <a:endParaRPr b="1"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15.4 RFID 5C &amp; PAR need to include evidence that there is user demand for yet another RFID standard.</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5C and PAR assert that active RFID tags have not been successful so far because there are too many options available, which has reduced interoperability and economies of sca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y be tru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the PAR &amp; 5C do not explain how the development of yet another standard will solve this problem, particularly in a context where 802.15.4 does not have much scale today, certainly in comparison with, say, 802.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5C and PAR need to be modified to include evidence that there is user demand for yet another standar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AED0DD7-BE27-44F7-9D76-E110C20FC8ED}" type="slidenum">
              <a:t>8</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5.4 RFID PAR and 5C Comments </a:t>
            </a:r>
            <a:r>
              <a:rPr b="1" lang="en-US" sz="3200" spc="-1" strike="noStrike">
                <a:solidFill>
                  <a:srgbClr val="000000"/>
                </a:solidFill>
                <a:latin typeface="Times New Roman"/>
              </a:rPr>
              <a:t>(4)</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15.4 RFID 5C &amp; PAR need to explain what technical deficiencies of the existing systems the proposed standard will addres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reason that would justify a new standard is that all the existing mechanisms are missing functionality from a technical perspectiv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is is not the case, why not just submit one of the existing mechanisms to EPCGlobal, IEEE or IS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the PAR &amp; 5C do not address the issue of whether existing systems are technically defici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R &amp; 5C need to be modified to explain what technical deficiencies of existing systems the proposed standard will addres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2DD8E59-A3DD-4621-B825-42F9639E414D}" type="slidenum">
              <a:t>9</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01:27:39Z</dcterms:created>
  <dc:creator>Jon Rosdahl</dc:creator>
  <dc:description/>
  <dc:language>en-US</dc:language>
  <cp:lastModifiedBy>Jon Rosdahl</cp:lastModifiedBy>
  <cp:lastPrinted>1998-02-10T13:28:06Z</cp:lastPrinted>
  <dcterms:modified xsi:type="dcterms:W3CDTF">2008-11-12T05:40:01Z</dcterms:modified>
  <cp:revision>19</cp:revision>
  <dc:subject/>
  <dc:title>Comments to 802_15 from 802_11 on Pending PARs November Plenary</dc:title>
</cp:coreProperties>
</file>