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D95DF-CCA6-4693-A9D5-0E0B56143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A039-4041-44CB-AD9F-EBBAFF03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91D42-9455-46E1-8D86-CA967194A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694958-9714-4B9D-AB62-46D58E7D4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F93E0-E391-43C6-B03C-0CEECA218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F3BB9-B089-4099-9AC5-52DC3A50C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0E922-666A-45AA-A0B8-B8E1CBD4F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AF3F3-9CB0-428B-AE75-3C2D1ED9B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31B9A-6402-4A79-88FF-D28943E53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641A1-5E1B-4471-8240-A44784850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E0856-82E4-4651-BD9A-CBD0445EE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779E2-8992-453E-9A9F-7B3C4B962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4440"/>
            <a:ext cx="1066680" cy="2746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0B063A4-E904-4302-A09C-079899B67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517968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08/1351r0</a:t>
            </a:r>
            <a:endParaRPr b="0" lang="en-US" sz="18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s://mentor.ieee.org/802.15/file/08/15-08-0664-03-rfid-draft-par.pdf" TargetMode="External"/><Relationship Id="rId2" Type="http://schemas.openxmlformats.org/officeDocument/2006/relationships/hyperlink" Target="https://mentor.ieee.org/802.15/file/08/15-08-0665-02-rfid-draft-5c-document.pdf"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entor.ieee.org/802.15/file/08/15-08-0705-03-0nan-wnan-par.pdf" TargetMode="External"/><Relationship Id="rId2" Type="http://schemas.openxmlformats.org/officeDocument/2006/relationships/hyperlink" Target="https://mentor.ieee.org/802.15/file/08/15-08-0706-01-0nan-wnan-5c.pdf"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s://mentor.ieee.org/802.15/file/08/15-08-0656-01-0vlc-par-document.pdf" TargetMode="External"/><Relationship Id="rId2" Type="http://schemas.openxmlformats.org/officeDocument/2006/relationships/hyperlink" Target="https://mentor.ieee.org/802.15/file/08/15-08-0667-01-0vlc-5c-draft.pdf" TargetMode="Externa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ents to 802_15 from 802_11 on Pending PARs November Plenary</a:t>
            </a:r>
            <a:endParaRPr b="1" lang="en-US" sz="3200" spc="-1" strike="noStrike">
              <a:solidFill>
                <a:srgbClr val="000000"/>
              </a:solidFill>
              <a:latin typeface="Times New Roman"/>
            </a:endParaRPr>
          </a:p>
        </p:txBody>
      </p:sp>
      <p:sp>
        <p:nvSpPr>
          <p:cNvPr id="46" name="PlaceHolder 2"/>
          <p:cNvSpPr>
            <a:spLocks noGrp="1"/>
          </p:cNvSpPr>
          <p:nvPr>
            <p:ph/>
          </p:nvPr>
        </p:nvSpPr>
        <p:spPr>
          <a:xfrm>
            <a:off x="685800" y="1828800"/>
            <a:ext cx="7772400" cy="38088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08-11-11</a:t>
            </a:r>
            <a:endParaRPr b="1" lang="en-US" sz="2000" spc="-1" strike="noStrike">
              <a:solidFill>
                <a:srgbClr val="000000"/>
              </a:solidFill>
              <a:latin typeface="Times New Roman"/>
            </a:endParaRPr>
          </a:p>
        </p:txBody>
      </p:sp>
      <p:graphicFrame>
        <p:nvGraphicFramePr>
          <p:cNvPr id="47" name=""/>
          <p:cNvGraphicFramePr/>
          <p:nvPr/>
        </p:nvGraphicFramePr>
        <p:xfrm>
          <a:off x="533520" y="2590920"/>
          <a:ext cx="8100720" cy="2396880"/>
        </p:xfrm>
        <a:graphic>
          <a:graphicData uri="http://schemas.openxmlformats.org/presentationml/2006/ole">
            <p:oleObj progId="Word.Document.12" r:id="rId1" spid="">
              <p:embed/>
              <p:pic>
                <p:nvPicPr>
                  <p:cNvPr id="48" name="" descr=""/>
                  <p:cNvPicPr/>
                  <p:nvPr/>
                </p:nvPicPr>
                <p:blipFill>
                  <a:blip r:embed="rId2"/>
                  <a:stretch/>
                </p:blipFill>
                <p:spPr>
                  <a:xfrm>
                    <a:off x="533520" y="2590920"/>
                    <a:ext cx="8100720" cy="2396880"/>
                  </a:xfrm>
                  <a:prstGeom prst="rect">
                    <a:avLst/>
                  </a:prstGeom>
                  <a:ln w="0">
                    <a:noFill/>
                  </a:ln>
                </p:spPr>
              </p:pic>
            </p:oleObj>
          </a:graphicData>
        </a:graphic>
      </p:graphicFrame>
      <p:sp>
        <p:nvSpPr>
          <p:cNvPr id="49" name=""/>
          <p:cNvSpPr/>
          <p:nvPr/>
        </p:nvSpPr>
        <p:spPr>
          <a:xfrm>
            <a:off x="533520" y="21337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EEBBE281-B0BC-470A-9010-B474B520362D}" type="slidenum">
              <a:t>1</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200" spc="-1" strike="noStrike">
                <a:solidFill>
                  <a:srgbClr val="000000"/>
                </a:solidFill>
                <a:latin typeface="Times New Roman"/>
              </a:rPr>
              <a:t>(5)</a:t>
            </a:r>
            <a:endParaRPr b="1" lang="en-US" sz="32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4 RFID 5C &amp; PAR need to provide a better justification of feasibility for a unified standard that addresses the requirements of all market segments</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reason that the active RFID market is segmented today is that each market segment has different requiremen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 5C and PAR assume that a unified standard can achieve the goals of every market seg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ncorrectly bases technical feasibility for the unified standard on an argument that each of the existing standards are technically feasibl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possible that the market requirements for the various segments are contradictor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nd PAR need to demonstrate technical feasibility for the unified standard, not just a subset</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C986A78-8803-43AF-9CD6-A3199FF17903}" type="slidenum">
              <a:t>10</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200" spc="-1" strike="noStrike">
                <a:solidFill>
                  <a:srgbClr val="000000"/>
                </a:solidFill>
                <a:latin typeface="Times New Roman"/>
              </a:rPr>
              <a:t>(6)</a:t>
            </a:r>
            <a:endParaRPr b="1"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4 RFID 5C &amp; PAR need to acknowledge the use of 802.11 in this space today and explain why a 802.15.4 based solution will be significantly better</a:t>
            </a:r>
            <a:endParaRPr b="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asserted in the 5C that the proposed active RFID functionality is not addressed in any existing 802 standar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there is a growing opinion among some in the industry that 802.11 based systems could dominate this space</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ready several start-ups that are showing Wi-Fi based sensor chips with very low power and cost – and of course with Wi-Fi you don’t require a separate infrastructur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AR &amp; 5C needs to be modified to recognize the existing use of 802.11 in the active tag space, and explain why 802.15.4 offers significant benefits over 802.11. </a:t>
            </a:r>
            <a:endParaRPr b="0" lang="en-US" sz="1800" spc="-1" strike="noStrike">
              <a:solidFill>
                <a:srgbClr val="000000"/>
              </a:solidFill>
              <a:latin typeface="Times New Roman"/>
            </a:endParaRPr>
          </a:p>
          <a:p>
            <a:pPr lvl="2" marL="108576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nswer should account for the fact that 802.11 based solutions exist today, whereas 802.15.4 based solutions may not exist for some years (5 years?)</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D6A1E343-AA25-4009-B451-7CF87F0BD174}" type="slidenum">
              <a:t>11</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Received from 802.11</a:t>
            </a:r>
            <a:endParaRPr b="1"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This amendment proposes operation within at least the 2.4 GHz band, including ranges of up to 5 km with omni antennas, and simultaneous operation for at least 3 co-location orthogonal networks. Further, at the NAN tutorial proponents advocated a frequency hopping PHY technology. In 8.1, a transmit power up to 1W is indicated.</a:t>
            </a:r>
            <a:endParaRPr b="1"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et 2.4 GHz is a crowded band with dense WLAN deployments and regular Bluetooth usage, each offering tremendous value to their users. We have seen that coexistence with frequency hoppers is difficult as they consume the whole band making frequency planning impossible.</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31C6C95B-30F5-48FB-AF9C-3037A6512FD2}" type="slidenum">
              <a:t>12</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2)</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rdingly, coexistence is a grave concern: the PAR is for a latecomer to a mature band, the technology's impact will be at high TX power and over a wide area, and the technology's proponents favor a technology with poor coexistence characteristics. In this context, the language in the scope "This amendment also addresses coexistence with other 802 wireless standards operating in the same bands." is inadequately weak.</a:t>
            </a:r>
            <a:endParaRPr b="1" lang="en-US" sz="2000" spc="-1" strike="noStrike">
              <a:solidFill>
                <a:srgbClr val="000000"/>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2.4 GHz band should be removed from the PAR scope, or the PAR language should be strengthened. Proposed substitute language is "Devices complying with this amendment shall minimally impact the operation of 802.11 and 802.15 devices, along with other 802 wireless devices, already operating in the same bands.“</a:t>
            </a:r>
            <a:endParaRPr b="1"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97C504A4-C11A-4B31-A1BC-F7AB5CF661C7}" type="slidenum">
              <a:t>13</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3)</a:t>
            </a:r>
            <a:endParaRPr b="1" lang="en-US" sz="3200" spc="-1" strike="noStrike">
              <a:solidFill>
                <a:srgbClr val="000000"/>
              </a:solidFill>
              <a:latin typeface="Times New Roman"/>
            </a:endParaRPr>
          </a:p>
        </p:txBody>
      </p:sp>
      <p:sp>
        <p:nvSpPr>
          <p:cNvPr id="75" name="PlaceHolder 2"/>
          <p:cNvSpPr>
            <a:spLocks noGrp="1"/>
          </p:cNvSpPr>
          <p:nvPr>
            <p:ph/>
          </p:nvPr>
        </p:nvSpPr>
        <p:spPr>
          <a:xfrm>
            <a:off x="685800" y="1676160"/>
            <a:ext cx="7772400" cy="472428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The PAR does not acknowledge that either 802.11 or 802.16 is likely a better home for this work than 802.15.</a:t>
            </a:r>
            <a:endParaRPr b="1"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5km range is wildly outside the scope of Personal Area Networking. 802.11 (through 11y) and 802.16 both have far greater expertise in outdoor channel models, and systems for same.</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Contrary to 5.5 "The 802.11 standards have been optimized for high data rates along with support for star network topologies with centralized control.", 802.11 is already providing a mesh amendment that addresses this assertion. 802.16 also has work in this are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D3F50CE-267E-4ABF-844B-D5B2C131A068}" type="slidenum">
              <a:t>14</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4)</a:t>
            </a:r>
            <a:endParaRPr b="1"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ggest that a change to the last sentence of PAR 5.2 similarly to what the EC has requested in the past of other groups indicating that the phrase “it addresses” is not sufficient:</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is amendment also addresses coexistence with other 802 wireless standards operating in the same bands.”</a:t>
            </a:r>
            <a:endParaRPr b="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o: “This amendment will also ensure backward compatibility and coexistence with legacy IEEE 802 devices operating in the same bands.” </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FE5F95BE-1B09-4C96-844A-B805EBF9666C}" type="slidenum">
              <a:t>15</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 NAN PAR &amp; 5C Comments (5)</a:t>
            </a:r>
            <a:endParaRPr b="1" lang="en-US" sz="3200" spc="-1" strike="noStrike">
              <a:solidFill>
                <a:srgbClr val="000000"/>
              </a:solidFill>
              <a:latin typeface="Times New Roman"/>
            </a:endParaRPr>
          </a:p>
        </p:txBody>
      </p:sp>
      <p:sp>
        <p:nvSpPr>
          <p:cNvPr id="79" name="PlaceHolder 2"/>
          <p:cNvSpPr>
            <a:spLocks noGrp="1"/>
          </p:cNvSpPr>
          <p:nvPr>
            <p:ph/>
          </p:nvPr>
        </p:nvSpPr>
        <p:spPr>
          <a:xfrm>
            <a:off x="685440" y="1752120"/>
            <a:ext cx="7924680" cy="43434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en the tutorial discussions were held, it seemed that the use of the 700 MHz ( e.g. Whitespaces) to 1GHz bands provided the range/power that seemed most reasonable, but in the 2.4 GHz band, the range/power does not seem practical.  Why not focus the group on the 700 to 900 MHz bands?  </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new devices use the 2.4GHz band, how will they coexist with the existing devices in the band?</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new devices use 2.4GHz, why develop a new MAC and PHY?</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 is a FH PHY defined in the 802.11 standard, as well as a DSS PHY, so maybe a new 802.11 amendment would be more appropria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878A897C-24D2-43EF-945A-5E455E393843}" type="slidenum">
              <a:t>16</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7 PAR Comments </a:t>
            </a:r>
            <a:br>
              <a:rPr sz="3200"/>
            </a:br>
            <a:r>
              <a:rPr b="1" lang="en-US" sz="3200" spc="-1" strike="noStrike">
                <a:solidFill>
                  <a:srgbClr val="000000"/>
                </a:solidFill>
                <a:latin typeface="Times New Roman"/>
              </a:rPr>
              <a:t>Received from 802.11</a:t>
            </a:r>
            <a:endParaRPr b="1" lang="en-US" sz="3200" spc="-1" strike="noStrike">
              <a:solidFill>
                <a:srgbClr val="000000"/>
              </a:solidFill>
              <a:latin typeface="Times New Roman"/>
            </a:endParaRPr>
          </a:p>
        </p:txBody>
      </p:sp>
      <p:sp>
        <p:nvSpPr>
          <p:cNvPr id="81" name="PlaceHolder 2"/>
          <p:cNvSpPr>
            <a:spLocks noGrp="1"/>
          </p:cNvSpPr>
          <p:nvPr>
            <p:ph/>
          </p:nvPr>
        </p:nvSpPr>
        <p:spPr>
          <a:xfrm>
            <a:off x="685440" y="1905120"/>
            <a:ext cx="7924680" cy="457200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F stands for Radio Frequencies, as an acronym, you should spell it out on first usage in 5.5 purpose.</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y call out RF interference when you state that the band in use is outside the RF band?  Visible light is free of non-visible interference, but that should not be used in the definition of the scope and purpose.  The Scope and Purpose should deal specifically with the stated spectrum and not counter examples.</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the semicolons in the scope statement should be commas. </a:t>
            </a:r>
            <a:endParaRPr b="1" lang="en-US" sz="2400" spc="-1" strike="noStrike">
              <a:solidFill>
                <a:srgbClr val="000000"/>
              </a:solidFill>
              <a:latin typeface="Times New Roman"/>
            </a:endParaRPr>
          </a:p>
          <a:p>
            <a:pPr marL="335880" indent="-3358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the Mirror in the Middle attack? </a:t>
            </a:r>
            <a:r>
              <a:rPr b="1" lang="en-US" sz="2400" spc="-1" strike="noStrike">
                <a:solidFill>
                  <a:srgbClr val="000000"/>
                </a:solidFill>
                <a:latin typeface="Wingdings"/>
                <a:ea typeface="Wingdings"/>
              </a:rPr>
              <a:t></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2D80461B-D718-4B49-AF76-8D635CD3A2AE}" type="slidenum">
              <a:t>17</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bstract</a:t>
            </a:r>
            <a:endParaRPr b="1" lang="en-US" sz="36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the November 2008 802 Plenary, 802.15 proposed 3 new PARS for 802 EC approval.  This File is extracted from 08-1310r1 that lists those PARs and those from other WGs for discussion.  This submission attempts to provide the comments from 802.11 members regarding the 802.15 proposed PARs.</a:t>
            </a: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FE96438-B4AE-4123-98BD-BD274C188EEC}" type="slidenum">
              <a:t>2</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ed PARs 802.15 (1)</a:t>
            </a:r>
            <a:endParaRPr b="1" lang="en-US" sz="3600" spc="-1" strike="noStrike">
              <a:solidFill>
                <a:srgbClr val="000000"/>
              </a:solidFill>
              <a:latin typeface="Times New Roman"/>
            </a:endParaRPr>
          </a:p>
        </p:txBody>
      </p:sp>
      <p:sp>
        <p:nvSpPr>
          <p:cNvPr id="53"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EE 802.15.4f Wireless Medium Access Control (MAC) and Physical Layer </a:t>
            </a:r>
            <a:br>
              <a:rPr sz="2800"/>
            </a:br>
            <a:r>
              <a:rPr b="1" lang="en-US" sz="2800" spc="-1" strike="noStrike">
                <a:solidFill>
                  <a:srgbClr val="000000"/>
                </a:solidFill>
                <a:latin typeface="Times New Roman"/>
              </a:rPr>
              <a:t>(PHY) Specifications for Low Rate Wireless Personal Area Networks (WPANs) </a:t>
            </a:r>
            <a:br>
              <a:rPr sz="2800"/>
            </a:br>
            <a:r>
              <a:rPr b="1" lang="en-US" sz="2800" spc="-1" strike="noStrike">
                <a:solidFill>
                  <a:srgbClr val="000000"/>
                </a:solidFill>
                <a:latin typeface="Times New Roman"/>
              </a:rPr>
              <a:t>- Amendment: Active RFID System PHY</a:t>
            </a:r>
            <a:endParaRPr b="1" lang="en-US" sz="28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PAR [</a:t>
            </a:r>
            <a:r>
              <a:rPr b="0" lang="en-US" sz="2400" spc="-1" strike="noStrike" u="sng">
                <a:solidFill>
                  <a:srgbClr val="0066ff"/>
                </a:solidFill>
                <a:uFillTx/>
                <a:latin typeface="Times New Roman"/>
                <a:hlinkClick r:id="rId1"/>
              </a:rPr>
              <a:t>https://mentor.ieee.org/802.15/file/08/15-08-0664-03-rfid-draft-par.pdf</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aft 5C [</a:t>
            </a:r>
            <a:r>
              <a:rPr b="0" lang="en-US" sz="2400" spc="-1" strike="noStrike" u="sng">
                <a:solidFill>
                  <a:srgbClr val="0066ff"/>
                </a:solidFill>
                <a:uFillTx/>
                <a:latin typeface="Times New Roman"/>
                <a:hlinkClick r:id="rId2"/>
              </a:rPr>
              <a:t>https://mentor.ieee.org/802.15/file/08/15-08-0665-02-rfid-draft-5c-document.pdf</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66537F3D-FED7-426C-B0CC-DC63AC5EB823}" type="slidenum">
              <a:t>3</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ed PARs 802.15 (2)</a:t>
            </a:r>
            <a:endParaRPr b="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4f Wireless Medium Access Control (MAC) and Physical Layer (PHY) Specifications for Low Rate Wireless Personal Area Networks (WPANs) </a:t>
            </a:r>
            <a:br>
              <a:rPr sz="2400"/>
            </a:br>
            <a:r>
              <a:rPr b="1" lang="en-US" sz="2400" spc="-1" strike="noStrike">
                <a:solidFill>
                  <a:srgbClr val="000000"/>
                </a:solidFill>
                <a:latin typeface="Times New Roman"/>
              </a:rPr>
              <a:t>- Amendment: Physical Layer (PHY) Specifications for Low Data Rate Wireless Neighborhood Area Networks (WNAN)</a:t>
            </a:r>
            <a:endParaRPr b="1"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PAR [ </a:t>
            </a:r>
            <a:r>
              <a:rPr b="0" lang="en-US" sz="2000" spc="-1" strike="noStrike" u="sng">
                <a:solidFill>
                  <a:srgbClr val="0066ff"/>
                </a:solidFill>
                <a:uFillTx/>
                <a:latin typeface="Times New Roman"/>
                <a:hlinkClick r:id="rId1"/>
              </a:rPr>
              <a:t>https://mentor.ieee.org/802.15/file/08/15-08-0705-03-0nan-wnan-par.pdf</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5C [ </a:t>
            </a:r>
            <a:r>
              <a:rPr b="0" lang="en-US" sz="2000" spc="-1" strike="noStrike" u="sng">
                <a:solidFill>
                  <a:srgbClr val="0066ff"/>
                </a:solidFill>
                <a:uFillTx/>
                <a:latin typeface="Times New Roman"/>
                <a:hlinkClick r:id="rId2"/>
              </a:rPr>
              <a:t>https://mentor.ieee.org/802.15/file/08/15-08-0706-01-0nan-wnan-5c.pdf</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D30B456-ADD1-4119-B3E0-C82D6AD1E6FB}" type="slidenum">
              <a:t>4</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posed PARs 802.15 (3)</a:t>
            </a:r>
            <a:r>
              <a:rPr b="1" lang="en-US" sz="3200" spc="-1" strike="noStrike">
                <a:solidFill>
                  <a:srgbClr val="000000"/>
                </a:solidFill>
                <a:latin typeface="Times New Roman"/>
              </a:rPr>
              <a:t> </a:t>
            </a: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EEE 802.15.7 PHY and MAC standard for short-range wireless optical communication using visible light</a:t>
            </a:r>
            <a:endParaRPr b="1"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PAR [ </a:t>
            </a:r>
            <a:r>
              <a:rPr b="0" lang="en-US" sz="2000" spc="-1" strike="noStrike" u="sng">
                <a:solidFill>
                  <a:srgbClr val="0066ff"/>
                </a:solidFill>
                <a:uFillTx/>
                <a:latin typeface="Times New Roman"/>
                <a:hlinkClick r:id="rId1"/>
              </a:rPr>
              <a:t>https://mentor.ieee.org/802.15/file/08/15-08-0656-01-0vlc-par-document.pdf</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raft 5C [ </a:t>
            </a:r>
            <a:br>
              <a:rPr sz="2000"/>
            </a:br>
            <a:r>
              <a:rPr b="0" lang="en-US" sz="2000" spc="-1" strike="noStrike" u="sng">
                <a:solidFill>
                  <a:srgbClr val="0066ff"/>
                </a:solidFill>
                <a:uFillTx/>
                <a:latin typeface="Times New Roman"/>
                <a:hlinkClick r:id="rId2"/>
              </a:rPr>
              <a:t>https://mentor.ieee.org/802.15/file/08/15-08-0667-01-0vlc-5c-draft.pdf</a:t>
            </a:r>
            <a:r>
              <a:rPr b="0" lang="en-US" sz="2000" spc="-1" strike="noStrike" u="sng">
                <a:solidFill>
                  <a:srgbClr val="000000"/>
                </a:solidFill>
                <a:uFillTx/>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3C7EAF9-81D4-479E-AC67-893BE327F0BD}" type="slidenum">
              <a:t>5</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Received from 802.11</a:t>
            </a: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4 RFID PAR &amp; 5C are incomplete and should not be approved because:</a:t>
            </a:r>
            <a:endParaRPr b="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incorrectly claim there is no existing international standar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to include evidence that there is user demand for yet another RFID standard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explain what technical deficiencies of existing systems the proposed standard will address </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to provide a better justification of technical feasibility for a unified standard that addresses the requirements of all market segment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5C &amp; PAR need to acknowledge the use of 802.11 in this space today and explain why a 802.15.4 based solution will be significantly better</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CCB52D50-14A7-40B1-925F-4C19D8FB941B}" type="slidenum">
              <a:t>6</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600" spc="-1" strike="noStrike">
                <a:solidFill>
                  <a:srgbClr val="000000"/>
                </a:solidFill>
                <a:latin typeface="Times New Roman"/>
              </a:rPr>
              <a:t>(2)</a:t>
            </a:r>
            <a:endParaRPr b="1" lang="en-US" sz="36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4 RFID 5C &amp; PAR incorrectly claim there is no existing international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sserts that there is a need for an international standard for active RFID, and the PAR asserts that is there in no international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5C indicates that an international standard does exist, and even quotes the number of an ISO standard.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also other quasi international standards in this space that need to be acknowledged explicitly in the PA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nd PAR need to be modified to correct this err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 it the intention to state that there are no suitable international standards? If so, then such a statement needs justification in the PAR.</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0F23E260-18CC-4572-A3A1-EF3AF459CD35}" type="slidenum">
              <a:t>7</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600" spc="-1" strike="noStrike">
                <a:solidFill>
                  <a:srgbClr val="000000"/>
                </a:solidFill>
                <a:latin typeface="Times New Roman"/>
              </a:rPr>
              <a:t>(3)</a:t>
            </a:r>
            <a:endParaRPr b="1"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4 RFID 5C &amp; PAR need to include evidence that there is user demand for yet another RFID standard.</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nd PAR assert that active RFID tags have not been successful so far because there are too many options available, which has reduced interoperability and economies of sca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 may be true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PAR &amp; 5C do not explain how the development of yet another standard will solve this problem, particularly in a context where 802.15.4 does not have much scale today, certainly in comparison with, say, 802.1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5C and PAR need to be modified to include evidence that there is user demand for yet another standard.</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1BF01C77-29A7-46E1-A738-AF63EC795918}" type="slidenum">
              <a:t>8</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802.15.4 RFID PAR and 5C Comments </a:t>
            </a:r>
            <a:r>
              <a:rPr b="1" lang="en-US" sz="3200" spc="-1" strike="noStrike">
                <a:solidFill>
                  <a:srgbClr val="000000"/>
                </a:solidFill>
                <a:latin typeface="Times New Roman"/>
              </a:rPr>
              <a:t>(4)</a:t>
            </a:r>
            <a:endParaRPr b="1" lang="en-US" sz="32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4 RFID 5C &amp; PAR need to explain what technical deficiencies of the existing systems the proposed standard will address.</a:t>
            </a:r>
            <a:endParaRPr b="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reason that would justify a new standard is that all the existing mechanisms are missing functionality from a technical perspectiv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is is not the case, why not just submit one of the existing mechanisms to EPCGlobal, IEEE or ISO?</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ever, the PAR &amp; 5C do not address the issue of whether existing systems are technically deficien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AR &amp; 5C need to be modified to explain what technical deficiencies of existing systems the proposed standard will address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n Rosdahl, CSR</a:t>
            </a:r>
          </a:p>
        </p:txBody>
      </p:sp>
      <p:sp>
        <p:nvSpPr>
          <p:cNvPr id="5" name="PlaceHolder 4"/>
          <p:cNvSpPr>
            <a:spLocks noGrp="1"/>
          </p:cNvSpPr>
          <p:nvPr>
            <p:ph type="sldNum" idx="3"/>
          </p:nvPr>
        </p:nvSpPr>
        <p:spPr/>
        <p:txBody>
          <a:bodyPr/>
          <a:p>
            <a:fld id="{4A8A54ED-F18C-4036-8041-05880D2ACE9C}" type="slidenum">
              <a:t>9</a:t>
            </a:fld>
          </a:p>
        </p:txBody>
      </p:sp>
      <p:sp>
        <p:nvSpPr>
          <p:cNvPr id="6" name="PlaceHolder 5"/>
          <p:cNvSpPr>
            <a:spLocks noGrp="1"/>
          </p:cNvSpPr>
          <p:nvPr>
            <p:ph type="dt" idx="1"/>
          </p:nvPr>
        </p:nvSpPr>
        <p:spPr/>
        <p:txBody>
          <a:bodyPr/>
          <a:p>
            <a:r>
              <a:rPr lang="en-US"/>
              <a:t>November 2008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01:27:39Z</dcterms:created>
  <dc:creator>Jon Rosdahl</dc:creator>
  <dc:description/>
  <dc:language>en-US</dc:language>
  <cp:lastModifiedBy>Jon Rosdahl</cp:lastModifiedBy>
  <cp:lastPrinted>1998-02-10T13:28:06Z</cp:lastPrinted>
  <dcterms:modified xsi:type="dcterms:W3CDTF">2008-11-11T15:06:01Z</dcterms:modified>
  <cp:revision>17</cp:revision>
  <dc:subject/>
  <dc:title>Comments to 802_15 from 802_11 on Pending PARs November Plenary</dc:title>
</cp:coreProperties>
</file>