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7DDE4-D4C4-48D1-8715-C6CA6A4E6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8F704-5B75-482A-8EC1-2BD96B5292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9B9E7-6FA8-42EE-B6A9-B88715F4D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16241-F912-4ACE-9D49-CF5851FD3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469F3-F07C-4DF4-87D6-2C6618FDC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88E76-EF50-4A91-9441-506B08BDD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281D1-EDFC-48EA-9550-4EB923EAC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B06AF-99CC-4ACC-B000-7EB1297C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9B8A7-A9DE-43D6-A75B-D63E8E118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DDCA-57CE-4C38-B134-6654BA99D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EAF12-8FE6-40C3-8C5F-D140FB733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CF752-99C4-4835-B56E-7AAFE6ADA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89396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95DC82-5183-4402-BC5D-101BED6819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0858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Presentation for Xi’an Meeting</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07-15</a:t>
            </a:r>
            <a:endParaRPr b="1" lang="en-US" sz="2000" spc="-1" strike="noStrike">
              <a:solidFill>
                <a:srgbClr val="000000"/>
              </a:solidFill>
              <a:latin typeface="Times New Roman"/>
            </a:endParaRPr>
          </a:p>
        </p:txBody>
      </p:sp>
      <p:graphicFrame>
        <p:nvGraphicFramePr>
          <p:cNvPr id="47" name=""/>
          <p:cNvGraphicFramePr/>
          <p:nvPr/>
        </p:nvGraphicFramePr>
        <p:xfrm>
          <a:off x="519120" y="2273400"/>
          <a:ext cx="8229600" cy="2520720"/>
        </p:xfrm>
        <a:graphic>
          <a:graphicData uri="http://schemas.openxmlformats.org/presentationml/2006/ole">
            <p:oleObj progId="Word.Document.12" r:id="rId1" spid="">
              <p:embed/>
              <p:pic>
                <p:nvPicPr>
                  <p:cNvPr id="48" name="" descr=""/>
                  <p:cNvPicPr/>
                  <p:nvPr/>
                </p:nvPicPr>
                <p:blipFill>
                  <a:blip r:embed="rId2"/>
                  <a:stretch/>
                </p:blipFill>
                <p:spPr>
                  <a:xfrm>
                    <a:off x="519120" y="2273400"/>
                    <a:ext cx="8229600" cy="252072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81698DBC-09DF-43BF-B61D-53037F0DD8BF}" type="slidenum">
              <a:t>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 1: WPI in IEEE 802.11, WAI in Another Standard (Workable)</a:t>
            </a: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WAPI components have normative international definition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imizes user benefit and choice</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appears this approach is feasible under IEEE-SA, IEEE 802, and IEEE 802.11 rules and procedur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 NB has expressed reservations in the past about standardizing components of WAPI in different foru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appears to be a workable approach</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BFE6391F-1CEF-4E69-B0E1-CF8D3B13B647}" type="slidenum">
              <a:t>10</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 2: WPI in IEEE 802.11, WAI Informative (Unworkable)</a:t>
            </a:r>
            <a:endParaRPr b="1" lang="en-US" sz="32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view of 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WAPI still defined in a single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view of dis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 definition would not be norma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 is outside the scope of IEEE 802.11, so such an approach would be unlikely to be approved by the membership of IEEE 802.11, and the sponsor (IEEE 802), and the IEEE-S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es not appear to meet the objective of making WAPI technology internationally normativ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753739FE-BB1F-4DD5-8634-829406BA8A40}" type="slidenum">
              <a:t>11</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 3: WAPI as an Informative Annex to IEEE 802.11 (Unworkable)</a:t>
            </a: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view of 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I can be inserted as an anne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view of dis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e of WAPI would be internationally norma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 is outside the scope of IEEE 802.11, so such an approach would be unlikely to be approved by the membership of IEEE 802.11, and the sponsor (IEEE 802), and the IEEE-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API specification would have to be rewritten to meet the required format for an annex</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es not appear to meet the objective of making WAPI technology internationally normativ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FF436056-B60D-4E60-81EE-30F73E63B960}" type="slidenum">
              <a:t>1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ernative 4: WAPI as a Stand-Alone Standard developed within SC6 (Unworkable)</a:t>
            </a:r>
            <a:endParaRPr b="1" lang="en-US" sz="28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I would be a normative international standard, defined in a single docu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es not satisfy the ISO aim of one standard per technology doma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O/IEC 8802-11 would not benefit from including any WAPI technology</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tters of Assurance on IPR apply only to the IEEE 802.11 standard and its amendment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balance, the disadvantages make Alternative 4 unworkabl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56E9B623-17C5-44E2-8FF3-D498E8BCAE32}" type="slidenum">
              <a:t>13</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ternative 5: WAPI as a Stand-Alone Standard developed within IEEE 802.11 (Unworkable)</a:t>
            </a:r>
            <a:endParaRPr b="1" lang="en-US" sz="28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I would be a normative international standard, defined in a single docu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tters of Assurance on IPR apply only to the IEEE 802.11 standard and its amendme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unlikely to be approved due to IEEE 802 policies on distinct identity of projec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makes it difficult to evolve the WAPI standard to incorporate WLAN technology under developm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balance, the disadvantages make Alternative 5 unworkabl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C17E15BB-956B-455E-B554-54967E6DF4F9}" type="slidenum">
              <a:t>1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ternative 6: WAPI as an IEEE 802.11 Recommended Practice (Unworkable)</a:t>
            </a: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I would be defined in a single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advanta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PI would not be internationally normativ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I is outside the scope of IEEE 802.11, so such an approach would be unlikely to be approved by the membership of IEEE 802.11, and the sponsor (IEEE 802), and the IEEE-S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tters of Assurance on IPR apply only to the IEEE 802.11 standard and its amendme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 balance, the disadvantages make Alternative 6 unworkabl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0E27A854-7188-454A-B5E5-4B852FE69729}" type="slidenum">
              <a:t>1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ussion?</a:t>
            </a: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F780520C-CE23-416D-86E9-9E17DE4FB8B5}" type="slidenum">
              <a:t>16</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presentation contains the IEEE 802.11 Working Group’s input to the meeting on July 22-24, 2008, between China’s National Body (NB) delegates to JTC1/SC6 and representatives from the IEEE 802.11 Working Group (WG).</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F34F445C-6167-4767-AFAE-C43CFC5F5A06}" type="slidenum">
              <a:t>2</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enda</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 WG and the China NB are Searching for a Way to Standardize WAPI</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EE 802.11 WG Approach is Goal Driven</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WG is Subject to the Rules of its Parent Organizations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802.11 WG Would Like to Suggest a Process to Consider WAPI</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A Range of Alternatives for Standardizing WAPI </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ussio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458AD6D3-C1B7-4118-9FD8-606B0A3E9960}" type="slidenum">
              <a:t>3</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EEE 802.11 WG and the China NB are Searching for a Way to Standardize WAPI</a:t>
            </a:r>
            <a:endParaRPr b="1" lang="en-US" sz="2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11 WG and the China NB are meeting in Xi’a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eeting purpose is to search for a mutually agreeable approach to standardize WAPI within ISO/IEC 8802-1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the first step of a potentially on-going proces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exists for a second meeting before Montreux SC6 Plena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document 11-08-0664-02 is a formal invitation requesting participation by WAPI technical experts in the IEEE 802.11 W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11 WG is committed to a dialog until concluding an agreemen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B80889BB-8FB8-4E4E-A7AF-5B0E1C293338}" type="slidenum">
              <a:t>4</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WG Approach is Goal Driven</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 IEEE 802.11 standards that apply worldwid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 participation in the IEEE 802.11 WG from technical communities around the wor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of technical experts from China is particularly importa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consistency of the IEEE 802.11 and ISO/IEC 8802-11 standard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k a ratification strategy for WAPI that meets the needs and constraints of both the IEEE 802.11 WG and the China N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E730D888-0463-4FE4-8577-CD3E243D32F5}" type="slidenum">
              <a:t>5</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WG is Subject to the Rules of its Parent Organizations</a:t>
            </a:r>
            <a:endParaRPr b="1" lang="en-US" sz="3200" spc="-1" strike="noStrike">
              <a:solidFill>
                <a:srgbClr val="000000"/>
              </a:solidFill>
              <a:latin typeface="Times New Roman"/>
            </a:endParaRPr>
          </a:p>
        </p:txBody>
      </p:sp>
      <p:grpSp>
        <p:nvGrpSpPr>
          <p:cNvPr id="59" name=""/>
          <p:cNvGrpSpPr/>
          <p:nvPr/>
        </p:nvGrpSpPr>
        <p:grpSpPr>
          <a:xfrm>
            <a:off x="3657600" y="1905120"/>
            <a:ext cx="1295280" cy="533160"/>
            <a:chOff x="3657600" y="1905120"/>
            <a:chExt cx="1295280" cy="533160"/>
          </a:xfrm>
        </p:grpSpPr>
        <p:sp>
          <p:nvSpPr>
            <p:cNvPr id="60" name=""/>
            <p:cNvSpPr/>
            <p:nvPr/>
          </p:nvSpPr>
          <p:spPr>
            <a:xfrm>
              <a:off x="3695760" y="190512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3657600" y="20574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a:t>
              </a:r>
              <a:endParaRPr b="0" lang="en-US" sz="1400" spc="-1" strike="noStrike">
                <a:solidFill>
                  <a:srgbClr val="000000"/>
                </a:solidFill>
                <a:latin typeface="Times New Roman"/>
              </a:endParaRPr>
            </a:p>
          </p:txBody>
        </p:sp>
      </p:grpSp>
      <p:grpSp>
        <p:nvGrpSpPr>
          <p:cNvPr id="62" name=""/>
          <p:cNvGrpSpPr/>
          <p:nvPr/>
        </p:nvGrpSpPr>
        <p:grpSpPr>
          <a:xfrm>
            <a:off x="3657600" y="2895480"/>
            <a:ext cx="1295280" cy="533160"/>
            <a:chOff x="3657600" y="2895480"/>
            <a:chExt cx="1295280" cy="533160"/>
          </a:xfrm>
        </p:grpSpPr>
        <p:sp>
          <p:nvSpPr>
            <p:cNvPr id="63" name=""/>
            <p:cNvSpPr/>
            <p:nvPr/>
          </p:nvSpPr>
          <p:spPr>
            <a:xfrm>
              <a:off x="3695760" y="28954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657600" y="30477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SA</a:t>
              </a:r>
              <a:endParaRPr b="0" lang="en-US" sz="1400" spc="-1" strike="noStrike">
                <a:solidFill>
                  <a:srgbClr val="000000"/>
                </a:solidFill>
                <a:latin typeface="Times New Roman"/>
              </a:endParaRPr>
            </a:p>
          </p:txBody>
        </p:sp>
      </p:grpSp>
      <p:sp>
        <p:nvSpPr>
          <p:cNvPr id="65" name=""/>
          <p:cNvSpPr/>
          <p:nvPr/>
        </p:nvSpPr>
        <p:spPr>
          <a:xfrm>
            <a:off x="4305240" y="243828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029200" y="4800600"/>
            <a:ext cx="762120" cy="609480"/>
          </a:xfrm>
          <a:prstGeom prst="leftArrow">
            <a:avLst>
              <a:gd name="adj1" fmla="val 50000"/>
              <a:gd name="adj2" fmla="val 31261"/>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685800" y="4267080"/>
            <a:ext cx="7543800" cy="1206000"/>
            <a:chOff x="685800" y="4267080"/>
            <a:chExt cx="7543800" cy="1206000"/>
          </a:xfrm>
        </p:grpSpPr>
        <p:grpSp>
          <p:nvGrpSpPr>
            <p:cNvPr id="68" name=""/>
            <p:cNvGrpSpPr/>
            <p:nvPr/>
          </p:nvGrpSpPr>
          <p:grpSpPr>
            <a:xfrm>
              <a:off x="3657600" y="4800600"/>
              <a:ext cx="1295280" cy="533160"/>
              <a:chOff x="3657600" y="4800600"/>
              <a:chExt cx="1295280" cy="533160"/>
            </a:xfrm>
          </p:grpSpPr>
          <p:sp>
            <p:nvSpPr>
              <p:cNvPr id="69" name=""/>
              <p:cNvSpPr/>
              <p:nvPr/>
            </p:nvSpPr>
            <p:spPr>
              <a:xfrm>
                <a:off x="3695760" y="480060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657600" y="4952880"/>
                <a:ext cx="1295280" cy="307080"/>
              </a:xfrm>
              <a:prstGeom prst="rect">
                <a:avLst/>
              </a:prstGeom>
              <a:noFill/>
              <a:ln w="0">
                <a:noFill/>
              </a:ln>
            </p:spPr>
            <p:style>
              <a:lnRef idx="0"/>
              <a:fillRef idx="0"/>
              <a:effectRef idx="0"/>
              <a:fontRef idx="minor"/>
            </p:style>
            <p:txBody>
              <a:bodyPr lIns="0" rIns="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1 WG</a:t>
                </a:r>
                <a:endParaRPr b="0" lang="en-US" sz="1400" spc="-1" strike="noStrike">
                  <a:solidFill>
                    <a:srgbClr val="000000"/>
                  </a:solidFill>
                  <a:latin typeface="Times New Roman"/>
                </a:endParaRPr>
              </a:p>
            </p:txBody>
          </p:sp>
        </p:grpSp>
        <p:sp>
          <p:nvSpPr>
            <p:cNvPr id="71" name=""/>
            <p:cNvSpPr/>
            <p:nvPr/>
          </p:nvSpPr>
          <p:spPr>
            <a:xfrm>
              <a:off x="4305240" y="4343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219320" y="457200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8580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754380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5" name=""/>
            <p:cNvSpPr/>
            <p:nvPr/>
          </p:nvSpPr>
          <p:spPr>
            <a:xfrm>
              <a:off x="2286000" y="45720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 name=""/>
            <p:cNvGrpSpPr/>
            <p:nvPr/>
          </p:nvGrpSpPr>
          <p:grpSpPr>
            <a:xfrm>
              <a:off x="1600200" y="4800600"/>
              <a:ext cx="1295280" cy="672480"/>
              <a:chOff x="1600200" y="4800600"/>
              <a:chExt cx="1295280" cy="672480"/>
            </a:xfrm>
          </p:grpSpPr>
          <p:sp>
            <p:nvSpPr>
              <p:cNvPr id="77" name=""/>
              <p:cNvSpPr/>
              <p:nvPr/>
            </p:nvSpPr>
            <p:spPr>
              <a:xfrm>
                <a:off x="1638360" y="480060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0" rIns="0" tIns="46800" bIns="46800" anchor="ctr">
                <a:noAutofit/>
              </a:bodyPr>
              <a:p>
                <a:endParaRPr b="0" lang="en-US" sz="2400" spc="-1" strike="noStrike">
                  <a:solidFill>
                    <a:srgbClr val="000000"/>
                  </a:solidFill>
                  <a:latin typeface="Times New Roman"/>
                </a:endParaRPr>
              </a:p>
            </p:txBody>
          </p:sp>
          <p:sp>
            <p:nvSpPr>
              <p:cNvPr id="78" name=""/>
              <p:cNvSpPr/>
              <p:nvPr/>
            </p:nvSpPr>
            <p:spPr>
              <a:xfrm>
                <a:off x="1600200" y="495288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3 WG</a:t>
                </a:r>
                <a:endParaRPr b="0" lang="en-US" sz="1400" spc="-1" strike="noStrike">
                  <a:solidFill>
                    <a:srgbClr val="000000"/>
                  </a:solidFill>
                  <a:latin typeface="Times New Roman"/>
                </a:endParaRPr>
              </a:p>
            </p:txBody>
          </p:sp>
        </p:grpSp>
        <p:sp>
          <p:nvSpPr>
            <p:cNvPr id="79" name=""/>
            <p:cNvSpPr/>
            <p:nvPr/>
          </p:nvSpPr>
          <p:spPr>
            <a:xfrm>
              <a:off x="6934320" y="45720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 name=""/>
            <p:cNvGrpSpPr/>
            <p:nvPr/>
          </p:nvGrpSpPr>
          <p:grpSpPr>
            <a:xfrm>
              <a:off x="6248520" y="4800600"/>
              <a:ext cx="1295280" cy="533160"/>
              <a:chOff x="6248520" y="4800600"/>
              <a:chExt cx="1295280" cy="533160"/>
            </a:xfrm>
          </p:grpSpPr>
          <p:sp>
            <p:nvSpPr>
              <p:cNvPr id="81" name=""/>
              <p:cNvSpPr/>
              <p:nvPr/>
            </p:nvSpPr>
            <p:spPr>
              <a:xfrm>
                <a:off x="6286680" y="480060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248520" y="4952880"/>
                <a:ext cx="1295280" cy="307080"/>
              </a:xfrm>
              <a:prstGeom prst="rect">
                <a:avLst/>
              </a:prstGeom>
              <a:noFill/>
              <a:ln w="0">
                <a:noFill/>
              </a:ln>
            </p:spPr>
            <p:style>
              <a:lnRef idx="0"/>
              <a:fillRef idx="0"/>
              <a:effectRef idx="0"/>
              <a:fontRef idx="minor"/>
            </p:style>
            <p:txBody>
              <a:bodyPr lIns="0" rIns="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15 WG</a:t>
                </a:r>
                <a:endParaRPr b="0" lang="en-US" sz="1400" spc="-1" strike="noStrike">
                  <a:solidFill>
                    <a:srgbClr val="000000"/>
                  </a:solidFill>
                  <a:latin typeface="Times New Roman"/>
                </a:endParaRPr>
              </a:p>
            </p:txBody>
          </p:sp>
        </p:grpSp>
      </p:grpSp>
      <p:grpSp>
        <p:nvGrpSpPr>
          <p:cNvPr id="83" name=""/>
          <p:cNvGrpSpPr/>
          <p:nvPr/>
        </p:nvGrpSpPr>
        <p:grpSpPr>
          <a:xfrm>
            <a:off x="685800" y="3276720"/>
            <a:ext cx="7543800" cy="1066320"/>
            <a:chOff x="685800" y="3276720"/>
            <a:chExt cx="7543800" cy="1066320"/>
          </a:xfrm>
        </p:grpSpPr>
        <p:grpSp>
          <p:nvGrpSpPr>
            <p:cNvPr id="84" name=""/>
            <p:cNvGrpSpPr/>
            <p:nvPr/>
          </p:nvGrpSpPr>
          <p:grpSpPr>
            <a:xfrm>
              <a:off x="3657600" y="3809880"/>
              <a:ext cx="1295280" cy="533160"/>
              <a:chOff x="3657600" y="3809880"/>
              <a:chExt cx="1295280" cy="533160"/>
            </a:xfrm>
          </p:grpSpPr>
          <p:sp>
            <p:nvSpPr>
              <p:cNvPr id="85" name=""/>
              <p:cNvSpPr/>
              <p:nvPr/>
            </p:nvSpPr>
            <p:spPr>
              <a:xfrm>
                <a:off x="3695760" y="38098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657600" y="39621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802</a:t>
                </a:r>
                <a:endParaRPr b="0" lang="en-US" sz="1400" spc="-1" strike="noStrike">
                  <a:solidFill>
                    <a:srgbClr val="000000"/>
                  </a:solidFill>
                  <a:latin typeface="Times New Roman"/>
                </a:endParaRPr>
              </a:p>
            </p:txBody>
          </p:sp>
        </p:grpSp>
        <p:sp>
          <p:nvSpPr>
            <p:cNvPr id="87" name=""/>
            <p:cNvSpPr/>
            <p:nvPr/>
          </p:nvSpPr>
          <p:spPr>
            <a:xfrm>
              <a:off x="4305240" y="34290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219320" y="3581280"/>
              <a:ext cx="6324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5800" y="3276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0" name=""/>
            <p:cNvSpPr/>
            <p:nvPr/>
          </p:nvSpPr>
          <p:spPr>
            <a:xfrm>
              <a:off x="7543800" y="32767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1" name=""/>
            <p:cNvSpPr/>
            <p:nvPr/>
          </p:nvSpPr>
          <p:spPr>
            <a:xfrm>
              <a:off x="228600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2" name=""/>
            <p:cNvGrpSpPr/>
            <p:nvPr/>
          </p:nvGrpSpPr>
          <p:grpSpPr>
            <a:xfrm>
              <a:off x="1600200" y="3809880"/>
              <a:ext cx="1295280" cy="533160"/>
              <a:chOff x="1600200" y="3809880"/>
              <a:chExt cx="1295280" cy="533160"/>
            </a:xfrm>
          </p:grpSpPr>
          <p:sp>
            <p:nvSpPr>
              <p:cNvPr id="93" name=""/>
              <p:cNvSpPr/>
              <p:nvPr/>
            </p:nvSpPr>
            <p:spPr>
              <a:xfrm>
                <a:off x="1638360" y="38098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600200" y="39621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11073</a:t>
                </a:r>
                <a:endParaRPr b="0" lang="en-US" sz="1400" spc="-1" strike="noStrike">
                  <a:solidFill>
                    <a:srgbClr val="000000"/>
                  </a:solidFill>
                  <a:latin typeface="Times New Roman"/>
                </a:endParaRPr>
              </a:p>
            </p:txBody>
          </p:sp>
        </p:grpSp>
        <p:sp>
          <p:nvSpPr>
            <p:cNvPr id="95" name=""/>
            <p:cNvSpPr/>
            <p:nvPr/>
          </p:nvSpPr>
          <p:spPr>
            <a:xfrm>
              <a:off x="6934320" y="35812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 name=""/>
            <p:cNvGrpSpPr/>
            <p:nvPr/>
          </p:nvGrpSpPr>
          <p:grpSpPr>
            <a:xfrm>
              <a:off x="6248520" y="3809880"/>
              <a:ext cx="1295280" cy="533160"/>
              <a:chOff x="6248520" y="3809880"/>
              <a:chExt cx="1295280" cy="533160"/>
            </a:xfrm>
          </p:grpSpPr>
          <p:sp>
            <p:nvSpPr>
              <p:cNvPr id="97" name=""/>
              <p:cNvSpPr/>
              <p:nvPr/>
            </p:nvSpPr>
            <p:spPr>
              <a:xfrm>
                <a:off x="6286680" y="38098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248520" y="39621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1609</a:t>
                </a:r>
                <a:endParaRPr b="0" lang="en-US" sz="1400" spc="-1" strike="noStrike">
                  <a:solidFill>
                    <a:srgbClr val="000000"/>
                  </a:solidFill>
                  <a:latin typeface="Times New Roman"/>
                </a:endParaRPr>
              </a:p>
            </p:txBody>
          </p:sp>
        </p:grpSp>
      </p:grpSp>
      <p:sp>
        <p:nvSpPr>
          <p:cNvPr id="99" name=""/>
          <p:cNvSpPr/>
          <p:nvPr/>
        </p:nvSpPr>
        <p:spPr>
          <a:xfrm>
            <a:off x="1371600" y="2666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286000" y="2666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1" name=""/>
          <p:cNvGrpSpPr/>
          <p:nvPr/>
        </p:nvGrpSpPr>
        <p:grpSpPr>
          <a:xfrm>
            <a:off x="1600200" y="2895480"/>
            <a:ext cx="1295280" cy="533160"/>
            <a:chOff x="1600200" y="2895480"/>
            <a:chExt cx="1295280" cy="533160"/>
          </a:xfrm>
        </p:grpSpPr>
        <p:sp>
          <p:nvSpPr>
            <p:cNvPr id="102" name=""/>
            <p:cNvSpPr/>
            <p:nvPr/>
          </p:nvSpPr>
          <p:spPr>
            <a:xfrm>
              <a:off x="1638360" y="28954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600200" y="30477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TA</a:t>
              </a:r>
              <a:endParaRPr b="0" lang="en-US" sz="1400" spc="-1" strike="noStrike">
                <a:solidFill>
                  <a:srgbClr val="000000"/>
                </a:solidFill>
                <a:latin typeface="Times New Roman"/>
              </a:endParaRPr>
            </a:p>
          </p:txBody>
        </p:sp>
      </p:grpSp>
      <p:sp>
        <p:nvSpPr>
          <p:cNvPr id="104" name=""/>
          <p:cNvSpPr/>
          <p:nvPr/>
        </p:nvSpPr>
        <p:spPr>
          <a:xfrm>
            <a:off x="6477120" y="2666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 name=""/>
          <p:cNvGrpSpPr/>
          <p:nvPr/>
        </p:nvGrpSpPr>
        <p:grpSpPr>
          <a:xfrm>
            <a:off x="5791320" y="2895480"/>
            <a:ext cx="1295280" cy="533160"/>
            <a:chOff x="5791320" y="2895480"/>
            <a:chExt cx="1295280" cy="533160"/>
          </a:xfrm>
        </p:grpSpPr>
        <p:sp>
          <p:nvSpPr>
            <p:cNvPr id="106" name=""/>
            <p:cNvSpPr/>
            <p:nvPr/>
          </p:nvSpPr>
          <p:spPr>
            <a:xfrm>
              <a:off x="5829480" y="2895480"/>
              <a:ext cx="1219320" cy="53316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791320" y="304776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EEE PSPB</a:t>
              </a:r>
              <a:endParaRPr b="0" lang="en-US" sz="1400" spc="-1" strike="noStrike">
                <a:solidFill>
                  <a:srgbClr val="000000"/>
                </a:solidFill>
                <a:latin typeface="Times New Roman"/>
              </a:endParaRPr>
            </a:p>
          </p:txBody>
        </p:sp>
      </p:grpSp>
      <p:sp>
        <p:nvSpPr>
          <p:cNvPr id="108" name=""/>
          <p:cNvSpPr/>
          <p:nvPr/>
        </p:nvSpPr>
        <p:spPr>
          <a:xfrm>
            <a:off x="762120" y="236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9" name=""/>
          <p:cNvSpPr/>
          <p:nvPr/>
        </p:nvSpPr>
        <p:spPr>
          <a:xfrm>
            <a:off x="7467480" y="2362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esse Walker, Intel Corporation</a:t>
            </a:r>
          </a:p>
        </p:txBody>
      </p:sp>
      <p:sp>
        <p:nvSpPr>
          <p:cNvPr id="4" name="PlaceHolder 3"/>
          <p:cNvSpPr>
            <a:spLocks noGrp="1"/>
          </p:cNvSpPr>
          <p:nvPr>
            <p:ph type="sldNum" idx="3"/>
          </p:nvPr>
        </p:nvSpPr>
        <p:spPr/>
        <p:txBody>
          <a:bodyPr/>
          <a:p>
            <a:fld id="{4D8054DC-B446-491E-AB92-C6E09A9055EB}" type="slidenum">
              <a:t>6</a:t>
            </a:fld>
          </a:p>
        </p:txBody>
      </p:sp>
      <p:sp>
        <p:nvSpPr>
          <p:cNvPr id="5" name="PlaceHolder 4"/>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3"/>
                                        </p:tgtEl>
                                        <p:attrNameLst>
                                          <p:attrName>style.visibility</p:attrName>
                                        </p:attrNameLst>
                                      </p:cBhvr>
                                      <p:to>
                                        <p:strVal val="visible"/>
                                      </p:to>
                                    </p:set>
                                    <p:animEffect filter="dissolve" transition="in">
                                      <p:cBhvr additive="repl">
                                        <p:cTn id="7" dur="5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67"/>
                                        </p:tgtEl>
                                        <p:attrNameLst>
                                          <p:attrName>style.visibility</p:attrName>
                                        </p:attrNameLst>
                                      </p:cBhvr>
                                      <p:to>
                                        <p:strVal val="visible"/>
                                      </p:to>
                                    </p:set>
                                    <p:animEffect filter="dissolve" transition="in">
                                      <p:cBhvr additive="repl">
                                        <p:cTn id="12" dur="500"/>
                                        <p:tgtEl>
                                          <p:spTgt spid="6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6"/>
                                        </p:tgtEl>
                                        <p:attrNameLst>
                                          <p:attrName>style.visibility</p:attrName>
                                        </p:attrNameLst>
                                      </p:cBhvr>
                                      <p:to>
                                        <p:strVal val="visible"/>
                                      </p:to>
                                    </p:set>
                                    <p:animEffect filter="dissolve" transition="in">
                                      <p:cBhvr additive="repl">
                                        <p:cTn id="1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WG is Constrained by Rules and Relationships of the IEEE</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EEE 802.11 WG is governed by IEEE Standards Association (IEEE-SA) and IEEE 802 rules</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etings of IEEE 802 and its working groups are the only forums authorized by the IEEE-SA for developing LAN/MAN standards</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has a relationship with ISO through the PSDO</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may request that the ISO Secretary General initiate fast track ballot of IEEE 802 standard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may engage in joint development of standards with ISO</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SA rules still govern all joint development of standards by IEEE 802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EEE 802 only has a liaison relationship with ISO/IEC JTC1/SC6/WG1</a:t>
            </a:r>
            <a:endParaRPr b="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is authorized to submit standards to ISO/IEC JTC1 for fast track ratification, with processing in SC6/WG1</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 is authorized to exchange liaison requests from ISO/IEC JTC1/SC6/WG1</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other formal standards development processes must be authorized by the IEEE-SA</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89C40271-7B5B-482D-8B13-914AA6DF25B0}" type="slidenum">
              <a:t>7</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EEE 802.11 WG Would Like to Suggest a Process to Consider WAPI</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th the previously used ISO/IEC 8802-1 and PSDO indicate that the technical development of IEEE 802.11 and ISO/IEC 8802-11 standards is undertaken initially within the IEEE 802.11 WG</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 this basis the IEEE 802.11 WG suggests the following process</a:t>
            </a:r>
            <a:endParaRPr b="1"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ickly begin technical work within the IEEE 802.11 WG</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 IEEE 802.11 amendment for the WAPI elements that are within scope of IEEE 802.11</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st track the completed amendment with ISO/IEC</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IEEE 802.11 WG believe this will be the most effective process to start the consideration of WAPI as part of ISO/IEC 8802-11</a:t>
            </a:r>
            <a:endParaRPr b="1"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ing the PSDO will require procedural development within SC6 IEEE-SA, IEEE 802, and IEEE 802.11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ack of clear procedures will impede technical work under the PSDO</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likely to take years that are better spent on technical work of integrating WAPI into IEEE 802.11 and ISO/IEC 8802-11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D9688811-A229-48E3-BBDD-716FADB982EF}" type="slidenum">
              <a:t>8</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re Are A Range of Alternatives for Standardizing WAPI</a:t>
            </a: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ize WPI as an amendment to IEEE 802.11, and standardize WAI as an amendment to another standard (e.g., IEEE 802.1X) (Workabl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ize WPI in IEEE 802.11, and include WAI as an Informative Annex of IEEE 802.1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WAPI as an Informative Annex to IEEE 802.1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fy WAPI as a stand-alone standard outside of the ISO/IEC 8802 series within SC6</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ify WAPI as a stand-alone standard outside of the ISO/IEC 8802 series within IEEE 802.11</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e WAPI as an IEEE 802.11 recommended practic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esse Walker, Intel Corporation</a:t>
            </a:r>
          </a:p>
        </p:txBody>
      </p:sp>
      <p:sp>
        <p:nvSpPr>
          <p:cNvPr id="5" name="PlaceHolder 4"/>
          <p:cNvSpPr>
            <a:spLocks noGrp="1"/>
          </p:cNvSpPr>
          <p:nvPr>
            <p:ph type="sldNum" idx="3"/>
          </p:nvPr>
        </p:nvSpPr>
        <p:spPr/>
        <p:txBody>
          <a:bodyPr/>
          <a:p>
            <a:fld id="{B97D02B7-66F1-4F34-BE03-24F783162BC3}" type="slidenum">
              <a:t>9</a:t>
            </a:fld>
          </a:p>
        </p:txBody>
      </p:sp>
      <p:sp>
        <p:nvSpPr>
          <p:cNvPr id="6" name="PlaceHolder 5"/>
          <p:cNvSpPr>
            <a:spLocks noGrp="1"/>
          </p:cNvSpPr>
          <p:nvPr>
            <p:ph type="dt" idx="1"/>
          </p:nvPr>
        </p:nvSpPr>
        <p:spPr/>
        <p:txBody>
          <a:bodyPr/>
          <a:p>
            <a:r>
              <a:rPr lang="en-US"/>
              <a:t>Jul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4T21:26:55Z</dcterms:created>
  <dc:creator>Dorothy Stanley</dc:creator>
  <dc:description/>
  <dc:language>en-US</dc:language>
  <cp:lastModifiedBy>Jesse Walker</cp:lastModifiedBy>
  <cp:lastPrinted>1998-02-10T13:28:06Z</cp:lastPrinted>
  <dcterms:modified xsi:type="dcterms:W3CDTF">2008-07-17T22:46:15Z</dcterms:modified>
  <cp:revision>191</cp:revision>
  <dc:subject/>
  <dc:title>TGv Agenda</dc:title>
</cp:coreProperties>
</file>