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02E7A5-C471-45C7-928A-C88A758AA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4F7963-FFA9-44F6-BCAE-A77060C9B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93720" y="440856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E43D12-6DFE-4721-9FEC-CC9EE684E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25560" y="4408200"/>
            <a:ext cx="5083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1149480" y="696960"/>
            <a:ext cx="4636800" cy="34783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65F-118F-4A87-9561-67B3290D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47E-71D7-43D6-9081-10324DA0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162-FB0C-41F4-8CEB-7E89CE34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C9B-108C-4D36-9805-828BBBB8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D06-2A72-4348-8607-186E2AF4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BEA-4E48-4603-8665-BD01F17F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921-688D-4F5E-9CA1-7F8E4499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F14-B0C1-4674-B702-9B367923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A68-696A-4136-8D1B-B077802F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538-568F-4278-A98B-D35F58F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048-23B2-45E6-A589-68D06539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BFE-4252-4554-AA2B-7A13F3B8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4AFFCB-386E-40E6-9154-7DDEE276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07/0264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resources/antitrust-guidelines.pdf" TargetMode="External"/><Relationship Id="rId3" Type="http://schemas.openxmlformats.org/officeDocument/2006/relationships/hyperlink" Target="http://www.ieee.org/portal/cms_docs/about/CoE_pos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ton/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TGv March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08-03-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19120" y="2273400"/>
          <a:ext cx="82296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3400"/>
                    <a:ext cx="82296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243-DC40-4D31-9745-2BB8E6E3088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n May Present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08-0419-00-000v Proposed resolution for CID423 et al on AP Collabor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Allo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ed Multica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7-2898, 07-2897 Efficient TIM with Multiple BSS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949-51B4-4DD6-AA23-EDA231FDA6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Meeting Plan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 Ball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Call(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-Hoc mee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D7B-3E18-4AAF-961C-87E44768D0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1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adopt the agenda in 11-08-0264-01-000v-March-2008-agend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Unanim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31F-6AFB-44B4-BB17-57B4B8518B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approve the meeting minutes in 11-08-0214-00-000v-minutes-tgv-11v-Taipei-meeting-minut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Ed Reu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Emily Q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Unanim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35E-3D48-41D3-BD39-8CC32EA47C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3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approve the TGv PAR extension in 11-08-0322-00-000v-PAR Extension, noting that LB123 results are to be added before 1030 March 19th, extending the TGv PAR for an additional 2 years, and request the 802.11 WG to forward the PAR Extension Request to NESCO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Alex Ashl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Joe Kwa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12-0-1 Motion p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F60-9565-4EA1-B164-76F9F23725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4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uthorize a TGv ad-hoc, April 28, 29, 30 in the San Jose are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Allan Thoms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Qi Wa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9-1-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DB0-143C-4AE0-B9A3-646402A30C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5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have a joint meeting with TGu during the TGv  ad-hoc, April 29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nd 30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s needed, in the San Jose are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Allan Thoms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Qi Wa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6-0-6 Motion P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5B8-A046-4101-860A-11FA9525386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6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uthorize TGv Teleconferen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il 1, 8, 15, 22, and May 6 at 1200 Eastern for 2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Allan Thoms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Qi Wa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Unanim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13A-E801-4068-AE0D-3A50902D37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Usage (mechanism may change from 08-0044) for 802.11-only  technology should be added to the TGv dra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/No/No Opinion 32-0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Allocation and Usage for 802.11 and non-802.11 technologies should be added to the TGv draf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/No/No Opinion 12-25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F3F-D09E-4821-8258-2FF934B015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incorporate the changes in 11-08-0367-05-000v-lb123-comment-resolutions-proxy-arp.xls into TGv draft 2.0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ED3-DE62-4311-BA02-6F7A09B3DA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contains the IEEE 802.11 TGv agenda and motions for March 2008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939-BB98-478D-AF95-4189EBD5FF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incorporate the changes in 11-08-0048-04-000v-normative-text-for-channel-allocation-and-usage.doc into TGv draft 2.0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225-4F72-40B5-AF3E-3F60789AE8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instruct the editor to create TGv draft 2.01 incorporating all approved motions and resolutions to TGv draft D 2.0 approved at the March 2008 meeting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884-72AC-49CF-919B-F3FA5CF82A9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request the 802.11 WG chair to conduct a 15-day confirmation ballot on D2.0x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request the 802.11 Working Group to renumber TGv Draft D2.0x, if the confirmation ballot succeeds, as D3.0 and authorize a 30-day Letter Ball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535-81E9-4827-8AE9-D6DEBDA1318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incorporate the changes in 11-08-0050-00-000v-Normative-Text-Directed-Multicast.doc into TGv draft 2.0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r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824-B9B4-4D30-B4AD-64699F32DF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traw Pol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support adoption of the proposal in 08-xxxxrx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48600" y="6183360"/>
            <a:ext cx="322200" cy="239760"/>
          </a:xfrm>
          <a:custGeom>
            <a:avLst/>
            <a:gdLst>
              <a:gd name="textAreaLeft" fmla="*/ 15480 w 322200"/>
              <a:gd name="textAreaRight" fmla="*/ 306720 w 322200"/>
              <a:gd name="textAreaTop" fmla="*/ 15480 h 239760"/>
              <a:gd name="textAreaBottom" fmla="*/ 224280 h 239760"/>
            </a:gdLst>
            <a:ahLst/>
            <a:rect l="textAreaLeft" t="textAreaTop" r="textAreaRight" b="textAreaBottom"/>
            <a:pathLst>
              <a:path w="29016" h="21600">
                <a:moveTo>
                  <a:pt x="0" y="0"/>
                </a:moveTo>
                <a:lnTo>
                  <a:pt x="29016" y="0"/>
                </a:lnTo>
                <a:lnTo>
                  <a:pt x="29016" y="21600"/>
                </a:lnTo>
                <a:lnTo>
                  <a:pt x="0" y="21600"/>
                </a:lnTo>
                <a:close/>
              </a:path>
              <a:path fill="lightenLess" w="29016" h="21600">
                <a:moveTo>
                  <a:pt x="0" y="0"/>
                </a:moveTo>
                <a:lnTo>
                  <a:pt x="29016" y="0"/>
                </a:lnTo>
                <a:lnTo>
                  <a:pt x="27616" y="1400"/>
                </a:lnTo>
                <a:lnTo>
                  <a:pt x="1400" y="1400"/>
                </a:lnTo>
                <a:close/>
              </a:path>
              <a:path fill="darken" w="29016" h="21600">
                <a:moveTo>
                  <a:pt x="29016" y="0"/>
                </a:moveTo>
                <a:lnTo>
                  <a:pt x="29016" y="21600"/>
                </a:lnTo>
                <a:lnTo>
                  <a:pt x="27616" y="20200"/>
                </a:lnTo>
                <a:lnTo>
                  <a:pt x="27616" y="1400"/>
                </a:lnTo>
                <a:close/>
              </a:path>
              <a:path fill="darkenLess" w="29016" h="21600">
                <a:moveTo>
                  <a:pt x="2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16" y="20200"/>
                </a:lnTo>
                <a:close/>
              </a:path>
              <a:path fill="lighten" w="2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16" h="21600">
                <a:moveTo>
                  <a:pt x="7501" y="3794"/>
                </a:moveTo>
                <a:lnTo>
                  <a:pt x="21514" y="10800"/>
                </a:lnTo>
                <a:lnTo>
                  <a:pt x="750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440-0A20-4DA2-AC32-78E2B9E6D7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F79-C179-4398-B03E-3CADE8088E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-2286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8380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80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v – March 200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0773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Meeting to Or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ies and Procedures, Attendance reminder, se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s://mentor.ieee.org/802.11/file/08/11-08-0058-00-0000-opening-network-information-attendance-and-documentation-for-january-2008-session.pp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*IEEE Patent Policy http://standards.ieee.org/board/pat/pat-slideset.p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any patent claim(s)/patent application claim(s) and/or the holder of patent claim(s)/patent application claim(s) that the participant believes may be essential for the use of that standard? Minute any responses that were given, specifically the patent claim(s)/patent application claim(s) and/or the holder of the patent claim(s)/patent application claim(s) that were identified (if any) and by wh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**Affiliation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standards.ieee.org/faqs/affiliationFAQ.ht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-Trust FAQ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standards.ieee.org/resources/antitrust-guidelines.pd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s -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www.ieee.org/portal/cms_docs/about/CoE_poster.pd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1 Policies and Procedures - http://www.ieee802.org/11/DocFiles/06/11-06-0812-03-0000-802-11-policies-and-proceedures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 Policies and Procedures - http://www.ieee802.org/policies-and-procedures.pd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2720" y="5989680"/>
            <a:ext cx="23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Read slide d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Note especially items #7 &amp;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395-1A69-4973-942E-212B0F7E8E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v Ag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dnesday 16:00 – 18: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-located Interference (if nee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ily – Directed Multicast – 10 minutes, if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342900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ursday 10:30 – 12: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0) Presentation – Channel Allocation – 08/0048r4, 07/2710r3 Emily Q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0840" y="594360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stimate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617220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endance reminder: 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newton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**for each timeslot***   Documents: https://mentor.ieee.org/802.11/docu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5053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uesday 10:30 – 12: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666880"/>
            <a:ext cx="3962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ursday 8:00 – 10: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Resolu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495680"/>
            <a:ext cx="487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dnesday 1:30 – 3: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Resolu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4479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day 16:00 – 1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to Order, IP info,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rove Ag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ir’s Welcome, Status, Review of Obj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ions – Approve Taipei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0) TGv PAR Extension 08/03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0) Directed Multicast 08/0050 – Emily Q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34340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ursday 16:00 – 18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Resolution - Multicast Diagnost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ns for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BD0-AD6F-494E-94E0-8F85ADD882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Meeting Status &amp; Objectiv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v Stat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2.0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B 123 Comments available in 11-08-02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ch Meeting Objec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Present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v PAR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7A8-881B-4DF6-9E95-54A9A6113C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cuments for 08/265 comment res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8080" y="1600200"/>
          <a:ext cx="4114800" cy="4376880"/>
        </p:xfrm>
        <a:graphic>
          <a:graphicData uri="http://schemas.openxmlformats.org/drawingml/2006/table">
            <a:tbl>
              <a:tblPr/>
              <a:tblGrid>
                <a:gridCol w="1746360"/>
                <a:gridCol w="1413000"/>
                <a:gridCol w="955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nt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Kw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ocated Interfer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i Jok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gno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Stan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Kw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B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Thom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Stan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cast Diagno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ex Ash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-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Thom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y A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Stan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-3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aming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 Q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eep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 Q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. Seok, G. Venkats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ly Q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 Broad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Went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ffic Gen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o-Ryong Je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tual 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Stan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-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C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 Venkats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-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952880" y="1600200"/>
          <a:ext cx="3048120" cy="4371840"/>
        </p:xfrm>
        <a:graphic>
          <a:graphicData uri="http://schemas.openxmlformats.org/drawingml/2006/table">
            <a:tbl>
              <a:tblPr/>
              <a:tblGrid>
                <a:gridCol w="1219320"/>
                <a:gridCol w="685800"/>
                <a:gridCol w="1143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C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rem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la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la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682-4829-4493-9ADC-8B549C0D97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v Schedule Histor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less Network Management SG formed – Jan 200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less Networks Management TG formed – Nov 200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l for proposals – Sept 200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 line accepted - January 06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missions addressing objectives -  Started in March 0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G Ad-Hoc Draft Internal Review - October 06 to pres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l review of Draft 0.05 – 446 comments (06/16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l review of Draft 0.08 – 95 comments (07/031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l review of Draft 0.10 -  281 comments (07/0594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B 108 Results: 132 yes -77 no -38 abstain, 63% approval, needs 75%, fails, comments in 11-07-236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B 123 Results:  Comments in 11-08-026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2E8-56C4-4568-991C-430623F65D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v D1.0 Content Summar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SS Transition Management for Network Load  Balanc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-located Interference Repor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agnostic Repor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nt Repor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exible Broadcast/Multicast servi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cast Diagnostics Repor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BSSID Suppo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S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 AR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ce and Lo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 Broadcas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F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eep Mod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roximately 180 Pages of cont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7FA-7FCE-44D1-9996-A2F0A60ACD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v Timeline – Updated November, 2007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itial Working Group Letter Ballot: July 07 - complet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-circulation Working Group Letter Ballot: May 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rm Sponsor Ballot Pool: November 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itial Sponsor Ballot: January 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-circulation Sponsor Ballot: March 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nal WG/EC Approval: September 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vCom/Standards Board Approval: December 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othy Stanley, Aruba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24F-3306-4029-8CA6-A33E4D0D51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1:26:55Z</dcterms:created>
  <dc:creator>Dorothy Stanley</dc:creator>
  <dc:description/>
  <dc:language>en-US</dc:language>
  <cp:lastModifiedBy>dstanley</cp:lastModifiedBy>
  <cp:lastPrinted>1998-02-10T13:28:06Z</cp:lastPrinted>
  <dcterms:modified xsi:type="dcterms:W3CDTF">2008-03-20T23:11:02Z</dcterms:modified>
  <cp:revision>365</cp:revision>
  <dc:subject/>
  <dc:title>TGv Agenda</dc:title>
</cp:coreProperties>
</file>