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906AF1-7FF4-47B6-B0B6-1B022B5D9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DDC90C-EE59-4A70-BC43-3F1A42CC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3720" y="440856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073149-CCD9-4E4F-A3FF-31F0609F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25560" y="4408200"/>
            <a:ext cx="5083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49480" y="696960"/>
            <a:ext cx="4636800" cy="3478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D83-05BD-49D8-8BB9-07F1FE39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D21-7AE4-447F-8DF8-774BA851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B71-B3D7-4E16-949E-AC2703FB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00A-5D84-430E-B364-2174BFF4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F64-BFCD-4A2A-9E7B-0135928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6E3-FA2C-45D2-AA1E-D5D9F5F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DBA-C49D-49AE-8F66-51D06D91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EA0-E977-4A30-B530-5CBCDCE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0C7-B245-49E1-9860-922563F4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30E-833C-43B2-AC6A-5CA3B2B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84D-931A-4EA3-BBAC-1246D62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576-CB5E-461F-8AA8-10AF25F7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F7DE5E-CC03-43D1-A401-52221855E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7/0264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ton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v March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8-03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DE7-18EA-4D7D-AE15-9A97C526B4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May Presen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08-0419-00-000v Proposed resolution for CID423 et al on AP Collabor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Allo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ed Multica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7-2898, 07-2897 Efficient TIM with Multiple BSS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FC9-1FCD-42AD-ADA1-2B2D867A65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 Ball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(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459-1EA7-4BE1-9770-53867915AB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1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adopt the agenda in 11-08-0264-01-000v-March-2008-agend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Unani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AAE-92D4-47D3-9FDF-D12575D175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approve the meeting minutes in 11-08-0214-00-000v-minutes-tgv-11v-Taipei-meeting-minut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Ed Reu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Emily Q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Unani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C36-727F-4B57-9850-03FBBE7C7F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approve the TGv PAR extension in 11-08-0322-00-000v-PAR Extension, noting that LB123 results are to be added before 1030 March 19th, extending the TGv PAR for an additional 2 years, and request the 802.11 WG to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ex Ashl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Joe Kwa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12-0-1 Motion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583-08F7-4DDE-A513-7A5B86549A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4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uthorize a TGv ad-hoc, April 28, 29, 30 in the San Jose are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lan Thom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Qi Wa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9-1-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D25-5239-43A4-90D9-BACFDD2420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5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have a joint meeting with TGu during the TGv  ad-hoc, April 29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3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s needed, in the San Jose are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lan Thom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Qi Wa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6-0-6 Motion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F6B-72F4-4036-B725-C8B3434586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6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uthorize TGv Teleconferen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il 1, 8, 15, 22, and May 6 at 1200 Eastern for 2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lan Thom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Qi Wa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Unani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644-C86D-4298-8E05-680ACD7C89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Usage (mechanism may change from 08-0044) for 802.11-only  technology should be added to the TGv dra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/No/No Opinion 32-0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Allocation and Usage for 802.11 and non-802.11 technologies should be added to the TGv draf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/No/No Opinion 12-25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732-7549-4367-8B82-8660A9E763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corporate the changes in 11-08-0367-05-000v-lb123-comment-resolutions-proxy-arp.xls into TGv draft 2.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DB9-D7C3-424D-843D-182EC6372F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v agenda and motions for March 2008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2DC-7AE5-41A0-9CD6-59B9DBE87E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corporate the changes in 11-08-0048-04-000v-normative-text-for-channel-allocation-and-usage.doc into TGv draft 2.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57B-3E63-48FC-9436-7F08C1DAAD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struct the editor to create TGv draft 2.01 incorporating all approved motions and resolutions to TGv draft D 2.0 approved at the March 2008 meeting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D7B-0911-4BE2-83DD-0FB8F8D843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request the 802.11 WG chair to conduct a 15-day confirmation ballot on D2.0x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request the 802.11 Working Group to renumber TGv Draft D2.0x, if the confirmation ballot succeeds, as D3.0 and authorize a 30-day Letter Ball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751-8C57-40AC-8A2A-D62D8144AE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corporate the changes in 11-08-0050-00-000v-Normative-Text-Directed-Multicast.doc into TGv draft 2.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A32-A623-4E54-A56E-61B7AE3FEC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traw Pol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support adoption of the proposal in 08-xxxxrx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48600" y="6183360"/>
            <a:ext cx="322200" cy="239760"/>
          </a:xfrm>
          <a:custGeom>
            <a:avLst/>
            <a:gdLst>
              <a:gd name="textAreaLeft" fmla="*/ 15480 w 322200"/>
              <a:gd name="textAreaRight" fmla="*/ 306720 w 322200"/>
              <a:gd name="textAreaTop" fmla="*/ 15480 h 239760"/>
              <a:gd name="textAreaBottom" fmla="*/ 224280 h 239760"/>
            </a:gdLst>
            <a:ahLst/>
            <a:rect l="textAreaLeft" t="textAreaTop" r="textAreaRight" b="textAreaBottom"/>
            <a:pathLst>
              <a:path w="29016" h="21600">
                <a:moveTo>
                  <a:pt x="0" y="0"/>
                </a:moveTo>
                <a:lnTo>
                  <a:pt x="29016" y="0"/>
                </a:lnTo>
                <a:lnTo>
                  <a:pt x="29016" y="21600"/>
                </a:lnTo>
                <a:lnTo>
                  <a:pt x="0" y="21600"/>
                </a:lnTo>
                <a:close/>
              </a:path>
              <a:path fill="lightenLess" w="29016" h="21600">
                <a:moveTo>
                  <a:pt x="0" y="0"/>
                </a:moveTo>
                <a:lnTo>
                  <a:pt x="29016" y="0"/>
                </a:lnTo>
                <a:lnTo>
                  <a:pt x="27616" y="1400"/>
                </a:lnTo>
                <a:lnTo>
                  <a:pt x="1400" y="1400"/>
                </a:lnTo>
                <a:close/>
              </a:path>
              <a:path fill="darken" w="29016" h="21600">
                <a:moveTo>
                  <a:pt x="29016" y="0"/>
                </a:moveTo>
                <a:lnTo>
                  <a:pt x="29016" y="21600"/>
                </a:lnTo>
                <a:lnTo>
                  <a:pt x="27616" y="20200"/>
                </a:lnTo>
                <a:lnTo>
                  <a:pt x="27616" y="1400"/>
                </a:lnTo>
                <a:close/>
              </a:path>
              <a:path fill="darkenLess" w="29016" h="21600">
                <a:moveTo>
                  <a:pt x="2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16" y="20200"/>
                </a:lnTo>
                <a:close/>
              </a:path>
              <a:path fill="lighten" w="2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16" h="21600">
                <a:moveTo>
                  <a:pt x="7501" y="3794"/>
                </a:moveTo>
                <a:lnTo>
                  <a:pt x="21514" y="10800"/>
                </a:lnTo>
                <a:lnTo>
                  <a:pt x="750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5F4-45C9-41A6-B9D9-0B5009C00C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A36-9AA0-4B0C-A1D4-8F1CCEE9D9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– March 200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077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, se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://mentor.ieee.org/802.11/file/08/11-08-0058-00-0000-opening-network-information-attendance-and-documentation-for-january-2008-session.pp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IEEE Patent Policy 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*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Policies and Procedures - http://www.ieee802.org/11/DocFiles/06/11-06-0812-03-0000-802-11-policies-and-proceedures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 Policies and Procedures - http://www.ieee802.org/policies-and-procedures.pd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4EF-244D-4872-AB17-89C50D27AE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v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dnesday 16:00 – 18: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-located Interference (if nee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ily – Directed Multicast – 10 minutes, if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34290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10:30 – 12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0) Presentation – Channel Allocation – 08/0048r4, 07/2710r3 Emily 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840" y="594360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stimate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617220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newton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**for each timeslot***   Documents: https://mentor.ieee.org/802.11/docu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5053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esday 10:30 – 12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666880"/>
            <a:ext cx="3962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8:00 – 10: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49568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dnesday 1:30 – 3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4479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day 16:00 – 1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to Order, IP info,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ir’s Welcome, Status, Review of 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ions – Approve Taipei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0) TGv PAR Extension 08/03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0) Directed Multicast 08/0050 – Emily 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34340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16:00 – 1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 - Multicast Diagnost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s for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054-9217-4354-9A3F-B8EFADE983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Meeting Status &amp; Objecti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v Stat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2.0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B 123 Comments available in 11-08-02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Meeting 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Presen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v PAR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E91-548E-4F92-9C74-D63155443A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s for 08/265 comment re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600200"/>
          <a:ext cx="4114800" cy="4376880"/>
        </p:xfrm>
        <a:graphic>
          <a:graphicData uri="http://schemas.openxmlformats.org/drawingml/2006/table">
            <a:tbl>
              <a:tblPr/>
              <a:tblGrid>
                <a:gridCol w="1746360"/>
                <a:gridCol w="1413000"/>
                <a:gridCol w="955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nt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Kw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ocated Interfer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i Jok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gno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Kw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B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Thom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cast Diagno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x Ash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Thom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 A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aming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Q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eep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Q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. Seok, G. Venkats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Q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 Broad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Went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ffic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o-Ryong Je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al 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C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 Venkats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952880" y="1600200"/>
          <a:ext cx="3048120" cy="4371840"/>
        </p:xfrm>
        <a:graphic>
          <a:graphicData uri="http://schemas.openxmlformats.org/drawingml/2006/table">
            <a:tbl>
              <a:tblPr/>
              <a:tblGrid>
                <a:gridCol w="1219320"/>
                <a:gridCol w="685800"/>
                <a:gridCol w="1143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C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rem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la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la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36E-29BC-4E65-BB85-99F8FC5BC6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Schedule Histo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Network Management SG formed – Jan 200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Networks Management TG formed – Nov 200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for proposals – Sept 200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line accepted - January 06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missions addressing objectives -  Started in March 0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G Ad-Hoc Draft Internal Review - October 06 to pres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review of Draft 0.05 – 446 comments (06/16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review of Draft 0.08 – 95 comments (07/031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review of Draft 0.10 -  281 comments (07/0594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B 108 Results: 132 yes -77 no -38 abstain, 63% approval, needs 75%, fails, comments in 11-07-236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B 123 Results:  Comments in 11-08-026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6D5-B815-4099-ACDD-8182F7E47B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D1.0 Content Summa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S Transition Management for Network Load  Balanc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-located Interference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nostic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nt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exible Broadcast/Multicast servi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cast Diagnostics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BSSID Suppo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S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 AR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ce and Lo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 Broadca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F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eep Mod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roximately 180 Pages of cont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CD0-B2BC-4365-AC64-C69AE27B34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Timeline – Updated November, 2007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itial Working Group Letter Ballot: July 07 - comple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-circulation Working Group Letter Ballot: May 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rm Sponsor Ballot Pool: November 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itial Sponsor Ballot: January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-circulation Sponsor Ballot: March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al WG/EC Approval: September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vCom/Standards Board Approval: December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3AD-9CC7-4AEA-A9A9-19FC0BE55D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stanley</cp:lastModifiedBy>
  <cp:lastPrinted>1998-02-10T13:28:06Z</cp:lastPrinted>
  <dcterms:modified xsi:type="dcterms:W3CDTF">2008-03-20T23:11:02Z</dcterms:modified>
  <cp:revision>365</cp:revision>
  <dc:subject/>
  <dc:title>TGv Agenda</dc:title>
</cp:coreProperties>
</file>