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BDEE86-C8DA-4C6B-8490-4A5AA6B46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9C5A76-EC90-44F9-A4AA-349000F0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2F2E07-C616-4A3B-BD4C-05E978E7D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D26C28-6919-43D9-AD0D-23963B207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7540B3-4D4A-47B6-B071-76EA54FF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B12813-B4D4-418D-9C35-7C2672537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5FEC39-39AD-40CC-912A-382031D2C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C20-6A57-475C-AE61-FEEF3C11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50A-BFAE-485D-A6A3-80CF4C5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25856-E96B-48DF-AB2C-CDD4E68C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8D4A0-E910-482B-B658-0A8C439A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69EB5-3E1E-4056-B2A1-B1069B75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BEA50-9030-456A-8AE7-2139928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42EBB-107E-40C2-825D-DFCD7FC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87454-650C-4A58-A32A-AD62680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297C0-2FF4-4FC7-91E4-C7642B9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F7994-897E-4A63-9BE6-A5105E83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2E278-4E59-45BF-BE56-B7CC707B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A58F-67F7-486C-9973-76DFF0DF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7F6-D526-48ED-B3A5-90088459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B0929-C3BE-4041-962B-BE65037B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F9978-CEED-4454-BB74-63DE5DA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8E22D-9224-4733-BAD0-9AA38E24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71347-7B01-45D4-8021-7F918835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96491-775F-4876-B167-B32135E5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B4FCF-09E8-4207-9171-E58EE44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3AD23-A3EC-402F-B270-3617F63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E6C6D-C775-4096-817E-355F08E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D167C-2808-4932-B45A-EA43FCA1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0AF0D-E3CC-4CB7-9DBB-3C2E137B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77E-015F-447B-85F1-8766A45A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21E41-9C57-46DE-A395-6779CD09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F3066-5C28-4E61-97CA-15146861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8766C-0646-499E-A796-E5B80F87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76B58-0A9C-4AAA-BA04-CCE70772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09EA4-FFF5-485B-A183-1B4BEAAF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C2AB4-177F-44C6-BE39-23FBE2F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91E7E-603B-4C3E-8B85-80F0E1BC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1AF26-FEB9-48A3-A1E4-9FC8D2D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75AA9-E480-4F35-A806-0CC007A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3D8CB-A092-4646-9608-47AB8B2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F6D-9993-4AE2-BF91-0A2C3E11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58618-1BDE-4749-886E-A30328EB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7F365-478F-4FF5-BE44-D26302B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8232D-F321-4FC7-A7B7-FFFF278F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9E9E3-661A-4530-BEFC-DEE4F5F0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92C05-6D80-47B3-9A46-4D823B5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10922-14AC-46D1-B12A-E29311B2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36F14-793F-4BF8-9F2A-6D15C163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5679D-DEF4-4AC4-9CE2-E23C2C9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32B22-C8C6-466F-AD1D-579C56D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2CD63-3AF7-4E6C-B2A6-0FD73C8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3730-58D4-4084-9B68-E5123A73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19FBF-271E-454C-BA39-5EA2B69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E2B24-6F30-4F1E-BD4C-6D906D2B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0E910-B6C1-45B3-9160-2A09C83E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7AE3C-EED8-4FAB-9A22-4D44AA17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EFD72-41CE-42DF-BEA0-11B1C349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CE48-5945-43AE-93C3-72F06F6D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6329-178C-49C8-9A91-2F655914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963-262A-423C-B8FE-7425CD66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A95A-E24B-45B9-906D-2F6117C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828C-58F1-4AC6-89F8-03861D4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139-D8A8-4049-B2F8-9AEA8D5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DE8-899A-4C68-AC01-F66E0088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0053-810A-4C28-B078-1770914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08DF-454F-4544-96C1-E2D86B00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228A-0A58-496B-8987-C40FE92C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B93B-3825-43AD-92D6-1E6ED424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8C29-CF53-4AAA-B26D-49F39356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E3A2-CB48-45D4-BE0B-056398DA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10B6-92E5-4B8C-9650-246A0690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327B-76F7-40EC-892D-C992D9D1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2BC0-E507-46EF-B675-776602BC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721-CC02-489E-AB7D-CC98198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610B-F958-4CE0-867C-CE265BF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828E-83FC-42C3-AA81-E0E5D1F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E680-508F-4CF4-8107-CB052DF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42A4-485E-4551-8529-6CE8105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766E-339B-4A4F-9CD0-2BCA1D0B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E01F-D4A7-42F7-B73E-259EE025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CB62-3689-43EE-9CD3-2B392CCD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E3DB-B09E-41B6-8394-889AD87E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0011-FAB2-4616-B71A-7E6D3BC3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40B2-1483-4BB7-9325-031C4220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F20-23E2-4811-B47C-73851319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F0957-CBCC-4831-8A29-3A0BF631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1A85-B5D1-453D-ABB2-7DE33FA6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A397-F975-45C9-9E2C-B0896D1D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5A5F-B535-4C39-B831-E0881E8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F1BD-B9F7-46F1-AAB8-35BE6CB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2A4B1-E7BE-4241-8EC2-1FC2BCFF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2F6A-C0EB-4150-AE0C-123A51B5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2866-A71D-49A3-9D8D-D1B879FB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DCB7-0E8B-4FB2-A02F-D0CECBE7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F494B-3B9C-4C8F-88F8-5B330C8A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605-5A15-42EE-8FAB-A23879CE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2ACF6-DB29-49F2-9A95-F3FE936A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67D4B-3624-46C9-BF41-D4FBD9BB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6F94-3163-4FBB-8C10-C84E87B9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3893-A929-466D-928B-D106BD08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4013-4B99-4B78-BB13-E0F9E183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4813-A3AD-417A-A24D-72946E3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5E20-C9C4-4550-8532-E9A924A1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AA1E-7737-4667-96A9-BCBC5B9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0461-1FA4-4437-AA30-47DCD309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9FA4-9588-4AD7-9208-E2422643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C78-4365-4C80-85E7-277BB4B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3166-6143-4346-A1E2-2581388B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0445-23EA-401A-80D6-F37D25C4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3823-202A-4C68-91C7-55C3BEA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5E27-1809-4A40-8C6C-F5E7B05E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0AE11-5EEC-4450-866F-67448509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17CA-203A-4A64-AA8E-47C3DE5E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F3F5-3CDC-41C4-BEF0-0F3D1BC2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99C07-4517-4EFD-8CEA-B273AE61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E5BE-A22D-4EB3-B9C9-F7A646B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2FB55-49FB-4374-9CF3-EEE37C5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08E-83D3-49B5-A148-771FB34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31178-25C9-48D2-9528-FE97338C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3D79-C089-4FA7-81C8-5C004B69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22815-F0E8-4890-A31E-6995CB7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4AFA-C246-4DC7-9331-F425411B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47FB-B12C-4381-9EF4-74FD1E2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BFEF-2D78-441B-81F1-411E1B35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FA5D6-FBE3-41E0-B54D-D574F6BF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19A7B-E501-4949-ACCF-EE53F8E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11221-98D3-46E9-9EA2-F7211E4B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F77E-9274-449D-A6A8-1B5BE971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6FE-6BCC-40C6-AF15-87A67C7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F0DB-450C-42C3-A00E-3AC3214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0DDCC-51A8-4987-BE1D-EAC75B7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32F5E-6A63-40D2-BFE7-B0ED363E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8D8B-D170-4F22-BFA5-50D9ED15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4CB19-11F3-4325-B72E-BA1DEC68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3E9E-449A-41B3-B846-B34B6205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CD036-F002-4CFC-BBA4-BF0D0769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27EDE-F564-4B3A-B560-2780159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D7190-A7AC-4B60-91AB-ACC70D2C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2321-F2A5-4E25-93C1-55C54A0E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DE5-8EAA-4C80-8FFA-888AA2D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169E3-9A38-4B9E-A8C6-8C42A0F6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0B91C-F5AE-4720-940D-EF6B70F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E8675-DA41-4CA1-9BFC-CCF89E6A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80EB3-D299-4DEC-A0CD-9ED34FD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F300-9AB0-437C-8A56-4B4DEFB9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142FF-E2D9-4A93-A0E5-EF2EC8E4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0F1B2-BE18-4DF9-8C7E-6BF62267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6504-3008-4F20-87C8-5F2B53C2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C404E-12F5-4633-8D81-1C137244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B9677-2500-4AA4-A6F9-904F2337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EACD2D-3EC8-43B8-B2C0-D366612913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D6DF1C-891E-4499-95C9-7C27B44FA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5A31E8-7AF9-4F1E-9FE3-84669A6077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A4E29B-ADD1-4933-A416-A9952E993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597E41-5675-479B-8B35-A692F86730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2D89E4-2045-4EC9-B017-E0250C9535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7A6FB6-B45B-45FC-A507-CD10758564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4924E6-4F92-4733-80BF-7A4C9E57A5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F64843-76AF-43F0-BF5B-B8416115FE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9A36DD-D74C-419C-A4B0-A9E1A6232E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3C64E6-BBBF-49B2-B990-5D27D331D8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3/1376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90120" y="647532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’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22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B09C14-E3A8-451A-8A9A-6A85425F25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ocuments?is_dcn=1375&amp;is_group=00be&amp;is_year=2023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ocuments?is_dcn=1371&amp;is_year=2023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FF6F9A-BA86-42A2-84EE-64995416A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 on LB27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3-08-2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DDE527-89AC-43AC-93B9-63AAC79E6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thanks to the following individuals who help review the format of D4.0 prior to its rele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hen McCann, Gaurav Patwardhan, Shimi Shilo, John Wullert, Lisa Ward, John Wullert, Ross 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9B6539-9663-4F28-9765-56B37900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8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97 Technical, 230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2 Editorial, 45 of them must be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9 General, 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ad-hoc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3 PHY, 2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3 MAC, 221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 JOINT, 34 of them must be satis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spreadshe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3/13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ECE2E9-5963-4DDD-9CD3-A154E10D1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ABAE8B-A3AB-4D8B-A1BF-081FFF7C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75 on Draft 4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0E232F-7B21-4BAA-AA6A-E1E45CF5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datory Draft Review (MD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272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going.  Reviewers are expected to complete their review with findings by September 4, 20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EEE 802.11 Editors meeting is scheduled from 12:00pm ET to 2:00pm ET on September 5, 2023, to discuss the review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R document: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3/13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thanks to the following individuals who agree with the review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Ansley, Alfred Asterjadhi, Edward Au, Claudio da Silva, Ming Gan,    Po-Kai Huang, Youhan Kim, Joe Levy, Stephen McCann, Emily Qi,      Yongho Seok, Rubayet Shafin, Atsushi Shirakawa, Graham Smith,          Robert Stacey, Ross Y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3-08-22T17:14:38Z</dcterms:modified>
  <cp:revision>9061</cp:revision>
  <dc:subject>Task Group AY November 2015 Meeting Agenda</dc:subject>
  <dc:title>TGbe Editor's Report on LB27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