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EA0323-1637-410D-9149-8E54B6E7C0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36626E2-15C3-4869-82A3-5CAFD2F1C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38F710-F541-46F5-A200-B681C008C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F8CB97-AE90-4C24-A156-874FCBFF6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9DE282-01A0-4178-8356-5D9590DB3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FF4-39D3-44A6-818B-36509C37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DF0-22EA-4522-A672-F8861E9D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0FECE-8BEF-492D-8B6F-0CBB1300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2618A-D399-41BA-9F4E-9E516DD7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1CD80-0492-453D-9B4F-A8746DF3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65CAE-87F4-49C4-80CD-1885A858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25267-17CD-4E4C-9B4C-743DF8FC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88412-DF6D-45F8-9B22-DBDA91DC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A6A05-5668-447C-B576-4BFD9AD0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971C1-2422-4F51-B401-ABE5D234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91243-72D6-4F81-98ED-6AE5580B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F097B-F720-4F3D-A199-6CC839D6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CDC-6085-4221-B313-3D8A54F0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0817D-53AA-46D7-89DD-56509988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3F983-26F3-4E42-9281-A1E4F918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482EB-8C32-47CF-A298-934413E4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42433-8DA9-45A8-809B-0C72FDDC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4B88C-DAF6-4296-9DE5-5E8B9BE9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4BBDC-5766-4A26-8755-254B1409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9C3E3-4FA2-4E08-AD68-3AFD00D1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B4EB1-D2F5-4C77-B990-F9903CB4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BF499-0FCA-4E8C-A711-7A384857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4F601-408C-4A03-963A-408194C4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038-4E05-416A-A6AB-12861E3B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9FEA7-918E-4543-8972-8EEBFB72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23F2A-7D82-4C42-8674-CB971B9C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308CB-CDF1-4550-AB06-6C8291E7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186E1-CA57-410E-893B-9282D117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72666-32F2-4E96-8576-EF8B492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718B8-094E-48A8-9FD9-6FEBECC6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F92F2-993E-456B-99D2-8AA1B790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9DE84-DED0-4B7A-880D-51EB0985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CEA4A-B716-4C6A-8183-FFB8B5C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209F3-ECEF-40C4-BEF9-A91079E5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AC4D-6C96-4B44-91D9-CC436046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0BB10-2AB9-4134-BF2B-AD9FE40E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EE356-D38E-4F6D-9AF8-3C5F6018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F09D1-FD61-4DAE-A7B3-4F99E52B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46169-780D-4BD2-A37E-BA1BD27E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2C2DA-DC06-4C46-8169-FE40AA46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072EF-2D6B-42D3-9E58-40434BC5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BC0D3-5D3A-47C5-B2A2-53047FD8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A7D64-C4F8-4156-A233-26FC7572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CFAD7-07C1-427A-AC02-40A3CF39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1D7C6-A8BE-402C-BCCB-4F83B37F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72F3-07F9-4A66-88DC-44EB2CEC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A748A-6CA3-45F9-884E-ECD5D9FC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8673D-23F7-4F56-A194-706F248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6CE53-0138-478F-B0EF-B4BEC7D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B446E-9B5B-49D4-B20A-E7364BE6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00B31-8CBB-4AE0-860F-CF327163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C539-A362-437A-A226-4250F60A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5920-2EBB-4FE9-94F1-B4C3AF44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1489-A31C-48EF-BDE5-138AC542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BF41-8C82-4448-A613-F6C43639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93FF-B307-4F3A-8CFF-86E44A49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454-01AE-483A-A051-655B5E3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95E9-CA0C-4F6A-BF5D-13CC23C1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8005-60BE-49AB-92D5-49ADE451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0833-F0AA-4E7E-9D01-682B4C9A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C4DB-168E-4EA2-9040-9CA6E880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FE85-1C4C-48C7-9509-007F9A6C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3C413-85DA-40A6-98EB-341373D2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EDFA-8E8A-4415-8A46-459E2FC4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72F5-5939-4EBB-8889-77F7C6D2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14E4-95F7-4F3E-BB2E-81B9768A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91C1-2FA2-40AB-A820-00276830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1DC-26F9-442B-9504-27FF30D2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E987-1D9D-4E55-8891-B5610C54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3113-448C-402F-A1F3-831998E4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3406-CC5D-4FB2-B15B-7F7909D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C9E5-7631-4E00-B7A0-06B2813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3992-66BC-479C-B774-C1A4A780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020E-DB9F-4CEB-9C94-4845805A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595E-3DA4-4DBF-97DF-B4A9F47A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92DDE-5E0F-47F2-971B-6C70F9B9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FCBC-27F6-4914-89E9-A55DDC09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48C78-3766-4B7C-B865-E00A21B6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4FF-2315-4827-9A0D-7785BDBB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04CE-B4F8-4BC0-AB7C-B6D49150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F78BB-0A89-4D92-A64C-FF3B0099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55FD5-890A-42E1-BE8A-EC955168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2E95-0F9E-4B68-B753-0A942CE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7A0D-5D33-4DA3-882F-A7514229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4DFB-18D7-48A7-85EA-E496BDB6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DD1C-18E8-48F6-ABE4-43336E7E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CCFA-C7D0-46F9-A936-D071811A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07865-1763-4E27-A50F-60426C6E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A3796-5750-462B-9B44-CA609EBB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457-1307-4F05-A9D7-F502ECDB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F601-7D74-4650-865F-58CFA87F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F015-D7ED-4965-9397-EC266EB5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DFAB5-B3EE-4D89-8B84-665B083C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30F3-35AD-431F-A538-3B2CED76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24828-C3CF-4908-A6DD-1E67EEC4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AEC6-D120-4B59-98CF-F06EF9E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84EA6-0FFD-48BC-8363-BFA4D9FD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B526-FBA5-4410-9E48-E254E872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EC011-08E8-4F9D-8556-6F82CE80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2889-AE24-45DC-82A8-CA332012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54E-756E-4E3D-8365-ECC3AA2A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75B89-1353-4652-91E0-4C959E99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E9506-6079-43B1-A426-4EC59151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9457A-3C42-4243-AE2A-4364FD8B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78937-7B2A-4D29-A3FB-65B25E94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573F5-BE9A-4DCB-B191-F4B5D363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9FA4E-94C2-4D56-BCF9-741F673D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7C26B-1C59-4137-92DB-C9F3D981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4934-E426-4436-97D4-2BD32F8A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09DB4-0C50-4C3D-989C-E78928C9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30A21-24BB-4E75-8AC2-FEDAA0AF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7D5-9526-4EAB-BE84-2C70E8E7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B2A5-9C77-4CA6-87B0-FFA8CF70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2CB80-2257-4EF2-AB1C-8A1EA6D2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CA350-9FFD-48EC-A05F-2D590BD8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B33D0-8CC4-4C58-AA95-8503F6FE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FE152-5158-4F6F-9EEA-CFEEE5D8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F7D04-1193-4C35-A9C9-0FC03817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B528A-EFE8-4055-B35D-3F524BF8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DE7B6-AE5E-4355-8DF0-5DEF0BED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EE69F-EB74-428E-A8B7-C99C8E76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CEA0E-1CA3-40C2-95F3-67F21780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D17-A9F1-4134-8DDA-BF2309E6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DF36-1623-40DD-B2A3-CCE69FDB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B684B-58CF-4CE7-91DF-1079EC70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C2BCE-9612-46CF-9068-5ED06049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ABE6-3997-41E4-85DB-2F179166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46E87-48F6-4D5B-AD47-0D05629E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B5BF1-1D31-4DE0-8747-056BF584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0F4EF-1A26-4329-A15B-09E734A1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DC410-5C5E-4280-BD2E-B4DBC9F0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86B5-0843-4C3F-AB14-D8538A3F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B4501-E499-4854-A499-9BBC1F89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856-CDBB-4B23-A7DA-0EFE8121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59BA4-D2EF-46C7-BA6B-7EDEBFCF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0202C-E455-48C0-B656-0C2DB75B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28C8-6D1D-42E6-AB24-8F6AE4ED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33FD5-9C11-43F1-B23F-9201EFC3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FA484-C917-49D1-9194-FF3951C2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7A5B6-6A1E-430C-A926-D74ADB18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673A9-3D31-4D46-A1FC-168D0924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15BBA-232E-4A24-8668-FBF689FF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44C7B-DD0A-4E11-A0B8-DA41CE64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1BFC4-8884-4A6D-ADF5-B2DCB2CF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5D0F48-03A8-48A5-8048-140357A485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35C8AE-306C-4B66-96D7-FEF358D602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6949D0-3FBF-4932-892F-FB4CA7B594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03CBCA4-9C42-4CEC-9B4F-BF43A75CE8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073128-2825-4A56-8D88-C6C4E0C1D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42C684-CF80-4CB1-B295-95E883BD84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5B6D017-0534-4FD8-9EAD-A4FA21F571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D4B515-FC91-4194-A6CD-31DF0C7E6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AD52991-F216-4A45-83EC-8FDF4D7BB2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9CB8CC-2FD8-462B-8334-C86C15EB03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5A589B-AC8C-41E8-875D-2CE0D3F65C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3A1DD8-7BF7-4575-A762-C63BB6B28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ocuments?is_dcn=1375&amp;is_group=00be&amp;is_year=2023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ED036D-1F43-4021-B4BA-19BD109FD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 on LB27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3-08-2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367E49-A80D-45AE-8922-42B9FC65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28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97 Technical, 230 of them must be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2 Editorial, 45 of them must be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9 General, 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ative ad-hoc assign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3 PHY, 2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53 MAC, 221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2 JOINT, 3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spreadshe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3/13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F12F71-6ABF-4E9F-BABA-47CFECC6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8D13D4-9571-489D-B94B-B33C3FFCF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3-08-21T23:32:11Z</dcterms:modified>
  <cp:revision>9056</cp:revision>
  <dc:subject>Task Group AY November 2015 Meeting Agenda</dc:subject>
  <dc:title>TGbe Editor's Report on LB27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