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C7A752-4F3E-43FA-A8C9-F41ED76D3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EA31B7-BE78-4035-875E-C1B7051B0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0E6058-964B-437E-A441-F53CD3CFA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B14F56-4C34-4970-9B08-63E425848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FC393E-1661-401A-B4D7-9DA60D82C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402-C899-4AD4-A31F-240DE7C0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4EC-6DD6-4705-B1D9-7C67EE32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6F280-81A4-4ADB-AB31-70F93770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6E583-B576-445E-80EA-66B573A5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DF8A6-D8BC-44DE-9DDB-D7E62C37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7556F-1611-492E-86D2-F3920D6F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E17D5-7F8B-410D-9643-BD9658AA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42268-5CBD-4739-89B2-5341C56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7C56D-FC58-4C87-B869-8E2BA217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D9FA5-67D8-4EA2-85A9-E36FE924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141FA-9F54-4A73-B354-3B6A60BC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EE249-6BA5-418D-8873-28833DC8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73B-D83C-4E11-AE57-3C004EEE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AB209-FCC4-4258-89D1-24128D5A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11F8D-D3FC-402B-AA60-CF2A5C36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3FC31-AAAF-4B93-9942-014EB8F8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917FA-9736-4B5F-9B88-3D24BA16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8298D-4BAD-4A83-8D6C-7F1DB385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F7CDD-F71E-433E-9F99-4425798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F9A86-121E-4924-BB96-12D1D503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537A6-B023-457A-BEDB-5CC922C4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7C016-7E9B-4B89-B9E6-FF21651B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BB7EB-3721-4D78-B49C-289CFB41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F8E-F700-4C33-9FBD-1BEE3521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7B10D-3EB5-45EB-93EF-55A064E8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80BCE-A851-4AAB-B190-0ED2F772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85FBD-BE55-45AD-9066-F17E8FB7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0927B-BF6F-4982-BAE1-82A699F2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729C0-6F9C-47CC-A115-1CD2FA29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3B1C2-3E0A-40D4-86F9-019A2FD3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D5005-B5BF-4599-AC1C-0DAC3EBD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E353-2ABE-4875-A05D-6AA783F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26A16-23C9-4E4D-8FC4-25706B89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7377A-D66C-4D2E-88E9-5003C98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FAC9-CA0B-4A7F-B705-0AE750D5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BEFB8-FFCF-460F-B0A1-88B26478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74736-AAB9-4BC0-9271-7C794D36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B2FDC-2DD6-4000-B9E8-62E5C18E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B4CDC-905E-4836-8FF4-BA1E532F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9AEE1-EE28-4904-AE36-DE13DDA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459F4-E5BA-4DB5-A76C-A5344B0B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FE3F3-8D8A-4B06-86CE-CD89D2C2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BDC89-4AB4-451B-8845-A1D41B7C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8C309-5DA2-45D0-8281-B15BBB2B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14AAF-6F1D-49A5-BCDF-9E2D29DE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11CA-229B-4BAD-9F59-C3C3A8A3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BBF95-C55D-463D-9807-0D62FC9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EE8D1-FB95-44DB-B0E2-4B4D5815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008D8-D3C0-4F39-B2BE-5BD9077E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5294F-3305-4672-B840-219337DB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61FFB-2A76-48AB-BE01-CCEC063E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6DCF-F46A-4585-86BA-E63A0F2A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2902-C5EB-4E1E-8858-184A5ACD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EA79-F90D-4813-BE1B-9CB6FACA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2C61-A6DD-4B3F-A969-45CAA15D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DEAA-6340-42A9-89E3-A8D66F3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93C-B923-4CC5-AFC3-5A30C47C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AA37-F2CE-40E6-8938-09BB71FE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D180-7E3C-43FF-B9E6-1367133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0B74-0800-4655-BBBB-8389AC5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EFC8-A9CD-4789-A6FB-86A83E48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04E3-4A36-445E-8F37-1F0F1C3F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6D60-0804-4E21-A936-695437B6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BAC2-E0E1-472A-9077-ADEC690F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A729-ABBA-4D8C-90E5-3081180A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B1AA4-799D-487D-BB35-C95C0FA5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E459-3D82-4FA3-BA39-B6852953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A58-E6EA-42F1-8319-61AEB664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B8E9-571A-4EE9-AA1C-0112E207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1D8D1-8FCC-461F-8A1B-13E941F6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71AF-03D9-4F25-9A92-A252A62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8DA4-7888-4912-9B68-43EBF4CE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81AD-E5B9-4446-B087-E7D5AE1C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0458-2662-4DDB-9A91-13E88F17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1100-6EC3-4A3D-A6ED-BE876F1F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1518-FC85-40B2-97CB-4D50BEB0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77E80-3A35-4221-AC90-67188DEE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4AB7-3998-4DFD-80F7-A7D2F72F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057-A2F5-4E20-9867-FD71D67D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B405-E9C5-4795-B3B8-FBE61915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1D42-5827-44B3-873B-28F9C73B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EB88-95AD-4BAE-9095-04DE546E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A0C0-B038-4A1B-AB9E-FF5DDEBA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FF0B-2A86-41E1-8015-897A162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4578F-DC50-49A4-A1C7-59216531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19C5-301D-4BBF-A2AC-D2C225EB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AA93-76C3-405F-AF71-DE158484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020D-45E3-4784-A2F3-A0AD4A5A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B84D-8E8D-4265-896E-ACE565CD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B0D-B3A2-4136-A292-47032047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07170-7093-431D-8D32-1EA4A404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3EE7D-E01F-49E8-8316-AC8316C7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44CE6-4C91-49BC-9837-DB480C71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4CCC-E757-43BE-8609-5A9C8603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5DD0D-E84F-4059-955A-FDD88051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F7E69-1A4C-480A-8CDC-71C9C54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D461-00A3-4D1A-8F57-15223DCF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5102-B2B9-49AA-B1AE-71A9597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32E9-7545-483D-BADA-46373203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C02A-B932-4F59-8327-2724FE20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867-D8C0-4212-A188-D6D0893A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39C1-0A4B-400F-B99B-9AAA733A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361CD-25BC-4597-8F5C-6D70B4F9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FD93-2789-48D6-BC11-CB1AC059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19A0-72F9-4B2C-B22E-80E18B63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77831-4D1A-4E2C-B108-83355E99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D9ABA-5B29-411C-8E1E-EE0CBD03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231C6-62D6-4862-91EE-41F295A5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793E-2010-45B2-AC3E-D719462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C24EE-0DCC-4BD4-B03F-FF7DA7BE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896D-58EC-469A-AF9A-BCAC7F1E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DAD-46CE-4D53-8B80-253C4A10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898B5-F408-4D09-ACB4-4B2FB64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5AD77-09E7-42A1-A30B-5500E0CC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E34D7-5019-43BB-99E4-69C6EB54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5AD9A-F1E5-45BB-A8D2-E1563805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7B7DF-818D-4EDE-8462-77A8C68E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73349-48FF-4D72-B008-B5E1D755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C995-EC64-4CD3-B74F-A5D8E1BE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7118C-D35D-43F9-BB3C-BCC2CB72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EDD52-3961-40F6-AA73-E1424BF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C51B5-BDAD-4463-B1BF-A9CE14F4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8D8-9048-456D-A441-AB8F7557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8792E-D690-46D1-9BD4-F8B2909F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899C8-58E7-42DB-ABEB-A9058BE4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DA997-85B0-4080-A265-335C7A43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9054C-BB81-4C54-A193-FC5AC4C9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49F50-942D-44A7-B5C8-B59511CD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41836-C8A1-4B66-A565-0DA41894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78C0F-DFDA-4E58-98AA-78E6267D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E40D0-FA26-4E29-953B-712A321E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10516-7FBC-40AE-9B81-0435D27C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6246B-366D-48EC-A314-F186B288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0D7-74DB-449A-9BFC-9E68DD2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CE38-F0C6-4757-BF0A-EA71D0DD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2107B-A27C-43E4-BF32-D79475F7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CA78A-1D19-452B-8A62-532F04B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D8CA9-EEB9-4310-9406-DB2DC60D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40B7E-C6AA-466A-B7ED-A407156A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68F9F-35A4-43A9-B3D3-396997F9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FA103-A6B8-4FC3-A913-270A6EA5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9A3D5-B9E0-47B1-9205-0D82635C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36B5A-C766-4FEE-AAD9-5EA4B08F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59BB5-A78D-4F1F-883D-16ABFDEE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A0D829-4932-4ACC-BDFC-3A4B8AEEE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3575D5-D8CF-4450-93B2-D7A17E398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A71CC7-09FE-4542-96E7-D5838B9302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A99022-963C-4DF3-9728-BBDAB6B39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ECA8E3-557C-4005-982D-408D752901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3EBE28-5BAD-4214-B301-5D1A608040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692842-3941-442C-B384-88FF4A018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3C7D9B8-1735-4140-9AAD-92F9F3DABE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AC25F3-26C6-4B72-A445-233D6CAB9D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74AC143-E91B-4958-9621-E0ECDB57BF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8F60E8-7C41-406A-A7F0-5C64E47F8E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C64472-2580-49A4-9CD6-690446F3E2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ocuments?is_dcn=1375&amp;is_group=00be&amp;is_year=2023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2DE700-3F28-4CF1-83B6-68F6D1E00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 on LB27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3-08-2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97F7C4-28C9-4791-8B2D-202FB7511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8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97 Technical, 230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2 Editorial, 45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9 General, 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ative ad-hoc assign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3 PHY, 2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53 MAC, 221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2 JOINT, 3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spreadshe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3/13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9AA70B-8370-4212-8F32-5368D210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0A7E57-ABA9-4318-B685-A311AF4D7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3-08-21T23:32:11Z</dcterms:modified>
  <cp:revision>9056</cp:revision>
  <dc:subject>Task Group AY November 2015 Meeting Agenda</dc:subject>
  <dc:title>TGbe Editor's Report on LB27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